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79DC1-5A4B-4EFE-AEDE-0A5898172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DB6EA-A5DA-49E1-9877-58A00784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C26E2-8796-4820-A19C-4FE64DC39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1814E-4BC7-48C9-A8F9-758C34414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EEB9-410D-4F2E-89E2-1F0EDD79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0AE4C-E4CB-458E-8006-CE27A3422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C02E-9B0A-43E1-A579-17D018E2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B3AA-7A0A-4E56-9041-0E7D3B8B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88CC-3E9B-4273-B3A9-63E8630F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CD47-251E-4118-857F-62215FE0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A17D-723F-4F7A-A85D-068A77D0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B04D5-0456-4767-9377-272050421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86d2"/>
            </a:gs>
            <a:gs pos="100000">
              <a:srgbClr val="e1e8f5"/>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3CC8-D267-4CD4-B202-7FA04036101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iassunto documenti</a:t>
            </a:r>
            <a:br>
              <a:rPr sz="4000"/>
            </a:br>
            <a:r>
              <a:rPr b="0" lang="it-IT" sz="4000" spc="-1" strike="noStrike">
                <a:solidFill>
                  <a:srgbClr val="000000"/>
                </a:solidFill>
                <a:latin typeface="Calibri"/>
              </a:rPr>
              <a:t>Lezione di informatica del 23/11/2013</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Di: </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Ilaria Frullon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ngela Delle Curt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Marialisa Capucci</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Alice Bellumi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Giulia Degli Esp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ideo Blog = utilizzato per filmati accompagnati da testi e immag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udio Blog e pod casting = si tratta di blog audio pubblicati e permette di scaricare automaticamente gli aggiornamenti attraverso i Feed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blog = blog + Wik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collaborativi = blog di grupp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unti di forza dei blog </a:t>
            </a:r>
            <a:br>
              <a:rPr sz="3600"/>
            </a:br>
            <a:r>
              <a:rPr b="0" lang="it-IT" sz="3600" spc="-1" strike="noStrike">
                <a:solidFill>
                  <a:srgbClr val="000000"/>
                </a:solidFill>
                <a:latin typeface="Calibri"/>
              </a:rPr>
              <a:t>per la didattica</a:t>
            </a:r>
            <a:endParaRPr b="0" lang="en-US" sz="3600" spc="-1" strike="noStrike">
              <a:solidFill>
                <a:srgbClr val="000000"/>
              </a:solidFill>
              <a:latin typeface="Calibri"/>
            </a:endParaRPr>
          </a:p>
        </p:txBody>
      </p:sp>
      <p:sp>
        <p:nvSpPr>
          <p:cNvPr id="64" name=""/>
          <p:cNvSpPr txBox="1"/>
          <p:nvPr/>
        </p:nvSpPr>
        <p:spPr>
          <a:xfrm>
            <a:off x="457200" y="1599840"/>
            <a:ext cx="8229600" cy="4853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rumenti per l’apprendimento cooperativo e collaborativ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sentono di realizzare prodotti editoriali, multimediale e ipermedi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cuperano le abilità dei registri di scrittur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rono la classe di attività di sperimentazione e di comunicazione con altre class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isorsa per aggiornarsi, confrontarsi e sperimentare nuove possibilità di comunicaz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Vantaggi del blog</a:t>
            </a:r>
            <a:br>
              <a:rPr sz="4000"/>
            </a:br>
            <a:r>
              <a:rPr b="0" lang="it-IT" sz="2800" spc="-1" strike="noStrike">
                <a:solidFill>
                  <a:srgbClr val="000000"/>
                </a:solidFill>
                <a:latin typeface="Calibri"/>
              </a:rPr>
              <a:t>(P. Meurer)</a:t>
            </a:r>
            <a:endParaRPr b="0" lang="en-US" sz="2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apidità d’uso in quanto il Weblog non richiede uso di codice o impiego di client ftp per caricare le pagine nel si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sti: gratui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velocità che consente di scrivere, aggiornare in qualsiasi momento un messaggio sul proprio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stribuzione dei contenuti che può avvenire con la tecnologia RS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ollaborazione di inserire un messaggio di replica o di comment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Attività all’interno del blog</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 publishing e blog di classe locale </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a livello loc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a livello globale e comunicazione\collaborazione</a:t>
            </a:r>
            <a:endParaRPr b="0" lang="en-US" sz="1800" spc="-1" strike="noStrike">
              <a:solidFill>
                <a:srgbClr val="000000"/>
              </a:solidFill>
              <a:latin typeface="Calibri"/>
            </a:endParaRPr>
          </a:p>
          <a:p>
            <a:pPr marL="571680" indent="-571680">
              <a:spcBef>
                <a:spcPts val="45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classe globale e web publish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a:t>
            </a:r>
            <a:r>
              <a:rPr b="0" lang="it-IT" sz="3600" spc="-1" strike="noStrike">
                <a:solidFill>
                  <a:srgbClr val="000000"/>
                </a:solidFill>
                <a:latin typeface="Calibri"/>
              </a:rPr>
              <a:t>Strumento di informazione o personale per l’insegnante o lo studente</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esto tipo di blog contiene collegamenti a progetti, appuntamenti, orari, questionari online ecc … In questo caso l’informazione scorre dall’insegnante alla classe. I vantaggi son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cedere all’insegnante la libertà di afferrare i fondamenti del blog e di sentirsi a proprio agio usando questi strumenti</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pubblic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ovare il ritmo di sviluppo del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 Progetti di comunità di apprendimento</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possibile un’attività di scrittura collaborativa. Bisogna incoraggiare gli studenti a registrarsi in un unico blog di gruppo e svolgere attività collettive per sviluppare riflessioni. È tutto incentrato sul far ragionare e discutere i ragazzi per sviluppare in loro conoscenze linguistiche e cognitive. Infatti con lo scambio delle informazioni aumentano le esperienze dei ragazzi che potranno diventare autori di blo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II. Progetti di gemellaggio scolastico via blog</a:t>
            </a:r>
            <a:endParaRPr b="0" lang="en-US" sz="3600" spc="-1" strike="noStrike">
              <a:solidFill>
                <a:srgbClr val="000000"/>
              </a:solidFill>
              <a:latin typeface="Calibri"/>
            </a:endParaRPr>
          </a:p>
        </p:txBody>
      </p:sp>
      <p:sp>
        <p:nvSpPr>
          <p:cNvPr id="74" name=""/>
          <p:cNvSpPr txBox="1"/>
          <p:nvPr/>
        </p:nvSpPr>
        <p:spPr>
          <a:xfrm>
            <a:off x="457200" y="1600200"/>
            <a:ext cx="8291520" cy="4781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pprendimento viene considerato attivo, costruttivo, collaborativo, intenzionale, conversazionale, contestualizzato e riflessivo. A questo punto si può aprire la classe ad altre classi in un’ottica di gemellaggio scolastico. Oltre 5000 scuole hanno partecipato a programmi pedagogici europei che hanno consentito il confronto e la consapevolezza che viviamo in un’Europa unita, multilinguistica e multiculturale. (es. eTwinning). Esiste il gemellaggio anche fra le insegnan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V. La scuola in rete</a:t>
            </a:r>
            <a:endParaRPr b="0" lang="en-US" sz="3600" spc="-1" strike="noStrike">
              <a:solidFill>
                <a:srgbClr val="000000"/>
              </a:solidFill>
              <a:latin typeface="Calibri"/>
            </a:endParaRPr>
          </a:p>
        </p:txBody>
      </p:sp>
      <p:sp>
        <p:nvSpPr>
          <p:cNvPr id="76" name=""/>
          <p:cNvSpPr txBox="1"/>
          <p:nvPr/>
        </p:nvSpPr>
        <p:spPr>
          <a:xfrm>
            <a:off x="457200" y="1599840"/>
            <a:ext cx="8362800" cy="4924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può essere un valido strumento per raccogliere e valorizzare tutti i progetti promossi dalla scuola e dalle reti di scuole che collaborano insieme su progetti Interne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di svilupp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rganizzazione di forme di solidarietà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promozione dei meccanismi di raccordo</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dozione delle strategie di rete al fine di risolvere una situazione problema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blog e i wiki in ambito didattico</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e wiki sono due strumenti di editoria personale sul web; si sono sviluppati in rete e vengono utilizzati anche nell’ambito della formazione in rete o collaborativa, sia per l’uso nella didattica, per le loro potenti caratteristiche, che richiamano il social softwar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eblog (web+log = diario di bordo sul web) è uno strumento caratterizzato per l’immediatezza e la facilità d’us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stiche di un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acilità d’u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asi totale gratuità d’access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nsione dei pos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senza di molti collegamenti ad altri blog</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t di commento in maniera libera e incontrollata</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llegamento univoco per ciascun post chiamato permalin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476280"/>
            <a:ext cx="8229600" cy="590544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Tentativi di classificazione: nel contenuto i blog possono essere dedicati a qualsiasi esperienza editoriale, ma anche ad altri contesti (testi, foto, file audio e video). Si è provato a fare delle classificazioni di blog possibili, ma pur con la loro indubbia utilità, rivestono sempre un carattere di provvisorietà.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tri hanno individuato più categorie: Wikipedia o dai vari motori di ricerca specializzati nei blog.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onti di tipo tecnico:</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ervizi</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Piattaform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Feeder</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lcune date fondamentali di anni recenti hanno inciso nello sviluppo e nella visibilità dei blog:</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ttacco alle torri gemell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a guerra in Iraq</a:t>
            </a:r>
            <a:endParaRPr b="0" lang="en-US" sz="17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Lo tzunami</a:t>
            </a:r>
            <a:r>
              <a:rPr b="0" lang="it-IT" sz="1300" spc="-1" strike="noStrike">
                <a:solidFill>
                  <a:srgbClr val="000000"/>
                </a:solidFill>
                <a:latin typeface="Calibri"/>
              </a:rPr>
              <a:t>	</a:t>
            </a:r>
            <a:endParaRPr b="0" lang="en-US" sz="1300" spc="-1" strike="noStrike">
              <a:solidFill>
                <a:srgbClr val="000000"/>
              </a:solidFill>
              <a:latin typeface="Calibri"/>
            </a:endParaRPr>
          </a:p>
          <a:p>
            <a:pPr lvl="1" marL="743040" indent="-285840">
              <a:lnSpc>
                <a:spcPct val="90000"/>
              </a:lnSpc>
              <a:spcBef>
                <a:spcPts val="3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queste occasioni giornalisti improvvisati hanno creato dei blog, che hanno avuto una funzione importante nella verifica delle notizie di peso anche internazionale. Promuovere il valore dello strumento anche in un settore complesso, come quello della formazione, parallelamente nel mondo della scuola italiana, il blog è stato svelato in occasione di eventi fondament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Wikipedia: enciclopedia universale o miniera di errori?</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ikipedia: enciclopedia universale in rete.</a:t>
            </a:r>
            <a:endParaRPr b="0" lang="en-US" sz="18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iunque può modificarne i contenuti</a:t>
            </a:r>
            <a:endParaRPr b="0" lang="en-US" sz="18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alizzato tramite la "wiki" (particolare tipo di sito web)</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ritich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sponsabilità editoriali non individuabili </a:t>
            </a:r>
            <a:r>
              <a:rPr b="0" lang="it-IT" sz="1800" spc="-1" strike="noStrike">
                <a:solidFill>
                  <a:srgbClr val="000000"/>
                </a:solidFill>
                <a:latin typeface="Wingdings"/>
                <a:ea typeface="Wingdings"/>
              </a:rPr>
              <a:t></a:t>
            </a:r>
            <a:r>
              <a:rPr b="0" lang="it-IT" sz="1800" spc="-1" strike="noStrike">
                <a:solidFill>
                  <a:srgbClr val="000000"/>
                </a:solidFill>
                <a:latin typeface="Calibri"/>
              </a:rPr>
              <a:t> validità dei contenuti non accerta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rsione inglese migliore di quella italiana, più affidabile e completa (i collaboratori della versione inglese sono più di quelli della versione italiana) </a:t>
            </a:r>
            <a:r>
              <a:rPr b="0" lang="it-IT" sz="1800" spc="-1" strike="noStrike">
                <a:solidFill>
                  <a:srgbClr val="000000"/>
                </a:solidFill>
                <a:latin typeface="Wingdings"/>
                <a:ea typeface="Wingdings"/>
              </a:rPr>
              <a:t></a:t>
            </a:r>
            <a:r>
              <a:rPr b="0" lang="it-IT" sz="1800" spc="-1" strike="noStrike">
                <a:solidFill>
                  <a:srgbClr val="000000"/>
                </a:solidFill>
                <a:latin typeface="Calibri"/>
              </a:rPr>
              <a:t>         più collaboratori = più revisioni, più pareri</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           </a:t>
            </a:r>
            <a:r>
              <a:rPr b="0" lang="it-IT" sz="1800" spc="-1" strike="noStrike">
                <a:solidFill>
                  <a:srgbClr val="000000"/>
                </a:solidFill>
                <a:latin typeface="Calibri"/>
              </a:rPr>
              <a:t>Aiutare Wikipedia a crescere!</a:t>
            </a:r>
            <a:endParaRPr b="0" lang="en-US" sz="1800" spc="-1" strike="noStrike">
              <a:solidFill>
                <a:srgbClr val="000000"/>
              </a:solidFill>
              <a:latin typeface="Calibri"/>
            </a:endParaRPr>
          </a:p>
        </p:txBody>
      </p:sp>
      <p:sp>
        <p:nvSpPr>
          <p:cNvPr id="45" name="Freccia in giù 3"/>
          <p:cNvSpPr/>
          <p:nvPr/>
        </p:nvSpPr>
        <p:spPr>
          <a:xfrm>
            <a:off x="3868560" y="4365720"/>
            <a:ext cx="863640" cy="792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97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crescita dello strumento ha avuto dei salti in diverse tappe, più o meno riconoscibili, fino alla recente esplosi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la parola dell’anno. La crescita esponenziale del numero dei blog trova giustificazione tra noi italiani caratterizzati per la voglia di interessarsi agli altri, e di intervenire facilmente su tutte le questioni. Dapprima ha interessato esperti di tecnologia, i politici e i giornalisti, che hanno usato lo strumento per riflettere sul proprio ruolo, ora però lo sviluppo si è potenzialmente allargato ad ogni utente della rete, quindi sono inevitabilmente coinvolti anche gli studiosi, gli accademici ed insegnan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appe principali:</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vere pagine web personali in piattaforme o motori di ricerca famosi, con la voglia di scrivere e apparire, richiedeva però anche un minimo di conoscenze tecnologiche e uso minimo del html e di strumenti specifici; furono disegnati anche i primi web log</a:t>
            </a:r>
            <a:endParaRPr b="0" lang="en-US" sz="1800" spc="-1" strike="noStrike">
              <a:solidFill>
                <a:srgbClr val="000000"/>
              </a:solidFill>
              <a:latin typeface="Calibri"/>
            </a:endParaRPr>
          </a:p>
          <a:p>
            <a:pPr lvl="1" marL="8002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termine web log viene usato anche con altre parole: blog come luogo in cui scrivere; blog come azione di gestire o postare messaggi (blogger, audioblog, fotoblog) e di recente anche la civiltà cattolica afferma una teoblogia (teologia dei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549000"/>
            <a:ext cx="8229600" cy="58323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Rende più facile il reperimento e la citazione dei post e la creazione di blogroll, cioè liste di collegamenti e quindi facile identificazione dei vari blo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vvento della tecnologia php e del content managment system consente l’uso di piattaforme di gestione di blog anche al singolo utente; tale tecnologia dà una maggiore sicurezza (permessi di accesso, password, controllo sugli interventi in base alle proprie esigenze etc.), una maggiore personalizzazione dello strumento e la possibilità di gestire più blog dalle caratteristiche omogene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ossibili usi didattici: per l’uso scolastico il blog si presta benissimo, il wiki si può apparentare ai blog per la facilità di compilazione, anche se ha caratteristiche ipertestuali, per le quali è possibile giocare sul valore, sul significato e sulla combinazione delle singole parole, frasi, e del contesto. Se il blog può essere paragonato ad un giornale online, il wiki appare più simile ad un muro ove chi passa può scrivere liberamente il proprio pensiero, salvo applicare protezioni e password per evitare sorprese. La prudenza è sempre d’obbligo in piattaforme che permettono l’inserimento di commenti in quanto ci possa essere il rischio di finire vittime degli spacciatori di spam (messaggi non desiderati). Il web, con la sua interattività, ha abituato alla consultazione delle fonti e capacità espressiv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uno strumento di scambio dove l’uso della lingua straniera è giustificato dalla necessità di farsi capire. Per gli adulti e per i ragazzi può essere un luogo di progettazione e si divide in strumenti come diagrammi, mappe concettuali, dove nel blog si possono elaborare tappe di percorsi che permettono di confrontare strategie.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76280"/>
            <a:ext cx="8229600" cy="5649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tilizzo del blog da parte d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Docente (usato come periodico aggiornamento dei contenuti della propria </a:t>
            </a:r>
            <a:r>
              <a:rPr b="0" lang="it-IT" sz="1800" spc="-1" strike="noStrike">
                <a:solidFill>
                  <a:srgbClr val="000000"/>
                </a:solidFill>
                <a:latin typeface="Calibri"/>
              </a:rPr>
              <a:t>	</a:t>
            </a:r>
            <a:r>
              <a:rPr b="0" lang="it-IT" sz="1800" spc="-1" strike="noStrike">
                <a:solidFill>
                  <a:srgbClr val="000000"/>
                </a:solidFill>
                <a:latin typeface="Calibri"/>
              </a:rPr>
              <a:t>formazione e per scambiare dati e informazion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Alunno (diversi utilizzi: costruzione di blog per la classe, interazione con </a:t>
            </a:r>
            <a:r>
              <a:rPr b="0" lang="it-IT" sz="1800" spc="-1" strike="noStrike">
                <a:solidFill>
                  <a:srgbClr val="000000"/>
                </a:solidFill>
                <a:latin typeface="Calibri"/>
              </a:rPr>
              <a:t>	</a:t>
            </a:r>
            <a:r>
              <a:rPr b="0" lang="it-IT" sz="1800" spc="-1" strike="noStrike">
                <a:solidFill>
                  <a:srgbClr val="000000"/>
                </a:solidFill>
                <a:latin typeface="Calibri"/>
              </a:rPr>
              <a:t>l’insegnante, blog per singolo alunno)</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 Utenti (genitori e alunni: possono essere lettori-osservatori attivi di quanto </a:t>
            </a:r>
            <a:r>
              <a:rPr b="0" lang="it-IT" sz="1800" spc="-1" strike="noStrike">
                <a:solidFill>
                  <a:srgbClr val="000000"/>
                </a:solidFill>
                <a:latin typeface="Calibri"/>
              </a:rPr>
              <a:t>	</a:t>
            </a:r>
            <a:r>
              <a:rPr b="0" lang="it-IT" sz="1800" spc="-1" strike="noStrike">
                <a:solidFill>
                  <a:srgbClr val="000000"/>
                </a:solidFill>
                <a:latin typeface="Calibri"/>
              </a:rPr>
              <a:t>avviene nella classe, ricostruendo il percorso educativo, e mettendo in atto </a:t>
            </a:r>
            <a:r>
              <a:rPr b="0" lang="it-IT" sz="1800" spc="-1" strike="noStrike">
                <a:solidFill>
                  <a:srgbClr val="000000"/>
                </a:solidFill>
                <a:latin typeface="Calibri"/>
              </a:rPr>
              <a:t>	</a:t>
            </a:r>
            <a:r>
              <a:rPr b="0" lang="it-IT" sz="1800" spc="-1" strike="noStrike">
                <a:solidFill>
                  <a:srgbClr val="000000"/>
                </a:solidFill>
                <a:latin typeface="Calibri"/>
              </a:rPr>
              <a:t>eventuali difficoltà o dubbi della classe o del singol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blog è importante nella vita didattica perché ha benefici effetti, costi ridotti e favorevole impatto sulla crescita della comunità scolasti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ntaggi e svantaggi della professione di educatore di nido</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ormazione ai genitori su attività e progetti del nido</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ambio, interazione e comunicazione tra educatori e genitori</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Svantaggi:</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hanno il computer</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i genitori sanno utilizzare internet</a:t>
            </a: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ssono non esserci il tempo e la voglia di leggere un blo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814716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ieci anni di Wikipedia. Dal punto di vista della scuola: una sfida o un’opportunità?</a:t>
            </a:r>
            <a:endParaRPr b="0" lang="en-US" sz="3600" spc="-1" strike="noStrike">
              <a:solidFill>
                <a:srgbClr val="000000"/>
              </a:solidFill>
              <a:latin typeface="Calibri"/>
            </a:endParaRPr>
          </a:p>
        </p:txBody>
      </p:sp>
      <p:sp>
        <p:nvSpPr>
          <p:cNvPr id="47" name=""/>
          <p:cNvSpPr txBox="1"/>
          <p:nvPr/>
        </p:nvSpPr>
        <p:spPr>
          <a:xfrm>
            <a:off x="468000" y="1844280"/>
            <a:ext cx="8218440" cy="428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 scorso 15 gennaio Wikipedia ha compiuto dieci ann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li autori di Wikipedia sono in gran parte persone comuni; è così comparso il mito della «saggezza della folla», secondo il quale la nostra società, con il supporto della tecnologia, sta superando il concetto che solo alcuni esperti sono in possesso di conoscenze chiave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on tutti concordano con questa versione; ad esempio Nicholas Carr vede questa interazione con il web in modo negativo, perché produce un drastico calo dell’attenzione e non può contribuire in modo positivo all’intelligenza uman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e però un «punto di vista «neutrale», che prevede che tutti i punti di vista su un argomento debbano essere documenta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Come si rapportano scuola e università?</a:t>
            </a:r>
            <a:endParaRPr b="0" lang="en-US" sz="36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Vantagg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ltissimi studenti la usano per ricerch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WebQuest: percorso guidato attraverso le risorse informative della ret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agine «discussione» con cui gli studenti possono abituarsi alla dimensione prospettica della conoscenz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vantagg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ifficoltà nel selezionare e riutilizzare informazioni affidabili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lagio non può certamente trovare approvazione tra i professor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problema del vandalismo</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istono diversi amministratori, che si occupano di bloccare le modifiche di alcuni utenti non registrati per alcune pagi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osso dei controlli ricade su molti utenti che guardano la lista delle ultime modifiche effettuate e sono pronti ad intervenire per ripristinare la situaz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L BLOG</a:t>
            </a:r>
            <a:endParaRPr b="0" lang="en-US" sz="3600" spc="-1" strike="noStrike">
              <a:solidFill>
                <a:srgbClr val="000000"/>
              </a:solidFill>
              <a:latin typeface="Calibri"/>
            </a:endParaRPr>
          </a:p>
        </p:txBody>
      </p:sp>
      <p:sp>
        <p:nvSpPr>
          <p:cNvPr id="54" name=""/>
          <p:cNvSpPr txBox="1"/>
          <p:nvPr/>
        </p:nvSpPr>
        <p:spPr>
          <a:xfrm>
            <a:off x="468000" y="1268280"/>
            <a:ext cx="8289720" cy="5113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blog negli ultimi anni hanno avuto particolare successo, in quanto sono stati oggetto di studio di: fisici e matematici, psicologi e studios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blog ha avuto successo perché è una fonte informativa e comunicativa, facile da usare e non è richiesta nessuna competenza tecnica. È stato molto utile per docenti e studenti per entrare nel mondo delle nuove tecnologie attraverso la ricerca e la sperimentazione di nuove forme di apprendimento e la creazione di comunità di apprendimento e di pratica.</a:t>
            </a:r>
            <a:endParaRPr b="0" lang="en-US" sz="20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efinizione di blog</a:t>
            </a:r>
            <a:endParaRPr b="0" lang="en-US" sz="36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el 1997 Jorn Barger inventò il termine «WeBlog». La versione «Blog» è stata creata da Peter Merholz che nel 1999 ha usato la frase «We Blog» nel suo sito dando origine al verbo «To blog» (=scrivere un blog). Il blog è un sistema complesso che sfugge a classificazioni rigide e va oltre le tecnologie da cui ha origine. Il termine Blog è l’insieme di due parole inglesi web (ragnatela = rete stessa) e log (diario o giornale di bordo. I blog sono definiti software, fornendo contenuti alla rete e sviluppando attività editoriali e progetti collaborativi. Nel blog si possono esprimere le proprie idee al Mondo.</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 caratteristiche del blog</a:t>
            </a: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crittura come una raccolta di brevi messaggi.</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oce personale e informale.</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È composto da un insieme di messaggi che il proprietario scrive. Essi si chiamano «Post».</a:t>
            </a:r>
            <a:endParaRPr b="0" lang="en-US" sz="1800" spc="-1" strike="noStrike">
              <a:solidFill>
                <a:srgbClr val="000000"/>
              </a:solidFill>
              <a:latin typeface="Calibri"/>
            </a:endParaRPr>
          </a:p>
          <a:p>
            <a:pPr marL="514440" indent="-514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roprietari dei blog abilitano i lettori e gli altri autori ad aggiungere commenti o collegare po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I post</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ost recenti sono posizionati nella Home Page del blog, invece quelli vecchi possono essere recuperati in ordine cronologico. Un post può esser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llegamento ad un articolo onli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a composizione corta</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informazione</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Un commento su un evento reale o di fantas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Tipologie di blog </a:t>
            </a:r>
            <a:br>
              <a:rPr sz="4000"/>
            </a:br>
            <a:r>
              <a:rPr b="0" lang="it-IT" sz="2800" spc="-1" strike="noStrike">
                <a:solidFill>
                  <a:srgbClr val="000000"/>
                </a:solidFill>
                <a:latin typeface="Calibri"/>
              </a:rPr>
              <a:t>(realizzate da Roncaglia e Wikipedia)</a:t>
            </a:r>
            <a:endParaRPr b="0" lang="en-US" sz="2800" spc="-1" strike="noStrike">
              <a:solidFill>
                <a:srgbClr val="000000"/>
              </a:solidFill>
              <a:latin typeface="Calibri"/>
            </a:endParaRPr>
          </a:p>
        </p:txBody>
      </p:sp>
      <p:sp>
        <p:nvSpPr>
          <p:cNvPr id="60" name=""/>
          <p:cNvSpPr txBox="1"/>
          <p:nvPr/>
        </p:nvSpPr>
        <p:spPr>
          <a:xfrm>
            <a:off x="457200" y="1599840"/>
            <a:ext cx="8229600" cy="4924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rettory = blog di rassegna o di segnalazione per una quantità di link e di risorse in re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ersonale = diari personali spesso utilizzati da studenti di scuola superiore o universitar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di attualità = utilizzato spesso da giornalisti per dare voce alla proprie opinioni su argomenti di attualità o fatti di cronaca.</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tematico = utilizzato come hobby o passione, diventa un punto di incontro tra persone con interessi in comu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vetrina = utilizzato per le opere degli autori, come vignette, fumetti, video amatoriali o altri tem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log politico = per politici che lo usano per comunicare con i cittadin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Watch Blog = l’autore critica gli errori di notiziari online, siti web o altri blo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hotoBlog = vengono pubblicate fot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Blog = per pubblicare le proprie scoperte music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08:00:09Z</dcterms:created>
  <dc:creator>Ilaria</dc:creator>
  <dc:description/>
  <dc:language>en-US</dc:language>
  <cp:lastModifiedBy>maurizio</cp:lastModifiedBy>
  <dcterms:modified xsi:type="dcterms:W3CDTF">2013-11-23T11:15:21Z</dcterms:modified>
  <cp:revision>28</cp:revision>
  <dc:subject/>
  <dc:title>Presentazione standard di PowerPoint</dc:title>
</cp:coreProperties>
</file>