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7.jpeg" ContentType="image/jpeg"/>
  <Override PartName="/ppt/media/image37.png" ContentType="image/png"/>
  <Override PartName="/ppt/media/image34.jpeg" ContentType="image/jpeg"/>
  <Override PartName="/ppt/media/image20.png" ContentType="image/png"/>
  <Override PartName="/ppt/media/image28.jpeg" ContentType="image/jpeg"/>
  <Override PartName="/ppt/media/image46.png" ContentType="image/png"/>
  <Override PartName="/ppt/media/image12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7.jpeg" ContentType="image/jpeg"/>
  <Override PartName="/ppt/media/image49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  <p:sldId id="281" r:id="rId75"/>
    <p:sldId id="282" r:id="rId76"/>
    <p:sldId id="283" r:id="rId77"/>
    <p:sldId id="284" r:id="rId78"/>
    <p:sldId id="285" r:id="rId79"/>
    <p:sldId id="286" r:id="rId80"/>
    <p:sldId id="287" r:id="rId81"/>
    <p:sldId id="288" r:id="rId82"/>
    <p:sldId id="289" r:id="rId83"/>
    <p:sldId id="290" r:id="rId84"/>
    <p:sldId id="291" r:id="rId85"/>
    <p:sldId id="292" r:id="rId86"/>
    <p:sldId id="293" r:id="rId87"/>
    <p:sldId id="29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slide" Target="slides/slide26.xml"/><Relationship Id="rId76" Type="http://schemas.openxmlformats.org/officeDocument/2006/relationships/slide" Target="slides/slide27.xml"/><Relationship Id="rId77" Type="http://schemas.openxmlformats.org/officeDocument/2006/relationships/slide" Target="slides/slide28.xml"/><Relationship Id="rId78" Type="http://schemas.openxmlformats.org/officeDocument/2006/relationships/slide" Target="slides/slide29.xml"/><Relationship Id="rId79" Type="http://schemas.openxmlformats.org/officeDocument/2006/relationships/slide" Target="slides/slide30.xml"/><Relationship Id="rId80" Type="http://schemas.openxmlformats.org/officeDocument/2006/relationships/slide" Target="slides/slide31.xml"/><Relationship Id="rId81" Type="http://schemas.openxmlformats.org/officeDocument/2006/relationships/slide" Target="slides/slide32.xml"/><Relationship Id="rId82" Type="http://schemas.openxmlformats.org/officeDocument/2006/relationships/slide" Target="slides/slide33.xml"/><Relationship Id="rId83" Type="http://schemas.openxmlformats.org/officeDocument/2006/relationships/slide" Target="slides/slide34.xml"/><Relationship Id="rId84" Type="http://schemas.openxmlformats.org/officeDocument/2006/relationships/slide" Target="slides/slide35.xml"/><Relationship Id="rId85" Type="http://schemas.openxmlformats.org/officeDocument/2006/relationships/slide" Target="slides/slide36.xml"/><Relationship Id="rId86" Type="http://schemas.openxmlformats.org/officeDocument/2006/relationships/slide" Target="slides/slide37.xml"/><Relationship Id="rId87" Type="http://schemas.openxmlformats.org/officeDocument/2006/relationships/slide" Target="slides/slide38.xml"/><Relationship Id="rId88" Type="http://schemas.openxmlformats.org/officeDocument/2006/relationships/slide" Target="slides/slide3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800-A841-4990-BADA-3383D6A5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344-8A38-4864-97EF-BD02C2F6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37252-AFB3-427B-974C-45EF89DA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4E8C4-32D0-488B-A086-21D31ADB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E47D7-6D10-4577-AB04-8213AABC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DFCF4-EB8C-43A7-AC30-1B3C447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1F6D1-1065-43C9-986C-42748A9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CB76-1417-46B9-A31C-CC011FE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B7F8D-AE90-49D7-8B26-5FC48A3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1728B-E89B-48DC-8C62-6A0120F4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57B39-C8DD-4A3F-86E4-4E31DD5F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DA3C3-8FC6-4894-859B-B9154A97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7EA-E804-4BFC-9B76-1FCC387D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A53E9-681D-4627-9F2C-0E5F6E5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8A4A5-4EC5-4C57-9817-0C9AE167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6E19A-449B-4532-83CA-04252AA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E1D8-BA6E-4DF9-8E02-C58A347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AA39A-EB5C-495D-9ADA-8EBDD673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3C1B5-19EB-419F-BB9D-2C9805F3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211C0-A554-44DF-B17E-4ED7018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34DD1-D17A-4E4A-94F9-A018808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2C70E-E3FD-43A8-B177-5C5B6C7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072AF-CEC5-4AB2-AC0F-A2A60A05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144-D50C-4709-9BA4-C58AFA9A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A5841-0988-4C01-9BF4-8B38A352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88C2-6B1C-4E9F-B0C1-0304C7B0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1B94C-50AB-4A8F-8F20-FD2018E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C7C5-8799-4E41-91FC-1DB1844F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7C605-1822-40B8-9D26-AD26FE5A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7647A-0BB3-4A48-BB39-75A215B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0E104-315A-4E66-BAE9-8A2C1B4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53AFE-D44E-43A9-8883-30A6FC5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07DBA-CAFB-4AF7-B14D-F4062CF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6DDB1-9442-4A85-BD66-478B2DE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28C4-5DE8-4CC8-822A-6BB637EA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9130-11A2-4BAD-B5FB-349764EC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414C1-70A9-4F0B-9E6B-82922FC8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B5B9D-AE5A-46DF-9ED6-FE6E3F7B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74AE8-4D58-4FCE-9217-A05AD595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F5D0B-15E4-45AD-8AA3-24D94A0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20A3B-F659-40FB-B6DE-43C5E7A4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C4835-2DBE-4377-9C31-043979C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CDEE1-E43F-44CF-BE01-2D4BD6A0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1DC07-AC98-4CB1-A658-0E5464E3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DFF7-B9F8-441D-8E16-D90AF3B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CE34-C725-4451-A8E5-C0BF1B7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BDACD-3498-459D-B2B3-61E55A17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40DD7-7989-4F3A-960D-F3EE6F3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3A94C-5852-4133-8BE8-36FC887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87AFE-0C50-4DFF-A481-0D866D49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F07C0-8B4A-4894-A655-B6852100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D2AE3-B8F4-429E-B599-6A0279DD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F527D-6EB2-4D09-9182-C6526B06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2F61F-FFEE-482A-B563-304B4973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902C5-BCE1-4394-B37C-0943D28D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99863-3F1E-4F63-9679-9E6A8947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03B6-301A-41C8-BBB9-F73D709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2631E-BAFF-4EFD-80F0-DD3689BE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429F3-661F-4EC8-8BBE-5D6711E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830AF-23E9-4CD4-B847-75CA2B2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247A0-1A3B-4027-ACA4-029E519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ADA72-CC9F-4637-AB18-64A259E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C0A99-E937-46AF-9D07-29B2B0FA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19768-A0F6-49CD-8678-E22B25D1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A0A46-6497-42E1-9797-F4225924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82B65-E1C0-4B8C-BF1D-2EE1E2A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12809-14D7-4AC8-9439-C87F872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F46-E270-4AF9-A62E-DF1837C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0B7F4-FB8E-4DBA-A863-7711669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0E231-797E-4DAE-848B-50D33ACE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DC655-6711-444E-86D2-B9DDA0D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5D449-9BCC-47E1-9EC3-7F3484C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58451-8575-46A0-BA6E-F7A799BB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478EC-D14E-4CF9-A3CF-A9158B4E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B09B4-ED3A-45AE-823C-DC01D787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880D9-CF22-4DEB-AFB0-18401C30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43A67-3C7A-48F8-AF42-4775ADF2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E25B1-1743-45E3-B4BD-CAF322E6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2CD5-28EA-476E-96DC-50C3D97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B233A-C131-4C24-955D-5BFA768E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CFE12-145D-4B85-BEA8-97FD4505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1F0D8-8391-4BBC-A833-32805B97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6F8DA-D401-4027-8577-C201C6FD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CD521-93B9-4E5E-B945-7B429BB3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CA9F2-4150-4D17-9B1E-D704C13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E0B7F-89E2-4CE5-8503-152247D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4A4F1-F88A-437E-80D6-517BA99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8DE01-046D-4B02-B7F4-E660BE5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DD6A5-9919-4666-B388-FEEDD10A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CBA5-4B8F-4EA4-AC5E-5F10DE84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04A3C-8B83-47F4-93FD-4469DEA4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8355A-8F82-4BDC-8330-90BA6C0C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DA7FB-4809-4C82-BFB6-231785C9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0934E-58AE-4291-B046-909A0BF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9099E-CB66-4B8D-B4DC-745B170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5806F-690D-4769-AE27-4CFE4E6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48FF1-BC4F-44D7-AC69-45421B11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EDA81-B16B-480C-88E8-8F96B84A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17C13-8DFD-47E3-A3C1-64702CF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F3DEE-BB5C-40DC-BD3E-6DFD47C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BD9F-5832-4443-BB0C-2DF0661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42709-E6B4-46E6-B04A-F108E65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57F90-8D0B-47EF-85FC-F760DDAA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514A3-16C2-43C9-AF6C-10B6091A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AFDD4-778B-48ED-A48E-661F3CAC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7AF71-73AB-4137-8A1B-394ABE7A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67BE0-26CC-4B14-9F30-F26BA9F1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C5D5F-B35C-4C6A-8568-6AE500B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A4F14-7F57-4C0F-B790-CAE2BAA5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BAC29-5CCC-46DE-AAA3-FF6F3CD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9A233-C505-4BE6-B982-13A685FB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BF6-1688-49B3-B354-136A7B1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2232-9E54-45A3-9705-E1FC21A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D3B29-B951-4B93-80A4-27874ABA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64B5C-28FB-494A-82C2-D6D5A58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97A66-D4F1-4635-A4BB-7C73771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3319A-1512-4E33-B5C8-D6D1F04B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D2E17-1035-47AE-BE84-3721BEE1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3C37F-E4E9-4EEF-B492-A653C156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EF4F6-FB44-4229-92D5-FCF9FDBB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5AAAE-9D7A-4C2D-8B50-ACC5F577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008FA-593D-4EEF-A86B-64B8C5E1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9D0BA-EB55-4AAB-8F07-F438673E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F0F0-D1E1-44E5-BED1-8197ACE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818D5-2076-46A6-BE24-DDA456E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F8D69-440E-4BFC-91CB-E281A51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D935A-8FCA-4672-8986-AD9717D4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BBEE2-B80B-4093-A7CC-598513E0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80840-03A0-4152-A6B3-A5175D7C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50096-B972-4983-A2DD-6DE3B11A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E17AE-9163-4340-B071-1845F785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F33AB-3692-4456-8504-8EF525E0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9E43B-D0C7-41BF-9D19-5EF91CE3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2CF8D-A7C6-415B-B1BB-6138631B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B528-CBC8-4FD9-B13D-C4BC5694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5549F-48B4-4F8C-B730-541C66B3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6EC2E-B56C-45E1-BADA-2E435E87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7B1C8-3FB0-46F3-9C83-CED33B4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5AC92-4411-4263-AE80-7D686BF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5C9E7-B6BF-45AB-BBCF-8F74537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903A0-DA18-4D87-ACEC-56FE34E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1D6D7-098E-4A67-9A15-50023F3B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24054-9413-4AB9-A7B7-0D8C6B6A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4F722A-0384-44A4-8936-B4EAC7FF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AA8AE-AE6B-4D43-9676-F9D6F0CE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076A-0E91-4061-BF17-4A97A4BC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DAE60-1D01-4F29-9FC5-0E4D61A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92797-8241-4684-8D9C-D6C5794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09C75-1B95-45AA-A72C-DD194637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5C0CB-D32A-46FD-AF88-747ED65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3EAD3-DF27-455B-82F5-BAB39EF0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4E578-3EE0-4E67-9F34-EAC439EB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B6E33-6C19-45B2-B914-0BF7B6D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6BE51-D2E5-4BB5-9CE8-469B417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E763F-DCEC-4ADC-BBC1-4B5710F4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C7982-970E-4764-A9C2-2BC8AC8E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F05F-8CE9-4C7A-A2EE-C2F290A4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FC1A3-D433-4AB6-B509-5F86C81B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AFA1E-D421-440D-85FB-F1FBC5F4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6CDE7-0BD4-4361-8F88-3515065D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9A327-D40C-47B9-8DA6-4FA91D8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22BCC-062E-49D9-8DC2-F95766FD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186D1-E4DF-4B4F-A1D3-A2A62C70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DC59D-2421-496F-A97D-02777214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F3807-2627-459F-BC19-B9C66889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F0081-EB78-4723-9FCF-88D171B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8D545-5FB8-414E-B498-CF8C996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8DD3-2637-4994-A2A0-B3502E04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ED78F-73C8-42A4-B3FA-795C1C5F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D76C8-6D7A-475B-BC6B-50F33B85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C3590-D230-479C-A245-D901FEBC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DC47E-498D-461D-8945-A7B7597F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D90859-221C-4B25-BB38-30FFC4A8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28423-68C3-4AC2-B331-C6B6933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9426A-137E-477B-932F-35A546E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1F349-F6C8-448D-8D98-731F758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D8E66B-7E41-43B5-AC0E-4160D47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4F598E-9265-4C68-8355-3E114B4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E4E8-FECE-4F95-BF8C-9D26E13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66487-4028-4FEF-8C92-BE62DCDD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38F790-D0A6-4388-B647-18997CA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1E2EC-4328-4741-83DF-22619F6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70D1F-304C-40CB-B449-945D9319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3D5B9D-FC70-48E1-A914-08ECBC16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5B84A4-F232-4C22-BFA5-A6EB2FF8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567FC-61DE-46C0-BF41-A1E1CAA5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434FF-45D7-4F3D-8D29-2B6324DA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F1247-2C98-4107-87B0-EB2D846C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EA8DAA-D777-4FDB-83E8-DD564990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4109-4D38-4019-9D63-3B437874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D30FE3-CE24-4ADC-9015-1D06548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CF5579-C67E-4E34-9CE0-C9A985B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B453CB-9A39-438D-B732-F0D0264A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DEAC83-2C24-4059-B408-C056C99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F5486-292A-4488-B4A7-93D0C15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8C934-FEAA-49B5-B9DB-6D96CEC8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B7B5DC-BCF3-4783-B599-9CE79C7D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8C5F9A-8845-4F20-A6AC-6DEBAAD3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481314-BC89-4507-BC12-DAD0738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297B34-A073-41C3-835D-53AA76C8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0825-AB3A-4416-A29B-8BD282A5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04E70F-51CE-405A-BF9F-111AD44D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7F93F5-8101-471E-9F4B-34D654B3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EC67E0-08F2-43D2-9729-8E3ACF2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FC028F-0B21-4D72-92A2-540CDDE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73189-3A6E-47B2-9A88-ECBCC33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331BA9-0107-45C7-8F38-7779D78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134F0-4D49-4BFC-8E2C-72CAE99C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147C60-F8CE-4447-AF4F-677DC641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CAF2A6-A073-4CE9-A069-334B6EE7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633C23-7082-4F61-8BE2-90FF176A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2594-FA32-498B-B8C5-C2B7E7F5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DF6C8A-DCCB-4937-BB98-61BAE1A3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DA0F9D-A1C5-4892-A886-04CB55E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8C5AD5-5E0E-4886-A521-0C711FC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F1E885-656C-44EB-AA41-9E24E416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ABA6D0-A907-43C4-8DAC-BB762C6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08E500-9B3B-43A9-9119-B63F2AB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E81256-E95D-4576-8D28-169A8DB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BA13AD-B047-49B1-A01F-DB0DCAD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4AB030-6DD2-4B18-AACE-FC5DAE4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7F241D-3E59-45B3-A87F-DEC6171D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C7C-BBF9-445F-A0B5-F580DA8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6561-6EC9-4D68-B2EF-F342E104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6BFAF-DB73-4938-A6DB-592C043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D3B6DF-D38B-49D0-AE22-FB190C0C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C813A-BEF0-4390-851F-08D677C8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6AAB67-7207-4837-86DF-2A93C93C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0B86F2-D33A-4469-93F7-B07B9A9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13FE35-6B79-4278-8C5E-F142376C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55ADCD-196A-4999-98C8-482ABE26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4211B9-F461-45D8-B5E6-EF9928E9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C1D9BD-881B-40A6-9C2B-E0C1CBB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69D0BC-CB8C-4D50-967D-91CEF92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5BEB-BD42-493B-9831-6CA64B4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C5C48A-9282-41A3-A1D0-541FA33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0F2B89-2067-4116-AB4F-ADAB4D75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FA52F1-F190-4352-A5A2-5B3B3B48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E0B80B-992D-48FB-AF99-5792E85F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0C42A9-99B0-4761-AD62-FE26A000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5C49FF-A33A-4626-AE31-0EE0C32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3C8F6F-8AE2-4051-9ABA-BDE13B4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7D49F5-CD0D-4110-9513-6F969F0A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6FE183-5FA2-4147-9431-4628FBB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4E73BD-E541-45CF-B1C9-E4F4D59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C2BC-5D61-4A0A-8E21-AED3477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7A6F32-8BB4-44A1-AC21-52900D6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76AF46-6384-4B7F-B120-7636B45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16C5E5-6B4D-4117-8537-99361D5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4289B3-2B8E-46FB-856A-D6A416A3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6EA662-CC2A-4AAB-BFED-780A119F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C27C1F-CFA9-4D69-8178-DF97DE5B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DC7283-5696-4183-8584-1EBB7600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83B689-7DAF-417E-A46F-5496D68F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99D2BC-6289-49D9-9E99-FA15BDD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218190-4FD2-48FD-ADA5-CD2F5F42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46FB-CFCF-4BB5-BC5D-08E18CF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F76BA9-0D96-43D3-8D36-40690EA8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EC8DA1-B441-4BC8-B746-65D7D8E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131AE0-8C97-44CA-BF5D-EB87AD0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F36A01-89AB-4820-BE7D-52AD403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684798-C9C8-4E29-96D9-69546D53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9BCBCB-27B4-4394-AB84-FE4FADBE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CAF599-8177-4895-B4A1-E4C1E885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958B44-D25C-4FB7-BBF0-F685AAF3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32397B-F537-4B08-9B58-8164877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F7D911-8229-4130-BC90-47D1D42A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96A2-A55F-4CAD-B426-10F76A6A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E73709-28B3-4CC4-82F2-9ADBEF0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74A5E5-FD9F-46AE-9D3E-6B86930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6A19CD-FB72-413C-8B7D-EDDC1F38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41041F-17E9-4E3C-8479-628040A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E2DEAF-B8C1-484F-961C-EA8E868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7D5EDF-46BA-4D81-A2E6-D59DEDA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9BDB0C-F7B2-4A9E-BDCE-D6A6FEDB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4ADAA8-A17B-412C-8091-FF4D949F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6BDB49-7D3D-42C6-818A-0521D68A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7B1426-3328-4BE1-AD27-26C9A412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4C38-CE22-4FE6-9587-BA7D8629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78941D-227D-417D-A13A-2CE052E7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8D6BC3-314B-4A7F-B4B5-068CE38E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5BD3D4-677A-4B61-ABD9-E216C7D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9E6100-77FE-48E9-AF4C-E74B541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56448C-82A9-4D39-8942-BDB9E3F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371E8F-C391-4B02-8537-6B46AFA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AF2CB9-83C1-4F3B-9664-5F72D37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C5E408-DA90-40AE-9984-6C93827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D6B62B-0FD3-476E-8C87-8C16F1C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A69101-5F53-4642-9687-AB7F7D52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172F-3E20-44E5-BCBC-0F511433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18EBAC-A257-4944-ADC1-A087C76E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79E0F-3F75-431D-AB1D-9EF2C605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E74342-100A-4542-A3CF-2DF8464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5BD3D2-6A5F-48B6-B9DC-7423BABF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671BB4-57A6-4216-8880-2A1FD82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7BB371-4AAF-4973-8465-9AEB976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4ABFB5-ECC4-42C6-A453-72624523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2189BB-A849-46C0-B269-7E0C27C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2DE418-BCA1-46C0-84D0-6BD31B8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87B3FF-B2EB-4EE0-9A36-907AB07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F28E-304F-4B1C-AA34-0A192285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B83CD8-6F49-4C16-AD10-C2CC45A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90C55-F472-4EDA-9C6B-8E97158B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01CEA1-D107-46D9-84E8-BDF95B66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9B1AF4-6B5E-40C9-AC3F-47070AD1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C7C8FD-4CE5-4B62-A754-8A505A4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A0E1C1-4098-4CDA-A9C5-D75B3E9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1CEAF9-B16F-4237-AA93-4889CD7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FAB784-A365-49DD-A552-44B8A37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23D0A-B9C0-4A9D-A794-49724322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DC4803-26AE-4151-B37C-CF7A35D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E4D8-1DC5-488F-999D-29A3BE79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74D081-71AB-4314-8CBA-27EECA0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6D0DD6-7368-48D4-9D22-DCA9319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8BCFB0-BA0F-4BC6-9C13-F4B529A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32971C-2EE7-4A48-B5CD-3E5B4414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EA36A3-8B2F-40BF-9806-90CFEDA2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F7A800-5DA6-474D-9816-182092A6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4F0E05-058E-400E-A391-CBF2863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D9AABB-CDE2-49E3-9DF5-8906B812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7CFD37-F10C-43AA-A10D-467C156E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14AE02-ED0F-4E3D-8F06-4E26703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46DF-E9CC-42B7-AC4D-6AA864C8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E29B03-6B0A-42CF-BA6B-16A3D27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DDE844-AA52-47D3-AAED-557357B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E211F3-3FA9-4499-914A-4B445F4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FCEECF-BFE7-4DC3-AC64-AC0F088F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E58E14-C8D9-41CE-B1CD-2FA3BBC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9AB45B-2390-45EE-9FA9-361B5500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128226-2FE0-4FB8-9D5B-75D16D7F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55A0FC-FF23-4A25-8393-45C3E6EE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F74A3D-0881-49DC-BCB2-5247AEED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2450E4-84A0-4364-911B-E94ADD17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096-6BFD-48FF-A5AC-AB660E5D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81DD-9BEA-4067-B82D-F2398533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B72DB1-F694-4D48-A48B-34D870FB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9A4482-BF84-4706-BA66-26ADC13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505375-4EEF-4444-8FE5-1F9DA661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885CD5-B559-497B-8577-043CDF0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48EF9C-8425-49DA-B593-B423501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73716E-405E-4989-B8A3-9515CD4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EB8C03-0CB7-4353-869E-4A36307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8CA662-FEF4-42D1-902F-2B46AA72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129A49-9C11-4B17-8C71-C77325DC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9A9928-AE36-4EAA-BED0-CDF943A8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2BE6-C4F5-477B-9DC6-1AFCBFF1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2FBD7B-6E8E-4B03-8E68-3B82E75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0F0C71-B63A-4707-B3F6-1E4179A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EA063A-5007-4FA8-B035-CCB3B2A6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307B10-6895-454F-8169-07F6843B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51227C-D881-4FF6-8297-945A2FC0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3D1BBF-3ACC-4D17-A17C-1E83819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CACD4B-1476-4230-8B3E-916D332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B40115-FA6F-46C7-8CCF-5CBAD1B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5190662-AE63-46D8-954D-BBC0005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98C0E6-CC56-4C3C-ABD0-8F70B284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3536-F5CD-4A82-BA96-DDA84529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447B39-3869-469D-8F80-90C090FC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87AAB2-3943-4ED0-A1D7-B962C154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C1B234-5036-4675-B441-44B8041C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C3B342-65D4-47DE-94E2-7CEE2A60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3E3F8F-3B29-4B9D-960A-4F9AAF08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C3D7F3-5772-4428-ACA8-2D0B6289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F2C945-FBCE-4A1B-A94A-9B23EB8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A4EE7B-F8C2-417F-B47A-C4924A88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D8696B-95A6-42F4-98AF-4683D273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3E0A67-1703-4DB5-8EE3-BB982A8C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C207-1451-48AD-A93D-B8D1683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093097-859B-470B-849A-275AC5F3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A014DB-4B7D-400C-8693-851C2493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E11C8D-F5AF-4204-8CD9-DDFCF0F0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8AE5C6-9906-4B6B-971B-8D581EDC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E3A8C7-A07F-4406-860A-5ED8B19B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DC433D-95EB-40EA-955D-D6DDE599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9D3EA1-CEA9-49C1-8627-D9D4191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82E075-8DB1-460A-B0A9-123C4DB6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EBE5EC-F6B8-494D-95F6-C8C847D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AEF292-B3F7-496B-9F15-837C6ECE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F54A-71D5-4222-9458-9366D6C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659554-02AA-47A9-B0D6-DCCBB46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807ADF-6EAA-48A3-A22F-769A9E6D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9FE5DC-E6CB-42B6-841D-60466B2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786ED7-BA53-4867-B988-CC0430F9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ABBE0F-3CBC-4B68-9C58-3AF65935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7DFBB0-628C-402A-8180-7F57C20E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45E7A7-AA19-4B34-8C3F-9333166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810C87-EAC0-4E0D-81AD-E40BC558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4CB65E-4A46-4DF6-BBCA-76F468E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5440A6-B155-4712-9A1A-9C556D8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4DE4-ECC4-470C-B661-26377EE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4589A1-FAA1-4B05-938C-CEC3A9A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9047F8-A3F6-4736-8249-E9B763E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7078E9-F05C-4DE2-A376-CAE8F89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35EB3B-6346-4792-B918-921C43B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A2B73A-9953-4CC2-8C74-7A1C7DCB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B33D41-9A22-4807-BF4D-86B99C6E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BFC8CA-2894-437A-AC2E-FE9D2E84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7C86BA-91B6-4CF4-B3BD-A11E52ED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20D299-F583-4E98-B198-5493BDDB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2A7BA1-95CA-4DDF-BA2E-0EB55E6F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1457-30F7-4D6B-BFA6-C2C24AF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834FD0-A606-481D-9D67-24CD23D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15A6F0-37BB-4A34-BA65-0AD971C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189F55-CCA7-4BBD-BD40-6E9542D9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9C43A5-8A19-42A0-9FBD-D0440EF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DBF862-E886-4339-A4AA-1804F407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173B70-948F-4349-9465-EC87EFD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447637-782A-4512-BACC-49B06264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EDA799-C719-40B8-93E3-A9463A68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921AB35-80B6-4F4F-ABBD-EB738E79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BEDE54-561A-4A23-9729-669F9A81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B201-CFFA-4050-BAAD-C0F9753C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8A65E5-63AA-4BFB-95BD-3A808BC1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84007C-630D-489D-B891-D4DDEF69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16D79C-43E2-4C1E-A339-6856F4FA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F3789E-C865-489B-A58F-920A59E4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363359-6761-48C7-B6FF-4C22A9D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E8C6DD-083F-41C1-B47B-2C10B3D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790339-7EF0-4441-BD45-073817AA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09EB62-679A-4475-ABF9-D740729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5CE506-205D-4761-A9D5-E1EB8624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CC7C89-802A-481E-860F-BB5AAD98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055AD-0E74-4C50-8377-1D8588F7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FC73E8-9054-47DE-B31E-85191BA5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8B2BFD-5C0D-4654-ACC0-EDAF3026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07CD4E-2EA0-407A-BBF3-939F432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4677C2-38E5-4F68-BC7C-8C8705B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9D0254-05F5-4E72-9820-96E16A51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87DDF1-FD31-4459-BE0E-0ADE766A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83140A-3489-4AF7-AC9B-68B56A4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586C5D-273C-414C-A56B-1A7C11D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1F15E3-C40E-4E1B-9CFE-4A892E9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458777-1E30-47CB-9FBC-4C8FF6B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E30F-4D4E-49D7-8EE1-B7C3C412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20E909-50CD-4700-B603-0B1DFFE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8BE4C6-F9C8-41C5-8280-A82DA625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8929DC-4F7B-4855-BCEB-2FBF9D3E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835BFB-FAEA-49A1-B804-01E013F1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43B1BF-B9BD-4829-8FF6-BD73B7F6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313C32-9ED2-40A4-BDB4-1454B3A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3B4F19-6479-4F55-B3C6-FE33592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DA8752-BD13-4702-BE53-7E5D34A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119D74-E4FD-409C-BAB2-A957967C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A41726-A909-4178-9637-9163554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945-92DB-45AA-8598-ED0D50D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958A-CF9A-4A13-A642-E2F2BEC0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B02BE5-AE9F-4BD7-902B-8E422F6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44E637-865D-418C-9230-788E2458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A0C19F-28DF-4884-B95E-945E25F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879700-624E-491F-A446-FEAEE22E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692365-3CA1-43C7-B2E7-1F214CFA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065A71-8076-457A-84F1-FAABCE52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C841DA-94AA-4A88-850F-258B16C9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A943B5-B1FD-4916-9E2F-43934314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73450A-2531-4019-A288-0B1C27D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F43152-ED69-4F74-923E-774516A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007D0-9DD9-4ABE-A0EB-5001DD2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8B6446-53B9-4549-A79A-EDD1EC6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AC7455-6A0B-41AC-AF72-4F8F676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E59AC1-B91C-4930-8B17-F7F8BBC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03EB979-1FF6-4645-8346-05BD229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7390A5-CBAC-4D7A-B7D1-5AAD219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90E4FE-56E4-4BDD-854D-3BE12F66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2ABA37-A849-4773-9D19-5CCEBFD0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EAD73E-852D-45C6-B795-B78B9465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863E6B-8ADA-4716-8692-14F18586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BC673D-CF10-43B2-AC07-E0529AFE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0BD63-6306-497E-9FCA-18DC642A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8A0F76-0A78-487E-8BF2-A083476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3D1689-8DF2-483D-8511-B32C5800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45BCED-E09D-452D-89AC-5736F5D4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797A6D-9D2A-49C6-9747-AA9D740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86FEF2-0F2D-4934-9CD4-5877E48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1748F0-C3F3-4C7B-B87B-88659A7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4E6226-40F6-4196-9091-6A5B792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3173A6-7D41-4FE4-A518-00E1B116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088346-055F-452B-BD5E-140E4005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EEB8E8-9307-429D-B1BF-15397333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8020-9FC7-415A-88B7-B1B6AC6F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2F2715-E6B6-4A91-AAB4-31F6A617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387F9B-2F76-4CA9-B501-AB19355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1CC0CDE-E00F-49AB-9756-3562526D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F0D2DC-CB71-4A54-8FD5-1DCDC502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89FBFC-822B-4E87-A43E-CDB7A81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00A56B-052C-4931-9E3C-3BCA634C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C7FBB7-1CD1-4A81-88E5-3C26323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522731-BA59-45CE-B157-B6B4339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540F3F-4540-45B0-BD4A-1CF2F9F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2D1981-FF89-4E51-AF8E-68FAC9A7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2117-BA0C-40CD-95AD-75AF495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0F705D-CADA-4FF1-B7F4-01FDE85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25A596-2612-4458-9148-6B8FB134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8D08CE-FB64-43EC-8663-1FEBB94B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D92AB4-BD9C-4EE0-86A4-7CE8612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F510B8-6334-4189-B782-704CAB1D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DEF583-A3D8-4E4B-A2FA-D3F2774F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5F39AC-84D3-4A46-8B11-265D0FA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4ECA1D-1975-4E2C-85FF-07B0200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7E5DC9-09FD-4985-A194-E1C21EF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931701-45AF-4D8C-BE3B-ACF2B34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35F4-E5BB-4D8A-A0A5-5A1789A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7D6A0D-6D3E-47D3-9603-CC841891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D25CC5-AC2F-4EDF-8A4D-2E91C73B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652CC5-40EE-43E9-AF92-2D98F82A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5386919-9D31-484B-AA2B-08B6C6DE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57F5123-261C-44B4-98E8-0A397A5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3D0A9E-8DD9-4EB2-A611-6BB0DF4D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B20FE2-6782-45A7-A98D-2AD29E47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48226B-09D4-4D7C-835E-F3FB030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EE424A-EFB2-44C8-A535-279E086D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3BEAF22-0FD1-43D8-9748-D3C59F9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8C50-1750-4841-807F-19D5E36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7A2A16-A2FD-4130-9A7E-1296A794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1D2056-F1CC-4D76-AC2A-22A3B12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FFD09A-1FBE-4097-A4E1-F314B8E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B58942-A779-4153-A183-F2B08945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41E214-4387-437F-B180-52FE4613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12BE6C-1DEF-42E7-AC71-36ACF511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B67688-EF40-491C-88DD-DEA2BA29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D3FCEF-5FA0-4371-AF35-786838F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5B689D-4C65-45C8-9758-B103981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859F63-8454-4922-B0FF-85D7F84A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D14D-D1F9-47FE-9EFF-96FD99C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70B2AC-AA25-4EBB-A97A-4449AD0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F0EDC9-0785-4A7B-8904-D644800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2B58F8-2A76-4555-AE01-48B91B1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C15AFC-C79F-42D8-86C1-98C8E3C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D71043-BCCE-4EC4-96F1-54559669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50C10D-1141-4171-B3E9-5A3082A6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50EA47-3B96-4DB0-B13E-B9D275A2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BEC1-0F76-43DF-AA4D-54406BBD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ED07-9B29-4DA9-BA39-E4FBCFB5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751-C00D-4207-8205-C428A06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D2F3-35AB-450C-8ECD-1F388702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E30C-1908-4C2B-B373-80016A73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60C0-147B-44CC-8BD4-831B588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D335-268A-4DF8-AACF-33993E01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B73D-BD54-4806-A56A-55568B1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72AC-FD84-4E2A-A358-3642ABA0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6801-A628-42B8-88F0-C21EEF5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DC20-1EE2-4AC4-ACF3-DACD569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0E78-11E2-4382-853B-E706079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C21A-69A4-4911-8BDC-E788CE48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7E2-80D5-4161-B363-E275D84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FF69-A7C9-4640-95BB-421805E6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6421-E11C-4195-85B4-B37C32F6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69DD-6E25-4A33-97C6-91FF2C41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C1F8D-9934-486E-8CBA-B21DB6B4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8FD3-5D35-4F13-87AE-FF1A5407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A652-C244-4A3A-A02E-52FFEA58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6F71-95B3-48FA-976E-6C712A6D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82D99-AE5C-406D-912E-9501A51B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77A31-EC09-4596-B6FE-4FB3433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93BDE-F1B3-449B-AFAE-9F14BAB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6D2-04BD-4862-B59B-F62DB81A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A95A4-8412-4E64-9782-EACE3BB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BE28-66CE-4F7F-BD5D-5155E49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7667-0D8B-44C0-814D-0254D997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29C9-AC30-47BC-8070-F5DA632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178C-5437-4E83-8F76-FF769993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906CC-3D3D-42DB-9B0E-DFFE2AC0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A9312-E535-4E9E-9D7A-C5D6E1A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3BA54-7124-48FE-BEB3-D30C7AA1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C5B7-D3B8-4134-AF86-37554F2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1AA1-5448-4803-A276-265816F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DD4-901D-45E1-A00E-4E77CA9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9CD67-C883-4FBA-8EBF-84E76EAA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4269C-749F-4FAF-A5D5-3119D32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0F76-83D0-40B7-B999-F90174D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DC1B-4386-4C49-94CB-E99CECBB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9DF7D-72DC-4640-AB39-6026F4B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B9A15-C405-48F7-A9D4-1FC3B61A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59A3B-2443-40B7-A61D-D1D8F61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111A6-BD0B-42C7-899C-87D02956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8EF4A-71A8-4A31-A350-3FC4002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04D6C-9A86-4340-8EDD-AB2BE3AB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2455-B868-4629-81B7-25988AFBCD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DEC4-15E7-4B2F-A715-1C139A569E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8D47-217A-4A4A-BCC3-44EF2BE2A3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3AE6-04E6-4319-B14F-B3A3A8EB9D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D63-3281-4DA3-B080-4FC66DF3CA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91AF-272D-4315-9C8C-7D70C3B19E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7AF-59F9-41B4-A023-FAF43A4FCE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4B8-7181-47EA-8935-2398DB27CA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CAB-3D32-4A08-9585-DD1932F0F3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D23-888B-4035-9AF0-8664698F91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B209-3509-4497-B40E-C9188BB7E3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8AF5-78F4-420B-828F-0C17D39BB7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346-0606-48E1-A6E1-785FD3C5C2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908-3A0C-4B44-B665-FB8335DF57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C598-1AC9-4011-959D-A78EF77BE4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093-A51C-4F32-B844-AB7D3F6E01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B4E4-DEB2-435A-BE84-35EFF08D46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138B-C298-4EC2-9BC7-E85E5ECA03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FB3-FBC0-4908-B0EA-FA5B6B0FD9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CEE-06E0-4E8F-9E75-DF71EEA3B5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09CC-7F3F-4A04-9E20-40E773AA9D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15E2-5755-48D5-A7FC-F13654C714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48F-0AF0-4C64-A3A0-E1AA8E8D11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61BE-2D61-4A61-B576-4714575034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AE1-B8DB-4109-B943-4925CA8E93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0E21-9F6C-4216-BFC0-67168DDD11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2FFD-8B2F-4A34-8693-C846851BD5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9E70-8A83-444F-886B-C36BA4342F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A08-5184-4D78-B7E2-A17B6CCF73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3C18-0500-4C2A-BF0F-7702BA923A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09C-CBAC-4A90-89A7-1C76F3D847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2CE6-A347-46BE-9DE0-C04EF0812C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ABA4-D986-4B13-A67F-FC7E61766C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C94-B3D1-4150-9CE6-77364B1DAD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3F4A-C70D-4F9B-8913-0D59958B71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220-CA9A-4DA9-9F69-5F32C1C826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20CC-C565-4F14-8537-44764C8286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4A7-D865-4C46-A556-4DD078F6B1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466-AB45-4850-ADA1-421A7EA938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6DB4-106F-4A7E-A3EA-3A51F090E6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60F3-ADCF-4EB0-9C6E-673BDD5BDB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AECD-266C-454E-925A-79B22488B9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1318-1B87-4F42-A8D9-451D6F42DE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DD7E-3010-49E4-95AF-4173FB92D8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C28-35E3-4BF3-9395-2133AECFCF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FEE-A05C-469F-9175-1554D48CBB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5CB-CCC6-4D63-B549-0162157589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1DE-BB97-4F41-B8EE-1958385C59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EB2-0DB9-4FB7-AFB0-C7185A73319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DC6-6E1D-456B-9D87-1F70150F1D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FA9-1AFB-4986-B67B-3937B69605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862-2457-47C2-9BF2-2A804941ED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B51D-75A6-469A-A68E-2A059233EC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9B38-5CB0-4670-9E4C-7E87B2844C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AC20-183D-4500-B34C-A3B06EDE37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818E-A5DE-4D63-95BA-51B0F629FB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AB39-E6DD-47D2-A163-2E99640DAB4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30CE-FA4C-4BAE-A957-EA6B86D1BC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7A0-8DE3-4BF0-914C-3EC9DFA798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C6E-F8A5-47E9-B62F-20BE373933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BD9-B241-497C-8B3E-4625637932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7E4-FA8C-4AB5-BA4B-98C1768603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E60F-1B30-4673-BB85-ED5F7772C36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B879-A3C8-4DF8-8657-F89CBEB5BC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B957-4F41-4D22-B8BF-906EB8FA1A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ADE-C6FC-4D5C-8A89-343C36EA56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1C7E-1023-49F9-9307-C9CD9A7EBB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1A6-BD38-4254-B931-D8AD53C23F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6ED-AAE2-4990-BDE1-F084F91BC2D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689-9A55-47FE-BAB0-B26300D56F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211-3501-4431-81E7-0902E26F15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78B-83D4-43CD-9089-3A6EBE0F3B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9A6-193B-44BC-8AEC-90C2202567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21B-3240-48A8-83EC-9425A93F65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02E-0D51-4334-86C0-BA541F2599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29FE-5A58-4320-9409-4C542F8C99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ED2-496B-45A4-96A7-1EE3E66F3E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3098-AE9C-4F03-A1AD-CBB2B6AFDA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9A7-CACE-4576-A890-847CFAD4EB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DC60-0E4A-46A1-A061-6FFE272BB2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BF9-4E82-4AA2-8E23-431EA05AB71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574-8F0A-48FD-9C6C-86BB554864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DD2-5B13-4983-A496-B95CC1F383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0103-A270-4DA3-877A-A362FADC9C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1680-6302-4ACD-82BA-10289ABAAA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758-63CD-4DE7-B647-2D9B1ECA4E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800-B87D-4A1F-93FE-26B8D7D293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A12-4CA3-4E34-9B63-106EEFA801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9ED2-0ADB-4CA0-82FF-5B2F0F15FB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0E0D-84AA-47E4-9219-E3B8B4E027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A85B-E631-474A-9DA3-5C56CC7CF3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82A-AA9B-4F85-9934-3A311699C0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501-0B04-4D19-8297-181271CD3D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FA0E-6C1D-4F62-8437-B27C39BAD4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E5B-1DFA-40F1-9410-390BCB4674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9A50-CA39-4A3B-B5D0-A2AC80BF25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5DD0-EF36-47FE-9D5D-9B895FABF3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9" name="Picture 12" descr="M.png"/>
          <p:cNvPicPr/>
          <p:nvPr/>
        </p:nvPicPr>
        <p:blipFill>
          <a:blip r:embed="rId2"/>
          <a:srcRect l="0" t="0" r="22620" b="0"/>
          <a:stretch/>
        </p:blipFill>
        <p:spPr>
          <a:xfrm>
            <a:off x="4500720" y="3543480"/>
            <a:ext cx="4643280" cy="331452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9" descr=""/>
          <p:cNvPicPr/>
          <p:nvPr/>
        </p:nvPicPr>
        <p:blipFill>
          <a:blip r:embed="rId3"/>
          <a:srcRect l="23547" t="21617" r="0" b="13554"/>
          <a:stretch/>
        </p:blipFill>
        <p:spPr>
          <a:xfrm>
            <a:off x="214200" y="2511360"/>
            <a:ext cx="67262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71" name=""/>
          <p:cNvGrpSpPr/>
          <p:nvPr/>
        </p:nvGrpSpPr>
        <p:grpSpPr>
          <a:xfrm>
            <a:off x="155520" y="3479760"/>
            <a:ext cx="3529080" cy="947160"/>
            <a:chOff x="155520" y="3479760"/>
            <a:chExt cx="3529080" cy="947160"/>
          </a:xfrm>
        </p:grpSpPr>
        <p:sp>
          <p:nvSpPr>
            <p:cNvPr id="1972" name="Rectangle 7"/>
            <p:cNvSpPr/>
            <p:nvPr/>
          </p:nvSpPr>
          <p:spPr>
            <a:xfrm>
              <a:off x="347760" y="3564000"/>
              <a:ext cx="33224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8"/>
            <p:cNvSpPr/>
            <p:nvPr/>
          </p:nvSpPr>
          <p:spPr>
            <a:xfrm>
              <a:off x="155520" y="3479760"/>
              <a:ext cx="35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8e1800"/>
                  </a:solidFill>
                  <a:latin typeface="Georgia"/>
                </a:rPr>
                <a:t>www.mendeley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9D67-A919-4A7C-8E19-B338783495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8" name="图片 5" descr="网页添加.JPG"/>
          <p:cNvPicPr/>
          <p:nvPr/>
        </p:nvPicPr>
        <p:blipFill>
          <a:blip r:embed="rId2"/>
          <a:stretch/>
        </p:blipFill>
        <p:spPr>
          <a:xfrm>
            <a:off x="214200" y="1143000"/>
            <a:ext cx="8643960" cy="44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C9C-655B-41DF-9888-CBBF5E3F78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4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监视文件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监视的文件夹：此后下载到此地的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pdf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文件，都可以自动保存到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的列表中，并显示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2" name="Picture 4" descr=""/>
          <p:cNvPicPr/>
          <p:nvPr/>
        </p:nvPicPr>
        <p:blipFill>
          <a:blip r:embed="rId2"/>
          <a:stretch/>
        </p:blipFill>
        <p:spPr>
          <a:xfrm>
            <a:off x="179280" y="2709720"/>
            <a:ext cx="2843280" cy="1800360"/>
          </a:xfrm>
          <a:prstGeom prst="rect">
            <a:avLst/>
          </a:prstGeom>
          <a:ln w="0">
            <a:noFill/>
          </a:ln>
        </p:spPr>
      </p:pic>
      <p:pic>
        <p:nvPicPr>
          <p:cNvPr id="2013" name="Picture 5" descr=""/>
          <p:cNvPicPr/>
          <p:nvPr/>
        </p:nvPicPr>
        <p:blipFill>
          <a:blip r:embed="rId3"/>
          <a:stretch/>
        </p:blipFill>
        <p:spPr>
          <a:xfrm>
            <a:off x="3132000" y="2120760"/>
            <a:ext cx="5837400" cy="4550040"/>
          </a:xfrm>
          <a:prstGeom prst="rect">
            <a:avLst/>
          </a:prstGeom>
          <a:ln w="0">
            <a:noFill/>
          </a:ln>
        </p:spPr>
      </p:pic>
      <p:sp>
        <p:nvSpPr>
          <p:cNvPr id="2014" name="AutoShape 6"/>
          <p:cNvSpPr/>
          <p:nvPr/>
        </p:nvSpPr>
        <p:spPr>
          <a:xfrm rot="2340000">
            <a:off x="1547280" y="4941720"/>
            <a:ext cx="1584360" cy="5032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6" name="内容占位符 4" descr="引用体系.JPG"/>
          <p:cNvPicPr/>
          <p:nvPr/>
        </p:nvPicPr>
        <p:blipFill>
          <a:blip r:embed="rId2"/>
          <a:stretch/>
        </p:blipFill>
        <p:spPr>
          <a:xfrm>
            <a:off x="214200" y="2571840"/>
            <a:ext cx="7182000" cy="3362400"/>
          </a:xfrm>
          <a:prstGeom prst="rect">
            <a:avLst/>
          </a:prstGeom>
          <a:ln w="0">
            <a:noFill/>
          </a:ln>
        </p:spPr>
      </p:pic>
      <p:sp>
        <p:nvSpPr>
          <p:cNvPr id="201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E0F-9521-4505-A2D0-272FD6B90F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Box 6"/>
          <p:cNvSpPr/>
          <p:nvPr/>
        </p:nvSpPr>
        <p:spPr>
          <a:xfrm>
            <a:off x="395280" y="1054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庞大的引用体系，海量文献供您搜索，并可自动检索文献相关信息添加到右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图片 7" descr="细节.JPG"/>
          <p:cNvPicPr/>
          <p:nvPr/>
        </p:nvPicPr>
        <p:blipFill>
          <a:blip r:embed="rId3"/>
          <a:stretch/>
        </p:blipFill>
        <p:spPr>
          <a:xfrm>
            <a:off x="5786280" y="2214720"/>
            <a:ext cx="302904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1D91-73A9-42B4-A69F-59415A5EE0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二、文件搬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Mendeley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的文件导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）选择您想导出的文档，单击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File→Export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按快捷键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Ctrl + E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）然后，您可以选择以最常见的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.XML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.RIS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或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BibT eX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格式保存文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3" name="Picture 4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6360" cy="369396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5" descr=""/>
          <p:cNvPicPr/>
          <p:nvPr/>
        </p:nvPicPr>
        <p:blipFill>
          <a:blip r:embed="rId3"/>
          <a:stretch/>
        </p:blipFill>
        <p:spPr>
          <a:xfrm>
            <a:off x="179280" y="2854440"/>
            <a:ext cx="2836800" cy="2087280"/>
          </a:xfrm>
          <a:prstGeom prst="rect">
            <a:avLst/>
          </a:prstGeom>
          <a:ln w="0">
            <a:noFill/>
          </a:ln>
        </p:spPr>
      </p:pic>
      <p:sp>
        <p:nvSpPr>
          <p:cNvPr id="2025" name="AutoShape 6"/>
          <p:cNvSpPr/>
          <p:nvPr/>
        </p:nvSpPr>
        <p:spPr>
          <a:xfrm rot="2280000">
            <a:off x="1932120" y="5229000"/>
            <a:ext cx="1569960" cy="504720"/>
          </a:xfrm>
          <a:custGeom>
            <a:avLst/>
            <a:gdLst>
              <a:gd name="textAreaLeft" fmla="*/ 245160 w 1569960"/>
              <a:gd name="textAreaRight" fmla="*/ 1373760 w 15699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Rechteckige Legende 6"/>
          <p:cNvSpPr/>
          <p:nvPr/>
        </p:nvSpPr>
        <p:spPr>
          <a:xfrm rot="16200000">
            <a:off x="5321880" y="1821600"/>
            <a:ext cx="357120" cy="4143240"/>
          </a:xfrm>
          <a:prstGeom prst="wedgeRectCallout">
            <a:avLst>
              <a:gd name="adj1" fmla="val -138064"/>
              <a:gd name="adj2" fmla="val -61476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以将数据库备份，以保证文件不会丢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8" name="图片 4" descr="导为其他格式.JPG"/>
          <p:cNvPicPr/>
          <p:nvPr/>
        </p:nvPicPr>
        <p:blipFill>
          <a:blip r:embed="rId2"/>
          <a:stretch/>
        </p:blipFill>
        <p:spPr>
          <a:xfrm>
            <a:off x="3143160" y="3571920"/>
            <a:ext cx="5334120" cy="3133800"/>
          </a:xfrm>
          <a:prstGeom prst="rect">
            <a:avLst/>
          </a:prstGeom>
          <a:ln w="0">
            <a:noFill/>
          </a:ln>
        </p:spPr>
      </p:pic>
      <p:pic>
        <p:nvPicPr>
          <p:cNvPr id="2029" name="内容占位符 3" descr="备份.JPG"/>
          <p:cNvPicPr/>
          <p:nvPr/>
        </p:nvPicPr>
        <p:blipFill>
          <a:blip r:embed="rId3"/>
          <a:stretch/>
        </p:blipFill>
        <p:spPr>
          <a:xfrm>
            <a:off x="214200" y="1643040"/>
            <a:ext cx="63579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44B2-3034-4BD0-940D-C744722F4B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 Box 2"/>
          <p:cNvSpPr/>
          <p:nvPr/>
        </p:nvSpPr>
        <p:spPr>
          <a:xfrm>
            <a:off x="181080" y="406440"/>
            <a:ext cx="88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管理文档和参考文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合并重复的作者姓名、标签或出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ilte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过滤器窗格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将您发现的重复或不正确的名称拖放到正确的名称上进行重命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例如，如果您有两个文件标签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ow to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ow-to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将后者拖放到前者上就可以实现对错误条目的重命名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Picture 3" descr=""/>
          <p:cNvPicPr/>
          <p:nvPr/>
        </p:nvPicPr>
        <p:blipFill>
          <a:blip r:embed="rId2"/>
          <a:stretch/>
        </p:blipFill>
        <p:spPr>
          <a:xfrm>
            <a:off x="252360" y="3427560"/>
            <a:ext cx="8345520" cy="2447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DCF5-6FA9-433D-A094-21DBC67BD11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004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 标记文档为已读或未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5" name="Picture 4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12400" cy="46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103F-6401-4932-941B-B9CECA6FA6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到收藏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9" name="Picture 4" descr=""/>
          <p:cNvPicPr/>
          <p:nvPr/>
        </p:nvPicPr>
        <p:blipFill>
          <a:blip r:embed="rId2"/>
          <a:stretch/>
        </p:blipFill>
        <p:spPr>
          <a:xfrm>
            <a:off x="684360" y="1701720"/>
            <a:ext cx="801360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A50-BD3A-4570-8940-08ED140983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8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为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PDF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文档添加注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在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为文档的内容添加高亮显示或注释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3" name="Picture 4" descr=""/>
          <p:cNvPicPr/>
          <p:nvPr/>
        </p:nvPicPr>
        <p:blipFill>
          <a:blip r:embed="rId2"/>
          <a:stretch/>
        </p:blipFill>
        <p:spPr>
          <a:xfrm>
            <a:off x="1114560" y="1827360"/>
            <a:ext cx="6410160" cy="46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622-F096-40C1-8CA4-0D6FEF1773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82872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建立分类文件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建立文件夹，将不同类的文章放到对应文件夹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7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240000" cy="460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圆角矩形 5"/>
          <p:cNvSpPr/>
          <p:nvPr/>
        </p:nvSpPr>
        <p:spPr>
          <a:xfrm>
            <a:off x="4500720" y="2571840"/>
            <a:ext cx="3286080" cy="4071960"/>
          </a:xfrm>
          <a:custGeom>
            <a:avLst/>
            <a:gdLst>
              <a:gd name="textAreaLeft" fmla="*/ 160200 w 3286080"/>
              <a:gd name="textAreaRight" fmla="*/ 3125880 w 3286080"/>
              <a:gd name="textAreaTop" fmla="*/ 160200 h 4071960"/>
              <a:gd name="textAreaBottom" fmla="*/ 3911760 h 4071960"/>
            </a:gdLst>
            <a:ahLst/>
            <a:rect l="textAreaLeft" t="textAreaTop" r="textAreaRight" b="textAreaBottom"/>
            <a:pathLst>
              <a:path w="21600" h="26765">
                <a:moveTo>
                  <a:pt x="3600" y="0"/>
                </a:moveTo>
                <a:arcTo wR="3600" hR="3600" stAng="16200000" swAng="-5400000"/>
                <a:lnTo>
                  <a:pt x="0" y="23165"/>
                </a:lnTo>
                <a:arcTo wR="3600" hR="3600" stAng="10800000" swAng="-5400000"/>
                <a:lnTo>
                  <a:pt x="18000" y="26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ndel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2143080" y="135720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献管理软件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学术社交平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7" name="图片 3" descr="503d269759ee3d6dfb0a32a342166d224e4a20a44723feb6.jpg"/>
          <p:cNvPicPr/>
          <p:nvPr/>
        </p:nvPicPr>
        <p:blipFill>
          <a:blip r:embed="rId2"/>
          <a:stretch/>
        </p:blipFill>
        <p:spPr>
          <a:xfrm rot="21062400">
            <a:off x="920520" y="4106880"/>
            <a:ext cx="3362040" cy="1987560"/>
          </a:xfrm>
          <a:prstGeom prst="rect">
            <a:avLst/>
          </a:prstGeom>
          <a:ln w="0">
            <a:noFill/>
          </a:ln>
        </p:spPr>
      </p:pic>
      <p:sp>
        <p:nvSpPr>
          <p:cNvPr id="1978" name="TextBox 4"/>
          <p:cNvSpPr/>
          <p:nvPr/>
        </p:nvSpPr>
        <p:spPr>
          <a:xfrm>
            <a:off x="4572000" y="2571840"/>
            <a:ext cx="364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成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杨诗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邰莉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龚金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王玉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安艺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4580-75D6-499C-81FF-9F6F0F2DB8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四、搜索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本地搜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1" name="Picture 4" descr=""/>
          <p:cNvPicPr/>
          <p:nvPr/>
        </p:nvPicPr>
        <p:blipFill>
          <a:blip r:embed="rId2"/>
          <a:stretch/>
        </p:blipFill>
        <p:spPr>
          <a:xfrm>
            <a:off x="612720" y="2349360"/>
            <a:ext cx="5832360" cy="4321440"/>
          </a:xfrm>
          <a:prstGeom prst="rect">
            <a:avLst/>
          </a:prstGeom>
          <a:ln w="0">
            <a:noFill/>
          </a:ln>
        </p:spPr>
      </p:pic>
      <p:pic>
        <p:nvPicPr>
          <p:cNvPr id="2052" name="图片 6" descr="内部文件搜索.JPG"/>
          <p:cNvPicPr/>
          <p:nvPr/>
        </p:nvPicPr>
        <p:blipFill>
          <a:blip r:embed="rId3"/>
          <a:stretch/>
        </p:blipFill>
        <p:spPr>
          <a:xfrm>
            <a:off x="468360" y="1844640"/>
            <a:ext cx="5610240" cy="1886040"/>
          </a:xfrm>
          <a:prstGeom prst="rect">
            <a:avLst/>
          </a:prstGeom>
          <a:ln w="0">
            <a:noFill/>
          </a:ln>
        </p:spPr>
      </p:pic>
      <p:sp>
        <p:nvSpPr>
          <p:cNvPr id="2053" name="Rechteckige Legende 4"/>
          <p:cNvSpPr/>
          <p:nvPr/>
        </p:nvSpPr>
        <p:spPr>
          <a:xfrm>
            <a:off x="539640" y="4149720"/>
            <a:ext cx="2089440" cy="285840"/>
          </a:xfrm>
          <a:prstGeom prst="wedgeRectCallout">
            <a:avLst>
              <a:gd name="adj1" fmla="val 34481"/>
              <a:gd name="adj2" fmla="val -337847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关键字搜索文件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hteckige Legende 4"/>
          <p:cNvSpPr/>
          <p:nvPr/>
        </p:nvSpPr>
        <p:spPr>
          <a:xfrm>
            <a:off x="2556000" y="5877000"/>
            <a:ext cx="2089080" cy="285840"/>
          </a:xfrm>
          <a:prstGeom prst="wedgeRectCallout">
            <a:avLst>
              <a:gd name="adj1" fmla="val 14712"/>
              <a:gd name="adj2" fmla="val -306879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搜索文件内关键字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5" name="Picture 9" descr="IMG_1127"/>
          <p:cNvPicPr/>
          <p:nvPr/>
        </p:nvPicPr>
        <p:blipFill>
          <a:blip r:embed="rId4"/>
          <a:stretch/>
        </p:blipFill>
        <p:spPr>
          <a:xfrm>
            <a:off x="6661080" y="2060640"/>
            <a:ext cx="2239920" cy="410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36AB-FB68-40B5-B0A1-A1051129CE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48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Literature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点此可搜到来自网络的很多学术文献，有的可下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9" name="Picture 4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201080" cy="495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网页搜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1" name="内容占位符 3" descr="网页搜索修改.png"/>
          <p:cNvPicPr/>
          <p:nvPr/>
        </p:nvPicPr>
        <p:blipFill>
          <a:blip r:embed="rId2"/>
          <a:stretch/>
        </p:blipFill>
        <p:spPr>
          <a:xfrm>
            <a:off x="642960" y="1428840"/>
            <a:ext cx="7873920" cy="4525920"/>
          </a:xfrm>
          <a:prstGeom prst="rect">
            <a:avLst/>
          </a:prstGeom>
          <a:ln w="0">
            <a:noFill/>
          </a:ln>
        </p:spPr>
      </p:pic>
      <p:sp>
        <p:nvSpPr>
          <p:cNvPr id="2062" name="Rechteckige Legende 4"/>
          <p:cNvSpPr/>
          <p:nvPr/>
        </p:nvSpPr>
        <p:spPr>
          <a:xfrm>
            <a:off x="4572000" y="3429000"/>
            <a:ext cx="3357720" cy="285840"/>
          </a:xfrm>
          <a:prstGeom prst="wedgeRectCallout">
            <a:avLst>
              <a:gd name="adj1" fmla="val -29324"/>
              <a:gd name="adj2" fmla="val -348171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在搜索框中输入关键字，即可搜索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68B4-0DD1-4027-B65C-A2B26FC713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Box 5"/>
          <p:cNvSpPr/>
          <p:nvPr/>
        </p:nvSpPr>
        <p:spPr>
          <a:xfrm>
            <a:off x="714240" y="642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浏览搜索到的文献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5" name="Picture 4" descr="Web_catalog_slide29"/>
          <p:cNvPicPr/>
          <p:nvPr/>
        </p:nvPicPr>
        <p:blipFill>
          <a:blip r:embed="rId2"/>
          <a:stretch/>
        </p:blipFill>
        <p:spPr>
          <a:xfrm>
            <a:off x="1143000" y="1428840"/>
            <a:ext cx="6985080" cy="51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1F2-E2C6-4E85-87A3-67384CB5BC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5"/>
          <p:cNvSpPr/>
          <p:nvPr/>
        </p:nvSpPr>
        <p:spPr>
          <a:xfrm>
            <a:off x="857160" y="785880"/>
            <a:ext cx="742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Georgia"/>
              </a:rPr>
              <a:t>获取文献信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8" name="Picture 4" descr="Web_catalog_article_slide30"/>
          <p:cNvPicPr/>
          <p:nvPr/>
        </p:nvPicPr>
        <p:blipFill>
          <a:blip r:embed="rId2"/>
          <a:stretch/>
        </p:blipFill>
        <p:spPr>
          <a:xfrm>
            <a:off x="900000" y="1500120"/>
            <a:ext cx="7543800" cy="5175360"/>
          </a:xfrm>
          <a:prstGeom prst="rect">
            <a:avLst/>
          </a:prstGeom>
          <a:ln w="0">
            <a:noFill/>
          </a:ln>
        </p:spPr>
      </p:pic>
      <p:sp>
        <p:nvSpPr>
          <p:cNvPr id="2069" name="Rechteckige Legende 6"/>
          <p:cNvSpPr/>
          <p:nvPr/>
        </p:nvSpPr>
        <p:spPr>
          <a:xfrm>
            <a:off x="3929040" y="3357720"/>
            <a:ext cx="2131920" cy="647640"/>
          </a:xfrm>
          <a:prstGeom prst="wedgeRectCallout">
            <a:avLst>
              <a:gd name="adj1" fmla="val 61194"/>
              <a:gd name="adj2" fmla="val -10647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以在网页上选择将文献添加到个人书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A001-4B1F-46D6-BB87-50C5434052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5"/>
          <p:cNvSpPr/>
          <p:nvPr/>
        </p:nvSpPr>
        <p:spPr>
          <a:xfrm>
            <a:off x="357120" y="857160"/>
            <a:ext cx="71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浏览所搜用户的个人主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2" name="Picture 5" descr="Web_profiles_slide28"/>
          <p:cNvPicPr/>
          <p:nvPr/>
        </p:nvPicPr>
        <p:blipFill>
          <a:blip r:embed="rId2"/>
          <a:stretch/>
        </p:blipFill>
        <p:spPr>
          <a:xfrm>
            <a:off x="611280" y="1630440"/>
            <a:ext cx="7848360" cy="50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CD2-D038-4296-9E90-4119DC4F41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五、文献管理云服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68360" y="83772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激活文件同步功能，便可以在自己的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Web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库中浏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PDF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文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选中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y Library”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窗格中的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ll Documents”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选择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Edit Setting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根据您的需要调整设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同步您的库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登陆到您的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Web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帐户，并在库中查看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0FB2-70EA-40B6-B321-7DDD2A0D7F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7" name="Picture 2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761240" cy="5226120"/>
          </a:xfrm>
          <a:prstGeom prst="rect">
            <a:avLst/>
          </a:prstGeom>
          <a:ln w="0">
            <a:noFill/>
          </a:ln>
        </p:spPr>
      </p:pic>
      <p:sp>
        <p:nvSpPr>
          <p:cNvPr id="2078" name="Rechteckige Legende 4"/>
          <p:cNvSpPr/>
          <p:nvPr/>
        </p:nvSpPr>
        <p:spPr>
          <a:xfrm>
            <a:off x="6012000" y="4786200"/>
            <a:ext cx="208908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选择要同步的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hteckige Legende 4"/>
          <p:cNvSpPr/>
          <p:nvPr/>
        </p:nvSpPr>
        <p:spPr>
          <a:xfrm>
            <a:off x="4716360" y="2349360"/>
            <a:ext cx="2089080" cy="287640"/>
          </a:xfrm>
          <a:prstGeom prst="wedgeRectCallout">
            <a:avLst>
              <a:gd name="adj1" fmla="val 6898"/>
              <a:gd name="adj2" fmla="val 27980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同步至云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88F-633A-43F9-8B0A-B7F6332A8C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1" name="Picture 8" descr="F:\信管一班\作业\寇老师\QQ截图20140311134238.png"/>
          <p:cNvPicPr/>
          <p:nvPr/>
        </p:nvPicPr>
        <p:blipFill>
          <a:blip r:embed="rId2"/>
          <a:stretch/>
        </p:blipFill>
        <p:spPr>
          <a:xfrm>
            <a:off x="468360" y="1844640"/>
            <a:ext cx="8424720" cy="432108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5"/>
          <p:cNvSpPr/>
          <p:nvPr/>
        </p:nvSpPr>
        <p:spPr>
          <a:xfrm>
            <a:off x="468360" y="1270080"/>
            <a:ext cx="764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）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隶书"/>
              </a:rPr>
              <a:t>Offic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关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hteckige Legende 4"/>
          <p:cNvSpPr/>
          <p:nvPr/>
        </p:nvSpPr>
        <p:spPr>
          <a:xfrm>
            <a:off x="2771640" y="2492280"/>
            <a:ext cx="5256360" cy="28908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打开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Mendeley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，点击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Install MS Word Plugin”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去安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Box 4"/>
          <p:cNvSpPr/>
          <p:nvPr/>
        </p:nvSpPr>
        <p:spPr>
          <a:xfrm>
            <a:off x="755640" y="4046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六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插入引文并生成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37C-8AAE-46DF-80C6-D67DEB2CCE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6" name="Picture 7" descr="F:\信管一班\作业\寇老师\3.png"/>
          <p:cNvPicPr/>
          <p:nvPr/>
        </p:nvPicPr>
        <p:blipFill>
          <a:blip r:embed="rId2"/>
          <a:stretch/>
        </p:blipFill>
        <p:spPr>
          <a:xfrm>
            <a:off x="395280" y="1028880"/>
            <a:ext cx="8410680" cy="441612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8" descr="F:\信管一班\作业\寇老师\4.png"/>
          <p:cNvPicPr/>
          <p:nvPr/>
        </p:nvPicPr>
        <p:blipFill>
          <a:blip r:embed="rId3"/>
          <a:stretch/>
        </p:blipFill>
        <p:spPr>
          <a:xfrm>
            <a:off x="3809880" y="3500280"/>
            <a:ext cx="5051520" cy="2909880"/>
          </a:xfrm>
          <a:prstGeom prst="rect">
            <a:avLst/>
          </a:prstGeom>
          <a:ln w="0">
            <a:noFill/>
          </a:ln>
        </p:spPr>
      </p:pic>
      <p:sp>
        <p:nvSpPr>
          <p:cNvPr id="2088" name="Rechteckige Legende 4"/>
          <p:cNvSpPr/>
          <p:nvPr/>
        </p:nvSpPr>
        <p:spPr>
          <a:xfrm>
            <a:off x="2340000" y="2349360"/>
            <a:ext cx="335736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打开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Word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，点击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Insert Cita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hteckige Legende 3"/>
          <p:cNvSpPr/>
          <p:nvPr/>
        </p:nvSpPr>
        <p:spPr>
          <a:xfrm>
            <a:off x="5724360" y="3286080"/>
            <a:ext cx="2374920" cy="717480"/>
          </a:xfrm>
          <a:prstGeom prst="wedgeRectCallout">
            <a:avLst>
              <a:gd name="adj1" fmla="val 1851"/>
              <a:gd name="adj2" fmla="val 9337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在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mendeley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选择需要引用的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Text Box 7"/>
          <p:cNvSpPr/>
          <p:nvPr/>
        </p:nvSpPr>
        <p:spPr>
          <a:xfrm>
            <a:off x="2484360" y="33336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如何引入文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ndel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是一款免费的跨平台文献管理软件，同时也是一个在线的学术社交网络平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可一键抓取网页上的文献信息添加到个人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brar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，还可安装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S Word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n     Offic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插件，方便在文字编辑器中插入和管理参考文献书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只要在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.com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建立一个帐号，就能实现计算机上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 Desktop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.com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上的数据同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250920" y="260280"/>
            <a:ext cx="165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57EF-A5F9-4A14-8F12-47DBF5D8AA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2" name="Picture 9" descr="F:\信管一班\作业\寇老师\5.png"/>
          <p:cNvPicPr/>
          <p:nvPr/>
        </p:nvPicPr>
        <p:blipFill>
          <a:blip r:embed="rId2"/>
          <a:stretch/>
        </p:blipFill>
        <p:spPr>
          <a:xfrm>
            <a:off x="395280" y="1844640"/>
            <a:ext cx="7777080" cy="4321080"/>
          </a:xfrm>
          <a:prstGeom prst="rect">
            <a:avLst/>
          </a:prstGeom>
          <a:ln w="0">
            <a:noFill/>
          </a:ln>
        </p:spPr>
      </p:pic>
      <p:sp>
        <p:nvSpPr>
          <p:cNvPr id="2093" name="Rechteckige Legende 4"/>
          <p:cNvSpPr/>
          <p:nvPr/>
        </p:nvSpPr>
        <p:spPr>
          <a:xfrm>
            <a:off x="4068720" y="2852640"/>
            <a:ext cx="3745080" cy="357120"/>
          </a:xfrm>
          <a:prstGeom prst="wedgeRectCallout">
            <a:avLst>
              <a:gd name="adj1" fmla="val -67680"/>
              <a:gd name="adj2" fmla="val -19831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可以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选择你所需要的引文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6108840" y="5373720"/>
            <a:ext cx="2273040" cy="1252440"/>
            <a:chOff x="6108840" y="5373720"/>
            <a:chExt cx="2273040" cy="1252440"/>
          </a:xfrm>
        </p:grpSpPr>
        <p:sp>
          <p:nvSpPr>
            <p:cNvPr id="2095" name="Rounded Rectangle 22"/>
            <p:cNvSpPr/>
            <p:nvPr/>
          </p:nvSpPr>
          <p:spPr>
            <a:xfrm>
              <a:off x="6108840" y="5373720"/>
              <a:ext cx="2273040" cy="1252440"/>
            </a:xfrm>
            <a:prstGeom prst="rect">
              <a:avLst/>
            </a:prstGeom>
            <a:solidFill>
              <a:srgbClr val="59595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feld 36"/>
            <p:cNvSpPr/>
            <p:nvPr/>
          </p:nvSpPr>
          <p:spPr>
            <a:xfrm>
              <a:off x="6294240" y="5484600"/>
              <a:ext cx="19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引用到谷歌文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或者通过复制和粘贴来编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Rechteckige Legende 4"/>
          <p:cNvSpPr/>
          <p:nvPr/>
        </p:nvSpPr>
        <p:spPr>
          <a:xfrm>
            <a:off x="4932360" y="3860640"/>
            <a:ext cx="4248000" cy="432000"/>
          </a:xfrm>
          <a:prstGeom prst="wedgeRectCallout">
            <a:avLst>
              <a:gd name="adj1" fmla="val -42240"/>
              <a:gd name="adj2" fmla="val 111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点击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ert Bibliography”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按钮生成参考书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9"/>
          <p:cNvSpPr/>
          <p:nvPr/>
        </p:nvSpPr>
        <p:spPr>
          <a:xfrm>
            <a:off x="75564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）生成参考文献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Picture 10" descr="C:\Users\ABC\Desktop\1.png"/>
          <p:cNvPicPr/>
          <p:nvPr/>
        </p:nvPicPr>
        <p:blipFill>
          <a:blip r:embed="rId3"/>
          <a:stretch/>
        </p:blipFill>
        <p:spPr>
          <a:xfrm>
            <a:off x="971640" y="5157720"/>
            <a:ext cx="4743360" cy="819360"/>
          </a:xfrm>
          <a:prstGeom prst="rect">
            <a:avLst/>
          </a:prstGeom>
          <a:ln w="0">
            <a:noFill/>
          </a:ln>
        </p:spPr>
      </p:pic>
      <p:sp>
        <p:nvSpPr>
          <p:cNvPr id="2100" name="Rechteckige Legende 4"/>
          <p:cNvSpPr/>
          <p:nvPr/>
        </p:nvSpPr>
        <p:spPr>
          <a:xfrm>
            <a:off x="3780000" y="4724280"/>
            <a:ext cx="2663640" cy="433440"/>
          </a:xfrm>
          <a:prstGeom prst="wedgeRectCallout">
            <a:avLst>
              <a:gd name="adj1" fmla="val -42240"/>
              <a:gd name="adj2" fmla="val 111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使用分号可以引入多个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2" name="Pictur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8120" cy="388800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D1C-9C65-4E0B-806E-35C8D8A5F1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5" name="Picture 7" descr="F:\信管一班\作业\寇老师\1.png"/>
          <p:cNvPicPr/>
          <p:nvPr/>
        </p:nvPicPr>
        <p:blipFill>
          <a:blip r:embed="rId2"/>
          <a:stretch/>
        </p:blipFill>
        <p:spPr>
          <a:xfrm>
            <a:off x="324000" y="1844640"/>
            <a:ext cx="8424720" cy="4176720"/>
          </a:xfrm>
          <a:prstGeom prst="rect">
            <a:avLst/>
          </a:prstGeom>
          <a:ln w="0">
            <a:noFill/>
          </a:ln>
        </p:spPr>
      </p:pic>
      <p:sp>
        <p:nvSpPr>
          <p:cNvPr id="2106" name="TextBox 5"/>
          <p:cNvSpPr/>
          <p:nvPr/>
        </p:nvSpPr>
        <p:spPr>
          <a:xfrm>
            <a:off x="971640" y="4046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七、建立小组</a:t>
            </a: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(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hteckige Legende 3"/>
          <p:cNvSpPr/>
          <p:nvPr/>
        </p:nvSpPr>
        <p:spPr>
          <a:xfrm>
            <a:off x="6084720" y="5661000"/>
            <a:ext cx="2786400" cy="1143000"/>
          </a:xfrm>
          <a:prstGeom prst="wedgeRectCallout">
            <a:avLst>
              <a:gd name="adj1" fmla="val -39402"/>
              <a:gd name="adj2" fmla="val -149444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查看组在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其他用户可以请求加入或只是关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hteckige Legende 3"/>
          <p:cNvSpPr/>
          <p:nvPr/>
        </p:nvSpPr>
        <p:spPr>
          <a:xfrm>
            <a:off x="395280" y="5877000"/>
            <a:ext cx="4680000" cy="793800"/>
          </a:xfrm>
          <a:prstGeom prst="rect">
            <a:avLst/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只有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eference details –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看不到整篇文献。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rivate 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包含有注释的全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7"/>
          <p:cNvSpPr/>
          <p:nvPr/>
        </p:nvSpPr>
        <p:spPr>
          <a:xfrm>
            <a:off x="469800" y="119700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小组形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ublic</a:t>
            </a:r>
            <a:r>
              <a:rPr b="0" lang="zh-CN" sz="28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rivat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hteckige Legende 4"/>
          <p:cNvSpPr/>
          <p:nvPr/>
        </p:nvSpPr>
        <p:spPr>
          <a:xfrm>
            <a:off x="2916360" y="1990800"/>
            <a:ext cx="4751280" cy="790560"/>
          </a:xfrm>
          <a:prstGeom prst="wedgeRectCallout">
            <a:avLst>
              <a:gd name="adj1" fmla="val -56782"/>
              <a:gd name="adj2" fmla="val 10541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Group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：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Invite-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0732-7473-45DA-9BDB-24AF86C8A4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2" name="Picture 6" descr="F:\信管一班\作业\寇老师\2.png"/>
          <p:cNvPicPr/>
          <p:nvPr/>
        </p:nvPicPr>
        <p:blipFill>
          <a:blip r:embed="rId2"/>
          <a:stretch/>
        </p:blipFill>
        <p:spPr>
          <a:xfrm>
            <a:off x="395280" y="1628640"/>
            <a:ext cx="7416720" cy="4997520"/>
          </a:xfrm>
          <a:prstGeom prst="rect">
            <a:avLst/>
          </a:prstGeom>
          <a:ln w="0">
            <a:noFill/>
          </a:ln>
        </p:spPr>
      </p:pic>
      <p:sp>
        <p:nvSpPr>
          <p:cNvPr id="2113" name="TextBox 5"/>
          <p:cNvSpPr/>
          <p:nvPr/>
        </p:nvSpPr>
        <p:spPr>
          <a:xfrm>
            <a:off x="539640" y="90972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）如何建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hteckige Legende 6"/>
          <p:cNvSpPr/>
          <p:nvPr/>
        </p:nvSpPr>
        <p:spPr>
          <a:xfrm>
            <a:off x="6588000" y="2349360"/>
            <a:ext cx="1846440" cy="1295640"/>
          </a:xfrm>
          <a:prstGeom prst="wedgeRectCallout">
            <a:avLst>
              <a:gd name="adj1" fmla="val -62726"/>
              <a:gd name="adj2" fmla="val 5865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rivate groups 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该群组只对被邀请的群组成员可见。适用于私人研究项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hteckige Legende 6"/>
          <p:cNvSpPr/>
          <p:nvPr/>
        </p:nvSpPr>
        <p:spPr>
          <a:xfrm>
            <a:off x="1403280" y="2567160"/>
            <a:ext cx="1847880" cy="2519280"/>
          </a:xfrm>
          <a:prstGeom prst="wedgeRectCallout">
            <a:avLst>
              <a:gd name="adj1" fmla="val 95083"/>
              <a:gd name="adj2" fmla="val 4939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Public Invite-only Groups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（半公共群组）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该群组对所有人可见，但是只有群组成员才可以参与群组 建设。适用于公开阅读书目或者展示你所在实验室的研究结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hteckige Legende 6"/>
          <p:cNvSpPr/>
          <p:nvPr/>
        </p:nvSpPr>
        <p:spPr>
          <a:xfrm>
            <a:off x="6445080" y="4365720"/>
            <a:ext cx="1846440" cy="1800000"/>
          </a:xfrm>
          <a:prstGeom prst="wedgeRectCallout">
            <a:avLst>
              <a:gd name="adj1" fmla="val -74171"/>
              <a:gd name="adj2" fmla="val 2259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ublic Open Groups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（公共群组）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所有人都可以加入该群组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参与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群组建设。适用于同学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科研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的开放性讨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C35E-83C3-4117-B4C5-520A97A49E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6" descr="Web_groups_slide27"/>
          <p:cNvPicPr/>
          <p:nvPr/>
        </p:nvPicPr>
        <p:blipFill>
          <a:blip r:embed="rId2"/>
          <a:stretch/>
        </p:blipFill>
        <p:spPr>
          <a:xfrm>
            <a:off x="250920" y="1008000"/>
            <a:ext cx="7993080" cy="5589720"/>
          </a:xfrm>
          <a:prstGeom prst="rect">
            <a:avLst/>
          </a:prstGeom>
          <a:ln w="0">
            <a:noFill/>
          </a:ln>
        </p:spPr>
      </p:pic>
      <p:sp>
        <p:nvSpPr>
          <p:cNvPr id="2119" name="Rechteckige Legende 6"/>
          <p:cNvSpPr/>
          <p:nvPr/>
        </p:nvSpPr>
        <p:spPr>
          <a:xfrm>
            <a:off x="6588000" y="3429000"/>
            <a:ext cx="1846440" cy="647640"/>
          </a:xfrm>
          <a:prstGeom prst="wedgeRectCallout">
            <a:avLst>
              <a:gd name="adj1" fmla="val -151291"/>
              <a:gd name="adj2" fmla="val -40439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你还可以在网页里创建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groups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20E-63D2-4331-B993-10FC0B74C8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(3)Group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②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你可以点击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Document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选项卡浏览文档。如需添加文档，在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（群组）页面中点击工具栏中的 “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Add documents”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，也可从你的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文件夹或电脑的其他任何位置拖动文档至群组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98880" cy="147636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6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6694200" cy="1981080"/>
          </a:xfrm>
          <a:prstGeom prst="rect">
            <a:avLst/>
          </a:prstGeom>
          <a:ln w="0">
            <a:noFill/>
          </a:ln>
        </p:spPr>
      </p:pic>
      <p:sp>
        <p:nvSpPr>
          <p:cNvPr id="2125" name="Text Box 7"/>
          <p:cNvSpPr/>
          <p:nvPr/>
        </p:nvSpPr>
        <p:spPr>
          <a:xfrm>
            <a:off x="4788000" y="1628640"/>
            <a:ext cx="30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你可以点击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dd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加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中已有的联系人，也可点击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vite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邀请别人加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9528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）动态“好友圈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8" name="内容占位符 4" descr="个人主页修改.png"/>
          <p:cNvPicPr/>
          <p:nvPr/>
        </p:nvPicPr>
        <p:blipFill>
          <a:blip r:embed="rId2"/>
          <a:stretch/>
        </p:blipFill>
        <p:spPr>
          <a:xfrm>
            <a:off x="612720" y="1773360"/>
            <a:ext cx="7632720" cy="4525920"/>
          </a:xfrm>
          <a:prstGeom prst="rect">
            <a:avLst/>
          </a:prstGeom>
          <a:ln w="0">
            <a:noFill/>
          </a:ln>
        </p:spPr>
      </p:pic>
      <p:sp>
        <p:nvSpPr>
          <p:cNvPr id="2129" name="Rechteckige Legende 6"/>
          <p:cNvSpPr/>
          <p:nvPr/>
        </p:nvSpPr>
        <p:spPr>
          <a:xfrm>
            <a:off x="4500720" y="3857760"/>
            <a:ext cx="3500280" cy="428400"/>
          </a:xfrm>
          <a:prstGeom prst="wedgeRectCallout">
            <a:avLst>
              <a:gd name="adj1" fmla="val 23550"/>
              <a:gd name="adj2" fmla="val -136074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编辑个人信息，查看近期通知消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小组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杨诗姝：功能探究、音频设计、后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整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邰莉梅：功能探究、前期视频录制、后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整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龚金燕：资料搜集、前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王玉君：视频剪辑制作、音频录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安艺丽：前期视频录制、前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1E3-15D7-416F-B559-257CF44276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推荐理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免费使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自动从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pdf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文件中提取文献信息。也能自动检索与选择相关的文献，省去很多麻烦的同类文献搜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不仅是一个文献管理工具，还是一个巨大的社交性学术交流平台，可以在与他人在线协作中来发现新的研究方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也是最吸引人的地方：可以在小组中与合作伙伴共享文件，笔记注释同步共享，极其适合当前大学生科研团队的讨论、研究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是一个巨大的社会型图书馆，可以在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网站上浏览到流行、相关、趋势，如同微博热门榜，为乏味的学术增加了趣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6" name="图片 6" descr="u=3308684194,1322232918&amp;fm=23&amp;gp=0.jpg"/>
          <p:cNvPicPr/>
          <p:nvPr/>
        </p:nvPicPr>
        <p:blipFill>
          <a:blip r:embed="rId2"/>
          <a:stretch/>
        </p:blipFill>
        <p:spPr>
          <a:xfrm>
            <a:off x="1714680" y="1643040"/>
            <a:ext cx="662112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主要界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内容占位符 3" descr="整体界面修改.png"/>
          <p:cNvPicPr/>
          <p:nvPr/>
        </p:nvPicPr>
        <p:blipFill>
          <a:blip r:embed="rId2"/>
          <a:stretch/>
        </p:blipFill>
        <p:spPr>
          <a:xfrm>
            <a:off x="428760" y="1214280"/>
            <a:ext cx="8286480" cy="5053320"/>
          </a:xfrm>
          <a:prstGeom prst="rect">
            <a:avLst/>
          </a:prstGeom>
          <a:ln w="0">
            <a:noFill/>
          </a:ln>
        </p:spPr>
      </p:pic>
      <p:sp>
        <p:nvSpPr>
          <p:cNvPr id="1984" name="Rechteckige Legende 4"/>
          <p:cNvSpPr/>
          <p:nvPr/>
        </p:nvSpPr>
        <p:spPr>
          <a:xfrm>
            <a:off x="1285920" y="3143160"/>
            <a:ext cx="335736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文件分类类目，可自己建立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hteckige Legende 4"/>
          <p:cNvSpPr/>
          <p:nvPr/>
        </p:nvSpPr>
        <p:spPr>
          <a:xfrm>
            <a:off x="1643040" y="4429080"/>
            <a:ext cx="335772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用户所在的小组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hteckige Legende 4"/>
          <p:cNvSpPr/>
          <p:nvPr/>
        </p:nvSpPr>
        <p:spPr>
          <a:xfrm>
            <a:off x="3643200" y="2357280"/>
            <a:ext cx="3357720" cy="285840"/>
          </a:xfrm>
          <a:prstGeom prst="wedgeRectCallout">
            <a:avLst>
              <a:gd name="adj1" fmla="val 50625"/>
              <a:gd name="adj2" fmla="val -239787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进行文件及文件内部关键字搜索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账户注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内容占位符 6" descr="注册.JPG"/>
          <p:cNvPicPr/>
          <p:nvPr/>
        </p:nvPicPr>
        <p:blipFill>
          <a:blip r:embed="rId2"/>
          <a:stretch/>
        </p:blipFill>
        <p:spPr>
          <a:xfrm>
            <a:off x="824040" y="1600200"/>
            <a:ext cx="3305160" cy="452592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用户首先在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ww.mendeley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网页注册一个账户，然后下载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deley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，安装登陆即可开始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0" name="Picture 5" descr="联系网"/>
          <p:cNvPicPr/>
          <p:nvPr/>
        </p:nvPicPr>
        <p:blipFill>
          <a:blip r:embed="rId3"/>
          <a:stretch/>
        </p:blipFill>
        <p:spPr>
          <a:xfrm>
            <a:off x="4500720" y="4005360"/>
            <a:ext cx="3960720" cy="24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移动端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App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（支持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IOS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3" name="Picture 4" descr="IMG_1121"/>
          <p:cNvPicPr/>
          <p:nvPr/>
        </p:nvPicPr>
        <p:blipFill>
          <a:blip r:embed="rId2"/>
          <a:stretch/>
        </p:blipFill>
        <p:spPr>
          <a:xfrm>
            <a:off x="828720" y="1341360"/>
            <a:ext cx="3024000" cy="518472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5" descr="IMG_1125"/>
          <p:cNvPicPr/>
          <p:nvPr/>
        </p:nvPicPr>
        <p:blipFill>
          <a:blip r:embed="rId3"/>
          <a:stretch/>
        </p:blipFill>
        <p:spPr>
          <a:xfrm>
            <a:off x="4573440" y="1270080"/>
            <a:ext cx="3295800" cy="52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主要功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献添加与组织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 and Organiz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PDF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件阅读与标注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and Annotat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份、同步与移动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up, Sync and Mobil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网络与发现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twork and Discover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与全球同行协作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aborat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C4CB-BEA1-4091-92B8-EC9D1C697F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42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一、添加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本地文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直接拖动文件或文件夹到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面板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从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fil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dd fil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添加，选中想要添加的文件即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也可以导入其他文献管理工具中的文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0" name="Picture 4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4318200" cy="2500560"/>
          </a:xfrm>
          <a:prstGeom prst="rect">
            <a:avLst/>
          </a:prstGeom>
          <a:ln w="0">
            <a:noFill/>
          </a:ln>
        </p:spPr>
      </p:pic>
      <p:pic>
        <p:nvPicPr>
          <p:cNvPr id="2001" name="图片 7" descr="添加文件.JPG"/>
          <p:cNvPicPr/>
          <p:nvPr/>
        </p:nvPicPr>
        <p:blipFill>
          <a:blip r:embed="rId3"/>
          <a:stretch/>
        </p:blipFill>
        <p:spPr>
          <a:xfrm>
            <a:off x="3429000" y="3333600"/>
            <a:ext cx="5610240" cy="352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53F-031C-4EA4-BF5E-5483CCB7B0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网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tools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选择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Install Web Importer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就跳转到相关页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找出想要添加的网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将此                     图标添加到收藏夹，点击此链接，可自动检索网页上的文章并提供添加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的功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5" name="Picture 4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1371600" cy="314280"/>
          </a:xfrm>
          <a:prstGeom prst="rect">
            <a:avLst/>
          </a:prstGeom>
          <a:ln w="0">
            <a:noFill/>
          </a:ln>
        </p:spPr>
      </p:pic>
      <p:pic>
        <p:nvPicPr>
          <p:cNvPr id="2006" name="Picture 5" descr=""/>
          <p:cNvPicPr/>
          <p:nvPr/>
        </p:nvPicPr>
        <p:blipFill>
          <a:blip r:embed="rId3"/>
          <a:stretch/>
        </p:blipFill>
        <p:spPr>
          <a:xfrm>
            <a:off x="900000" y="2925720"/>
            <a:ext cx="7201080" cy="352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2:01:16Z</dcterms:created>
  <dc:creator>Administrator</dc:creator>
  <dc:description/>
  <dc:language>en-US</dc:language>
  <cp:lastModifiedBy>admin</cp:lastModifiedBy>
  <dcterms:modified xsi:type="dcterms:W3CDTF">2014-03-12T08:22:02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