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29.jpeg" ContentType="image/jpeg"/>
  <Override PartName="/ppt/media/image30.png" ContentType="image/png"/>
  <Override PartName="/ppt/media/image5.png" ContentType="image/png"/>
  <Override PartName="/ppt/media/image41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7.jpeg" ContentType="image/jpeg"/>
  <Override PartName="/ppt/media/image37.png" ContentType="image/png"/>
  <Override PartName="/ppt/media/image34.jpeg" ContentType="image/jpeg"/>
  <Override PartName="/ppt/media/image20.png" ContentType="image/png"/>
  <Override PartName="/ppt/media/image28.jpeg" ContentType="image/jpeg"/>
  <Override PartName="/ppt/media/image46.png" ContentType="image/png"/>
  <Override PartName="/ppt/media/image12.png" ContentType="image/png"/>
  <Override PartName="/ppt/media/image36.png" ContentType="image/png"/>
  <Override PartName="/ppt/media/image48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.png" ContentType="image/png"/>
  <Override PartName="/ppt/media/image17.jpeg" ContentType="image/jpeg"/>
  <Override PartName="/ppt/media/image49.gif" ContentType="image/gif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  <p:sldId id="264" r:id="rId58"/>
    <p:sldId id="265" r:id="rId59"/>
    <p:sldId id="266" r:id="rId60"/>
    <p:sldId id="267" r:id="rId61"/>
    <p:sldId id="268" r:id="rId62"/>
    <p:sldId id="269" r:id="rId63"/>
    <p:sldId id="270" r:id="rId64"/>
    <p:sldId id="271" r:id="rId65"/>
    <p:sldId id="272" r:id="rId66"/>
    <p:sldId id="273" r:id="rId67"/>
    <p:sldId id="274" r:id="rId68"/>
    <p:sldId id="275" r:id="rId69"/>
    <p:sldId id="276" r:id="rId70"/>
    <p:sldId id="277" r:id="rId71"/>
    <p:sldId id="278" r:id="rId72"/>
    <p:sldId id="279" r:id="rId73"/>
    <p:sldId id="280" r:id="rId74"/>
    <p:sldId id="281" r:id="rId75"/>
    <p:sldId id="282" r:id="rId76"/>
    <p:sldId id="283" r:id="rId77"/>
    <p:sldId id="284" r:id="rId78"/>
    <p:sldId id="285" r:id="rId79"/>
    <p:sldId id="286" r:id="rId80"/>
    <p:sldId id="287" r:id="rId81"/>
    <p:sldId id="288" r:id="rId82"/>
    <p:sldId id="289" r:id="rId83"/>
    <p:sldId id="290" r:id="rId84"/>
    <p:sldId id="291" r:id="rId85"/>
    <p:sldId id="292" r:id="rId86"/>
    <p:sldId id="293" r:id="rId87"/>
    <p:sldId id="294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slide" Target="slides/slide9.xml"/><Relationship Id="rId59" Type="http://schemas.openxmlformats.org/officeDocument/2006/relationships/slide" Target="slides/slide10.xml"/><Relationship Id="rId60" Type="http://schemas.openxmlformats.org/officeDocument/2006/relationships/slide" Target="slides/slide11.xml"/><Relationship Id="rId61" Type="http://schemas.openxmlformats.org/officeDocument/2006/relationships/slide" Target="slides/slide12.xml"/><Relationship Id="rId62" Type="http://schemas.openxmlformats.org/officeDocument/2006/relationships/slide" Target="slides/slide13.xml"/><Relationship Id="rId63" Type="http://schemas.openxmlformats.org/officeDocument/2006/relationships/slide" Target="slides/slide14.xml"/><Relationship Id="rId64" Type="http://schemas.openxmlformats.org/officeDocument/2006/relationships/slide" Target="slides/slide15.xml"/><Relationship Id="rId65" Type="http://schemas.openxmlformats.org/officeDocument/2006/relationships/slide" Target="slides/slide16.xml"/><Relationship Id="rId66" Type="http://schemas.openxmlformats.org/officeDocument/2006/relationships/slide" Target="slides/slide17.xml"/><Relationship Id="rId67" Type="http://schemas.openxmlformats.org/officeDocument/2006/relationships/slide" Target="slides/slide18.xml"/><Relationship Id="rId68" Type="http://schemas.openxmlformats.org/officeDocument/2006/relationships/slide" Target="slides/slide19.xml"/><Relationship Id="rId69" Type="http://schemas.openxmlformats.org/officeDocument/2006/relationships/slide" Target="slides/slide20.xml"/><Relationship Id="rId70" Type="http://schemas.openxmlformats.org/officeDocument/2006/relationships/slide" Target="slides/slide21.xml"/><Relationship Id="rId71" Type="http://schemas.openxmlformats.org/officeDocument/2006/relationships/slide" Target="slides/slide22.xml"/><Relationship Id="rId72" Type="http://schemas.openxmlformats.org/officeDocument/2006/relationships/slide" Target="slides/slide23.xml"/><Relationship Id="rId73" Type="http://schemas.openxmlformats.org/officeDocument/2006/relationships/slide" Target="slides/slide24.xml"/><Relationship Id="rId74" Type="http://schemas.openxmlformats.org/officeDocument/2006/relationships/slide" Target="slides/slide25.xml"/><Relationship Id="rId75" Type="http://schemas.openxmlformats.org/officeDocument/2006/relationships/slide" Target="slides/slide26.xml"/><Relationship Id="rId76" Type="http://schemas.openxmlformats.org/officeDocument/2006/relationships/slide" Target="slides/slide27.xml"/><Relationship Id="rId77" Type="http://schemas.openxmlformats.org/officeDocument/2006/relationships/slide" Target="slides/slide28.xml"/><Relationship Id="rId78" Type="http://schemas.openxmlformats.org/officeDocument/2006/relationships/slide" Target="slides/slide29.xml"/><Relationship Id="rId79" Type="http://schemas.openxmlformats.org/officeDocument/2006/relationships/slide" Target="slides/slide30.xml"/><Relationship Id="rId80" Type="http://schemas.openxmlformats.org/officeDocument/2006/relationships/slide" Target="slides/slide31.xml"/><Relationship Id="rId81" Type="http://schemas.openxmlformats.org/officeDocument/2006/relationships/slide" Target="slides/slide32.xml"/><Relationship Id="rId82" Type="http://schemas.openxmlformats.org/officeDocument/2006/relationships/slide" Target="slides/slide33.xml"/><Relationship Id="rId83" Type="http://schemas.openxmlformats.org/officeDocument/2006/relationships/slide" Target="slides/slide34.xml"/><Relationship Id="rId84" Type="http://schemas.openxmlformats.org/officeDocument/2006/relationships/slide" Target="slides/slide35.xml"/><Relationship Id="rId85" Type="http://schemas.openxmlformats.org/officeDocument/2006/relationships/slide" Target="slides/slide36.xml"/><Relationship Id="rId86" Type="http://schemas.openxmlformats.org/officeDocument/2006/relationships/slide" Target="slides/slide37.xml"/><Relationship Id="rId87" Type="http://schemas.openxmlformats.org/officeDocument/2006/relationships/slide" Target="slides/slide38.xml"/><Relationship Id="rId88" Type="http://schemas.openxmlformats.org/officeDocument/2006/relationships/slide" Target="slides/slide39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0C80-C912-4D01-96F6-05536B77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8BB-87C0-40C9-A833-9A737C69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49523-614B-41FE-B06A-E0C41292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002B2-6E3E-42B4-9B2F-D64069A5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576EF-45A3-406F-A55A-4452568A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A837D-D54C-42D6-B6DB-6EF444AC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5812C-05EA-43AF-A623-A5F51283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9018C-346C-4136-98BF-D6B804AB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53FE9-51D2-4C94-AC8D-D991466E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25FF8-8C17-4FDE-9705-2841EEDF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4FBCF-0C7A-4972-B55A-4A8645BE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64878-8339-4D61-98EB-43F2DF29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55D-1B4E-43E8-A13C-80CFBCAD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C927C-11E0-486F-9910-46D935ED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7B7D2-284A-4E0A-A53B-A19AD0E7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9BE3D-7BD3-4104-B19E-B488FF54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1C87C-36FB-40D7-9180-1E3D8A9D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A94A0-4DD5-4117-BBD0-24014CA2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22E13-C910-4E03-BAA7-0FB785D0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AC084-F9D9-44F7-8E33-F0477C03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B06B9-DDBB-4413-95FD-7B018E51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B5106-2BDE-4C87-87E0-0F00E47D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FE8ED-08F2-41CA-9F34-09B7E6BEC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EED3-163F-4649-8D1E-DF920115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2CE0B-ED3B-4B05-A749-7B07CCCB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6687E-9CC3-4AB4-ACFE-355209F5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DF7DD-D938-4E2E-9ED0-C696529F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6BA5E0-9286-4687-AD86-888859EC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31754-59DD-4C02-86AC-9672A52E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12568E-5D03-464C-97C4-65B2B44A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A8238-F8CE-482A-ACDA-416E2643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94738-FF3C-4AF5-A4D9-260E8135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69EC5-BAD7-4581-BE0C-6651F85C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1722A-6603-4CE7-8FAF-1EB0DC67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F4BF-D1BE-4251-9837-37BDD3BB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661CB-3C76-4846-95CD-5C710FBB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469D6-07A9-4B25-984E-71CC05D37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F636B-20FC-4A30-B862-19FB3007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2C026-6FEB-4CB5-9868-1D6050B4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B05609-7EFA-4768-B5D4-0E38DF96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6EEE0-A44F-40EF-ACE1-0E4A2115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FF0EC-0034-442F-9C02-A6D195C8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7B8EC-FC31-40B2-BAE2-DC0B43B9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BEE62D-CD75-4E33-ADCC-44B7760E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F1408-F924-4756-B631-B1C0015D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9EE4-2AB3-4A0B-9F25-7CDB2E68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6F077-0C31-40C0-A817-7A73291D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54B26-293A-4B29-8937-A9E09D5D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FA87D-EE33-42B4-8ED7-7EAB3B13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376D1-751D-4571-A732-E4704EE8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A386E-6AF2-4CAA-AB4C-DDCA4044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DA0DA-5FFA-40E2-99A6-92208418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951094-9132-4866-80BD-F83756BE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E0DCD-E04F-4BE3-AC0B-142CDD11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512B50-2774-457A-A7B7-87DE7AD9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660AE9-AA87-4EAD-A1E5-2F4560CC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F7CB-4D24-4606-A33C-8AAC3FF5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577A8E-0F43-4CB8-B184-9E2CDA91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FBA2A3-8427-4384-99E4-FD99E2CB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B340E-4406-4C6A-B389-A80365F3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EA1E22-2A12-450A-AB8E-847894FA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5970D-AA88-4B6E-89DE-C2A3115B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9B076-687F-4A54-95CB-EE97BC3E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A737F-0467-4187-8EA5-72593C4D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F334D8-616D-4756-A7C4-019720B8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610D5A-3A29-4899-BF2F-BB9694A4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9C7C99-7842-44A4-AE94-A8F82C7A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8092-79A2-414C-8CC1-2EA9CF6F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DBC83F-A2B3-46E8-9328-207104BC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509B27-3749-498C-A5CE-BAB9F012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9498B3-989A-4837-A987-4EE7D785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8E81F0-4FA5-4F32-A922-9F74AD12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4A061D-1DFF-4C38-9494-F711F28A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F07463-9B96-41F5-847D-A8D5EBA6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98465C-9502-4521-8BE3-B8A3C1F6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12DE8C-0FF2-4370-B63D-9A610848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6E5DCC-F625-4A90-AC07-8F582291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161316-A625-43E7-B40C-53A9CBAF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EC490-FB61-47D2-B6B3-DAD45B45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FC940F-D046-45ED-9B0D-4080B12E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D7B796-0E7D-4AD8-8FA7-40A456B4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CAB66C-08C9-4F39-A181-4F666DB0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42C8AC-2A4B-45F1-94E6-DC2FF81A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F74ECB-091E-4D4C-9292-8F844C67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CF70AF-E6D1-460E-8AF9-D39073E7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CEC12E-5489-42D9-A427-F546939B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306B6E-9C00-419D-A1EA-83D49583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FAE1CC-EA26-4920-8069-1833A7EB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62C240-7A2C-40D7-9468-40AF8A7C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34BE-8FDE-45E6-8715-D269ED7D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C5AA09-A51D-4CA1-B3A2-B8340FA8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A603A4-489F-4A43-9A6F-442AF1AC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CE5BC9-1B64-45B8-AAF7-0D958C97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3694D0-9F73-45D3-A159-33E7FDC7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88A065-A320-43F9-A9BC-5C38D15F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5D17B6-B3A7-468F-95BE-4B5770F0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860F13-B40F-4081-BBC5-E2EB8D25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103275-F779-4EFE-AF03-4AAD1CB5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553814-8D3A-4D3D-A2B2-EEDE521A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155AEC-2D15-4EA2-813B-14F555AE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F9F0-38B8-431E-8CE0-BD3AF2CC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6A5139-9671-4544-86C4-EF3E8FB4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2706C7-D533-4DB8-B728-5F85D0F4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EBCD81-46C1-4756-9E66-F28CC93A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8BB37E-46C4-4338-A72B-37A7A364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FCDB36-C64C-446C-A58C-A9ECF793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C23795-4895-4316-8908-F8E6D2C2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BCD74E-FDE0-405F-ACDB-F5F2BF99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F755B4-4630-4808-8C98-5617594F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834BB1-CA20-47F8-A4C6-9E0AC551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15DDF1-F777-42B0-AAE7-76A0A405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D873-AC03-4FF8-BDB2-FD8D490C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24AC-6EAA-4AA0-B694-C2EF3B07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7E6369-A91B-4E34-A359-695D22A3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010C75-49B5-44E9-A9D2-BA7A5913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80A5D1-484D-445D-8AC6-9EDBE365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55AF5E-82FC-4B82-A392-F15D564C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282C9D-AD79-462E-B8EC-DDA51F2F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AE267E-FEDC-44B1-8900-567ACAC5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58B8DA-1E48-4FD6-AA7D-3F6BC833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FF370C-7300-4802-991B-CA78F43C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CE23B5-AAE2-4575-A992-8320D127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367EC2-C1FD-4A83-A544-40758A48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FE6C-F965-4011-B71E-D9919B7D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DA2FB1-65DE-4A36-A127-A5985D78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54922F-BE34-4D87-8299-A25F7D37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630041-748C-4B73-B7D4-1535B3DD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23887E-16A0-46B4-9746-4AE962F1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AFAE7-46B7-4AF0-A0CB-DDC41C52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31EAFB-8A6B-4CD4-B492-C633251C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BBDEE7-63E8-4D4F-ABFF-7C52C8C1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8B5E8F-DD7F-4970-BA0A-32F8821BC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E5524A-3604-4CF8-96CB-A20F32E7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E967CD-EA72-47C7-BBF9-78F8E350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1FC2-DF45-4BD2-9472-4032F492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92AE3F-F28F-4ECC-A543-94A0D39F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792B6F-B14D-4630-8210-A1B57AFF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1B1120-FFD1-49E0-BF7D-6D2F99AA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217296-0788-493B-A7F6-BFFF61F0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CE8C8D-A378-4FBB-A5A8-87BCD25D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4487B1-24E1-4101-B1D9-C59029DF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32F94C-5E46-42FE-A59F-5D1F512E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4C7432-7AEA-4B39-A769-A886BC2D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2231B3-BA65-47C8-88D8-BA9B29E70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E5AC2C-8448-4A28-AB4E-0EDD0F38D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0E4D-2996-4285-B249-AF93DBA8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D7DB2B-F91C-418C-A9CD-6F20FF9C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9468FA-F656-4330-9DB9-A81EEE2D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5E14BD-1589-4B06-B0F5-5CE2AAEF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1C8F9E-8B72-4B03-89F2-C99845DA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C8E3BD-59B5-47C3-BDAB-48C20EBD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F515ED-16BD-468B-88A2-BA53899D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A0916B-AAFC-45FA-AA9E-835278C0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8FE358-F431-495E-ABCD-051BBFE9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EB33D8-C07A-4F2F-B355-F6AA88EC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23E4E9-31B7-4BC6-9C17-B36995544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561F-5202-41CB-91DB-6CAD54C3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73C676-F041-4EBC-BB47-B1E9156A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DA8AD0-CC9C-4F57-9943-845BE291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E6F06D-5AF5-4B4C-9519-A6CBAF8D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F4B5F4-294C-4D74-B984-94C49BBD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4809D1-39D2-40DF-B74A-33FAC3C7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81D690-44D4-40FD-A8BB-E76F4A94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2515C5-C5B7-4F62-8929-95294A18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7A65F0-667A-451A-AA3F-469AF3F5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B46E10-B8A4-47F1-93C6-EA4CEC46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3F712D-FB0E-4B95-9AD8-FD1F452C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7F37B-69B2-45E8-8EED-D01EA5A5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C67A44-E472-4838-8127-2C0DA0A1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3A5795-34FA-4891-B35C-C8EEB243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938D7C-61BA-411E-BE51-CFDA6D40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52020B-EE4E-4226-BD2E-5307723C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8BF6B1-B82B-4DD2-8A61-7A931FA0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0B098B-0278-45F5-ADAB-90C22F76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51446A-3A96-4ADA-8EC2-C4572425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ADDB09-83AF-4BDA-A4DB-65AB0A5A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AF51B8-0C26-49D8-83D0-EA252B58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FF21D0-0F25-4E4A-8219-8905691F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2EBD9-E046-43CC-ADCA-99F7B40F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18FE15-7CF2-48D3-8C81-82C692D9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9FE4C3-9DC4-4856-97D5-9BEA57C6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3C1BA5-606A-471D-AEA3-55090FEE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722BF2-24F3-4EE6-AEA1-81181297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C23670-E8BE-43CB-9BF2-A5684A63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3C73FA-3D26-44E3-BA8B-CF441354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92122C-7E57-40A2-AE94-52E4DEF1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C3481D-ACF2-46C1-8E1D-5714A838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9F4B96-7084-4971-949E-148CFAE9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E2BC55-06AC-4346-AF0A-EE813980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7D598-44DE-4347-AC49-E1DE50D2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434A47-8564-400E-9A7D-871597DE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001457-6C6C-4F6A-ABB7-78E0A97C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82BD49-DAF0-405F-A5BE-0B29C068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74F8E2-6819-4B24-8580-788CF9AC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C74375-8F9D-4E59-8B1B-DE44DE4E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268565-3F77-4AC5-AA1B-6D78637D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6A8374-6767-4DFB-A333-3396970B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B12569-9E2E-40C3-8718-C758E554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244454-5A33-45EA-BB72-094E6916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13D401-7969-4CCE-9AFB-C4C6C277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9A5A3-8173-4031-A4F2-B95E0DAC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D4C073-B17F-4A3C-8D80-5C3E20BD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80DE50-108A-4AC0-806A-4C9B7B93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B7DB36-8C79-46DF-9B6A-3007BB2E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4A72CA-ACCF-4F16-B189-28826BD6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4BD5B8-6FDC-4A82-8BC3-26AE6BA6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6B69F7-E9B5-46B5-877C-9B75A7E2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7E42D6-C161-441C-A9A2-7E6B48F1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D191A2-C801-4BC6-8A56-10FE6320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886EFA-A0B5-4F20-B443-B5C761F1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4FE1BB-2D65-4AC8-8E76-FFA50C80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B0B0C-1C60-40D2-9B05-9E33884E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277288-B1BC-4286-BEB0-470229D5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813DFF8-179F-4803-9127-4D0C5E9C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C78503-C704-47E1-8730-77397A60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C7211C-490A-4901-AE6E-80350F95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51C7E9A-24CF-439A-91E8-E8154633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0EDF78-82FA-4E7D-BDC5-0F1AE3DE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243265-0AFD-4776-A498-53B1D045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30E8FB-576B-442D-B6C9-2B86257F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4B029D-B766-4E6F-A3B6-BCEC6506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F276E5-6395-4869-9DF6-2C1B1273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4472-251C-4893-AC47-C18CC75E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EE821-4655-4B86-BA92-FA87C68F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BED9E3-1FC7-49D0-BFAE-DC73D090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03393C-EB2A-4B24-9686-F6AB8FF59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FA90E2-9A7F-4F78-B50C-B252CF5A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769B11-2573-4231-AE1A-45A1F881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3B7F52-B3FD-4780-B92C-7C2FCEA0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EAFA99-131C-4EA4-87F5-F0B61B8F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02847FB-DF67-4A0D-ADF9-FCE4C7CB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3A5EFE-FF13-4BB8-ACB1-6AFB9A11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56977F-97E4-457F-9295-FD6335AC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F5CD41-5CCB-4768-932B-9337A110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56D78-0359-4E2B-80CD-F39F8C58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2090C8-B22A-48DC-874C-A65DC2BC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CFBCF2-DB13-47B0-BD2F-F074D90E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6DA853-0561-49AA-9E7B-0F82CD87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1BBD99-525B-4423-A50D-6BEAAD9B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ABD7B9-9FB1-4E50-9C06-EE897F85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35C535-8D97-401F-9A00-138A18DA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C06B32-D3AF-4CAC-9A19-A1C83056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16A199-15F6-4867-BC96-C87AC00B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4412DF-EEFC-4ED0-A7C2-8D30465D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C35B292-B9A8-4A36-B988-B884394B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D15DB-01AD-444B-A027-663C79EA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45282C-4401-4169-8DE1-9F18D1FD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DC1304-4635-4671-B547-0057BBA4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C37ED9C-AB54-493C-A11C-C2A9C3A5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B19FDD-5122-4F92-9673-161E0430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60F030-1A71-46D2-AFA5-C2BCBAA9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0E5174-524D-4A3D-8545-1D893362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25044F-F414-45A5-B547-58F4BF2D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9A4B07-7F32-47B9-A248-5E60CF50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9CE5E1-86B1-4A23-98BE-BE705791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BAE793-29E0-449C-93DE-0BB4FCA0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65F3C-4CD6-4546-9722-AE450CCD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41284B-4277-4E47-928B-F301A912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A24FE1-A63A-40BE-8BC8-C3A2C65E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7E59ED-FDA2-481E-8B9C-A9DAC08A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628D69-1762-4909-82A8-81626309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37B329-F613-47E8-90CC-BB8ACE34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FD2F43-094E-4D43-BEF8-AE3F5BBF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64ACB4-E1EC-4EF5-81E3-08FA3F8C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CE6455-8BB5-4639-BC55-2EB7A080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C8A0D2-4100-45F5-8036-3ADA41A5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96333B-732E-4F09-8BB4-53CE9956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3A062-B04D-4EAF-BE59-DACA57D4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F247E1-3FE4-45EE-B999-818FC11F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EED96C-1003-4DA7-93D0-BFF06A3A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0B28A3-6A51-44C8-B58E-6D5B1217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0FC981-B572-4798-BEF7-F8A1EB09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2A7E5A-08D0-4602-9A10-791EBA04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444B60-16C7-41A1-BB56-63AF88B1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1352A5-7D9D-4262-AEB4-031C4B2C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26374D-C0E8-4F6C-A0B1-008C3341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608C3F-66E2-4348-B938-5C5452F9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764C49-8246-41BD-98B4-65FB7F13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5A79E-F31E-4891-9146-4A8A1399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6DAC1F-322B-473D-9B77-338BD845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E1E463-8284-491D-A509-3A52D37D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345F4B9-780F-41C8-BE0C-B7A920F7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06580A-29A1-4B36-B9F4-262B0D52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8B009B-88AF-4047-BD6F-035B5CFC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8FE91E-A1A3-41C4-A8A3-0D0A5895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897F42-ED47-4315-8347-11D8F8B8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566DD8-5800-41C6-BB07-B58C74AD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223523-BF7D-4046-ACE4-B4DA4FD5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1C80A7-8EC6-46C9-9470-A18B84F7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700DA-B950-4361-BC1D-15AFB19F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C724CB-80DF-4189-8B7D-78E942EE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D9ED7D-B11B-4EC2-8333-DE4F8CCE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D24CC4-7E25-4407-BB1E-57DC6B1B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A6E69F-F373-46A0-9A99-B88C42B4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DF0D54-BE01-42DC-B576-CD8E8529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6A1F170-FAFE-45B3-87C6-8EBC8837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809557-7CC4-4059-8823-922F9C9F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2486AA-0839-451C-AA0B-4A7336A3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72CFEA-7795-4479-9A27-2BF24869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3C0678-8992-4688-8E51-D702DC4B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4C017-AD45-421B-82CD-60B9C083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FF6641-BC14-436F-865D-3D29489B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2AB461-BF79-49D4-A053-70096C11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36CF94-D057-4DA4-9E07-2C58F8CE2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EE6061C-9FFA-4800-A2F2-1D601426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280143-46CB-4862-9FCC-0424410C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5325D9-A0A3-473E-BAE7-6921D297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262654-0A92-4C02-A482-B4EF6719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FFFAFA0-406D-4E70-84D3-C4066666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EEED35-DC53-4011-912F-DB745385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FC1FF8-2009-48F0-A448-1C3C014D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9EF89-DA83-47DD-B6A6-266676B4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927B504-F2EF-42CC-A4AA-4ED87059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3344D0D-4571-436C-BEB9-ED21CE44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AAAEA6-F3F4-49C4-9029-0D94872B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1324D0-E93C-4F71-AAF7-FEFCED87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3CEF4E3-EAF7-44B5-A20C-97292E93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7728D4-2153-45AC-AC73-E78426CE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6BCB298-B3A9-49C3-8F28-340B72B0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6D2B9FC-78D1-4A9D-ADA1-237AD7AA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6DE0B33-778B-471D-9B03-F46FE5C8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587B1F-94C8-4F9B-B5CB-31E60E59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A27BC-B893-4E9E-B739-7CC48D11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8D8CDD-2099-4D23-B281-05678466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5A1A973-DD07-43A9-935E-32A692E8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8E0E09D-3037-47CC-B826-662AF63A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81EFCE-496D-41DD-A368-CBFA388B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D4C043-4083-43FA-B4C2-06E9EB91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B045AFB-6A7D-4FB5-89E3-61F5AFD4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F4AEDB-181C-477D-B13E-43E57B0D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BBC8336-0D7C-4F82-BBEC-979732D9C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F4D62DA-3C86-4A5C-802F-108188FB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AAC4FA8-D4F4-4128-990C-A822CD41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2009-189A-4F91-8FBE-2D48BACA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349B9-9FB0-4825-86A5-B57FB3A6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C56317-6E8C-453C-8233-9E36C536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A4B550C-9881-4EA2-A943-1A84CF1C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B6ABA11-7F44-4BDE-96AC-D6C50276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0899DD8-2F34-4E6C-A573-D4BAA4F4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8D3CB21-1F62-4DAA-A775-242E1497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787074-F1A0-4E6B-9FA4-0AA532AD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525FF2F-9F3A-4709-B73C-AB41FE79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988029-D27D-4685-85BA-B222D9412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D60EAF-106E-4DCE-82C1-0E3BBFDE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74B2DA7-7ADF-4848-A0CD-5B924DD9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C211F-DD4A-4A04-B4CA-6B8D8C24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5434354-9349-47C5-8238-1B83B97B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C27AA3-F2BF-4D06-A665-F01ABF85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B8B5D85-47C3-4EDE-B7FC-4182A84C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A053DB-BD24-4E85-8D3E-73EAC426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5C0B495-92C3-4A47-91A3-C7F02394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A30A179-BA7E-4E89-908E-CBAB789F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32FB566-C673-4DC5-82B6-94198BCE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8BD45C4-7642-4C11-9F39-5803E939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E571A1-9E6A-4E94-9CCD-BA697E03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F4D4237-3429-4D04-BE8A-760D21E07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8F679-64F5-423D-91A0-D88ADE5F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B1EC5AA-873A-4A3C-92E0-025285185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C46263A-2174-4B05-A93C-9DF6D4706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33C97D4-435E-4D3F-A543-79AF8ECC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C8284FD-6C0E-4C4F-9408-CFFDB93C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CB00ED-66D2-4489-BA59-A0AAE111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8CDC747-D75D-4800-AFF9-3A04D50E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C4ABF3A-274F-4F48-B001-F60AC4D3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3C1063-BE36-4462-8E40-62AEBF0C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C25999D-2025-4758-9FEE-C43C8C71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0962F3E-A0C3-4589-9A25-2B1706EF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C6F6D-F96C-42F6-8DFA-1D048424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20728F7-A978-43FF-93A2-EF3A09A8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90A329-8C64-4399-8ACF-6DE714E7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B9238D3-1A13-490C-B146-E6B47BF9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BE8D89B-EB51-4149-9F6E-F7D219BC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C3B4E93-872D-4F4C-B957-21DEF7DF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FFA28C9-2F47-4FCB-9146-649403AE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662A1E5-701A-4696-92B3-BD233D8D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5419525-97E9-4106-BB2D-9D9CAD6A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3DBA30-DCEF-4E0F-9C79-B0DB7B28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EA3E23C-AA30-417E-94D5-5C187FEC6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6BC3E-6487-4056-ADDB-326CE1BE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150DBF-95E6-44EB-9424-952914A3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658DAE9-9A08-4036-811B-C9CD21C5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9309596-5EB8-4FC3-9D71-9DAD3D92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8656658-41A2-4F5C-A1C0-0F8E2B18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A217D6C-B796-426D-A6F5-8845CD05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F77DDD0-38BC-4379-A561-6D5B8BD10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0F06A98-B7C5-4F7B-98BA-141E49C1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268A57B-FB51-4454-B93E-E093EF91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F1CBF84-2363-4474-BEC3-64540067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DA82768-6EC6-44FF-BE93-7806AFAA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FAEE9-934E-4340-9468-F02C2A80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0949D94-4E53-44D4-A74F-396D86EE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966E651-CCE9-4D67-B9FC-9993BD73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059C209-2F85-444A-82E5-C0B509E3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1E4CEEC-9B7B-454C-89D3-A5658FCE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61CD356-DC08-49B7-8D54-CB2EA04B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BE239BF-8C17-4281-8340-5E90C8655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F1992C1-6EE1-44BD-9601-192E2B05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355AA05-8BE8-4B23-84D0-B1C261D8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C091A9B-C94F-4945-8077-C771A63A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3936E45-137F-44E9-8682-E6E46238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C2573-5053-4456-8C11-EFB4021D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AEE10B2-5901-462A-B7C0-5CCD1562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5AA40D9-4EAE-4E80-8A9D-1AB21858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AD45EC0-366C-4926-B7A0-4F5CC69D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5F6AF5D-4FE9-4DB3-8E16-4F5527B8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0CD305A-1D02-4446-9815-033F7DEF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6D32211-90CB-4631-B63F-B1566BDB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89E21DC-F490-4E5A-9381-72A016CC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A39CF47-1CA3-4843-9491-5A24592B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A369488-F14D-4D3E-A8F0-98000A452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ACE5ADA-FA25-409D-B803-CD9910BB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92C4F-B433-49B6-9E6B-E6B774D0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EC1D0B8-2279-440A-9E66-3F49CDB4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346098A-458E-48C5-802A-506BC883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EE0D27D-6CFC-4D3C-946E-E150D050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B9C5A75-AA45-46BD-80CE-006493D6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A8A323-6797-4C15-A4F4-26DDAC7B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90B4B28-E3C9-4B94-BCA1-E4837EBA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B103D69-E605-4B8E-B3FA-3355EEC7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AB8E422-5A5D-41DA-82C5-305555F1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2BE2512-9E26-4BFB-9750-43C53A71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93BF952-49E6-4C47-840B-D1A302B6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F9233-AE5B-40E0-A873-4D12E811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5E4D2A2-0A60-4109-9BF6-3E37968A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F7C08AB-BFC4-40ED-88BE-37B893FF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379C356-0FF2-4169-99EB-C2EBFFB5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9C6EC2B-36E3-46C3-A269-30492AAE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94CB9B1-2A15-423A-BA75-86CA3428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FDA8E4A-1E88-4AC0-A670-E370874E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B15367B-82D1-432C-BC1D-04A644A1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99188AD-1316-4754-B461-C2F13004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5E97E00-EBBF-4C1A-8798-742E60AC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D51FE6F-C0EA-4012-9082-EA1BEDCD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F7985-8316-4214-BC9A-8A14D5DF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257CC84-1CB2-4863-8A9A-3922E4AE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8D09810-831C-4F2E-9805-7DC0D6192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8FE5775-4FBE-44E5-A1DF-E6EF2F700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43FCEEB-21B7-44F1-BD5D-7D59E532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28C8ACD-7A7B-4CC9-8EEB-5AAD9F42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158ECEF-ABBE-4B77-A9C5-1B9DC0AA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2B0703F-8AA8-4929-96DF-1E9C15C6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73CA67B-4275-4381-910B-322F73F6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7C842CB-C8E9-4AD1-85C0-899A29F7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75D6FB8-DABE-4F0A-80DC-CDB899D7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B42-742A-4B22-919E-9EEC884D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18856-8708-4268-8908-C33D55A1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EBB4566-82CB-4739-B990-629077E5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D04BB40-BD4F-4DE2-8313-29A5DD6F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29BBB4D-19A8-4EBD-A8DC-D0705BD1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30C7FA0-E1E7-4B3C-96AB-12E90902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256004A-BB06-4AC0-8883-467107B2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C9A81C5-623B-400F-91E9-886B98F3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B2A17D8-CAEF-4A42-B5EE-86209173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94EBCE7-EDDE-4B7F-A32A-B17EFCCA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B444037-487C-4DA2-8318-0E4A8576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C9DCBC4-3F5C-489E-845E-72D61EF93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1BCD6-5C61-4D8A-AAC0-3C5BB67F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B8650AF-B890-4F8A-9594-0520AB70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A6DE82E-045E-40ED-A87C-BAAE98DC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F6148C4-A17D-467F-895F-A54C83C1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0CDA921-FF2E-4D0E-AEC2-0CDF701F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DF9F74F-3A53-489B-A54D-715B088C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912FDEB-380C-449D-838A-BACC56B95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BCBC57B-2516-4E9B-8CD1-A1667815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9B73479-643B-485F-8D89-4F63743D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823B705-104F-4494-BB1A-8FB744BA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362376F-FFFF-4F58-A6AC-A97DA89C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D66BF-27D5-4DF4-908F-C9E0DEBD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501C50C-8E60-4436-B3E4-95A0B38B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14AFC9B-6763-455B-9DCF-B55EE679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498AABE-92DD-460F-9855-B0B6947A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5E85EE4-EAA9-4D42-BA55-4CEDE208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FA6CFA5-CF57-420D-A937-083848F4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F7554F1-3754-42A7-AB98-7638C505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DA75A86-A269-4DEE-A046-F5BD79C5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6A000E5-37ED-4CF5-A0FE-7642B326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841F073-3603-4632-8C26-09D0C952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9A9BAF9-B76B-404E-9B8B-8BB4FD57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CA2D41-C71B-440B-94EE-CE62C3D1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F2FDE50-DA4B-4514-8C83-E367856B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54A6961-A2F5-4C47-8D23-1C70C013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CC5774F-9704-407F-9532-13C8BC76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7D9C262-09D3-450A-994D-584931DD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EDF1E57-7BEB-4FDD-8EF3-9D43CBCB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524B981-56BD-417C-8DF3-1EC69E53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C912758-15AA-45C9-BD86-A2D5B160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9FB8979-444F-48EE-9A25-FDA73273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C2067D9-5349-4DD3-80F2-AD9A0088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0346A89-DE1A-4A9B-9521-2A541291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B5BFB-9B6B-4DE9-9028-8BA6019A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2A5050F-88BB-4415-87D7-46E1E2EC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BF60C56-91A4-4801-8529-68A26BC1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0C36C64-A3B6-4D42-9CA6-B323C479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849618D-E096-4CA2-9F72-8856A124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B3EF975-D762-4F52-A278-F794DB87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49735C8-50A2-4B31-9457-FBB536B0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2D4039A-66C3-4226-A101-A1F5A2D0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D9D8A26-52B4-4762-9E8A-8CBDC194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DCFF6BF-40DB-4927-B056-7F13C9F7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EC05444-8259-4F6C-A042-D95B801A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D2D53-FBC9-4C94-B869-B45418C4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CE44BCD-7306-4B41-AF19-B4FED8B0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B58CA9B-E3EC-4E8E-AE81-AC9163CB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1CDE1D5-8A54-474B-BD1F-2C2BD495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A95DF13-1547-4E0A-80E7-EB0AFA0F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D13D983-743A-4217-ACF0-A1031688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742851B-ECF0-48BC-937B-CFEF1BB8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EE1184B-2B83-4BB0-AD03-330DE609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E730EA1-682C-49F8-A580-E34100EF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13F4D5C-2F64-4B84-BAC4-B0E1AE32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465C813-E3F5-429E-9F00-DDB00B5C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3CF84-B314-4CD1-A3A0-5A5ABCF6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927DF52-A9CD-4087-BA39-151CE841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A9222CC-60C2-49B8-842F-A459B2F3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57DE359-832E-46D1-A714-CAF2E4D0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4ADF892-30C4-42D9-839F-62F87CBE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90B1E47-3D5F-45E4-B68B-02484808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CEB8336-2340-4DBB-8C15-57C8033D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A0C6F9A-743C-42EE-A01A-22C76D0D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7F632DB-5522-4709-BE1D-6CD089FA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4F440DE-732D-43A5-B3BF-4A9703AD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24C6A73-6A9D-4A41-B500-9707D0A7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74BEE-9A8C-4B20-ACC5-9007FE41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25953E3-F724-498B-8C4D-7CEFBC46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73D23CA-629C-4370-AE42-8B1E4C7C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E254FC2-324D-42D5-A404-68160ABA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1191808-E834-48EA-B766-6464B109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91302C1-0B27-47AD-B795-F13F02A8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C20656B-B91E-44D8-99C2-F0FE760E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886F1F8-0C7F-49A4-B9D5-733E6B82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79960-6280-4D9A-B934-598A6321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7AE6C-A3BE-4BA5-B3CE-44518DF9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2A2-15E1-4422-8A1E-D8463E8E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2AC05-DF0E-40C5-9977-27E006E6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D1EAE-BFAF-4AA6-84EB-2959E39C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54C27-34C1-457D-B355-0C68547A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BBF8F-6B2A-450B-8B3B-FD99BDE1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874F6-409E-45B4-B27B-8E6DDAB4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A287E-4AB4-4EA7-8FD9-99598EE9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DD46C-2346-4A45-9F7D-150BB05A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A19A97-31C0-41E3-A76E-AE92637D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7B9DE-4895-42AB-B2EE-04841693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9C6D8-E85F-4E51-8110-E1C8838B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2153-B579-41AB-A73F-11A80061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45F51-2CFF-4EE6-81C1-6E68734C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7A63D-6102-4E6B-A823-50AEEA35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3B7D8-F129-459A-BA04-24B776C8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0CB5F-0B1B-4733-AF9E-5EAFD7F4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E62B6-395C-4220-BB37-E994E243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A6E2A-6B66-49F1-AFF7-5E60F6CC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97296-7C0F-4513-8883-6CF52823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63533-A811-440D-9CCA-C8BBB342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F0264-4846-461A-88BC-2A2F22BA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4B1E1-375C-482A-8BA7-4E484B42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42C6-8498-48A1-AF66-4462A285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9B634-EDE8-4A34-B3E9-C636E184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EB957-9175-435A-9788-AC5FEB39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5C92D-A5BE-4701-B1DC-C3B62C3A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739EF-2818-4C5B-A04E-851C4064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27960-F7E7-4AC7-823E-576B05E1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ADE97-6E5B-4538-AD06-8D903A0EC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92401-B8E1-4D03-B9C4-B43A571E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0E2A2-4E30-4A77-AD96-F0DF69E8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CC73E-5AC5-4B94-BD99-ECD8963C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B891B-FC39-459F-95CB-46469FB0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AEC8-8954-4AEA-B389-0ADE2560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563A2-87A3-43BA-9B83-6FFADEC6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DE1F1-BC6E-4C84-8366-185E8CB2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97E0A-BA70-448E-8499-CDCD680A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65022-EA5A-476B-A07A-19405C2A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1892F-1BDE-4A4B-B148-0C0A4362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73CFC-93CF-4CA6-A394-33EBD736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68A7B-FFD5-4EA8-9E54-96AE02A85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F6628-BB93-4846-BB70-9F6BC7481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928E2C-0444-4DA5-B6CD-47E3AC7F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462B0-D002-41F3-A79C-132D00A1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7FEB-9635-4E12-9CE4-CB9201E6F10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FCB6-3A41-4925-A8B4-A12D3193A38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BA1D-1A45-41EC-A24C-B186E3E5A63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A392-CA50-42B9-9758-8F32AE3FDAB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BA1D-446F-4A7C-993E-34E2C344D17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006A-17FF-419B-BDB7-00F3504C12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ECAE-872D-4D24-A7F0-225B36B38A5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46AF-088B-4E3C-A531-8664F5696FD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706D-0205-4021-ACE2-5A47C1777AD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A41E-9895-4EE7-ACE7-07FC2A9205C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12E0-4827-4992-929F-84D43F0273F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FCF2-92CF-4A58-8150-DDCB64253E4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AFFD-EA2D-4744-9331-65B14CF2B5A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3C2D-7C18-4AFB-9187-4975141A463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F778-0B89-4765-BD5C-A8BDC9FC7DF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40EA-821C-48AF-BF18-E8B0727477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1CE9-347F-43D1-929B-8918291FC20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922D-BBB1-4D04-A2E7-D66F4C7764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B167-A2FC-4498-AEDE-1AFA1766623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29F1-1A4A-4A07-A75B-92929B2493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AF2C-6B2D-43D6-BC2B-508ACD8C76B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50B4-9738-45FB-982C-F0F1EE5D69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32FF-F63B-43BA-B029-F1B2EF8E8F0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F128-DC57-4FAF-AB4D-2997E16503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6C85-F87C-4F2E-86D5-B273E6402DC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49DA-313D-4499-81DE-A33E15EB3B9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2A71-6305-497A-BFA9-995010BA7DD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1A86-A3CD-43CE-8353-F8C1D84C5FA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7A53-5720-4708-B349-8BD08B57EF2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D609-8753-471C-9EBC-B20513C13BA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6CD4-10AD-4860-99BB-3A917974126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31B3-1099-4C9C-A3E1-46483587A77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A393-0168-4A09-BA97-A74220BD9E4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B427-666F-4649-9634-851B3EE669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C89A-F06D-49F0-8341-05F62B2EF11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3FD8-1FAC-4E2D-A51D-08F14EC6575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DE18-A8A6-4D14-AF4A-D57E7DE75A9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0B83-2E36-4DD8-BDC8-E58DEB627F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9BBC-34D4-4204-BA82-1D5F97F1DC7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F0BD-1588-4ECD-8689-ACC1F92D54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A125-F0FE-40D5-A850-0EAEC6B3910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CF6B-947E-47CF-A4C6-76BF107425C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5FBD-20D0-4AF1-9DC6-ADB5DE38EE3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B7EF-C386-4830-AF3A-96B0F68C056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CB4A-E9E8-4B73-B347-AB2165D6A9D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FCE5-1EE0-461B-9D9C-13908CDFACF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683C-F3BA-482B-A050-3A759883FED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0B0A-95EB-45D4-889B-BE2A7D4D055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C3F7-1D6D-430F-BD8C-EFFE06E05EA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9CBF-2A8E-4CE3-B1F8-767A172B90E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43AC-3F7D-4289-B46C-2C60E6B2AB1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80B2-A185-42CE-B46E-230C5ED8D92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AC38-C2AA-4E84-8850-A03BAC820B9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B917-69D7-4E1D-9CE5-A76A78DF412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8423-03B5-453D-A66B-1A59969C1D1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8A7B-3022-4B37-B3D8-3F4AAF640E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BFB6-2C25-4B28-BC92-32E04FC036B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DB44-DF97-4979-A257-F386E7C3E66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A82B0-6724-4EA9-83AE-0FEBA2A4BD1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4C41-DE98-4D3D-9A36-3F1B93643FD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5464-DC6A-4404-925D-EBB312B837D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271B-56F2-46C6-84A3-F3714A4BDE9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D76E-5869-46CB-A57B-551264A4F1A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E0C1-80DE-4605-9FEC-6E7B7C2B9EC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AF7A-7C9B-4D39-8468-FF91313EB87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3B83-982E-459B-97B9-FAB6C86F646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F5A1-7357-4998-8C44-3967E2AFA4D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B002-40CB-464F-AD62-60CE08FE49A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CFED-66F2-49B9-8B9F-C4764A86D71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CAB0-8E8F-4D08-8CE1-52C60CB711E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B0F6-7392-460B-AC11-D0F87756407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DA86-EB5C-4315-87F9-00CE9AA3AA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F218-E864-4A0C-9694-289C98304C1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3549-4B19-47C5-BC2D-91D97671648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E3F8-350B-4F4B-9858-AFD6F22BAA0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9868-3A1B-46A3-8F88-2600DB67B7B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5E78-66AC-443A-A920-1339C5CB36B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22C3-FFF8-4CA5-B8E6-7C1A5AB69AC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591F-A084-4E6A-9EA2-A6662A902F7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BB58-8F4D-437E-A268-5CF73AF1B2B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B76C-09AE-4AE7-B3E9-6540F1D49A6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F03A-4212-401F-A817-DAA6715AED3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2A11-7365-4A67-8F0E-03137509445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0F1B-9649-4643-B106-4AEDE343A9E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A3AD-58F2-4823-AD50-1E8A2A5345A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8453-D48E-4FCF-AD38-27019F742E2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07E4-2AC8-4A06-BD9F-4997A100E7E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1F13-8902-4B93-BF53-6C18F719F60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317C-A777-4DE4-82E4-E4963C9A473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C153-36A7-4997-8E28-BEB921D6C12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9187-119E-4447-8898-0A79350D122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D0BB-1FB8-4CD9-88C6-76E91D8B1FF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8136-42C4-48EF-9130-00A61910A7ED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9707-B27C-4BBC-BB74-0D369385478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4052-24A0-49B6-8AD4-7B372DB8F88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3F3D-5E7E-4E25-AFB8-EAD3076EAAD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25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9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5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9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2B54-A056-42CB-9EEE-E4FE983B5E0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9" name="Picture 12" descr="M.png"/>
          <p:cNvPicPr/>
          <p:nvPr/>
        </p:nvPicPr>
        <p:blipFill>
          <a:blip r:embed="rId2"/>
          <a:srcRect l="0" t="0" r="22620" b="0"/>
          <a:stretch/>
        </p:blipFill>
        <p:spPr>
          <a:xfrm>
            <a:off x="4500720" y="3543480"/>
            <a:ext cx="4643280" cy="331452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9" descr=""/>
          <p:cNvPicPr/>
          <p:nvPr/>
        </p:nvPicPr>
        <p:blipFill>
          <a:blip r:embed="rId3"/>
          <a:srcRect l="23547" t="21617" r="0" b="13554"/>
          <a:stretch/>
        </p:blipFill>
        <p:spPr>
          <a:xfrm>
            <a:off x="214200" y="2511360"/>
            <a:ext cx="6726240" cy="1071720"/>
          </a:xfrm>
          <a:prstGeom prst="rect">
            <a:avLst/>
          </a:prstGeom>
          <a:ln w="0">
            <a:noFill/>
          </a:ln>
        </p:spPr>
      </p:pic>
      <p:grpSp>
        <p:nvGrpSpPr>
          <p:cNvPr id="1971" name=""/>
          <p:cNvGrpSpPr/>
          <p:nvPr/>
        </p:nvGrpSpPr>
        <p:grpSpPr>
          <a:xfrm>
            <a:off x="155520" y="3479760"/>
            <a:ext cx="3529080" cy="947160"/>
            <a:chOff x="155520" y="3479760"/>
            <a:chExt cx="3529080" cy="947160"/>
          </a:xfrm>
        </p:grpSpPr>
        <p:sp>
          <p:nvSpPr>
            <p:cNvPr id="1972" name="Rectangle 7"/>
            <p:cNvSpPr/>
            <p:nvPr/>
          </p:nvSpPr>
          <p:spPr>
            <a:xfrm>
              <a:off x="347760" y="3564000"/>
              <a:ext cx="3322440" cy="3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Text Box 8"/>
            <p:cNvSpPr/>
            <p:nvPr/>
          </p:nvSpPr>
          <p:spPr>
            <a:xfrm>
              <a:off x="155520" y="3479760"/>
              <a:ext cx="352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8e1800"/>
                  </a:solidFill>
                  <a:latin typeface="Georgia"/>
                </a:rPr>
                <a:t>www.mendeley.co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1561-231F-4347-B4A7-C2B769B9A24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8" name="图片 5" descr="网页添加.JPG"/>
          <p:cNvPicPr/>
          <p:nvPr/>
        </p:nvPicPr>
        <p:blipFill>
          <a:blip r:embed="rId2"/>
          <a:stretch/>
        </p:blipFill>
        <p:spPr>
          <a:xfrm>
            <a:off x="214200" y="1143000"/>
            <a:ext cx="8643960" cy="448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D2E0-6CAC-4074-A173-DDBDEFB660A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146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监视文件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监视的文件夹：此后下载到此地的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pdf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文件，都可以自动保存到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mendeley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的列表中，并显示时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2" name="Picture 4" descr=""/>
          <p:cNvPicPr/>
          <p:nvPr/>
        </p:nvPicPr>
        <p:blipFill>
          <a:blip r:embed="rId2"/>
          <a:stretch/>
        </p:blipFill>
        <p:spPr>
          <a:xfrm>
            <a:off x="179280" y="2709720"/>
            <a:ext cx="2843280" cy="1800360"/>
          </a:xfrm>
          <a:prstGeom prst="rect">
            <a:avLst/>
          </a:prstGeom>
          <a:ln w="0">
            <a:noFill/>
          </a:ln>
        </p:spPr>
      </p:pic>
      <p:pic>
        <p:nvPicPr>
          <p:cNvPr id="2013" name="Picture 5" descr=""/>
          <p:cNvPicPr/>
          <p:nvPr/>
        </p:nvPicPr>
        <p:blipFill>
          <a:blip r:embed="rId3"/>
          <a:stretch/>
        </p:blipFill>
        <p:spPr>
          <a:xfrm>
            <a:off x="3132000" y="2120760"/>
            <a:ext cx="5837400" cy="4550040"/>
          </a:xfrm>
          <a:prstGeom prst="rect">
            <a:avLst/>
          </a:prstGeom>
          <a:ln w="0">
            <a:noFill/>
          </a:ln>
        </p:spPr>
      </p:pic>
      <p:sp>
        <p:nvSpPr>
          <p:cNvPr id="2014" name="AutoShape 6"/>
          <p:cNvSpPr/>
          <p:nvPr/>
        </p:nvSpPr>
        <p:spPr>
          <a:xfrm rot="2340000">
            <a:off x="1547280" y="4941720"/>
            <a:ext cx="1584360" cy="50328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6" name="内容占位符 4" descr="引用体系.JPG"/>
          <p:cNvPicPr/>
          <p:nvPr/>
        </p:nvPicPr>
        <p:blipFill>
          <a:blip r:embed="rId2"/>
          <a:stretch/>
        </p:blipFill>
        <p:spPr>
          <a:xfrm>
            <a:off x="214200" y="2571840"/>
            <a:ext cx="7182000" cy="3362400"/>
          </a:xfrm>
          <a:prstGeom prst="rect">
            <a:avLst/>
          </a:prstGeom>
          <a:ln w="0">
            <a:noFill/>
          </a:ln>
        </p:spPr>
      </p:pic>
      <p:sp>
        <p:nvSpPr>
          <p:cNvPr id="201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0241-38FE-41E2-8330-3061E7ECDE4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TextBox 6"/>
          <p:cNvSpPr/>
          <p:nvPr/>
        </p:nvSpPr>
        <p:spPr>
          <a:xfrm>
            <a:off x="395280" y="1054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deley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有庞大的引用体系，海量文献供您搜索，并可自动检索文献相关信息添加到右侧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s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9" name="图片 7" descr="细节.JPG"/>
          <p:cNvPicPr/>
          <p:nvPr/>
        </p:nvPicPr>
        <p:blipFill>
          <a:blip r:embed="rId3"/>
          <a:stretch/>
        </p:blipFill>
        <p:spPr>
          <a:xfrm>
            <a:off x="5786280" y="2214720"/>
            <a:ext cx="302904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F99C-3AEB-4E3E-919E-33D99655709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68000" y="117000"/>
            <a:ext cx="8218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二、文件搬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Mendeley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的文件导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）选择您想导出的文档，单击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File→Export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按快捷键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Ctrl + E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）然后，您可以选择以最常见的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.XML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.RIS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或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BibT eX </a:t>
            </a:r>
            <a:r>
              <a:rPr b="0" lang="zh-CN" sz="2200" spc="-1" strike="noStrike">
                <a:solidFill>
                  <a:srgbClr val="ffffff"/>
                </a:solidFill>
                <a:latin typeface="Calibri"/>
              </a:rPr>
              <a:t>格式保存文件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3" name="Picture 4" descr=""/>
          <p:cNvPicPr/>
          <p:nvPr/>
        </p:nvPicPr>
        <p:blipFill>
          <a:blip r:embed="rId2"/>
          <a:stretch/>
        </p:blipFill>
        <p:spPr>
          <a:xfrm>
            <a:off x="3348000" y="2637000"/>
            <a:ext cx="5256360" cy="3693960"/>
          </a:xfrm>
          <a:prstGeom prst="rect">
            <a:avLst/>
          </a:prstGeom>
          <a:ln w="0">
            <a:noFill/>
          </a:ln>
        </p:spPr>
      </p:pic>
      <p:pic>
        <p:nvPicPr>
          <p:cNvPr id="2024" name="Picture 5" descr=""/>
          <p:cNvPicPr/>
          <p:nvPr/>
        </p:nvPicPr>
        <p:blipFill>
          <a:blip r:embed="rId3"/>
          <a:stretch/>
        </p:blipFill>
        <p:spPr>
          <a:xfrm>
            <a:off x="179280" y="2854440"/>
            <a:ext cx="2836800" cy="2087280"/>
          </a:xfrm>
          <a:prstGeom prst="rect">
            <a:avLst/>
          </a:prstGeom>
          <a:ln w="0">
            <a:noFill/>
          </a:ln>
        </p:spPr>
      </p:pic>
      <p:sp>
        <p:nvSpPr>
          <p:cNvPr id="2025" name="AutoShape 6"/>
          <p:cNvSpPr/>
          <p:nvPr/>
        </p:nvSpPr>
        <p:spPr>
          <a:xfrm rot="2280000">
            <a:off x="1932120" y="5229000"/>
            <a:ext cx="1569960" cy="504720"/>
          </a:xfrm>
          <a:custGeom>
            <a:avLst/>
            <a:gdLst>
              <a:gd name="textAreaLeft" fmla="*/ 245160 w 1569960"/>
              <a:gd name="textAreaRight" fmla="*/ 1373760 w 156996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571680" y="71424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备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Rechteckige Legende 6"/>
          <p:cNvSpPr/>
          <p:nvPr/>
        </p:nvSpPr>
        <p:spPr>
          <a:xfrm rot="16200000">
            <a:off x="5321880" y="1821600"/>
            <a:ext cx="357120" cy="4143240"/>
          </a:xfrm>
          <a:prstGeom prst="wedgeRectCallout">
            <a:avLst>
              <a:gd name="adj1" fmla="val -138064"/>
              <a:gd name="adj2" fmla="val -61476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可以将数据库备份，以保证文件不会丢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8" name="图片 4" descr="导为其他格式.JPG"/>
          <p:cNvPicPr/>
          <p:nvPr/>
        </p:nvPicPr>
        <p:blipFill>
          <a:blip r:embed="rId2"/>
          <a:stretch/>
        </p:blipFill>
        <p:spPr>
          <a:xfrm>
            <a:off x="3143160" y="3571920"/>
            <a:ext cx="5334120" cy="3133800"/>
          </a:xfrm>
          <a:prstGeom prst="rect">
            <a:avLst/>
          </a:prstGeom>
          <a:ln w="0">
            <a:noFill/>
          </a:ln>
        </p:spPr>
      </p:pic>
      <p:pic>
        <p:nvPicPr>
          <p:cNvPr id="2029" name="内容占位符 3" descr="备份.JPG"/>
          <p:cNvPicPr/>
          <p:nvPr/>
        </p:nvPicPr>
        <p:blipFill>
          <a:blip r:embed="rId3"/>
          <a:stretch/>
        </p:blipFill>
        <p:spPr>
          <a:xfrm>
            <a:off x="214200" y="1643040"/>
            <a:ext cx="6357960" cy="34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2CA3-085C-4872-A708-A9B21B354BF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Text Box 2"/>
          <p:cNvSpPr/>
          <p:nvPr/>
        </p:nvSpPr>
        <p:spPr>
          <a:xfrm>
            <a:off x="181080" y="406440"/>
            <a:ext cx="8856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管理文档和参考文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合并重复的作者姓名、标签或出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在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Filter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过滤器窗格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将您发现的重复或不正确的名称拖放到正确的名称上进行重命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例如，如果您有两个文件标签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How to”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和“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how-to”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，将后者拖放到前者上就可以实现对错误条目的重命名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2" name="Picture 3" descr=""/>
          <p:cNvPicPr/>
          <p:nvPr/>
        </p:nvPicPr>
        <p:blipFill>
          <a:blip r:embed="rId2"/>
          <a:stretch/>
        </p:blipFill>
        <p:spPr>
          <a:xfrm>
            <a:off x="252360" y="3427560"/>
            <a:ext cx="8345520" cy="24476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C8F6-304C-4147-9B1A-0B9B454D148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214200" y="785520"/>
            <a:ext cx="80042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 标记文档为已读或未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5" name="Picture 4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312400" cy="466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521E-E9C0-4579-95EB-8B6EFE8E62D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添加到收藏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39" name="Picture 4" descr=""/>
          <p:cNvPicPr/>
          <p:nvPr/>
        </p:nvPicPr>
        <p:blipFill>
          <a:blip r:embed="rId2"/>
          <a:stretch/>
        </p:blipFill>
        <p:spPr>
          <a:xfrm>
            <a:off x="684360" y="1701720"/>
            <a:ext cx="8013600" cy="410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0893-54DA-40B6-A6AB-3A715E29763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848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为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PDF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文档添加注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在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Mendeley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中为文档的内容添加高亮显示或注释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3" name="Picture 4" descr=""/>
          <p:cNvPicPr/>
          <p:nvPr/>
        </p:nvPicPr>
        <p:blipFill>
          <a:blip r:embed="rId2"/>
          <a:stretch/>
        </p:blipFill>
        <p:spPr>
          <a:xfrm>
            <a:off x="1114560" y="1827360"/>
            <a:ext cx="6410160" cy="469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E5FF-0DE3-4E86-8660-921262C2267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82872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建立分类文件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   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建立文件夹，将不同类的文章放到对应文件夹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7" name="Picture 4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3240000" cy="4603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圆角矩形 5"/>
          <p:cNvSpPr/>
          <p:nvPr/>
        </p:nvSpPr>
        <p:spPr>
          <a:xfrm>
            <a:off x="4500720" y="2571840"/>
            <a:ext cx="3286080" cy="4071960"/>
          </a:xfrm>
          <a:custGeom>
            <a:avLst/>
            <a:gdLst>
              <a:gd name="textAreaLeft" fmla="*/ 160200 w 3286080"/>
              <a:gd name="textAreaRight" fmla="*/ 3125880 w 3286080"/>
              <a:gd name="textAreaTop" fmla="*/ 160200 h 4071960"/>
              <a:gd name="textAreaBottom" fmla="*/ 3911760 h 4071960"/>
            </a:gdLst>
            <a:ahLst/>
            <a:rect l="textAreaLeft" t="textAreaTop" r="textAreaRight" b="textAreaBottom"/>
            <a:pathLst>
              <a:path w="21600" h="26765">
                <a:moveTo>
                  <a:pt x="3600" y="0"/>
                </a:moveTo>
                <a:arcTo wR="3600" hR="3600" stAng="16200000" swAng="-5400000"/>
                <a:lnTo>
                  <a:pt x="0" y="23165"/>
                </a:lnTo>
                <a:arcTo wR="3600" hR="3600" stAng="10800000" swAng="-5400000"/>
                <a:lnTo>
                  <a:pt x="18000" y="267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bd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Mendele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 type="subTitle"/>
          </p:nvPr>
        </p:nvSpPr>
        <p:spPr>
          <a:xfrm>
            <a:off x="2143080" y="1357200"/>
            <a:ext cx="6400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文献管理软件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&amp;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学术社交平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7" name="图片 3" descr="503d269759ee3d6dfb0a32a342166d224e4a20a44723feb6.jpg"/>
          <p:cNvPicPr/>
          <p:nvPr/>
        </p:nvPicPr>
        <p:blipFill>
          <a:blip r:embed="rId2"/>
          <a:stretch/>
        </p:blipFill>
        <p:spPr>
          <a:xfrm rot="21062400">
            <a:off x="920520" y="4106880"/>
            <a:ext cx="3362040" cy="1987560"/>
          </a:xfrm>
          <a:prstGeom prst="rect">
            <a:avLst/>
          </a:prstGeom>
          <a:ln w="0">
            <a:noFill/>
          </a:ln>
        </p:spPr>
      </p:pic>
      <p:sp>
        <p:nvSpPr>
          <p:cNvPr id="1978" name="TextBox 4"/>
          <p:cNvSpPr/>
          <p:nvPr/>
        </p:nvSpPr>
        <p:spPr>
          <a:xfrm>
            <a:off x="4572000" y="2571840"/>
            <a:ext cx="3643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成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杨诗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邰莉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龚金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王玉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安艺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54BA-33AF-439D-A96C-246A43F0EE7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075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四、搜索功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435880" cy="51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本地搜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1" name="Picture 4" descr=""/>
          <p:cNvPicPr/>
          <p:nvPr/>
        </p:nvPicPr>
        <p:blipFill>
          <a:blip r:embed="rId2"/>
          <a:stretch/>
        </p:blipFill>
        <p:spPr>
          <a:xfrm>
            <a:off x="612720" y="2349360"/>
            <a:ext cx="5832360" cy="4321440"/>
          </a:xfrm>
          <a:prstGeom prst="rect">
            <a:avLst/>
          </a:prstGeom>
          <a:ln w="0">
            <a:noFill/>
          </a:ln>
        </p:spPr>
      </p:pic>
      <p:pic>
        <p:nvPicPr>
          <p:cNvPr id="2052" name="图片 6" descr="内部文件搜索.JPG"/>
          <p:cNvPicPr/>
          <p:nvPr/>
        </p:nvPicPr>
        <p:blipFill>
          <a:blip r:embed="rId3"/>
          <a:stretch/>
        </p:blipFill>
        <p:spPr>
          <a:xfrm>
            <a:off x="468360" y="1844640"/>
            <a:ext cx="5610240" cy="1886040"/>
          </a:xfrm>
          <a:prstGeom prst="rect">
            <a:avLst/>
          </a:prstGeom>
          <a:ln w="0">
            <a:noFill/>
          </a:ln>
        </p:spPr>
      </p:pic>
      <p:sp>
        <p:nvSpPr>
          <p:cNvPr id="2053" name="Rechteckige Legende 4"/>
          <p:cNvSpPr/>
          <p:nvPr/>
        </p:nvSpPr>
        <p:spPr>
          <a:xfrm>
            <a:off x="539640" y="4149720"/>
            <a:ext cx="2089440" cy="285840"/>
          </a:xfrm>
          <a:prstGeom prst="wedgeRectCallout">
            <a:avLst>
              <a:gd name="adj1" fmla="val 34481"/>
              <a:gd name="adj2" fmla="val -337847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关键字搜索文件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hteckige Legende 4"/>
          <p:cNvSpPr/>
          <p:nvPr/>
        </p:nvSpPr>
        <p:spPr>
          <a:xfrm>
            <a:off x="2556000" y="5877000"/>
            <a:ext cx="2089080" cy="285840"/>
          </a:xfrm>
          <a:prstGeom prst="wedgeRectCallout">
            <a:avLst>
              <a:gd name="adj1" fmla="val 14712"/>
              <a:gd name="adj2" fmla="val -306879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搜索文件内关键字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5" name="Picture 9" descr="IMG_1127"/>
          <p:cNvPicPr/>
          <p:nvPr/>
        </p:nvPicPr>
        <p:blipFill>
          <a:blip r:embed="rId4"/>
          <a:stretch/>
        </p:blipFill>
        <p:spPr>
          <a:xfrm>
            <a:off x="6661080" y="2060640"/>
            <a:ext cx="2239920" cy="4105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C31E-434A-40C2-8034-7C103411380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148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Literature 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05408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点此可搜到来自网络的很多学术文献，有的可下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9" name="Picture 4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7201080" cy="495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网页搜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1" name="内容占位符 3" descr="网页搜索修改.png"/>
          <p:cNvPicPr/>
          <p:nvPr/>
        </p:nvPicPr>
        <p:blipFill>
          <a:blip r:embed="rId2"/>
          <a:stretch/>
        </p:blipFill>
        <p:spPr>
          <a:xfrm>
            <a:off x="642960" y="1428840"/>
            <a:ext cx="7873920" cy="4525920"/>
          </a:xfrm>
          <a:prstGeom prst="rect">
            <a:avLst/>
          </a:prstGeom>
          <a:ln w="0">
            <a:noFill/>
          </a:ln>
        </p:spPr>
      </p:pic>
      <p:sp>
        <p:nvSpPr>
          <p:cNvPr id="2062" name="Rechteckige Legende 4"/>
          <p:cNvSpPr/>
          <p:nvPr/>
        </p:nvSpPr>
        <p:spPr>
          <a:xfrm>
            <a:off x="4572000" y="3429000"/>
            <a:ext cx="3357720" cy="285840"/>
          </a:xfrm>
          <a:prstGeom prst="wedgeRectCallout">
            <a:avLst>
              <a:gd name="adj1" fmla="val -29324"/>
              <a:gd name="adj2" fmla="val -348171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在搜索框中输入关键字，即可搜索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9E58-39BA-4147-9F6D-5E83B2DBD6B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TextBox 5"/>
          <p:cNvSpPr/>
          <p:nvPr/>
        </p:nvSpPr>
        <p:spPr>
          <a:xfrm>
            <a:off x="714240" y="64296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浏览搜索到的文献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5" name="Picture 4" descr="Web_catalog_slide29"/>
          <p:cNvPicPr/>
          <p:nvPr/>
        </p:nvPicPr>
        <p:blipFill>
          <a:blip r:embed="rId2"/>
          <a:stretch/>
        </p:blipFill>
        <p:spPr>
          <a:xfrm>
            <a:off x="1143000" y="1428840"/>
            <a:ext cx="6985080" cy="518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A065-3976-4F5C-B68F-E8573401447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Box 5"/>
          <p:cNvSpPr/>
          <p:nvPr/>
        </p:nvSpPr>
        <p:spPr>
          <a:xfrm>
            <a:off x="857160" y="785880"/>
            <a:ext cx="7429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Georgia"/>
              </a:rPr>
              <a:t>获取文献信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8" name="Picture 4" descr="Web_catalog_article_slide30"/>
          <p:cNvPicPr/>
          <p:nvPr/>
        </p:nvPicPr>
        <p:blipFill>
          <a:blip r:embed="rId2"/>
          <a:stretch/>
        </p:blipFill>
        <p:spPr>
          <a:xfrm>
            <a:off x="900000" y="1500120"/>
            <a:ext cx="7543800" cy="5175360"/>
          </a:xfrm>
          <a:prstGeom prst="rect">
            <a:avLst/>
          </a:prstGeom>
          <a:ln w="0">
            <a:noFill/>
          </a:ln>
        </p:spPr>
      </p:pic>
      <p:sp>
        <p:nvSpPr>
          <p:cNvPr id="2069" name="Rechteckige Legende 6"/>
          <p:cNvSpPr/>
          <p:nvPr/>
        </p:nvSpPr>
        <p:spPr>
          <a:xfrm>
            <a:off x="3929040" y="3357720"/>
            <a:ext cx="2131920" cy="647640"/>
          </a:xfrm>
          <a:prstGeom prst="wedgeRectCallout">
            <a:avLst>
              <a:gd name="adj1" fmla="val 61194"/>
              <a:gd name="adj2" fmla="val -106472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可以在网页上选择将文献添加到个人书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A370-2180-4101-927B-9053FF0DFCE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extBox 5"/>
          <p:cNvSpPr/>
          <p:nvPr/>
        </p:nvSpPr>
        <p:spPr>
          <a:xfrm>
            <a:off x="357120" y="857160"/>
            <a:ext cx="717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浏览所搜用户的个人主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2" name="Picture 5" descr="Web_profiles_slide28"/>
          <p:cNvPicPr/>
          <p:nvPr/>
        </p:nvPicPr>
        <p:blipFill>
          <a:blip r:embed="rId2"/>
          <a:stretch/>
        </p:blipFill>
        <p:spPr>
          <a:xfrm>
            <a:off x="611280" y="1630440"/>
            <a:ext cx="7848360" cy="505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C7F8-4D2C-4A37-A771-A6521B4CF57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715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五、文献管理云服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68360" y="83772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激活文件同步功能，便可以在自己的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Mendeley Web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库中浏览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PDF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文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）选中“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My Library”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窗格中的“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All Documents”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）选择“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Edit Setting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）根据您的需要调整设置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）同步您的库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）登陆到您的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Mendeley Web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帐户，并在库中查看结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A5EB-B46A-4EC8-A451-130E312FCE7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7" name="Picture 2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7761240" cy="5226120"/>
          </a:xfrm>
          <a:prstGeom prst="rect">
            <a:avLst/>
          </a:prstGeom>
          <a:ln w="0">
            <a:noFill/>
          </a:ln>
        </p:spPr>
      </p:pic>
      <p:sp>
        <p:nvSpPr>
          <p:cNvPr id="2078" name="Rechteckige Legende 4"/>
          <p:cNvSpPr/>
          <p:nvPr/>
        </p:nvSpPr>
        <p:spPr>
          <a:xfrm>
            <a:off x="6012000" y="4786200"/>
            <a:ext cx="2089080" cy="285840"/>
          </a:xfrm>
          <a:prstGeom prst="wedgeRectCallout">
            <a:avLst>
              <a:gd name="adj1" fmla="val -49527"/>
              <a:gd name="adj2" fmla="val -19333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选择要同步的文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Rechteckige Legende 4"/>
          <p:cNvSpPr/>
          <p:nvPr/>
        </p:nvSpPr>
        <p:spPr>
          <a:xfrm>
            <a:off x="4716360" y="2349360"/>
            <a:ext cx="2089080" cy="287640"/>
          </a:xfrm>
          <a:prstGeom prst="wedgeRectCallout">
            <a:avLst>
              <a:gd name="adj1" fmla="val 6898"/>
              <a:gd name="adj2" fmla="val 279800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同步至云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A17E-9BE5-4AF4-8674-699141129FE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1" name="Picture 8" descr="F:\信管一班\作业\寇老师\QQ截图20140311134238.png"/>
          <p:cNvPicPr/>
          <p:nvPr/>
        </p:nvPicPr>
        <p:blipFill>
          <a:blip r:embed="rId2"/>
          <a:stretch/>
        </p:blipFill>
        <p:spPr>
          <a:xfrm>
            <a:off x="468360" y="1844640"/>
            <a:ext cx="8424720" cy="4321080"/>
          </a:xfrm>
          <a:prstGeom prst="rect">
            <a:avLst/>
          </a:prstGeom>
          <a:ln w="0">
            <a:noFill/>
          </a:ln>
        </p:spPr>
      </p:pic>
      <p:sp>
        <p:nvSpPr>
          <p:cNvPr id="2082" name="TextBox 5"/>
          <p:cNvSpPr/>
          <p:nvPr/>
        </p:nvSpPr>
        <p:spPr>
          <a:xfrm>
            <a:off x="468360" y="1270080"/>
            <a:ext cx="7645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隶书"/>
              </a:rPr>
              <a:t>（</a:t>
            </a: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隶书"/>
              </a:rPr>
              <a:t>）与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隶书"/>
              </a:rPr>
              <a:t>Office 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关联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Rechteckige Legende 4"/>
          <p:cNvSpPr/>
          <p:nvPr/>
        </p:nvSpPr>
        <p:spPr>
          <a:xfrm>
            <a:off x="2771640" y="2492280"/>
            <a:ext cx="5256360" cy="289080"/>
          </a:xfrm>
          <a:prstGeom prst="wedgeRectCallout">
            <a:avLst>
              <a:gd name="adj1" fmla="val -49527"/>
              <a:gd name="adj2" fmla="val -19333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打开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Mendeley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，点击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“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Install MS Word Plugin” 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去安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TextBox 4"/>
          <p:cNvSpPr/>
          <p:nvPr/>
        </p:nvSpPr>
        <p:spPr>
          <a:xfrm>
            <a:off x="755640" y="40464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Georgia"/>
              </a:rPr>
              <a:t>六、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插入引文并生成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0229-9104-466A-AA3C-9E68B932FDE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6" name="Picture 7" descr="F:\信管一班\作业\寇老师\3.png"/>
          <p:cNvPicPr/>
          <p:nvPr/>
        </p:nvPicPr>
        <p:blipFill>
          <a:blip r:embed="rId2"/>
          <a:stretch/>
        </p:blipFill>
        <p:spPr>
          <a:xfrm>
            <a:off x="395280" y="1028880"/>
            <a:ext cx="8410680" cy="4416120"/>
          </a:xfrm>
          <a:prstGeom prst="rect">
            <a:avLst/>
          </a:prstGeom>
          <a:ln w="0">
            <a:noFill/>
          </a:ln>
        </p:spPr>
      </p:pic>
      <p:pic>
        <p:nvPicPr>
          <p:cNvPr id="2087" name="Picture 8" descr="F:\信管一班\作业\寇老师\4.png"/>
          <p:cNvPicPr/>
          <p:nvPr/>
        </p:nvPicPr>
        <p:blipFill>
          <a:blip r:embed="rId3"/>
          <a:stretch/>
        </p:blipFill>
        <p:spPr>
          <a:xfrm>
            <a:off x="3809880" y="3500280"/>
            <a:ext cx="5051520" cy="2909880"/>
          </a:xfrm>
          <a:prstGeom prst="rect">
            <a:avLst/>
          </a:prstGeom>
          <a:ln w="0">
            <a:noFill/>
          </a:ln>
        </p:spPr>
      </p:pic>
      <p:sp>
        <p:nvSpPr>
          <p:cNvPr id="2088" name="Rechteckige Legende 4"/>
          <p:cNvSpPr/>
          <p:nvPr/>
        </p:nvSpPr>
        <p:spPr>
          <a:xfrm>
            <a:off x="2340000" y="2349360"/>
            <a:ext cx="3357360" cy="285840"/>
          </a:xfrm>
          <a:prstGeom prst="wedgeRectCallout">
            <a:avLst>
              <a:gd name="adj1" fmla="val -49527"/>
              <a:gd name="adj2" fmla="val -19333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打开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Word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，点击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Insert Citation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Rechteckige Legende 3"/>
          <p:cNvSpPr/>
          <p:nvPr/>
        </p:nvSpPr>
        <p:spPr>
          <a:xfrm>
            <a:off x="5724360" y="3286080"/>
            <a:ext cx="2374920" cy="717480"/>
          </a:xfrm>
          <a:prstGeom prst="wedgeRectCallout">
            <a:avLst>
              <a:gd name="adj1" fmla="val 1851"/>
              <a:gd name="adj2" fmla="val 93370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在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mendeley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选择需要引用的文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Text Box 7"/>
          <p:cNvSpPr/>
          <p:nvPr/>
        </p:nvSpPr>
        <p:spPr>
          <a:xfrm>
            <a:off x="2484360" y="333360"/>
            <a:ext cx="38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如何引入文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关于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ndel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0" name=""/>
          <p:cNvSpPr txBox="1"/>
          <p:nvPr/>
        </p:nvSpPr>
        <p:spPr>
          <a:xfrm>
            <a:off x="142560" y="160020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deley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是一款免费的跨平台文献管理软件，同时也是一个在线的学术社交网络平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deley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可一键抓取网页上的文献信息添加到个人的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brary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中，还可安装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S Word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和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pen     Office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插件，方便在文字编辑器中插入和管理参考文献书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只要在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deley.com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建立一个帐号，就能实现计算机上的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deley Desktop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和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ndeley.com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上的数据同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1" name="Rectangle 4"/>
          <p:cNvSpPr/>
          <p:nvPr/>
        </p:nvSpPr>
        <p:spPr>
          <a:xfrm>
            <a:off x="250920" y="260280"/>
            <a:ext cx="1657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FFF5-6F00-422D-8978-839260D9B9A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2" name="Picture 9" descr="F:\信管一班\作业\寇老师\5.png"/>
          <p:cNvPicPr/>
          <p:nvPr/>
        </p:nvPicPr>
        <p:blipFill>
          <a:blip r:embed="rId2"/>
          <a:stretch/>
        </p:blipFill>
        <p:spPr>
          <a:xfrm>
            <a:off x="395280" y="1844640"/>
            <a:ext cx="7777080" cy="4321080"/>
          </a:xfrm>
          <a:prstGeom prst="rect">
            <a:avLst/>
          </a:prstGeom>
          <a:ln w="0">
            <a:noFill/>
          </a:ln>
        </p:spPr>
      </p:pic>
      <p:sp>
        <p:nvSpPr>
          <p:cNvPr id="2093" name="Rechteckige Legende 4"/>
          <p:cNvSpPr/>
          <p:nvPr/>
        </p:nvSpPr>
        <p:spPr>
          <a:xfrm>
            <a:off x="4068720" y="2852640"/>
            <a:ext cx="3745080" cy="357120"/>
          </a:xfrm>
          <a:prstGeom prst="wedgeRectCallout">
            <a:avLst>
              <a:gd name="adj1" fmla="val -67680"/>
              <a:gd name="adj2" fmla="val -198310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可以在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yle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中选择你所需要的引文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4" name=""/>
          <p:cNvGrpSpPr/>
          <p:nvPr/>
        </p:nvGrpSpPr>
        <p:grpSpPr>
          <a:xfrm>
            <a:off x="6108840" y="5373720"/>
            <a:ext cx="2273040" cy="1252440"/>
            <a:chOff x="6108840" y="5373720"/>
            <a:chExt cx="2273040" cy="1252440"/>
          </a:xfrm>
        </p:grpSpPr>
        <p:sp>
          <p:nvSpPr>
            <p:cNvPr id="2095" name="Rounded Rectangle 22"/>
            <p:cNvSpPr/>
            <p:nvPr/>
          </p:nvSpPr>
          <p:spPr>
            <a:xfrm>
              <a:off x="6108840" y="5373720"/>
              <a:ext cx="2273040" cy="1252440"/>
            </a:xfrm>
            <a:prstGeom prst="rect">
              <a:avLst/>
            </a:prstGeom>
            <a:solidFill>
              <a:srgbClr val="595959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Textfeld 36"/>
            <p:cNvSpPr/>
            <p:nvPr/>
          </p:nvSpPr>
          <p:spPr>
            <a:xfrm>
              <a:off x="6294240" y="5484600"/>
              <a:ext cx="194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引用到谷歌文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或者通过复制和粘贴来编辑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7" name="Rechteckige Legende 4"/>
          <p:cNvSpPr/>
          <p:nvPr/>
        </p:nvSpPr>
        <p:spPr>
          <a:xfrm>
            <a:off x="4932360" y="3860640"/>
            <a:ext cx="4248000" cy="432000"/>
          </a:xfrm>
          <a:prstGeom prst="wedgeRectCallout">
            <a:avLst>
              <a:gd name="adj1" fmla="val -42240"/>
              <a:gd name="adj2" fmla="val 11133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点击“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ert Bibliography”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按钮生成参考书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Rectangle 9"/>
          <p:cNvSpPr/>
          <p:nvPr/>
        </p:nvSpPr>
        <p:spPr>
          <a:xfrm>
            <a:off x="755640" y="69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）生成参考文献书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9" name="Picture 10" descr="C:\Users\ABC\Desktop\1.png"/>
          <p:cNvPicPr/>
          <p:nvPr/>
        </p:nvPicPr>
        <p:blipFill>
          <a:blip r:embed="rId3"/>
          <a:stretch/>
        </p:blipFill>
        <p:spPr>
          <a:xfrm>
            <a:off x="971640" y="5157720"/>
            <a:ext cx="4743360" cy="819360"/>
          </a:xfrm>
          <a:prstGeom prst="rect">
            <a:avLst/>
          </a:prstGeom>
          <a:ln w="0">
            <a:noFill/>
          </a:ln>
        </p:spPr>
      </p:pic>
      <p:sp>
        <p:nvSpPr>
          <p:cNvPr id="2100" name="Rechteckige Legende 4"/>
          <p:cNvSpPr/>
          <p:nvPr/>
        </p:nvSpPr>
        <p:spPr>
          <a:xfrm>
            <a:off x="3780000" y="4724280"/>
            <a:ext cx="2663640" cy="433440"/>
          </a:xfrm>
          <a:prstGeom prst="wedgeRectCallout">
            <a:avLst>
              <a:gd name="adj1" fmla="val -42240"/>
              <a:gd name="adj2" fmla="val 11133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使用分号可以引入多个文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2" name="Picture 3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8120" cy="3888000"/>
          </a:xfrm>
          <a:prstGeom prst="rect">
            <a:avLst/>
          </a:prstGeom>
          <a:ln w="0">
            <a:noFill/>
          </a:ln>
        </p:spPr>
      </p:pic>
      <p:sp>
        <p:nvSpPr>
          <p:cNvPr id="210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6AA4-F28D-416B-907E-A817F71766C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5" name="Picture 7" descr="F:\信管一班\作业\寇老师\1.png"/>
          <p:cNvPicPr/>
          <p:nvPr/>
        </p:nvPicPr>
        <p:blipFill>
          <a:blip r:embed="rId2"/>
          <a:stretch/>
        </p:blipFill>
        <p:spPr>
          <a:xfrm>
            <a:off x="324000" y="1844640"/>
            <a:ext cx="8424720" cy="4176720"/>
          </a:xfrm>
          <a:prstGeom prst="rect">
            <a:avLst/>
          </a:prstGeom>
          <a:ln w="0">
            <a:noFill/>
          </a:ln>
        </p:spPr>
      </p:pic>
      <p:sp>
        <p:nvSpPr>
          <p:cNvPr id="2106" name="TextBox 5"/>
          <p:cNvSpPr/>
          <p:nvPr/>
        </p:nvSpPr>
        <p:spPr>
          <a:xfrm>
            <a:off x="971640" y="40464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eorgia"/>
              </a:rPr>
              <a:t>七、建立小组</a:t>
            </a:r>
            <a:r>
              <a:rPr b="1" lang="zh-CN" sz="3200" spc="-1" strike="noStrike">
                <a:solidFill>
                  <a:srgbClr val="ffffff"/>
                </a:solidFill>
                <a:latin typeface="Georgia"/>
              </a:rPr>
              <a:t>(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Rechteckige Legende 3"/>
          <p:cNvSpPr/>
          <p:nvPr/>
        </p:nvSpPr>
        <p:spPr>
          <a:xfrm>
            <a:off x="6084720" y="5661000"/>
            <a:ext cx="2786400" cy="1143000"/>
          </a:xfrm>
          <a:prstGeom prst="wedgeRectCallout">
            <a:avLst>
              <a:gd name="adj1" fmla="val -39402"/>
              <a:gd name="adj2" fmla="val -149444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查看组在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其他用户可以请求加入或只是关注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oups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的活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Rechteckige Legende 3"/>
          <p:cNvSpPr/>
          <p:nvPr/>
        </p:nvSpPr>
        <p:spPr>
          <a:xfrm>
            <a:off x="395280" y="5877000"/>
            <a:ext cx="4680000" cy="793800"/>
          </a:xfrm>
          <a:prstGeom prst="rect">
            <a:avLst/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blic groups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只有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reference details – 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看不到整篇文献。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Private groups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包含有注释的全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Text Box 7"/>
          <p:cNvSpPr/>
          <p:nvPr/>
        </p:nvSpPr>
        <p:spPr>
          <a:xfrm>
            <a:off x="469800" y="1197000"/>
            <a:ext cx="64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）小组形式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ublic</a:t>
            </a:r>
            <a:r>
              <a:rPr b="0" lang="zh-CN" sz="2800" spc="-1" strike="noStrike">
                <a:solidFill>
                  <a:srgbClr val="ffffff"/>
                </a:solidFill>
                <a:latin typeface="Georgia"/>
              </a:rPr>
              <a:t> or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rivat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Rechteckige Legende 4"/>
          <p:cNvSpPr/>
          <p:nvPr/>
        </p:nvSpPr>
        <p:spPr>
          <a:xfrm>
            <a:off x="2916360" y="1990800"/>
            <a:ext cx="4751280" cy="790560"/>
          </a:xfrm>
          <a:prstGeom prst="wedgeRectCallout">
            <a:avLst>
              <a:gd name="adj1" fmla="val -56782"/>
              <a:gd name="adj2" fmla="val 105412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Group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：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1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、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               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、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Invite-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               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3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、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2FE3-27CA-4D7B-92C2-8985737D8E2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2" name="Picture 6" descr="F:\信管一班\作业\寇老师\2.png"/>
          <p:cNvPicPr/>
          <p:nvPr/>
        </p:nvPicPr>
        <p:blipFill>
          <a:blip r:embed="rId2"/>
          <a:stretch/>
        </p:blipFill>
        <p:spPr>
          <a:xfrm>
            <a:off x="395280" y="1628640"/>
            <a:ext cx="7416720" cy="4997520"/>
          </a:xfrm>
          <a:prstGeom prst="rect">
            <a:avLst/>
          </a:prstGeom>
          <a:ln w="0">
            <a:noFill/>
          </a:ln>
        </p:spPr>
      </p:pic>
      <p:sp>
        <p:nvSpPr>
          <p:cNvPr id="2113" name="TextBox 5"/>
          <p:cNvSpPr/>
          <p:nvPr/>
        </p:nvSpPr>
        <p:spPr>
          <a:xfrm>
            <a:off x="539640" y="90972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Georgia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Georgia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Georgia"/>
              </a:rPr>
              <a:t>）如何建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Rechteckige Legende 6"/>
          <p:cNvSpPr/>
          <p:nvPr/>
        </p:nvSpPr>
        <p:spPr>
          <a:xfrm>
            <a:off x="6588000" y="2349360"/>
            <a:ext cx="1846440" cy="1295640"/>
          </a:xfrm>
          <a:prstGeom prst="wedgeRectCallout">
            <a:avLst>
              <a:gd name="adj1" fmla="val -62726"/>
              <a:gd name="adj2" fmla="val 58652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Private groups </a:t>
            </a: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-</a:t>
            </a: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该群组只对被邀请的群组成员可见。适用于私人研究项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Rechteckige Legende 6"/>
          <p:cNvSpPr/>
          <p:nvPr/>
        </p:nvSpPr>
        <p:spPr>
          <a:xfrm>
            <a:off x="1403280" y="2567160"/>
            <a:ext cx="1847880" cy="2519280"/>
          </a:xfrm>
          <a:prstGeom prst="wedgeRectCallout">
            <a:avLst>
              <a:gd name="adj1" fmla="val 95083"/>
              <a:gd name="adj2" fmla="val 4939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Public Invite-only Groups</a:t>
            </a: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（半公共群组）</a:t>
            </a: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-</a:t>
            </a: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该群组对所有人可见，但是只有群组成员才可以参与群组 建设。适用于公开阅读书目或者展示你所在实验室的研究结果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Rechteckige Legende 6"/>
          <p:cNvSpPr/>
          <p:nvPr/>
        </p:nvSpPr>
        <p:spPr>
          <a:xfrm>
            <a:off x="6445080" y="4365720"/>
            <a:ext cx="1846440" cy="1800000"/>
          </a:xfrm>
          <a:prstGeom prst="wedgeRectCallout">
            <a:avLst>
              <a:gd name="adj1" fmla="val -74171"/>
              <a:gd name="adj2" fmla="val 22592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Public Open Groups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（公共群组）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所有人都可以加入该群组</a:t>
            </a: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参与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群组建设。适用于同学</a:t>
            </a:r>
            <a:r>
              <a:rPr b="1" lang="zh-CN" sz="1600" spc="-1" strike="noStrike">
                <a:solidFill>
                  <a:srgbClr val="ffffff"/>
                </a:solidFill>
                <a:latin typeface="Georgia"/>
              </a:rPr>
              <a:t>科研</a:t>
            </a:r>
            <a:r>
              <a:rPr b="1" lang="en-US" sz="1600" spc="-1" strike="noStrike">
                <a:solidFill>
                  <a:srgbClr val="ffffff"/>
                </a:solidFill>
                <a:latin typeface="Georgia"/>
              </a:rPr>
              <a:t>的开放性讨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27C1-02C0-4E1E-BEA9-4360CED0122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8" name="Picture 6" descr="Web_groups_slide27"/>
          <p:cNvPicPr/>
          <p:nvPr/>
        </p:nvPicPr>
        <p:blipFill>
          <a:blip r:embed="rId2"/>
          <a:stretch/>
        </p:blipFill>
        <p:spPr>
          <a:xfrm>
            <a:off x="250920" y="1008000"/>
            <a:ext cx="7993080" cy="5589720"/>
          </a:xfrm>
          <a:prstGeom prst="rect">
            <a:avLst/>
          </a:prstGeom>
          <a:ln w="0">
            <a:noFill/>
          </a:ln>
        </p:spPr>
      </p:pic>
      <p:sp>
        <p:nvSpPr>
          <p:cNvPr id="2119" name="Rechteckige Legende 6"/>
          <p:cNvSpPr/>
          <p:nvPr/>
        </p:nvSpPr>
        <p:spPr>
          <a:xfrm>
            <a:off x="6588000" y="3429000"/>
            <a:ext cx="1846440" cy="647640"/>
          </a:xfrm>
          <a:prstGeom prst="wedgeRectCallout">
            <a:avLst>
              <a:gd name="adj1" fmla="val -151291"/>
              <a:gd name="adj2" fmla="val -40439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你还可以在网页里创建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groups</a:t>
            </a: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0093-1895-4704-9DD3-C0183B9F532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(3)Group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应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     ②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你可以点击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Document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选项卡浏览文档。如需添加文档，在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8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（群组）页面中点击工具栏中的 “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Add documents”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，也可从你的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Mendeley</a:t>
            </a: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文件夹或电脑的其他任何位置拖动文档至群组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3" name="Picture 5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998880" cy="1476360"/>
          </a:xfrm>
          <a:prstGeom prst="rect">
            <a:avLst/>
          </a:prstGeom>
          <a:ln w="0">
            <a:noFill/>
          </a:ln>
        </p:spPr>
      </p:pic>
      <p:pic>
        <p:nvPicPr>
          <p:cNvPr id="2124" name="Picture 6" descr=""/>
          <p:cNvPicPr/>
          <p:nvPr/>
        </p:nvPicPr>
        <p:blipFill>
          <a:blip r:embed="rId3"/>
          <a:stretch/>
        </p:blipFill>
        <p:spPr>
          <a:xfrm>
            <a:off x="684360" y="4653000"/>
            <a:ext cx="6694200" cy="1981080"/>
          </a:xfrm>
          <a:prstGeom prst="rect">
            <a:avLst/>
          </a:prstGeom>
          <a:ln w="0">
            <a:noFill/>
          </a:ln>
        </p:spPr>
      </p:pic>
      <p:sp>
        <p:nvSpPr>
          <p:cNvPr id="2125" name="Text Box 7"/>
          <p:cNvSpPr/>
          <p:nvPr/>
        </p:nvSpPr>
        <p:spPr>
          <a:xfrm>
            <a:off x="4788000" y="1628640"/>
            <a:ext cx="301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你可以点击“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Add”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加入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endele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中已有的联系人，也可点击“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Invite”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邀请别人加入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Mendeley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39528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）动态“好友圈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8" name="内容占位符 4" descr="个人主页修改.png"/>
          <p:cNvPicPr/>
          <p:nvPr/>
        </p:nvPicPr>
        <p:blipFill>
          <a:blip r:embed="rId2"/>
          <a:stretch/>
        </p:blipFill>
        <p:spPr>
          <a:xfrm>
            <a:off x="612720" y="1773360"/>
            <a:ext cx="7632720" cy="4525920"/>
          </a:xfrm>
          <a:prstGeom prst="rect">
            <a:avLst/>
          </a:prstGeom>
          <a:ln w="0">
            <a:noFill/>
          </a:ln>
        </p:spPr>
      </p:pic>
      <p:sp>
        <p:nvSpPr>
          <p:cNvPr id="2129" name="Rechteckige Legende 6"/>
          <p:cNvSpPr/>
          <p:nvPr/>
        </p:nvSpPr>
        <p:spPr>
          <a:xfrm>
            <a:off x="4500720" y="3857760"/>
            <a:ext cx="3500280" cy="428400"/>
          </a:xfrm>
          <a:prstGeom prst="wedgeRectCallout">
            <a:avLst>
              <a:gd name="adj1" fmla="val 23550"/>
              <a:gd name="adj2" fmla="val -136074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编辑个人信息，查看近期通知消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小组分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杨诗姝：功能探究、音频设计、后期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整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邰莉梅：功能探究、前期视频录制、后期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整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龚金燕：资料搜集、前期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制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王玉君：视频剪辑制作、音频录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安艺丽：前期视频录制、前期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制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3F38-9FB4-46C8-B1D2-C589B4B6D13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推荐理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免费使用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能自动从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pdf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文件中提取文献信息。也能自动检索与选择相关的文献，省去很多麻烦的同类文献搜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不仅是一个文献管理工具，还是一个巨大的社交性学术交流平台，可以在与他人在线协作中来发现新的研究方向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也是最吸引人的地方：可以在小组中与合作伙伴共享文件，笔记注释同步共享，极其适合当前大学生科研团队的讨论、研究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是一个巨大的社会型图书馆，可以在 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mendeley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网站上浏览到流行、相关、趋势，如同微博热门榜，为乏味的学术增加了趣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2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2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2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6" name="图片 6" descr="u=3308684194,1322232918&amp;fm=23&amp;gp=0.jpg"/>
          <p:cNvPicPr/>
          <p:nvPr/>
        </p:nvPicPr>
        <p:blipFill>
          <a:blip r:embed="rId2"/>
          <a:stretch/>
        </p:blipFill>
        <p:spPr>
          <a:xfrm>
            <a:off x="1714680" y="1643040"/>
            <a:ext cx="6621120" cy="38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主要界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3" name="内容占位符 3" descr="整体界面修改.png"/>
          <p:cNvPicPr/>
          <p:nvPr/>
        </p:nvPicPr>
        <p:blipFill>
          <a:blip r:embed="rId2"/>
          <a:stretch/>
        </p:blipFill>
        <p:spPr>
          <a:xfrm>
            <a:off x="428760" y="1214280"/>
            <a:ext cx="8286480" cy="5053320"/>
          </a:xfrm>
          <a:prstGeom prst="rect">
            <a:avLst/>
          </a:prstGeom>
          <a:ln w="0">
            <a:noFill/>
          </a:ln>
        </p:spPr>
      </p:pic>
      <p:sp>
        <p:nvSpPr>
          <p:cNvPr id="1984" name="Rechteckige Legende 4"/>
          <p:cNvSpPr/>
          <p:nvPr/>
        </p:nvSpPr>
        <p:spPr>
          <a:xfrm>
            <a:off x="1285920" y="3143160"/>
            <a:ext cx="3357360" cy="285840"/>
          </a:xfrm>
          <a:prstGeom prst="wedgeRectCallout">
            <a:avLst>
              <a:gd name="adj1" fmla="val -49527"/>
              <a:gd name="adj2" fmla="val -19333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文件分类类目，可自己建立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Rechteckige Legende 4"/>
          <p:cNvSpPr/>
          <p:nvPr/>
        </p:nvSpPr>
        <p:spPr>
          <a:xfrm>
            <a:off x="1643040" y="4429080"/>
            <a:ext cx="3357720" cy="285840"/>
          </a:xfrm>
          <a:prstGeom prst="wedgeRectCallout">
            <a:avLst>
              <a:gd name="adj1" fmla="val -49527"/>
              <a:gd name="adj2" fmla="val -193333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用户所在的小组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hteckige Legende 4"/>
          <p:cNvSpPr/>
          <p:nvPr/>
        </p:nvSpPr>
        <p:spPr>
          <a:xfrm>
            <a:off x="3643200" y="2357280"/>
            <a:ext cx="3357720" cy="285840"/>
          </a:xfrm>
          <a:prstGeom prst="wedgeRectCallout">
            <a:avLst>
              <a:gd name="adj1" fmla="val 50625"/>
              <a:gd name="adj2" fmla="val -239787"/>
            </a:avLst>
          </a:prstGeom>
          <a:solidFill>
            <a:srgbClr val="59595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Georgia"/>
              </a:rPr>
              <a:t>可进行文件及文件内部关键字搜索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账户注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8" name="内容占位符 6" descr="注册.JPG"/>
          <p:cNvPicPr/>
          <p:nvPr/>
        </p:nvPicPr>
        <p:blipFill>
          <a:blip r:embed="rId2"/>
          <a:stretch/>
        </p:blipFill>
        <p:spPr>
          <a:xfrm>
            <a:off x="824040" y="1600200"/>
            <a:ext cx="3305160" cy="4525920"/>
          </a:xfrm>
          <a:prstGeom prst="rect">
            <a:avLst/>
          </a:prstGeom>
          <a:ln w="0">
            <a:noFill/>
          </a:ln>
        </p:spPr>
      </p:pic>
      <p:sp>
        <p:nvSpPr>
          <p:cNvPr id="19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用户首先在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www.mendeley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网页注册一个账户，然后下载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endeley  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，安装登陆即可开始使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0" name="Picture 5" descr="联系网"/>
          <p:cNvPicPr/>
          <p:nvPr/>
        </p:nvPicPr>
        <p:blipFill>
          <a:blip r:embed="rId3"/>
          <a:stretch/>
        </p:blipFill>
        <p:spPr>
          <a:xfrm>
            <a:off x="4500720" y="4005360"/>
            <a:ext cx="3960720" cy="2484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移动端</a:t>
            </a: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App</a:t>
            </a: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（支持</a:t>
            </a: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IOS</a:t>
            </a: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3" name="Picture 4" descr="IMG_1121"/>
          <p:cNvPicPr/>
          <p:nvPr/>
        </p:nvPicPr>
        <p:blipFill>
          <a:blip r:embed="rId2"/>
          <a:stretch/>
        </p:blipFill>
        <p:spPr>
          <a:xfrm>
            <a:off x="828720" y="1341360"/>
            <a:ext cx="3024000" cy="5184720"/>
          </a:xfrm>
          <a:prstGeom prst="rect">
            <a:avLst/>
          </a:prstGeom>
          <a:ln w="0">
            <a:noFill/>
          </a:ln>
        </p:spPr>
      </p:pic>
      <p:pic>
        <p:nvPicPr>
          <p:cNvPr id="1994" name="Picture 5" descr="IMG_1125"/>
          <p:cNvPicPr/>
          <p:nvPr/>
        </p:nvPicPr>
        <p:blipFill>
          <a:blip r:embed="rId3"/>
          <a:stretch/>
        </p:blipFill>
        <p:spPr>
          <a:xfrm>
            <a:off x="4573440" y="1270080"/>
            <a:ext cx="3295800" cy="525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主要功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文献添加与组织（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dd and Organize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.PDF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文件阅读与标注（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ad and Annotate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备份、同步与移动（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ackup, Sync and Mobile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网络与发现（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twork and Discover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与全球同行协作（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llaborate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4666-CE41-4396-A641-3854FCFA453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042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一、添加文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添加本地文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直接拖动文件或文件夹到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mendeley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面板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从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file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中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add file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添加，选中想要添加的文件即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也可以导入其他文献管理工具中的文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0" name="Picture 4" descr=""/>
          <p:cNvPicPr/>
          <p:nvPr/>
        </p:nvPicPr>
        <p:blipFill>
          <a:blip r:embed="rId2"/>
          <a:stretch/>
        </p:blipFill>
        <p:spPr>
          <a:xfrm>
            <a:off x="357120" y="3000240"/>
            <a:ext cx="4318200" cy="2500560"/>
          </a:xfrm>
          <a:prstGeom prst="rect">
            <a:avLst/>
          </a:prstGeom>
          <a:ln w="0">
            <a:noFill/>
          </a:ln>
        </p:spPr>
      </p:pic>
      <p:pic>
        <p:nvPicPr>
          <p:cNvPr id="2001" name="图片 7" descr="添加文件.JPG"/>
          <p:cNvPicPr/>
          <p:nvPr/>
        </p:nvPicPr>
        <p:blipFill>
          <a:blip r:embed="rId3"/>
          <a:stretch/>
        </p:blipFill>
        <p:spPr>
          <a:xfrm>
            <a:off x="3429000" y="3333600"/>
            <a:ext cx="5610240" cy="3524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7612-9021-4DF9-9AD5-4C372C8659A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）添加网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在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tools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中选择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Install Web Importer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就跳转到相关页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找出想要添加的网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将此                     图标添加到收藏夹，点击此链接，可自动检索网页上的文章并提供添加到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endeley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的功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5" name="Picture 4" descr=""/>
          <p:cNvPicPr/>
          <p:nvPr/>
        </p:nvPicPr>
        <p:blipFill>
          <a:blip r:embed="rId2"/>
          <a:stretch/>
        </p:blipFill>
        <p:spPr>
          <a:xfrm>
            <a:off x="1500120" y="2143080"/>
            <a:ext cx="1371600" cy="314280"/>
          </a:xfrm>
          <a:prstGeom prst="rect">
            <a:avLst/>
          </a:prstGeom>
          <a:ln w="0">
            <a:noFill/>
          </a:ln>
        </p:spPr>
      </p:pic>
      <p:pic>
        <p:nvPicPr>
          <p:cNvPr id="2006" name="Picture 5" descr=""/>
          <p:cNvPicPr/>
          <p:nvPr/>
        </p:nvPicPr>
        <p:blipFill>
          <a:blip r:embed="rId3"/>
          <a:stretch/>
        </p:blipFill>
        <p:spPr>
          <a:xfrm>
            <a:off x="900000" y="2925720"/>
            <a:ext cx="7201080" cy="352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2:01:16Z</dcterms:created>
  <dc:creator>Administrator</dc:creator>
  <dc:description/>
  <dc:language>en-US</dc:language>
  <cp:lastModifiedBy>admin</cp:lastModifiedBy>
  <dcterms:modified xsi:type="dcterms:W3CDTF">2014-03-12T08:22:02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