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9.jpeg" ContentType="image/jpeg"/>
  <Override PartName="/ppt/media/image30.png" ContentType="image/png"/>
  <Override PartName="/ppt/media/image5.png" ContentType="image/png"/>
  <Override PartName="/ppt/media/image41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7.jpeg" ContentType="image/jpeg"/>
  <Override PartName="/ppt/media/image37.png" ContentType="image/png"/>
  <Override PartName="/ppt/media/image34.jpeg" ContentType="image/jpeg"/>
  <Override PartName="/ppt/media/image20.png" ContentType="image/png"/>
  <Override PartName="/ppt/media/image28.jpeg" ContentType="image/jpeg"/>
  <Override PartName="/ppt/media/image46.png" ContentType="image/png"/>
  <Override PartName="/ppt/media/image12.png" ContentType="image/png"/>
  <Override PartName="/ppt/media/image36.png" ContentType="image/png"/>
  <Override PartName="/ppt/media/image48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17.jpeg" ContentType="image/jpeg"/>
  <Override PartName="/ppt/media/image49.gif" ContentType="image/gi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  <p:sldId id="265" r:id="rId59"/>
    <p:sldId id="266" r:id="rId60"/>
    <p:sldId id="267" r:id="rId61"/>
    <p:sldId id="268" r:id="rId62"/>
    <p:sldId id="269" r:id="rId63"/>
    <p:sldId id="270" r:id="rId64"/>
    <p:sldId id="271" r:id="rId65"/>
    <p:sldId id="272" r:id="rId66"/>
    <p:sldId id="273" r:id="rId67"/>
    <p:sldId id="274" r:id="rId68"/>
    <p:sldId id="275" r:id="rId69"/>
    <p:sldId id="276" r:id="rId70"/>
    <p:sldId id="277" r:id="rId71"/>
    <p:sldId id="278" r:id="rId72"/>
    <p:sldId id="279" r:id="rId73"/>
    <p:sldId id="280" r:id="rId74"/>
    <p:sldId id="281" r:id="rId75"/>
    <p:sldId id="282" r:id="rId76"/>
    <p:sldId id="283" r:id="rId77"/>
    <p:sldId id="284" r:id="rId78"/>
    <p:sldId id="285" r:id="rId79"/>
    <p:sldId id="286" r:id="rId80"/>
    <p:sldId id="287" r:id="rId81"/>
    <p:sldId id="288" r:id="rId82"/>
    <p:sldId id="289" r:id="rId83"/>
    <p:sldId id="290" r:id="rId84"/>
    <p:sldId id="291" r:id="rId85"/>
    <p:sldId id="292" r:id="rId86"/>
    <p:sldId id="293" r:id="rId87"/>
    <p:sldId id="294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slide" Target="slides/slide10.xml"/><Relationship Id="rId60" Type="http://schemas.openxmlformats.org/officeDocument/2006/relationships/slide" Target="slides/slide11.xml"/><Relationship Id="rId61" Type="http://schemas.openxmlformats.org/officeDocument/2006/relationships/slide" Target="slides/slide12.xml"/><Relationship Id="rId62" Type="http://schemas.openxmlformats.org/officeDocument/2006/relationships/slide" Target="slides/slide13.xml"/><Relationship Id="rId63" Type="http://schemas.openxmlformats.org/officeDocument/2006/relationships/slide" Target="slides/slide14.xml"/><Relationship Id="rId64" Type="http://schemas.openxmlformats.org/officeDocument/2006/relationships/slide" Target="slides/slide15.xml"/><Relationship Id="rId65" Type="http://schemas.openxmlformats.org/officeDocument/2006/relationships/slide" Target="slides/slide16.xml"/><Relationship Id="rId66" Type="http://schemas.openxmlformats.org/officeDocument/2006/relationships/slide" Target="slides/slide17.xml"/><Relationship Id="rId67" Type="http://schemas.openxmlformats.org/officeDocument/2006/relationships/slide" Target="slides/slide18.xml"/><Relationship Id="rId68" Type="http://schemas.openxmlformats.org/officeDocument/2006/relationships/slide" Target="slides/slide19.xml"/><Relationship Id="rId69" Type="http://schemas.openxmlformats.org/officeDocument/2006/relationships/slide" Target="slides/slide20.xml"/><Relationship Id="rId70" Type="http://schemas.openxmlformats.org/officeDocument/2006/relationships/slide" Target="slides/slide21.xml"/><Relationship Id="rId71" Type="http://schemas.openxmlformats.org/officeDocument/2006/relationships/slide" Target="slides/slide22.xml"/><Relationship Id="rId72" Type="http://schemas.openxmlformats.org/officeDocument/2006/relationships/slide" Target="slides/slide23.xml"/><Relationship Id="rId73" Type="http://schemas.openxmlformats.org/officeDocument/2006/relationships/slide" Target="slides/slide24.xml"/><Relationship Id="rId74" Type="http://schemas.openxmlformats.org/officeDocument/2006/relationships/slide" Target="slides/slide25.xml"/><Relationship Id="rId75" Type="http://schemas.openxmlformats.org/officeDocument/2006/relationships/slide" Target="slides/slide26.xml"/><Relationship Id="rId76" Type="http://schemas.openxmlformats.org/officeDocument/2006/relationships/slide" Target="slides/slide27.xml"/><Relationship Id="rId77" Type="http://schemas.openxmlformats.org/officeDocument/2006/relationships/slide" Target="slides/slide28.xml"/><Relationship Id="rId78" Type="http://schemas.openxmlformats.org/officeDocument/2006/relationships/slide" Target="slides/slide29.xml"/><Relationship Id="rId79" Type="http://schemas.openxmlformats.org/officeDocument/2006/relationships/slide" Target="slides/slide30.xml"/><Relationship Id="rId80" Type="http://schemas.openxmlformats.org/officeDocument/2006/relationships/slide" Target="slides/slide31.xml"/><Relationship Id="rId81" Type="http://schemas.openxmlformats.org/officeDocument/2006/relationships/slide" Target="slides/slide32.xml"/><Relationship Id="rId82" Type="http://schemas.openxmlformats.org/officeDocument/2006/relationships/slide" Target="slides/slide33.xml"/><Relationship Id="rId83" Type="http://schemas.openxmlformats.org/officeDocument/2006/relationships/slide" Target="slides/slide34.xml"/><Relationship Id="rId84" Type="http://schemas.openxmlformats.org/officeDocument/2006/relationships/slide" Target="slides/slide35.xml"/><Relationship Id="rId85" Type="http://schemas.openxmlformats.org/officeDocument/2006/relationships/slide" Target="slides/slide36.xml"/><Relationship Id="rId86" Type="http://schemas.openxmlformats.org/officeDocument/2006/relationships/slide" Target="slides/slide37.xml"/><Relationship Id="rId87" Type="http://schemas.openxmlformats.org/officeDocument/2006/relationships/slide" Target="slides/slide38.xml"/><Relationship Id="rId88" Type="http://schemas.openxmlformats.org/officeDocument/2006/relationships/slide" Target="slides/slide39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7C3-4282-4327-B549-69844087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94F-36D4-4E1C-A6FC-F5D917E7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3E6DD-DA38-4104-B9D8-63930CFD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B6846-A96B-45E8-BC08-411F4B19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1DB9B-C494-4DE6-AA9F-08A52D75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2397A-271A-4142-A391-39EFBAB5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211B1-0B70-4E5C-925C-19AE5C11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E8E0D-1CC9-4138-A679-F0F6BAB0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D700A-19AA-4C5F-ADA4-5A1C48A7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A15EB-C167-43E3-9888-A0F3BFED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7797B-E146-4BC2-87CF-8AD29DCE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2763B-8585-489E-BBFC-A9A0EC49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0E6-E063-45EA-B628-5DF4E0B9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59C32-64CB-4F62-9C13-BE92A70E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87F70-3038-4829-8D5C-81B310BB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9DFF8-50FA-40E4-916F-E388D59F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73AF7-282C-4037-AD5E-F707855F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7F3F6-294C-4870-9441-ECC6854F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3E297-A0A0-439E-B153-CFF7BC96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6BC09-BF14-4CE9-A191-35D362F7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6B628-DF46-4D93-96FD-39FCA861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356FE-F236-4457-BCE8-D3AD6971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F1DA6-47CF-4A19-AA35-58DD6D65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AA8E-C9FE-4A00-88C3-2AF82832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A941D-F446-442E-B7C6-510F1BF2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266AD-9AEC-4117-BA54-684ACA0A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CF323-CDF9-4AF3-8898-081DA1D1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6EB7F-4EA5-4BED-8249-3865C24A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09656-C579-4EC1-816F-2C753451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72862-F1BF-422E-B202-63EFF0E1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EE023-D190-4E2E-A969-CBADB709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C877E-F759-4EE8-9E06-46F07AEA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9A7CD-BCE9-43B0-B797-8B22F5B8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EF656-05D2-4D80-BEAE-8CE6ACC1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C3BF-2775-4313-9F54-2DF0BAC1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B2F8B-1822-487A-99E5-9C2031BD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D4977-1483-478E-86A1-69BF1789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89C15-0B3E-483B-9C4A-A3FF7FB5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C3965-FA70-4867-9631-ED12B237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78CF6-4086-4550-8E9D-43518670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A7C8D-09AB-4D17-9F5F-5C284E26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F6997-604D-497F-8514-009ACE1B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3F692-A150-45BC-B1BA-FE6CDF06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FEDDB-22EA-4B76-A90E-8D16A54C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792BD-B697-467B-905A-1BE572CD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451F-1201-418E-8135-0CE2349A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4CE71-59F1-4040-BDC9-F890A53C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456C2-EDAC-4017-B4A6-9260B45C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9348E-8AE1-42A2-BA64-951540EB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DDDB2-0711-41B8-B105-14E44E80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ADF05-4C94-4260-A053-299F0941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90ECA-FBE1-48E4-86C5-C904FB02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370DC-F068-46F0-9A50-4AEB6003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720097-7896-4448-86EF-9FD18D26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8DF4B9-FBB2-4258-83E9-11143E13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0E8F7-2F76-4D35-A761-0434D77F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C553-ADC2-4CF9-9CF6-F69B9F2C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316A47-D088-4AA2-9773-D2D7B081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E1269-0365-4157-8C61-D01300A5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48C011-CE5C-4CDF-B138-269C30A1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DF313-7CE7-411A-BE15-5E3CA3AC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75042-D982-44B8-8E84-53674043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9D91B8-BA30-4C62-B10F-AF714C52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9E8517-5932-4D96-91CB-CE326A6C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56E202-AAA9-45EA-9331-680766A1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D5A122-5A7F-41E0-8688-0F0FC612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A3EA95-D2C8-41E3-9C70-519C0A31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05D3-F1C4-4A60-A55C-DA93DFE0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C410D9-762C-46FC-A7EC-7BBCBC8B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F5E479-064B-4CEE-A713-BF1E0275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F23068-4112-4C3D-A6DF-107DFF46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B7A175-A15E-4F75-880F-349A4879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41EC3-7864-461D-8955-21DF1319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AE407A-DCA9-4B1C-AE32-0DD41295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F9234-E1C6-46CB-A86A-74DF12EB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E9F8DE-2059-4EA7-B23A-D56B5F14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48DA9F-4C84-4FE5-BB47-AFF038C7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192E24-B9B4-4A0D-83CF-57C094F7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897A-4D74-4277-B11C-33775EC9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660AB-20E6-45D4-AA1E-5C0F3129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2EA9A5-24F1-4084-8567-63DFDA9D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AADFD4-63DB-4142-8879-848203FE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0D78E-7F00-44E6-B5AC-A8AD2222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CF21BB-8D1C-4D2B-955C-8BB9F94F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16EFB0-2E74-4FB3-B00E-3E61B31F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DB7D11-031E-4428-926D-22EF024B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6A76E4-28BB-420D-8662-F10EC249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FA4222-7395-4887-A85A-1C8D92C2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91572E-4B47-4D7B-90C2-98ED3E56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D182-3BCE-403A-87B6-E9BD24B6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53BC24-C188-4171-8932-D6B7628F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2F0F98-A9AC-4BD8-9141-6658E5F1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FBE703-3C17-487F-B7E1-21258E9C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7CE451-364C-4742-98B3-86C1CD30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3AE2E5-8F72-4454-8CA3-A27C1821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85A89C-32E2-4E26-9CE5-99556AC2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147EDA-357C-494E-940D-6559F331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B08B09-F334-4D3C-A31F-4C7CF4AA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83F6CC-88F5-47F6-A8D4-6AE90912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EBCF65-C90F-475F-BCE6-64D34E6C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327B-2A0E-427B-A132-B919D850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F7838-FCEB-43F1-92F3-8D09927D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E2E17C-A4F2-4612-ACDF-12A7A510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A998F5-0D45-4162-A36A-E7EC9015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5C7B45-0B8C-4F34-B51E-6DBE4151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93F29E-CBE6-4B47-A73D-BB127C00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C203BA-A8B5-49E1-B523-A93546B8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84EF85-B671-4138-8214-57B5FD31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1A9D44-A0BC-4801-8895-5CABF6E5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54907-4B9A-420C-BCC4-17CFE6F4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7C1859-E27B-4B3B-9BB5-84CFECB6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324D-3EA1-4D9F-8C1D-07CBFC4E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A2E7-D9DB-4CE2-876F-EA5BB3F4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466E44-9A0B-4546-B677-6A7EF010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03E7FD-8318-4A8B-9089-2C0F3B2F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DAB57E-7DF0-4C6E-A3DB-0130A384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C0EAE1-F622-4670-BD93-A504EC73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B72B6E-1D94-435B-A577-9E9F62C6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1FF172-AE8A-411F-8BD9-2EB45CB1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C472AF-F2D3-4F5A-B05C-9D7E9BBA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96DC94-5E4F-4EBC-99FE-DD12469B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D6563F-876A-432E-9A69-936D2F89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E97C10-219B-468B-B5F3-3A0BBCD1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BD44-0858-42E1-8E15-E5112402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3EF4ED-132E-433B-A205-CBF0CC8C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B85C1F-D5AC-498E-A2E3-F736D29F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AB5E4E-B3CD-4CA8-94D3-11DA1508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349424-1AA5-46D7-8305-DCD6486D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059480-6BF6-4E0F-968A-A0B322D1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3A4AC6-C148-414C-A831-983A1E1D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01A39A-5EC9-4B59-ADB1-D6208075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66D082-5EC6-4F95-8A9D-07507584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B95184-33F4-4626-9421-5A3AC4B2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035310-EF62-41F9-86D7-EA83CF03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3A15-1215-4BCA-ABB6-82BB3FCA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02F61A-2D4C-4F1C-8F79-8600B3D3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0CA223-1A75-483D-987B-F2E3C8ED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138A44-B2FF-4C7D-8860-F66F6783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8373D5-8D5B-4EFE-B08C-922E1CAC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122F03-6B99-4197-B5A2-FF39E4A7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3A34D6-2F8D-4F58-AC9E-DC2787A9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D8F3C2-1A2D-460B-9DFF-7D1F2319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6F58FE-F1F3-4427-AECD-A7C70454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22BBE1-E3D8-4A14-88FB-DAC96AF4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394744-9549-400A-AEF3-18717A11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EF74-BD58-485D-930D-DF893593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0545DF-1E87-4816-81D0-18AD5FCD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82C15A-DB87-40AD-8FE2-9F1B577D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263759-5F26-404A-A31A-AB48BA85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DDA56A-E6B0-4DAD-96BD-8F5D8CA5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D01D67-B999-44E5-A659-5045D805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595D18-42BD-4351-80F6-C3D631E9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8FF2B0-B18C-476E-B3C4-548A46AE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3BA269-8997-4AD6-B69E-77341964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1CF2DD-897B-4869-8205-6CEADD21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133E84-936B-4DC4-BDF8-6FEE2E0A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8AB7-C4E1-4DB5-BB38-2F58F073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29E610-A164-474B-9EB8-D616B9B2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24BC78-030E-4A0C-92CE-B8B6CCBD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2AEE73-6D49-4504-83AA-D7FADC12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6BECBE-A35C-48DB-A1B2-42EA9C24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0EA07F-5F0D-4D6D-88B8-06221FB4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1DAE58-43B8-415A-ACA9-EE3BB951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B07C3B-6124-4ED2-9230-09050387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FC7014-7438-43B0-A876-3ABB5EC9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270112-E255-43F4-A134-1990EFC3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FA14F6-0820-495D-9EF1-99A910E2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7FFE1-064A-46CC-8571-A0A5A44A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4CA932-1D6D-4688-B8A4-A5220B6E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D57B1C-154F-43B6-811D-A2FF7AFA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E54FAC-2230-4203-841D-AD6B27BD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7B91AF-F8DA-4B39-84CC-C5553482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048708-B239-42AF-BD4D-02AA94BA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9F0AD4-AADC-47EA-9F3E-7EA45A88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CA810B-B658-4415-857F-1083628D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3AF7DE-6C61-4EAA-96DF-98FB2C29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425642-7B13-4CE8-B35C-254D8E81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6BFFFD-E894-4BAF-AC87-DF478B23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2E228-7732-4C23-A9D8-E73BA908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E13EE0-8E49-4683-A57A-226B5F1E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E8EBC0-6B83-47EB-B501-591A79DC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EE5E4D-08D5-40C6-954C-E4F9B895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621B81-9430-40DE-810D-B17C6910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838214-B3E2-438B-80D9-2BF7F562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6FEFC3-A142-4CD0-B166-F17E71B3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B68E0E-EFDB-49BD-AAE7-AA68D592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55F655-7B89-40FD-8F84-3F9102A4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7C944A-2317-4431-8C90-680BD78C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7D6C43-E24A-46D7-AB64-EBE2D865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0577A-5A25-4768-8A14-F63919D4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23A838-73B3-4F61-9270-059FA6A7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5FED7A-8F9C-409D-B933-A7992185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04002B-F2C5-4C64-88E3-3A0E8C4B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68B193-A9BD-4ABE-84CE-BA6BE6CF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6C3472-8937-40AC-A478-01F3B481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3B71C8-A783-4C0E-AD9B-12DF0D29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CD1440-73AC-4747-B057-F19B6B22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589689-9B0B-4007-B987-6949A423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7CCFC5-A0A0-49E3-8368-93A41E1F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E99263-8CB4-40C5-B8F1-A57E7B2A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B61A6-659D-423A-AD03-35BD0D71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35E38F-84E7-4924-A04E-4574EE2C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E022E6-10CB-4B11-AB94-DDCA0F83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CDBCF2-B9EF-48FA-B939-00545723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3EB7DC-548C-4AB7-AA04-7C74ADA7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692617-08DF-49A5-860E-891B8E3E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8E6F5C-FFA8-400A-93E6-4E0D7D21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96F88A-0973-4BA6-86A4-39A93E7F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407655-75D0-4E06-805E-97D572F7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33D139-78A4-41BE-BE31-D3E0B8C4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43FEFF-B76B-4E94-84B4-A09EFD95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D7EF2-D871-422B-BEB5-17463040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983E1E-9BD0-4AD4-A1B2-632B2EFE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854A6F-126F-4608-B04B-74C142DE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403975-4C97-45B1-9E72-FE602EEE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BBA7F0-7D16-4D6C-AB4C-4D8E80ED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F79120-8E4D-4D10-BF92-9121CDC8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E9B516-3C57-47E4-AA60-37A28397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59B25A-33D4-452A-8B87-9BDE25A0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A7B348-0111-4697-9AE1-650B48A7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105220-9AF0-4363-8EFC-74F8C474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D86E7A-E567-4F96-8AF5-BF214FC7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ACB-158B-4042-9125-FBDAE997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DA0CD-96F3-4A1A-89DE-FD568342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F5E2AC-8207-42C2-A55A-C8FA2BE9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0C48E8-D5A0-483F-9E50-F78BB608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B73E0E-6320-48E7-82BA-7D0693C9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1AE2E8-09C3-46A7-92EC-4AFB3A52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BCCD0C-6DB0-4B51-977D-0CD5D39C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293408-3308-429E-8443-93F6AE81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454E2F-423F-4B13-A72F-CE274668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8D1557-628C-47C1-87C3-01FD1B40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E8F8F8-B64A-4D4E-801E-9134BBA9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06C3E8-077B-4A4C-BFB6-F4A967F5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0F688-1672-44DA-BD45-D3A5A978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7F5AE5-B01E-451B-919C-5CEC6BCB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90EF3E-B86E-426B-839F-BB514028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CB4C80-DF03-4605-B36D-5241AB39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2374A8-79F2-48FC-BA4F-08CAD8CE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D65125-A02C-4BB4-B605-D6D9F7B5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69318E-C0FD-4345-87E3-38EBEADD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0DD5B5-CDED-4B07-8741-CCF9F55C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A92DE0-0B18-425E-B6A6-ECC9B974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C46CBB-7E56-4673-BC4A-6393BAAA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F3984D-2BD6-43CB-AB55-9EA80559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21D84-D68C-44AA-80C9-61AA974C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7DBDE6-F6AB-42C9-AFE6-A774D071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343156-12D7-4A01-9A58-C6DBBD5C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13AB9A-C742-4565-B16E-4781966C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9620B1-DFF6-4568-853C-349E3636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027F48-43B2-41D8-909D-F75B8C3B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E6B16D-3965-456E-983B-DA9FC059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0234D1-9C50-4CA9-A1F7-8F16D845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9891E8-F905-43F0-AD8E-D344B959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26D484-4D90-4B5E-B9E2-48496FCC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638550-6456-49EF-8A02-FA7E9BC3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2E4A6-D9FE-4494-9824-293B576B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4C90F3-6274-4815-BA19-34BD73A3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C296BB-07DF-4AF4-9A9B-CE3C4BA7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785815-2674-4947-AC8C-3BFCFA7C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21E035-32D9-46D6-B0C0-A01AA63E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3F490D-966B-4253-9743-1D152CA0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F657C1-2EB7-4266-BDE8-45896F7D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433B14-A36A-4D66-836F-782A278B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BA8B60-37E2-4504-AD25-DA9FF512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1BFDBF-E268-4F50-A831-1C0E42E0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620FBB-2F0F-4BAB-9276-057B4BEE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DF7E7-E081-4214-BE65-FC6360D6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AF9A6C-C50B-491E-A708-5EEEF558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E1842B-7D0C-47FE-A1C9-3C4CBC7A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6A7210-36BD-4606-9547-F20F9561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633B6E-7F76-482E-9584-77E87B50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782241-4605-40AE-A411-1D6E9DB8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327ACB-73F7-4EAA-B0D4-82E76AFC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6B8E35-9B22-4745-9E48-422B1782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1246C0-6BF9-4A76-9DCB-BAF2308C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1AB0C4-564F-4AD8-A278-9967EDEE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4F44F3-37EB-43CD-A212-5C2B9448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FC1E7-EA1E-4AFC-8E61-07F171D9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B461D8-4588-4E5F-9E6F-4DFAABE8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00558C-8BFA-48C1-ACEB-1709B6F1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9EAC0A-F4A7-45FB-B7F8-7832E884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BC390B-E587-4372-8C9B-7B56160D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A0D005-CD21-4A46-BE06-80A13E26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290254-8480-44C5-8BAF-86EB32A7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09610B-D460-4F08-A4F3-299DD588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1C41A8-769C-4591-A7CE-DB54D63F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DDDE84-DC44-4837-A426-A0343905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8B9336-9A4F-494E-8BA1-F8A8FB9A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EA320-D333-4A34-A366-33D7AD7F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8E6734-D9F2-4A22-A762-87200371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E79AB2-51EE-49FE-BE0E-3657FF80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54409F-FB2D-4F6E-9378-FD4B745C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7B84CF-1693-4242-A304-B4A9C544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E7D45C-EDEB-4248-86E1-B422035C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03A254-3C1C-4F27-9F55-496039C0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D6729E-8DB6-42EB-9DC4-615D95D6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A5F0AE-69E1-463F-AC1A-279C585E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720E7E-D626-4ECE-AA01-243CCF64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C635D5-ECC8-4FEB-89E0-40266E6C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7B49C-B6FF-46E0-B7FF-3D3B3B38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3E7C85-BE2F-4A33-B5FC-4F9140A8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78F27B-CD7B-40B3-A754-25F8DBED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ECBB75-E239-4DCB-9C50-75575D52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2B9784-97E9-4A11-A32E-1DBFAA33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379737A-D677-48EE-91C3-72B30585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970CE1-61E0-4545-B3BF-EE34705F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AF6ADC-A07D-40EF-9A75-926B636D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CD23CA-5CE5-4F28-8F45-F63AFAF7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C7E2C5-6875-4573-9D28-5192654C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C4F95E-A47B-42E7-BD50-A5DA6BF0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2473E-6E39-4963-8BFB-EEB49204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37F10B8-DAEA-4E4D-881C-3AC4ED1D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42DD8E-AD88-470D-A25D-E021AE01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59CCCC-4E8B-4B5D-ACCB-9D3B43CC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2AD6AC-D9E3-4E19-8C5B-6BAADB36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502457-475B-4D26-A6F3-47688DB0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8CA302-6DF4-4A23-BC60-58EE96CF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B2F9FF-F520-444C-A3CD-72A08DC2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4B88F7-A53A-4132-B2E1-3B607217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08A67E3-05D6-400E-87CB-374DB7BE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48EFDA-33D2-4A64-BAA7-7FD59910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F7877-DB5E-4C04-8FF9-A6BCEB65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3446155-D179-4198-8312-BC568C4A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5868BC7-C257-44AA-AD05-A4445055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0A3E71-1047-4290-B3BF-67CD94DD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78A42D-4E4B-4BF7-A1C2-1FB164C0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B1086C-F1B9-4598-8A85-9DF9267D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1389ADD-2DE6-4BAF-BC09-7BD554B2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DC3E72-60CA-46E5-9ADE-F9C876C9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E18C15D-0556-4A40-AC0D-5962F5A8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92FC869-B3E8-42AA-9860-97EA7B2F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D1A7ED8-AF22-4EA7-8B2A-779E7F11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1749-8D2F-4B45-AC0E-CCDCCEB0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66C3E-5530-4CA9-BBF9-355534B5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8774BF-ACBF-447E-9E7E-C41F94A6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AFC41F-8B3E-432E-86C3-07B33027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389D9BF-F441-4C00-94BB-73F6E8BD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660AA5-5A54-4F5D-8A92-DC48813C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F9001E-3F6F-47E2-8112-196994F7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B3D4FC-FA7D-443C-AA18-F9BC7AEE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336B47-C991-44E1-BBAF-9AEAED30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6603BE-0E43-4D14-9795-3C10D555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D87BB25-8753-465A-89DB-021F2A55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8D9E90-0BB5-4F5F-86A3-22693D6A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6F18C-79F7-46CC-AA64-D790C29C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8D7235A-8040-4FAA-925A-F7CB834D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463B55E-0573-4454-8216-7B19B039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D130B8-03BD-44AB-B5A5-6B9B0864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A8206F8-B76C-4408-B3F2-6124EB73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547345-FFF6-43C3-AD22-62620DFE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20DACC6-0119-4963-9985-9BAEAC4F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BB4AACB-DA21-44F9-99A4-D51E86E1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C0D104A-02B9-4F14-AD5F-FF175313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CC686E1-5B3E-4F15-B0BD-F06621F4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78B6104-BDF3-4E93-B634-66133803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3A3EC-54C8-4292-B009-4DCA2370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CE5B937-6BF0-42D7-98CD-BC302860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1405C9A-F108-49C4-8A28-B6FCFFE0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8D61438-D38D-4160-AD38-2335C946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EBF364-836E-423E-9311-39764792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F78331-EA2A-4C80-8B6C-0401D6A8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7F976A-AECF-44CE-B507-A76B31D1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B98698-DB05-41B5-B74E-784A0EB2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3F7D634-2A9D-4D75-85BA-25F08433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6822198-1DE3-4D86-97E3-B704C292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CEE167-F323-462F-A002-6D132E69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A0F75-2267-4BB2-901A-1C01065C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BEB450-D4D2-4CF4-81FC-68BD6598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F2613BD-D9A5-402E-9F53-11E4927A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9552CC8-0660-498F-8F4B-59AE4CD7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72BEBC-AD66-4380-B9EA-3F92FECA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F0112B-ABFF-4C46-820C-31196484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ED2A786-5324-4469-A7DF-035EB82C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A312339-920B-4DCA-9189-9EC1A9B6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56D681A-6DE3-47FD-874C-F1EB60F7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CEB10A1-F057-4E8B-98D5-BB42F707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1160694-BCB6-46EE-AECB-A9C08276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E632C-82D0-498A-9108-558468AB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DAD6253-EACC-46FD-B781-679E545E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0F313D7-08EC-4160-A04E-0769C52A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5988AF0-9AEE-4AAA-B998-A1F2635A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6A007E-4C61-4433-BB7B-D98960CC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81FAF1C-0C7C-47E5-BD9C-DADC11E1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EE5EBF6-0808-412C-8253-BAA33244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1CB685F-48FF-4745-B12E-B61A7E01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A8DE256-9E55-4719-85B9-511D00C2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9932EA6-45C8-4779-870D-3EFC3BA6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A54A578-6677-4492-AC47-48C56B61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67909-120E-42D9-9187-8814623E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53ADFE5-072D-4C71-9F44-C124C506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8C8E90B-9B08-4E10-B4A1-80C0CCE5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8E6B6E6-6E79-4F57-AB99-93F9705E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B72625A-EAFA-440B-A52E-FD3AA495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A10AF80-C48E-4CAE-A2E6-279D973F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E2321F7-51E1-4CD0-8BB8-0B959906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F34A589-2BEA-4600-BBAE-4A89D969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A107E54-9476-4E2D-8D71-A8B67132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813B2CA-A5EC-4EAF-A77D-6B248F8C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062BCD0-CF6C-4E20-A9E5-669A91B7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23EA7-3292-455D-B166-12A3905D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BEEB909-400D-4048-B859-FEE97DF6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36D5A50-BE78-49BF-A2D6-282EC152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3920FAD-A79C-4115-BC51-9DA6A90A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92AE982-4DD4-41BE-8942-A91FBB89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8FDABE5-2543-4278-8DDB-83F6BD2B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C01901A-810A-4D1F-80A0-2763EFDB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0135DFD-8009-4D46-8D88-00977AF7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A7468A3-DC7A-4982-99EB-6FE03504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C39BD9C-1F75-4E6B-B792-F0C6B301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D26D93F-7B8B-44EC-8CCE-61E7E32C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99EAF-49E5-48A9-904B-35F7509C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A4D4328-53FA-440A-A779-9E4206CB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ADD0ED7-62FB-4BD4-91C6-191BBEBF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9F52E0A-3571-4A7D-AECE-F301E002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7E5643F-4BA8-45E4-B9F0-5A8E000C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A12B22C-A52D-48F3-9AB2-02A1B5D6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FC771BC-E88C-4A07-A429-16970260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07907A7-9C0B-4307-AC38-D38E98DD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7331C20-F2C5-4622-95E9-9C86F8FB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1DA993C-C433-4F34-BEC7-925D816B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F0D5E6E-59D7-4C5E-8411-7FC6EEA6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B6B86-B117-4C36-ACC4-9110881B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B5D46DD-95D5-497B-A6F9-5472CCE3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9B1552A-E326-420E-88D2-366832FF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6002442-E76F-426B-BA69-2282B90B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C04464F-5E19-4A93-A1D7-A7988869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BB946AC-E04E-4D51-A6F0-DC1B61C9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C5F6803-0EDC-4477-944D-7A2DB0B7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21475C5-C8A5-452C-93F2-A6B5333F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28FC4E8-9148-4D7D-983C-750279B9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639F3D6-43D5-440A-A0BC-D74F45E1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1DC89E4-ABEE-474F-9DDB-75A80276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48B4E-8770-469E-B1A5-DD1A483D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3C79096-CF9A-4892-95CE-0248D340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6E70CC8-E99B-4CA9-9DFD-6830F986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1F23811-2F43-44C6-9DA6-0B19F41F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A0ECA36-0202-4964-81F1-58A39E87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85473BC-D284-444D-AA41-9523B096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1312254-F97A-4DB6-B64F-62B133F2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650ADCB-0ACE-4452-8CBB-BE0C35E4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297A478-C7F0-41E9-91D4-123AB7FA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4FEEF5B-95EB-4B6B-905C-D8E319E9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D39D440-4CCE-4974-AB45-84F94A44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6BD-D6BE-4836-A54E-D3D70C91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444D8-C46D-4801-8747-7171ABC5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CC64BB4-53E2-4F08-BE83-3FB92C31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E566363-B0CC-43FF-B8B7-748F3A43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CE13084-7838-420A-8671-4A402722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74C84A3-1A71-4F0A-A8E4-0F34FB06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23A934F-D6CE-4BA9-A7A7-6B4DBC6B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82826D5-EAE0-4273-BD33-AE028D74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EA41EFB-0B21-469F-9892-987D9756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F164256-CD05-4340-899C-7A4CAFC2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1D1DC39-9F64-43DA-9D0C-BCE48575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78CBC31-1E35-446E-8A68-DDBA265A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9C483-F333-4E87-A810-8D89FFB8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DB3DDC6-F3D3-4E03-BCA1-DACEBD6A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C6D090A-4EDA-49FD-A609-70D939C4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3CCA05D-90AA-437D-84AC-DF16E39B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53022E5-A687-490E-A6CF-CC26F36E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A3486DF-2C72-4FCB-A335-B0A5CD5C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1ABA941-C2CC-4B47-A001-05FAB980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3A81729-E0C3-4B8D-A760-72D8B828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E0CBBFE-E2A8-43F0-A65C-017AB37E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F926B05-B5DC-49DE-AC6E-2874FC27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78BDC1D-C197-4BBA-BBA8-1B183AAB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6BC85-DBFE-4587-86EF-6E01054B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0DA3F87-2669-488A-9424-7A598679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62C019E-CCE7-44C2-BF3A-3FD811FC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5D61A3D-C7D2-47B2-962D-5CD1DDC6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C232BC0-2B3B-4105-8866-D1FC1E9C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5EFDB0D-0A91-4746-9B36-921C2BDA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BEFAACE-D69B-470D-92A8-5C2C80FD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9A49ECD-902E-455B-B6A5-9D7A48BD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71AA847-2B1B-4D83-AACB-25D054B6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E25F28E-C204-44E7-8FB5-4353AC23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FB369BF-D2DB-4FE0-94EA-CE28493A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71D3A-1E79-4D8A-B550-8C5065A0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CF139B1-DC69-41D1-9233-74E327DC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8A14EEF-E5AE-4EF3-953B-5D38C635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CFFD968-1676-43EE-8B7C-252D1B6B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5D2F603-ADAC-4278-8A3B-D3FEE00E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C5D89C8-C313-4D3F-B1D9-397BCC27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89AF6FD-54D3-4705-BBF8-F9B6AAB1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0D42BB6-D7AD-4C41-9C96-87EDAB1F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B751CDC-9B62-4282-9A54-91EF3E5E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3354CF1-D649-46BF-8012-7551B71E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7DCC6F0-246C-48F8-8912-D11BC1F1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4AF63-342B-4743-9164-9A1510B2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238A2A9-DDB2-45C6-A0DF-4506F6FA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F8C750D-7428-4CDA-9E9B-2FAEB7D7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25EC40E-717E-4D77-A97F-41E50CB5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1F93282-7364-4BE6-B2A0-A027C6CD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9D58CC8-FD8D-4F8B-915B-DFB0E47B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5F7BB2F-D5E5-48E8-A1E2-BA9099D9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22D4044-2253-40D7-9F29-88D77452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834DEF2-3F8C-4D82-AB30-0CB37474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5A7417D-5E7A-4A26-A502-48F52F49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1983221-E842-4096-9551-6874E4A3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051C5-E692-4133-92E7-ABFEB4D6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170222A-274D-4CB8-8EF1-B1B2AF62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8195E05-92B0-4FAB-AB14-D5AAC6EF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11F8FE5-2399-49C9-9982-3CF812C4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C4FEC60-B8F5-4144-A9E9-14F39CFC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F08845C-C5BA-4D71-9113-49FACF9F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66992FE-EF27-4B8B-8DCF-33769817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DA9CA69-C355-49E4-AA38-B4CECA59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F9FC501-5F8B-41F4-9170-7DF25FCD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028A8F3-8401-4F22-8A1B-80835D9D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59B97E1-D7DF-4339-9E9C-28ED2962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BEE6C-4252-4231-9C87-5E307846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698DFC0-5F17-4345-B05F-CEF8C83E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C366B36-18D8-4C35-A751-03F6C9EC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04BBD7F-9A2F-4BE5-BCB4-5586B36E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2FF8AB9-416D-401E-BC15-34CC3883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D172661-991E-4C20-9562-BDEE9A10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D6ACBD6-BBDA-4DFA-819B-B1B0FDEE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6411300-4CC3-4E91-B0EC-884F94C9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10B2000-E40F-4067-A5E8-7CD2163E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C826A7A-EE23-4F30-B271-6DE2D2A5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F855C2E-2641-4FF7-95D0-BFB43CD0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EC663-6460-4D18-8D05-C30E506D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96752DC-A89D-4942-A19D-BCF9DBB7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0136315-9B9B-4996-B6A6-72E137AB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418F3D1-1454-4847-88A2-2EAB945D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F3C5840-CB5A-4D39-8827-A7C6E428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0BAC545-8155-46A1-95D4-D3D7C4B9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7E17F2D-9BFC-43F6-9346-697DF2F4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82A41A8-C9D2-45F1-897B-D7BB19B3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E6D34-5E0F-40D5-B57D-08F5AEE3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3D5DE-C256-4338-8F57-E7B74915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64D-3100-4A4A-8B44-4CA6BADB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DB281-D262-4FFD-8A6A-8A945591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6BAC4-527C-4ADC-8E8B-A7794286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FFDA8-388B-4FF6-B100-3B388956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4067F-8F6E-48FE-B527-585F8D4E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A3D7B-6613-4289-A087-56305DEC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0E1F7-204A-4C8C-8003-89477C4D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DD8C9-E0E3-4B66-9E0C-0DD87238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B4D58-E3F8-4159-BA65-408960D2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FC8EB-FAC1-47A4-97DB-527D1DA6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FAB1D-A52C-4F25-A68D-246847D5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2B0-095E-4BCA-8D32-ABE8D954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13595-6080-4454-90EF-21DA8950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7CD82-26E2-4894-A56D-BE92F7B9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F5D99-DE56-40D5-A3C3-41AB3883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D773E-8D50-40B9-BF24-61166396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F196B-0430-4AB2-8AB1-FAA56828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9A614-C9FF-46ED-AA4B-2FD74B18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CA385-E997-444C-AA5C-302AAD49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1D767-2BB3-41F7-8FEE-66F41488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217C2-52C0-48CA-8BF3-F7ACCE04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F1FC9-9D1A-401A-BD76-83EF6096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328-0E17-4D74-8AB5-4BC87308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E2965-ADA8-4558-9C5B-41EB2117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F6AB4-75C5-42B3-A64A-F161481D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F05C2-DC6B-4524-A17A-BDAE4259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4C0E8-E386-415B-A2DD-4BC8C5B9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17C6C-46A0-4A53-AFB6-A576E446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D724B-FAEC-4E8A-9870-3FFE4BC2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24150-1C00-44AD-B2A1-5554F16E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5AD72-D56C-4C86-84E7-E1455C70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61A0F-640B-40D2-B7E6-81EF8A02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F5C8B-64EB-4D29-992A-797CE14A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2008-808E-483E-8D17-1B3BB08A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40824-D331-4AC8-B4BF-78BE8B40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86EE9-2724-43AC-A80E-F3EC7CF6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3C994-2A76-46FA-BF58-87E41506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D0F49-5C13-48DB-AC0C-9C84E4E8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6FE99-88B7-4B20-8077-BD595A34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2EF94-3750-4874-AA4A-1970A89B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439F8-5A36-47B3-9C33-F4D95D1D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63EEC-517F-4270-B5E2-08030336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6B87B-7F07-4870-9048-E32A42C5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1F032-BDB0-4D67-B39D-E783A9E7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4461-02F8-4FBB-8FC3-98817D1BD7D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29E1-31B7-4890-99DE-E3E8963C6E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C222-9D3A-45E1-B6AA-8611CF2AD10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EFDB-0778-44F1-A521-C2B4FBA74C8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7F75-B8C6-4BF9-8E5C-97D7C79294C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48A9-7D98-4E3D-A061-303735275E4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6170-A1FA-49FD-A687-631C79823CE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B2E8-8991-4398-9D2A-42706AF4AE4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A0A9-29E7-40A2-832C-BE9C5B50339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2683-3108-4849-8A3F-EDBCD1024E1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94E2-6FCB-4A02-8317-E381F541863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E68A-2952-41CD-B741-B47F2938E22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51B4-86BD-401A-A550-DA21A84A978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42D8-34F4-4C55-A04E-06F6BEAF3BA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61E6-E379-40C1-BE98-7F93B948250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CE28-278B-433F-A3B1-EF41768019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55FE-2A7F-43FB-81EC-BC040A2F3A4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9C3F-1133-404C-B427-A56B535697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2610-0DDF-4C01-8686-F0C3A239AA3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1C84-05D3-46D2-BD5D-E492B71A4FB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01E4-DF50-46A4-B920-79261C9CDB4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E562-D3BC-4396-BFFC-919E375B4BE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3F1A-D88A-47E0-99B2-AEC82590ECE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741D-E8D7-4184-9208-A51896EC55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B385-8975-44BB-9A46-3C64273C279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AB94-FF59-4BEC-B634-5864201F5E9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B827-5198-44A1-9983-EFD90831D70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606E-55AA-4720-9D36-4A3DE5C26A7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212F-8AE9-4FBB-8889-E62473A2229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0F8F-6ACE-4CF0-B502-F1055F669FE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04B7-B187-4DFA-94A5-3798B766446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D5F6-CE97-4007-95FD-4ADBF1DE85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56C6-3FAA-4C3D-800B-716EAD40722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23D8-5DBC-4CBA-AAD6-01F6B106103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6135-F99D-4C5B-95EA-0FBDFA7FC31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1761-785F-4DC1-8AAB-A7D046A027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B84F-AC29-4A48-BFB5-4EA8BEEF189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F110-DF21-4514-AFEC-E8745B03CC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52F0-6345-4A4F-8D89-6B86AA4BEAC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8FF3-E5B7-4931-B24C-D9E68111F89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511D-AD7A-40BC-8ECF-3535439551A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301B-B02B-43E7-B6D9-DB9A4F9CE98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7AB2-898B-40C2-9CCB-52F10A7E6E1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0D0B-FB10-4840-8BEC-F43C8FD478A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5249-C9E1-4A75-A5A1-4F8C6D06B42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53DC-40E3-4EA6-B761-E13A486075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0DDD-5E7D-429A-91E8-4945F79D006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C167-FDD0-486C-A508-4F898EACD24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021F-F56C-49A3-86FB-187DEC08C13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AA7B-70FE-4064-8399-BDF6DB4192A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8C6F-15AF-4E4C-BDBE-4E56AF6F0DF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C8AB-A9E5-448D-B1AF-464C5134D1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155C-BF72-4A1C-A091-3B0B286D1F8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A1EB-E5F7-454D-8D5C-B9F186DB0B1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1671-51D4-4ABC-A30E-BD359441E1A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F533-9EB6-4A22-964A-0F0D7ACF781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EA2A-3C93-432A-B307-9E287978F1E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4981-F270-4952-80BD-2322F9FE4B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3908-B82A-4EDE-A680-217123FB2DD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5EA7-C2B9-4A2D-B5DB-BFEC96D3878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1B2D-97CD-4C77-9830-9403806115E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661D-712A-4EC8-A227-7EC89B15AD8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3E3B-5F31-45DF-8DC8-E2AAC7AD9DC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8DD4-735E-44D4-9F7D-BB6D93CCF74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6B00-47BB-4F23-B185-380261134D9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DDA1-4443-4C2B-9837-A14FEC2060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73B7-000E-4ADE-ACB7-1FB65AB9E2B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47B2-39C8-443E-939C-8B09C05F68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548F-2A3C-4B69-844E-01E7DEA35A6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D814-3FFD-43A4-804D-E3B53018FA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BAFC-B8CC-41BB-9443-4E43423D6BE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D642-5E68-4212-A66A-5A57ED19F27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B455-1EBA-45DC-BDCF-F09B60E921B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4C28-8152-4F7B-9D7C-D0C88AA278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8304-1EE5-4733-BE44-D4B3EC01F88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C856-5D6B-486A-ACA3-61337D3FA01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BBC7-C8AB-4149-954E-6AEC2B6D2C3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01D9-B5A8-41C2-8CB5-2161C1656A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FA13-AC8E-43D0-9B66-4724D6B4B31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9BEF-67CF-45D1-A325-421BC7B279A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2641-A34D-4943-B678-C5C0BE2A7BD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C30F-F548-4E13-ABFE-08E4050D699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7045-4414-4EFA-8C03-5AC5D9B4B28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2770-B2D1-4FBF-904E-58999F243C0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B7FD-3DC0-4804-AAE9-331122E3C8D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4145-15F7-418A-B962-B98265AE60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0B87-910C-4371-AAB9-2FC9EA2BEEE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B361-C4E9-44CD-87EE-3696B2F66D3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DCD4-7AF1-4C75-ACD2-08588276B04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963E-BA29-4539-ACA8-C963F677816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E7D7-C99C-4765-AD1D-1859EC08755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200B-04B1-4A31-837C-5DEE346109B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0C19-00C9-4829-B9A9-5DFC1ECF560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2E34-CA2C-414C-BF53-4EAB417BA9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FF2F-D08F-4542-99D9-22C732C3C15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73E8-23FD-4A08-B713-73943B5940A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25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9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5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5377-8095-4647-A7AD-A52493E560F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9" name="Picture 12" descr="M.png"/>
          <p:cNvPicPr/>
          <p:nvPr/>
        </p:nvPicPr>
        <p:blipFill>
          <a:blip r:embed="rId2"/>
          <a:srcRect l="0" t="0" r="22620" b="0"/>
          <a:stretch/>
        </p:blipFill>
        <p:spPr>
          <a:xfrm>
            <a:off x="4500720" y="3543480"/>
            <a:ext cx="4643280" cy="331452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9" descr=""/>
          <p:cNvPicPr/>
          <p:nvPr/>
        </p:nvPicPr>
        <p:blipFill>
          <a:blip r:embed="rId3"/>
          <a:srcRect l="23547" t="21617" r="0" b="13554"/>
          <a:stretch/>
        </p:blipFill>
        <p:spPr>
          <a:xfrm>
            <a:off x="214200" y="2511360"/>
            <a:ext cx="672624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971" name=""/>
          <p:cNvGrpSpPr/>
          <p:nvPr/>
        </p:nvGrpSpPr>
        <p:grpSpPr>
          <a:xfrm>
            <a:off x="155520" y="3479760"/>
            <a:ext cx="3529080" cy="947160"/>
            <a:chOff x="155520" y="3479760"/>
            <a:chExt cx="3529080" cy="947160"/>
          </a:xfrm>
        </p:grpSpPr>
        <p:sp>
          <p:nvSpPr>
            <p:cNvPr id="1972" name="Rectangle 7"/>
            <p:cNvSpPr/>
            <p:nvPr/>
          </p:nvSpPr>
          <p:spPr>
            <a:xfrm>
              <a:off x="347760" y="3564000"/>
              <a:ext cx="332244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Text Box 8"/>
            <p:cNvSpPr/>
            <p:nvPr/>
          </p:nvSpPr>
          <p:spPr>
            <a:xfrm>
              <a:off x="155520" y="3479760"/>
              <a:ext cx="352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8e1800"/>
                  </a:solidFill>
                  <a:latin typeface="Georgia"/>
                </a:rPr>
                <a:t>www.mendeley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4945-8B25-4FAC-9AF4-44013551E21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8" name="图片 5" descr="网页添加.JPG"/>
          <p:cNvPicPr/>
          <p:nvPr/>
        </p:nvPicPr>
        <p:blipFill>
          <a:blip r:embed="rId2"/>
          <a:stretch/>
        </p:blipFill>
        <p:spPr>
          <a:xfrm>
            <a:off x="214200" y="1143000"/>
            <a:ext cx="8643960" cy="448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D576-0C4A-4D70-9927-4670E170F7A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46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监视文件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监视的文件夹：此后下载到此地的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pdf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文件，都可以自动保存到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mendeley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的列表中，并显示时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2" name="Picture 4" descr=""/>
          <p:cNvPicPr/>
          <p:nvPr/>
        </p:nvPicPr>
        <p:blipFill>
          <a:blip r:embed="rId2"/>
          <a:stretch/>
        </p:blipFill>
        <p:spPr>
          <a:xfrm>
            <a:off x="179280" y="2709720"/>
            <a:ext cx="2843280" cy="1800360"/>
          </a:xfrm>
          <a:prstGeom prst="rect">
            <a:avLst/>
          </a:prstGeom>
          <a:ln w="0">
            <a:noFill/>
          </a:ln>
        </p:spPr>
      </p:pic>
      <p:pic>
        <p:nvPicPr>
          <p:cNvPr id="2013" name="Picture 5" descr=""/>
          <p:cNvPicPr/>
          <p:nvPr/>
        </p:nvPicPr>
        <p:blipFill>
          <a:blip r:embed="rId3"/>
          <a:stretch/>
        </p:blipFill>
        <p:spPr>
          <a:xfrm>
            <a:off x="3132000" y="2120760"/>
            <a:ext cx="5837400" cy="4550040"/>
          </a:xfrm>
          <a:prstGeom prst="rect">
            <a:avLst/>
          </a:prstGeom>
          <a:ln w="0">
            <a:noFill/>
          </a:ln>
        </p:spPr>
      </p:pic>
      <p:sp>
        <p:nvSpPr>
          <p:cNvPr id="2014" name="AutoShape 6"/>
          <p:cNvSpPr/>
          <p:nvPr/>
        </p:nvSpPr>
        <p:spPr>
          <a:xfrm rot="2340000">
            <a:off x="1547280" y="4941720"/>
            <a:ext cx="1584360" cy="50328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6" name="内容占位符 4" descr="引用体系.JPG"/>
          <p:cNvPicPr/>
          <p:nvPr/>
        </p:nvPicPr>
        <p:blipFill>
          <a:blip r:embed="rId2"/>
          <a:stretch/>
        </p:blipFill>
        <p:spPr>
          <a:xfrm>
            <a:off x="214200" y="2571840"/>
            <a:ext cx="7182000" cy="3362400"/>
          </a:xfrm>
          <a:prstGeom prst="rect">
            <a:avLst/>
          </a:prstGeom>
          <a:ln w="0">
            <a:noFill/>
          </a:ln>
        </p:spPr>
      </p:pic>
      <p:sp>
        <p:nvSpPr>
          <p:cNvPr id="201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DD34-3095-46F5-9715-9EDCD3B5298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TextBox 6"/>
          <p:cNvSpPr/>
          <p:nvPr/>
        </p:nvSpPr>
        <p:spPr>
          <a:xfrm>
            <a:off x="395280" y="1054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deley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有庞大的引用体系，海量文献供您搜索，并可自动检索文献相关信息添加到右侧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9" name="图片 7" descr="细节.JPG"/>
          <p:cNvPicPr/>
          <p:nvPr/>
        </p:nvPicPr>
        <p:blipFill>
          <a:blip r:embed="rId3"/>
          <a:stretch/>
        </p:blipFill>
        <p:spPr>
          <a:xfrm>
            <a:off x="5786280" y="2214720"/>
            <a:ext cx="302904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A8F9-4D8B-4497-8A36-C56AEB32F21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8218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二、文件搬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Mendeley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的文件导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）选择您想导出的文档，单击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File→Export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按快捷键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Ctrl + E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）然后，您可以选择以最常见的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.XML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.RIS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或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BibT eX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格式保存文件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3" name="Picture 4" descr=""/>
          <p:cNvPicPr/>
          <p:nvPr/>
        </p:nvPicPr>
        <p:blipFill>
          <a:blip r:embed="rId2"/>
          <a:stretch/>
        </p:blipFill>
        <p:spPr>
          <a:xfrm>
            <a:off x="3348000" y="2637000"/>
            <a:ext cx="5256360" cy="3693960"/>
          </a:xfrm>
          <a:prstGeom prst="rect">
            <a:avLst/>
          </a:prstGeom>
          <a:ln w="0">
            <a:noFill/>
          </a:ln>
        </p:spPr>
      </p:pic>
      <p:pic>
        <p:nvPicPr>
          <p:cNvPr id="2024" name="Picture 5" descr=""/>
          <p:cNvPicPr/>
          <p:nvPr/>
        </p:nvPicPr>
        <p:blipFill>
          <a:blip r:embed="rId3"/>
          <a:stretch/>
        </p:blipFill>
        <p:spPr>
          <a:xfrm>
            <a:off x="179280" y="2854440"/>
            <a:ext cx="2836800" cy="2087280"/>
          </a:xfrm>
          <a:prstGeom prst="rect">
            <a:avLst/>
          </a:prstGeom>
          <a:ln w="0">
            <a:noFill/>
          </a:ln>
        </p:spPr>
      </p:pic>
      <p:sp>
        <p:nvSpPr>
          <p:cNvPr id="2025" name="AutoShape 6"/>
          <p:cNvSpPr/>
          <p:nvPr/>
        </p:nvSpPr>
        <p:spPr>
          <a:xfrm rot="2280000">
            <a:off x="1932120" y="5229000"/>
            <a:ext cx="1569960" cy="504720"/>
          </a:xfrm>
          <a:custGeom>
            <a:avLst/>
            <a:gdLst>
              <a:gd name="textAreaLeft" fmla="*/ 245160 w 1569960"/>
              <a:gd name="textAreaRight" fmla="*/ 1373760 w 156996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备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Rechteckige Legende 6"/>
          <p:cNvSpPr/>
          <p:nvPr/>
        </p:nvSpPr>
        <p:spPr>
          <a:xfrm rot="16200000">
            <a:off x="5321880" y="1821600"/>
            <a:ext cx="357120" cy="4143240"/>
          </a:xfrm>
          <a:prstGeom prst="wedgeRectCallout">
            <a:avLst>
              <a:gd name="adj1" fmla="val -138064"/>
              <a:gd name="adj2" fmla="val -61476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可以将数据库备份，以保证文件不会丢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8" name="图片 4" descr="导为其他格式.JPG"/>
          <p:cNvPicPr/>
          <p:nvPr/>
        </p:nvPicPr>
        <p:blipFill>
          <a:blip r:embed="rId2"/>
          <a:stretch/>
        </p:blipFill>
        <p:spPr>
          <a:xfrm>
            <a:off x="3143160" y="3571920"/>
            <a:ext cx="5334120" cy="3133800"/>
          </a:xfrm>
          <a:prstGeom prst="rect">
            <a:avLst/>
          </a:prstGeom>
          <a:ln w="0">
            <a:noFill/>
          </a:ln>
        </p:spPr>
      </p:pic>
      <p:pic>
        <p:nvPicPr>
          <p:cNvPr id="2029" name="内容占位符 3" descr="备份.JPG"/>
          <p:cNvPicPr/>
          <p:nvPr/>
        </p:nvPicPr>
        <p:blipFill>
          <a:blip r:embed="rId3"/>
          <a:stretch/>
        </p:blipFill>
        <p:spPr>
          <a:xfrm>
            <a:off x="214200" y="1643040"/>
            <a:ext cx="6357960" cy="34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07CD-58D3-4D9F-856C-69FA7F2F752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Text Box 2"/>
          <p:cNvSpPr/>
          <p:nvPr/>
        </p:nvSpPr>
        <p:spPr>
          <a:xfrm>
            <a:off x="181080" y="406440"/>
            <a:ext cx="8856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管理文档和参考文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合并重复的作者姓名、标签或出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在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Filter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过滤器窗格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将您发现的重复或不正确的名称拖放到正确的名称上进行重命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例如，如果您有两个文件标签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How to”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和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how-to”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，将后者拖放到前者上就可以实现对错误条目的重命名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2" name="Picture 3" descr=""/>
          <p:cNvPicPr/>
          <p:nvPr/>
        </p:nvPicPr>
        <p:blipFill>
          <a:blip r:embed="rId2"/>
          <a:stretch/>
        </p:blipFill>
        <p:spPr>
          <a:xfrm>
            <a:off x="252360" y="3427560"/>
            <a:ext cx="8345520" cy="24476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8547-F899-44F5-9D75-795B4FF8DCE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214200" y="785520"/>
            <a:ext cx="80042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 标记文档为已读或未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5" name="Picture 4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312400" cy="466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B4C5-7212-4B77-ACC8-14B4EA623ED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添加到收藏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39" name="Picture 4" descr=""/>
          <p:cNvPicPr/>
          <p:nvPr/>
        </p:nvPicPr>
        <p:blipFill>
          <a:blip r:embed="rId2"/>
          <a:stretch/>
        </p:blipFill>
        <p:spPr>
          <a:xfrm>
            <a:off x="684360" y="1701720"/>
            <a:ext cx="8013600" cy="410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14D4-BDFF-4406-A4F8-67AAB1788A3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848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为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PDF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文档添加注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在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Mendeley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中为文档的内容添加高亮显示或注释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3" name="Picture 4" descr=""/>
          <p:cNvPicPr/>
          <p:nvPr/>
        </p:nvPicPr>
        <p:blipFill>
          <a:blip r:embed="rId2"/>
          <a:stretch/>
        </p:blipFill>
        <p:spPr>
          <a:xfrm>
            <a:off x="1114560" y="1827360"/>
            <a:ext cx="6410160" cy="469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E36D-28AD-44AE-8AC8-0C1888788AA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82872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建立分类文件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建立文件夹，将不同类的文章放到对应文件夹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7" name="Picture 4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3240000" cy="4603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圆角矩形 5"/>
          <p:cNvSpPr/>
          <p:nvPr/>
        </p:nvSpPr>
        <p:spPr>
          <a:xfrm>
            <a:off x="4500720" y="2571840"/>
            <a:ext cx="3286080" cy="4071960"/>
          </a:xfrm>
          <a:custGeom>
            <a:avLst/>
            <a:gdLst>
              <a:gd name="textAreaLeft" fmla="*/ 160200 w 3286080"/>
              <a:gd name="textAreaRight" fmla="*/ 3125880 w 3286080"/>
              <a:gd name="textAreaTop" fmla="*/ 160200 h 4071960"/>
              <a:gd name="textAreaBottom" fmla="*/ 3911760 h 4071960"/>
            </a:gdLst>
            <a:ahLst/>
            <a:rect l="textAreaLeft" t="textAreaTop" r="textAreaRight" b="textAreaBottom"/>
            <a:pathLst>
              <a:path w="21600" h="26765">
                <a:moveTo>
                  <a:pt x="3600" y="0"/>
                </a:moveTo>
                <a:arcTo wR="3600" hR="3600" stAng="16200000" swAng="-5400000"/>
                <a:lnTo>
                  <a:pt x="0" y="23165"/>
                </a:lnTo>
                <a:arcTo wR="3600" hR="3600" stAng="10800000" swAng="-5400000"/>
                <a:lnTo>
                  <a:pt x="18000" y="267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b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Mendele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 type="subTitle"/>
          </p:nvPr>
        </p:nvSpPr>
        <p:spPr>
          <a:xfrm>
            <a:off x="2143080" y="1357200"/>
            <a:ext cx="6400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文献管理软件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&amp;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学术社交平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7" name="图片 3" descr="503d269759ee3d6dfb0a32a342166d224e4a20a44723feb6.jpg"/>
          <p:cNvPicPr/>
          <p:nvPr/>
        </p:nvPicPr>
        <p:blipFill>
          <a:blip r:embed="rId2"/>
          <a:stretch/>
        </p:blipFill>
        <p:spPr>
          <a:xfrm rot="21062400">
            <a:off x="920520" y="4106880"/>
            <a:ext cx="3362040" cy="1987560"/>
          </a:xfrm>
          <a:prstGeom prst="rect">
            <a:avLst/>
          </a:prstGeom>
          <a:ln w="0">
            <a:noFill/>
          </a:ln>
        </p:spPr>
      </p:pic>
      <p:sp>
        <p:nvSpPr>
          <p:cNvPr id="1978" name="TextBox 4"/>
          <p:cNvSpPr/>
          <p:nvPr/>
        </p:nvSpPr>
        <p:spPr>
          <a:xfrm>
            <a:off x="4572000" y="2571840"/>
            <a:ext cx="3643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成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杨诗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邰莉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龚金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王玉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安艺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707E-0C43-4031-B282-B6A6D27207D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075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四、搜索功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435880" cy="51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本地搜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1" name="Picture 4" descr=""/>
          <p:cNvPicPr/>
          <p:nvPr/>
        </p:nvPicPr>
        <p:blipFill>
          <a:blip r:embed="rId2"/>
          <a:stretch/>
        </p:blipFill>
        <p:spPr>
          <a:xfrm>
            <a:off x="612720" y="2349360"/>
            <a:ext cx="5832360" cy="4321440"/>
          </a:xfrm>
          <a:prstGeom prst="rect">
            <a:avLst/>
          </a:prstGeom>
          <a:ln w="0">
            <a:noFill/>
          </a:ln>
        </p:spPr>
      </p:pic>
      <p:pic>
        <p:nvPicPr>
          <p:cNvPr id="2052" name="图片 6" descr="内部文件搜索.JPG"/>
          <p:cNvPicPr/>
          <p:nvPr/>
        </p:nvPicPr>
        <p:blipFill>
          <a:blip r:embed="rId3"/>
          <a:stretch/>
        </p:blipFill>
        <p:spPr>
          <a:xfrm>
            <a:off x="468360" y="1844640"/>
            <a:ext cx="5610240" cy="1886040"/>
          </a:xfrm>
          <a:prstGeom prst="rect">
            <a:avLst/>
          </a:prstGeom>
          <a:ln w="0">
            <a:noFill/>
          </a:ln>
        </p:spPr>
      </p:pic>
      <p:sp>
        <p:nvSpPr>
          <p:cNvPr id="2053" name="Rechteckige Legende 4"/>
          <p:cNvSpPr/>
          <p:nvPr/>
        </p:nvSpPr>
        <p:spPr>
          <a:xfrm>
            <a:off x="539640" y="4149720"/>
            <a:ext cx="2089440" cy="285840"/>
          </a:xfrm>
          <a:prstGeom prst="wedgeRectCallout">
            <a:avLst>
              <a:gd name="adj1" fmla="val 34481"/>
              <a:gd name="adj2" fmla="val -337847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关键字搜索文件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hteckige Legende 4"/>
          <p:cNvSpPr/>
          <p:nvPr/>
        </p:nvSpPr>
        <p:spPr>
          <a:xfrm>
            <a:off x="2556000" y="5877000"/>
            <a:ext cx="2089080" cy="285840"/>
          </a:xfrm>
          <a:prstGeom prst="wedgeRectCallout">
            <a:avLst>
              <a:gd name="adj1" fmla="val 14712"/>
              <a:gd name="adj2" fmla="val -306879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搜索文件内关键字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5" name="Picture 9" descr="IMG_1127"/>
          <p:cNvPicPr/>
          <p:nvPr/>
        </p:nvPicPr>
        <p:blipFill>
          <a:blip r:embed="rId4"/>
          <a:stretch/>
        </p:blipFill>
        <p:spPr>
          <a:xfrm>
            <a:off x="6661080" y="2060640"/>
            <a:ext cx="2239920" cy="4105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AE84-E638-4876-9908-7AE76D1B642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148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Literature 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点此可搜到来自网络的很多学术文献，有的可下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9" name="Picture 4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7201080" cy="495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网页搜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1" name="内容占位符 3" descr="网页搜索修改.png"/>
          <p:cNvPicPr/>
          <p:nvPr/>
        </p:nvPicPr>
        <p:blipFill>
          <a:blip r:embed="rId2"/>
          <a:stretch/>
        </p:blipFill>
        <p:spPr>
          <a:xfrm>
            <a:off x="642960" y="1428840"/>
            <a:ext cx="7873920" cy="4525920"/>
          </a:xfrm>
          <a:prstGeom prst="rect">
            <a:avLst/>
          </a:prstGeom>
          <a:ln w="0">
            <a:noFill/>
          </a:ln>
        </p:spPr>
      </p:pic>
      <p:sp>
        <p:nvSpPr>
          <p:cNvPr id="2062" name="Rechteckige Legende 4"/>
          <p:cNvSpPr/>
          <p:nvPr/>
        </p:nvSpPr>
        <p:spPr>
          <a:xfrm>
            <a:off x="4572000" y="3429000"/>
            <a:ext cx="3357720" cy="285840"/>
          </a:xfrm>
          <a:prstGeom prst="wedgeRectCallout">
            <a:avLst>
              <a:gd name="adj1" fmla="val -29324"/>
              <a:gd name="adj2" fmla="val -348171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在搜索框中输入关键字，即可搜索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BDFF-3287-40EF-B158-C0058B7B54F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TextBox 5"/>
          <p:cNvSpPr/>
          <p:nvPr/>
        </p:nvSpPr>
        <p:spPr>
          <a:xfrm>
            <a:off x="714240" y="64296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浏览搜索到的文献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5" name="Picture 4" descr="Web_catalog_slide29"/>
          <p:cNvPicPr/>
          <p:nvPr/>
        </p:nvPicPr>
        <p:blipFill>
          <a:blip r:embed="rId2"/>
          <a:stretch/>
        </p:blipFill>
        <p:spPr>
          <a:xfrm>
            <a:off x="1143000" y="1428840"/>
            <a:ext cx="6985080" cy="51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CB0B-47B4-4DD6-A887-DEF49718059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Box 5"/>
          <p:cNvSpPr/>
          <p:nvPr/>
        </p:nvSpPr>
        <p:spPr>
          <a:xfrm>
            <a:off x="857160" y="785880"/>
            <a:ext cx="742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Georgia"/>
              </a:rPr>
              <a:t>获取文献信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8" name="Picture 4" descr="Web_catalog_article_slide30"/>
          <p:cNvPicPr/>
          <p:nvPr/>
        </p:nvPicPr>
        <p:blipFill>
          <a:blip r:embed="rId2"/>
          <a:stretch/>
        </p:blipFill>
        <p:spPr>
          <a:xfrm>
            <a:off x="900000" y="1500120"/>
            <a:ext cx="7543800" cy="5175360"/>
          </a:xfrm>
          <a:prstGeom prst="rect">
            <a:avLst/>
          </a:prstGeom>
          <a:ln w="0">
            <a:noFill/>
          </a:ln>
        </p:spPr>
      </p:pic>
      <p:sp>
        <p:nvSpPr>
          <p:cNvPr id="2069" name="Rechteckige Legende 6"/>
          <p:cNvSpPr/>
          <p:nvPr/>
        </p:nvSpPr>
        <p:spPr>
          <a:xfrm>
            <a:off x="3929040" y="3357720"/>
            <a:ext cx="2131920" cy="647640"/>
          </a:xfrm>
          <a:prstGeom prst="wedgeRectCallout">
            <a:avLst>
              <a:gd name="adj1" fmla="val 61194"/>
              <a:gd name="adj2" fmla="val -106472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可以在网页上选择将文献添加到个人书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D1A7-6470-4810-94A3-A210CF74B2B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extBox 5"/>
          <p:cNvSpPr/>
          <p:nvPr/>
        </p:nvSpPr>
        <p:spPr>
          <a:xfrm>
            <a:off x="357120" y="857160"/>
            <a:ext cx="71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浏览所搜用户的个人主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2" name="Picture 5" descr="Web_profiles_slide28"/>
          <p:cNvPicPr/>
          <p:nvPr/>
        </p:nvPicPr>
        <p:blipFill>
          <a:blip r:embed="rId2"/>
          <a:stretch/>
        </p:blipFill>
        <p:spPr>
          <a:xfrm>
            <a:off x="611280" y="1630440"/>
            <a:ext cx="7848360" cy="505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5072-021D-48DA-BE3D-2B23342AE31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715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五、文献管理云服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68360" y="83772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激活文件同步功能，便可以在自己的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Mendeley Web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库中浏览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PDF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文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）选中“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My Library”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窗格中的“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All Documents”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）选择“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Edit Setting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）根据您的需要调整设置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）同步您的库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）登陆到您的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Mendeley Web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帐户，并在库中查看结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497F-2A53-42EA-9216-ACE50C3113B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7" name="Picture 2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7761240" cy="5226120"/>
          </a:xfrm>
          <a:prstGeom prst="rect">
            <a:avLst/>
          </a:prstGeom>
          <a:ln w="0">
            <a:noFill/>
          </a:ln>
        </p:spPr>
      </p:pic>
      <p:sp>
        <p:nvSpPr>
          <p:cNvPr id="2078" name="Rechteckige Legende 4"/>
          <p:cNvSpPr/>
          <p:nvPr/>
        </p:nvSpPr>
        <p:spPr>
          <a:xfrm>
            <a:off x="6012000" y="4786200"/>
            <a:ext cx="2089080" cy="285840"/>
          </a:xfrm>
          <a:prstGeom prst="wedgeRectCallout">
            <a:avLst>
              <a:gd name="adj1" fmla="val -49527"/>
              <a:gd name="adj2" fmla="val -19333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选择要同步的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hteckige Legende 4"/>
          <p:cNvSpPr/>
          <p:nvPr/>
        </p:nvSpPr>
        <p:spPr>
          <a:xfrm>
            <a:off x="4716360" y="2349360"/>
            <a:ext cx="2089080" cy="287640"/>
          </a:xfrm>
          <a:prstGeom prst="wedgeRectCallout">
            <a:avLst>
              <a:gd name="adj1" fmla="val 6898"/>
              <a:gd name="adj2" fmla="val 279800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同步至云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4E66-B0A5-4365-917D-FA311A974CE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1" name="Picture 8" descr="F:\信管一班\作业\寇老师\QQ截图20140311134238.png"/>
          <p:cNvPicPr/>
          <p:nvPr/>
        </p:nvPicPr>
        <p:blipFill>
          <a:blip r:embed="rId2"/>
          <a:stretch/>
        </p:blipFill>
        <p:spPr>
          <a:xfrm>
            <a:off x="468360" y="1844640"/>
            <a:ext cx="8424720" cy="4321080"/>
          </a:xfrm>
          <a:prstGeom prst="rect">
            <a:avLst/>
          </a:prstGeom>
          <a:ln w="0">
            <a:noFill/>
          </a:ln>
        </p:spPr>
      </p:pic>
      <p:sp>
        <p:nvSpPr>
          <p:cNvPr id="2082" name="TextBox 5"/>
          <p:cNvSpPr/>
          <p:nvPr/>
        </p:nvSpPr>
        <p:spPr>
          <a:xfrm>
            <a:off x="468360" y="1270080"/>
            <a:ext cx="764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隶书"/>
              </a:rPr>
              <a:t>）与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隶书"/>
              </a:rPr>
              <a:t>Office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关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Rechteckige Legende 4"/>
          <p:cNvSpPr/>
          <p:nvPr/>
        </p:nvSpPr>
        <p:spPr>
          <a:xfrm>
            <a:off x="2771640" y="2492280"/>
            <a:ext cx="5256360" cy="289080"/>
          </a:xfrm>
          <a:prstGeom prst="wedgeRectCallout">
            <a:avLst>
              <a:gd name="adj1" fmla="val -49527"/>
              <a:gd name="adj2" fmla="val -19333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打开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Mendeley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，点击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“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Install MS Word Plugin” 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去安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TextBox 4"/>
          <p:cNvSpPr/>
          <p:nvPr/>
        </p:nvSpPr>
        <p:spPr>
          <a:xfrm>
            <a:off x="755640" y="40464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Georgia"/>
              </a:rPr>
              <a:t>六、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插入引文并生成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E355-A68F-4230-B6F0-7E710191D96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6" name="Picture 7" descr="F:\信管一班\作业\寇老师\3.png"/>
          <p:cNvPicPr/>
          <p:nvPr/>
        </p:nvPicPr>
        <p:blipFill>
          <a:blip r:embed="rId2"/>
          <a:stretch/>
        </p:blipFill>
        <p:spPr>
          <a:xfrm>
            <a:off x="395280" y="1028880"/>
            <a:ext cx="8410680" cy="4416120"/>
          </a:xfrm>
          <a:prstGeom prst="rect">
            <a:avLst/>
          </a:prstGeom>
          <a:ln w="0">
            <a:noFill/>
          </a:ln>
        </p:spPr>
      </p:pic>
      <p:pic>
        <p:nvPicPr>
          <p:cNvPr id="2087" name="Picture 8" descr="F:\信管一班\作业\寇老师\4.png"/>
          <p:cNvPicPr/>
          <p:nvPr/>
        </p:nvPicPr>
        <p:blipFill>
          <a:blip r:embed="rId3"/>
          <a:stretch/>
        </p:blipFill>
        <p:spPr>
          <a:xfrm>
            <a:off x="3809880" y="3500280"/>
            <a:ext cx="5051520" cy="2909880"/>
          </a:xfrm>
          <a:prstGeom prst="rect">
            <a:avLst/>
          </a:prstGeom>
          <a:ln w="0">
            <a:noFill/>
          </a:ln>
        </p:spPr>
      </p:pic>
      <p:sp>
        <p:nvSpPr>
          <p:cNvPr id="2088" name="Rechteckige Legende 4"/>
          <p:cNvSpPr/>
          <p:nvPr/>
        </p:nvSpPr>
        <p:spPr>
          <a:xfrm>
            <a:off x="2340000" y="2349360"/>
            <a:ext cx="3357360" cy="285840"/>
          </a:xfrm>
          <a:prstGeom prst="wedgeRectCallout">
            <a:avLst>
              <a:gd name="adj1" fmla="val -49527"/>
              <a:gd name="adj2" fmla="val -19333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打开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Word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，点击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Insert Citation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Rechteckige Legende 3"/>
          <p:cNvSpPr/>
          <p:nvPr/>
        </p:nvSpPr>
        <p:spPr>
          <a:xfrm>
            <a:off x="5724360" y="3286080"/>
            <a:ext cx="2374920" cy="717480"/>
          </a:xfrm>
          <a:prstGeom prst="wedgeRectCallout">
            <a:avLst>
              <a:gd name="adj1" fmla="val 1851"/>
              <a:gd name="adj2" fmla="val 93370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在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mendeley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选择需要引用的文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Text Box 7"/>
          <p:cNvSpPr/>
          <p:nvPr/>
        </p:nvSpPr>
        <p:spPr>
          <a:xfrm>
            <a:off x="2484360" y="333360"/>
            <a:ext cx="38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如何引入文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关于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ndel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"/>
          <p:cNvSpPr txBox="1"/>
          <p:nvPr/>
        </p:nvSpPr>
        <p:spPr>
          <a:xfrm>
            <a:off x="14256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deley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是一款免费的跨平台文献管理软件，同时也是一个在线的学术社交网络平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deley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可一键抓取网页上的文献信息添加到个人的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brary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中，还可安装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S Word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和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en     Office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插件，方便在文字编辑器中插入和管理参考文献书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只要在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deley.com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建立一个帐号，就能实现计算机上的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deley Desktop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和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deley.com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上的数据同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Rectangle 4"/>
          <p:cNvSpPr/>
          <p:nvPr/>
        </p:nvSpPr>
        <p:spPr>
          <a:xfrm>
            <a:off x="250920" y="260280"/>
            <a:ext cx="1657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45EC-AA5D-4FA7-BD50-A973C397493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2" name="Picture 9" descr="F:\信管一班\作业\寇老师\5.png"/>
          <p:cNvPicPr/>
          <p:nvPr/>
        </p:nvPicPr>
        <p:blipFill>
          <a:blip r:embed="rId2"/>
          <a:stretch/>
        </p:blipFill>
        <p:spPr>
          <a:xfrm>
            <a:off x="395280" y="1844640"/>
            <a:ext cx="7777080" cy="4321080"/>
          </a:xfrm>
          <a:prstGeom prst="rect">
            <a:avLst/>
          </a:prstGeom>
          <a:ln w="0">
            <a:noFill/>
          </a:ln>
        </p:spPr>
      </p:pic>
      <p:sp>
        <p:nvSpPr>
          <p:cNvPr id="2093" name="Rechteckige Legende 4"/>
          <p:cNvSpPr/>
          <p:nvPr/>
        </p:nvSpPr>
        <p:spPr>
          <a:xfrm>
            <a:off x="4068720" y="2852640"/>
            <a:ext cx="3745080" cy="357120"/>
          </a:xfrm>
          <a:prstGeom prst="wedgeRectCallout">
            <a:avLst>
              <a:gd name="adj1" fmla="val -67680"/>
              <a:gd name="adj2" fmla="val -198310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可以在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yle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中选择你所需要的引文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4" name=""/>
          <p:cNvGrpSpPr/>
          <p:nvPr/>
        </p:nvGrpSpPr>
        <p:grpSpPr>
          <a:xfrm>
            <a:off x="6108840" y="5373720"/>
            <a:ext cx="2273040" cy="1252440"/>
            <a:chOff x="6108840" y="5373720"/>
            <a:chExt cx="2273040" cy="1252440"/>
          </a:xfrm>
        </p:grpSpPr>
        <p:sp>
          <p:nvSpPr>
            <p:cNvPr id="2095" name="Rounded Rectangle 22"/>
            <p:cNvSpPr/>
            <p:nvPr/>
          </p:nvSpPr>
          <p:spPr>
            <a:xfrm>
              <a:off x="6108840" y="5373720"/>
              <a:ext cx="2273040" cy="1252440"/>
            </a:xfrm>
            <a:prstGeom prst="rect">
              <a:avLst/>
            </a:prstGeom>
            <a:solidFill>
              <a:srgbClr val="59595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Textfeld 36"/>
            <p:cNvSpPr/>
            <p:nvPr/>
          </p:nvSpPr>
          <p:spPr>
            <a:xfrm>
              <a:off x="6294240" y="5484600"/>
              <a:ext cx="194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引用到谷歌文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或者通过复制和粘贴来编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7" name="Rechteckige Legende 4"/>
          <p:cNvSpPr/>
          <p:nvPr/>
        </p:nvSpPr>
        <p:spPr>
          <a:xfrm>
            <a:off x="4932360" y="3860640"/>
            <a:ext cx="4248000" cy="432000"/>
          </a:xfrm>
          <a:prstGeom prst="wedgeRectCallout">
            <a:avLst>
              <a:gd name="adj1" fmla="val -42240"/>
              <a:gd name="adj2" fmla="val 11133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点击“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ert Bibliography”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按钮生成参考书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Rectangle 9"/>
          <p:cNvSpPr/>
          <p:nvPr/>
        </p:nvSpPr>
        <p:spPr>
          <a:xfrm>
            <a:off x="755640" y="69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）生成参考文献书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9" name="Picture 10" descr="C:\Users\ABC\Desktop\1.png"/>
          <p:cNvPicPr/>
          <p:nvPr/>
        </p:nvPicPr>
        <p:blipFill>
          <a:blip r:embed="rId3"/>
          <a:stretch/>
        </p:blipFill>
        <p:spPr>
          <a:xfrm>
            <a:off x="971640" y="5157720"/>
            <a:ext cx="4743360" cy="819360"/>
          </a:xfrm>
          <a:prstGeom prst="rect">
            <a:avLst/>
          </a:prstGeom>
          <a:ln w="0">
            <a:noFill/>
          </a:ln>
        </p:spPr>
      </p:pic>
      <p:sp>
        <p:nvSpPr>
          <p:cNvPr id="2100" name="Rechteckige Legende 4"/>
          <p:cNvSpPr/>
          <p:nvPr/>
        </p:nvSpPr>
        <p:spPr>
          <a:xfrm>
            <a:off x="3780000" y="4724280"/>
            <a:ext cx="2663640" cy="433440"/>
          </a:xfrm>
          <a:prstGeom prst="wedgeRectCallout">
            <a:avLst>
              <a:gd name="adj1" fmla="val -42240"/>
              <a:gd name="adj2" fmla="val 11133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使用分号可以引入多个文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2" name="Picture 3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8120" cy="3888000"/>
          </a:xfrm>
          <a:prstGeom prst="rect">
            <a:avLst/>
          </a:prstGeom>
          <a:ln w="0">
            <a:noFill/>
          </a:ln>
        </p:spPr>
      </p:pic>
      <p:sp>
        <p:nvSpPr>
          <p:cNvPr id="21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F5FF-CCE9-4C18-B7BA-21EED215496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5" name="Picture 7" descr="F:\信管一班\作业\寇老师\1.png"/>
          <p:cNvPicPr/>
          <p:nvPr/>
        </p:nvPicPr>
        <p:blipFill>
          <a:blip r:embed="rId2"/>
          <a:stretch/>
        </p:blipFill>
        <p:spPr>
          <a:xfrm>
            <a:off x="324000" y="1844640"/>
            <a:ext cx="8424720" cy="4176720"/>
          </a:xfrm>
          <a:prstGeom prst="rect">
            <a:avLst/>
          </a:prstGeom>
          <a:ln w="0">
            <a:noFill/>
          </a:ln>
        </p:spPr>
      </p:pic>
      <p:sp>
        <p:nvSpPr>
          <p:cNvPr id="2106" name="TextBox 5"/>
          <p:cNvSpPr/>
          <p:nvPr/>
        </p:nvSpPr>
        <p:spPr>
          <a:xfrm>
            <a:off x="971640" y="40464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eorgia"/>
              </a:rPr>
              <a:t>七、建立小组</a:t>
            </a:r>
            <a:r>
              <a:rPr b="1" lang="zh-CN" sz="3200" spc="-1" strike="noStrike">
                <a:solidFill>
                  <a:srgbClr val="ffffff"/>
                </a:solidFill>
                <a:latin typeface="Georgia"/>
              </a:rPr>
              <a:t>(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Rechteckige Legende 3"/>
          <p:cNvSpPr/>
          <p:nvPr/>
        </p:nvSpPr>
        <p:spPr>
          <a:xfrm>
            <a:off x="6084720" y="5661000"/>
            <a:ext cx="2786400" cy="1143000"/>
          </a:xfrm>
          <a:prstGeom prst="wedgeRectCallout">
            <a:avLst>
              <a:gd name="adj1" fmla="val -39402"/>
              <a:gd name="adj2" fmla="val -149444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查看组在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其他用户可以请求加入或只是关注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的活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Rechteckige Legende 3"/>
          <p:cNvSpPr/>
          <p:nvPr/>
        </p:nvSpPr>
        <p:spPr>
          <a:xfrm>
            <a:off x="395280" y="5877000"/>
            <a:ext cx="4680000" cy="793800"/>
          </a:xfrm>
          <a:prstGeom prst="rect">
            <a:avLst/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blic groups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只有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reference details – 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看不到整篇文献。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Private groups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包含有注释的全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Text Box 7"/>
          <p:cNvSpPr/>
          <p:nvPr/>
        </p:nvSpPr>
        <p:spPr>
          <a:xfrm>
            <a:off x="469800" y="1197000"/>
            <a:ext cx="64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小组形式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ublic</a:t>
            </a:r>
            <a:r>
              <a:rPr b="0" lang="zh-CN" sz="2800" spc="-1" strike="noStrike">
                <a:solidFill>
                  <a:srgbClr val="ffffff"/>
                </a:solidFill>
                <a:latin typeface="Georgia"/>
              </a:rPr>
              <a:t> or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rivat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Rechteckige Legende 4"/>
          <p:cNvSpPr/>
          <p:nvPr/>
        </p:nvSpPr>
        <p:spPr>
          <a:xfrm>
            <a:off x="2916360" y="1990800"/>
            <a:ext cx="4751280" cy="790560"/>
          </a:xfrm>
          <a:prstGeom prst="wedgeRectCallout">
            <a:avLst>
              <a:gd name="adj1" fmla="val -56782"/>
              <a:gd name="adj2" fmla="val 105412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Group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：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、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               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、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Invite-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               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、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19E4-5CE3-465F-A275-B9A06D007C3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2" name="Picture 6" descr="F:\信管一班\作业\寇老师\2.png"/>
          <p:cNvPicPr/>
          <p:nvPr/>
        </p:nvPicPr>
        <p:blipFill>
          <a:blip r:embed="rId2"/>
          <a:stretch/>
        </p:blipFill>
        <p:spPr>
          <a:xfrm>
            <a:off x="395280" y="1628640"/>
            <a:ext cx="7416720" cy="4997520"/>
          </a:xfrm>
          <a:prstGeom prst="rect">
            <a:avLst/>
          </a:prstGeom>
          <a:ln w="0">
            <a:noFill/>
          </a:ln>
        </p:spPr>
      </p:pic>
      <p:sp>
        <p:nvSpPr>
          <p:cNvPr id="2113" name="TextBox 5"/>
          <p:cNvSpPr/>
          <p:nvPr/>
        </p:nvSpPr>
        <p:spPr>
          <a:xfrm>
            <a:off x="539640" y="90972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eorgia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Georgi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Georgia"/>
              </a:rPr>
              <a:t>）如何建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Rechteckige Legende 6"/>
          <p:cNvSpPr/>
          <p:nvPr/>
        </p:nvSpPr>
        <p:spPr>
          <a:xfrm>
            <a:off x="6588000" y="2349360"/>
            <a:ext cx="1846440" cy="1295640"/>
          </a:xfrm>
          <a:prstGeom prst="wedgeRectCallout">
            <a:avLst>
              <a:gd name="adj1" fmla="val -62726"/>
              <a:gd name="adj2" fmla="val 58652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Private groups </a:t>
            </a: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该群组只对被邀请的群组成员可见。适用于私人研究项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Rechteckige Legende 6"/>
          <p:cNvSpPr/>
          <p:nvPr/>
        </p:nvSpPr>
        <p:spPr>
          <a:xfrm>
            <a:off x="1403280" y="2567160"/>
            <a:ext cx="1847880" cy="2519280"/>
          </a:xfrm>
          <a:prstGeom prst="wedgeRectCallout">
            <a:avLst>
              <a:gd name="adj1" fmla="val 95083"/>
              <a:gd name="adj2" fmla="val 4939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Public Invite-only Groups</a:t>
            </a: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（半公共群组）</a:t>
            </a: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该群组对所有人可见，但是只有群组成员才可以参与群组 建设。适用于公开阅读书目或者展示你所在实验室的研究结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Rechteckige Legende 6"/>
          <p:cNvSpPr/>
          <p:nvPr/>
        </p:nvSpPr>
        <p:spPr>
          <a:xfrm>
            <a:off x="6445080" y="4365720"/>
            <a:ext cx="1846440" cy="1800000"/>
          </a:xfrm>
          <a:prstGeom prst="wedgeRectCallout">
            <a:avLst>
              <a:gd name="adj1" fmla="val -74171"/>
              <a:gd name="adj2" fmla="val 22592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Public Open Groups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（公共群组）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所有人都可以加入该群组</a:t>
            </a: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参与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群组建设。适用于同学</a:t>
            </a: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科研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的开放性讨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28AF-D5BE-407D-9E03-6D2749DEAD8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8" name="Picture 6" descr="Web_groups_slide27"/>
          <p:cNvPicPr/>
          <p:nvPr/>
        </p:nvPicPr>
        <p:blipFill>
          <a:blip r:embed="rId2"/>
          <a:stretch/>
        </p:blipFill>
        <p:spPr>
          <a:xfrm>
            <a:off x="250920" y="1008000"/>
            <a:ext cx="7993080" cy="5589720"/>
          </a:xfrm>
          <a:prstGeom prst="rect">
            <a:avLst/>
          </a:prstGeom>
          <a:ln w="0">
            <a:noFill/>
          </a:ln>
        </p:spPr>
      </p:pic>
      <p:sp>
        <p:nvSpPr>
          <p:cNvPr id="2119" name="Rechteckige Legende 6"/>
          <p:cNvSpPr/>
          <p:nvPr/>
        </p:nvSpPr>
        <p:spPr>
          <a:xfrm>
            <a:off x="6588000" y="3429000"/>
            <a:ext cx="1846440" cy="647640"/>
          </a:xfrm>
          <a:prstGeom prst="wedgeRectCallout">
            <a:avLst>
              <a:gd name="adj1" fmla="val -151291"/>
              <a:gd name="adj2" fmla="val -40439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你还可以在网页里创建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groups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613C-4358-45D0-B0C0-24A8842899D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(3)Group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应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     ②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你可以点击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Document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选项卡浏览文档。如需添加文档，在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（群组）页面中点击工具栏中的 “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Add documents”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，也可从你的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Mendeley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文件夹或电脑的其他任何位置拖动文档至群组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3" name="Picture 5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998880" cy="1476360"/>
          </a:xfrm>
          <a:prstGeom prst="rect">
            <a:avLst/>
          </a:prstGeom>
          <a:ln w="0">
            <a:noFill/>
          </a:ln>
        </p:spPr>
      </p:pic>
      <p:pic>
        <p:nvPicPr>
          <p:cNvPr id="2124" name="Picture 6" descr=""/>
          <p:cNvPicPr/>
          <p:nvPr/>
        </p:nvPicPr>
        <p:blipFill>
          <a:blip r:embed="rId3"/>
          <a:stretch/>
        </p:blipFill>
        <p:spPr>
          <a:xfrm>
            <a:off x="684360" y="4653000"/>
            <a:ext cx="6694200" cy="1981080"/>
          </a:xfrm>
          <a:prstGeom prst="rect">
            <a:avLst/>
          </a:prstGeom>
          <a:ln w="0">
            <a:noFill/>
          </a:ln>
        </p:spPr>
      </p:pic>
      <p:sp>
        <p:nvSpPr>
          <p:cNvPr id="2125" name="Text Box 7"/>
          <p:cNvSpPr/>
          <p:nvPr/>
        </p:nvSpPr>
        <p:spPr>
          <a:xfrm>
            <a:off x="4788000" y="1628640"/>
            <a:ext cx="30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你可以点击“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dd”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加入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endele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中已有的联系人，也可点击“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Invite”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邀请别人加入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endele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39528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）动态“好友圈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8" name="内容占位符 4" descr="个人主页修改.png"/>
          <p:cNvPicPr/>
          <p:nvPr/>
        </p:nvPicPr>
        <p:blipFill>
          <a:blip r:embed="rId2"/>
          <a:stretch/>
        </p:blipFill>
        <p:spPr>
          <a:xfrm>
            <a:off x="612720" y="1773360"/>
            <a:ext cx="7632720" cy="4525920"/>
          </a:xfrm>
          <a:prstGeom prst="rect">
            <a:avLst/>
          </a:prstGeom>
          <a:ln w="0">
            <a:noFill/>
          </a:ln>
        </p:spPr>
      </p:pic>
      <p:sp>
        <p:nvSpPr>
          <p:cNvPr id="2129" name="Rechteckige Legende 6"/>
          <p:cNvSpPr/>
          <p:nvPr/>
        </p:nvSpPr>
        <p:spPr>
          <a:xfrm>
            <a:off x="4500720" y="3857760"/>
            <a:ext cx="3500280" cy="428400"/>
          </a:xfrm>
          <a:prstGeom prst="wedgeRectCallout">
            <a:avLst>
              <a:gd name="adj1" fmla="val 23550"/>
              <a:gd name="adj2" fmla="val -136074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编辑个人信息，查看近期通知消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小组分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杨诗姝：功能探究、音频设计、后期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整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邰莉梅：功能探究、前期视频录制、后期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整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龚金燕：资料搜集、前期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制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王玉君：视频剪辑制作、音频录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安艺丽：前期视频录制、前期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制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4062-7F53-4119-8549-A8B61DEB078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推荐理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免费使用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能自动从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pdf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文件中提取文献信息。也能自动检索与选择相关的文献，省去很多麻烦的同类文献搜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不仅是一个文献管理工具，还是一个巨大的社交性学术交流平台，可以在与他人在线协作中来发现新的研究方向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也是最吸引人的地方：可以在小组中与合作伙伴共享文件，笔记注释同步共享，极其适合当前大学生科研团队的讨论、研究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是一个巨大的社会型图书馆，可以在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mendeley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网站上浏览到流行、相关、趋势，如同微博热门榜，为乏味的学术增加了趣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2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6" name="图片 6" descr="u=3308684194,1322232918&amp;fm=23&amp;gp=0.jpg"/>
          <p:cNvPicPr/>
          <p:nvPr/>
        </p:nvPicPr>
        <p:blipFill>
          <a:blip r:embed="rId2"/>
          <a:stretch/>
        </p:blipFill>
        <p:spPr>
          <a:xfrm>
            <a:off x="1714680" y="1643040"/>
            <a:ext cx="6621120" cy="38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主要界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3" name="内容占位符 3" descr="整体界面修改.png"/>
          <p:cNvPicPr/>
          <p:nvPr/>
        </p:nvPicPr>
        <p:blipFill>
          <a:blip r:embed="rId2"/>
          <a:stretch/>
        </p:blipFill>
        <p:spPr>
          <a:xfrm>
            <a:off x="428760" y="1214280"/>
            <a:ext cx="8286480" cy="5053320"/>
          </a:xfrm>
          <a:prstGeom prst="rect">
            <a:avLst/>
          </a:prstGeom>
          <a:ln w="0">
            <a:noFill/>
          </a:ln>
        </p:spPr>
      </p:pic>
      <p:sp>
        <p:nvSpPr>
          <p:cNvPr id="1984" name="Rechteckige Legende 4"/>
          <p:cNvSpPr/>
          <p:nvPr/>
        </p:nvSpPr>
        <p:spPr>
          <a:xfrm>
            <a:off x="1285920" y="3143160"/>
            <a:ext cx="3357360" cy="285840"/>
          </a:xfrm>
          <a:prstGeom prst="wedgeRectCallout">
            <a:avLst>
              <a:gd name="adj1" fmla="val -49527"/>
              <a:gd name="adj2" fmla="val -19333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文件分类类目，可自己建立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Rechteckige Legende 4"/>
          <p:cNvSpPr/>
          <p:nvPr/>
        </p:nvSpPr>
        <p:spPr>
          <a:xfrm>
            <a:off x="1643040" y="4429080"/>
            <a:ext cx="3357720" cy="285840"/>
          </a:xfrm>
          <a:prstGeom prst="wedgeRectCallout">
            <a:avLst>
              <a:gd name="adj1" fmla="val -49527"/>
              <a:gd name="adj2" fmla="val -19333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用户所在的小组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hteckige Legende 4"/>
          <p:cNvSpPr/>
          <p:nvPr/>
        </p:nvSpPr>
        <p:spPr>
          <a:xfrm>
            <a:off x="3643200" y="2357280"/>
            <a:ext cx="3357720" cy="285840"/>
          </a:xfrm>
          <a:prstGeom prst="wedgeRectCallout">
            <a:avLst>
              <a:gd name="adj1" fmla="val 50625"/>
              <a:gd name="adj2" fmla="val -239787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可进行文件及文件内部关键字搜索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账户注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8" name="内容占位符 6" descr="注册.JPG"/>
          <p:cNvPicPr/>
          <p:nvPr/>
        </p:nvPicPr>
        <p:blipFill>
          <a:blip r:embed="rId2"/>
          <a:stretch/>
        </p:blipFill>
        <p:spPr>
          <a:xfrm>
            <a:off x="824040" y="1600200"/>
            <a:ext cx="3305160" cy="4525920"/>
          </a:xfrm>
          <a:prstGeom prst="rect">
            <a:avLst/>
          </a:prstGeom>
          <a:ln w="0">
            <a:noFill/>
          </a:ln>
        </p:spPr>
      </p:pic>
      <p:sp>
        <p:nvSpPr>
          <p:cNvPr id="19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用户首先在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www.mendeley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网页注册一个账户，然后下载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ndeley 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，安装登陆即可开始使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0" name="Picture 5" descr="联系网"/>
          <p:cNvPicPr/>
          <p:nvPr/>
        </p:nvPicPr>
        <p:blipFill>
          <a:blip r:embed="rId3"/>
          <a:stretch/>
        </p:blipFill>
        <p:spPr>
          <a:xfrm>
            <a:off x="4500720" y="4005360"/>
            <a:ext cx="3960720" cy="2484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移动端</a:t>
            </a: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App</a:t>
            </a: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（支持</a:t>
            </a: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IOS</a:t>
            </a: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3" name="Picture 4" descr="IMG_1121"/>
          <p:cNvPicPr/>
          <p:nvPr/>
        </p:nvPicPr>
        <p:blipFill>
          <a:blip r:embed="rId2"/>
          <a:stretch/>
        </p:blipFill>
        <p:spPr>
          <a:xfrm>
            <a:off x="828720" y="1341360"/>
            <a:ext cx="3024000" cy="5184720"/>
          </a:xfrm>
          <a:prstGeom prst="rect">
            <a:avLst/>
          </a:prstGeom>
          <a:ln w="0">
            <a:noFill/>
          </a:ln>
        </p:spPr>
      </p:pic>
      <p:pic>
        <p:nvPicPr>
          <p:cNvPr id="1994" name="Picture 5" descr="IMG_1125"/>
          <p:cNvPicPr/>
          <p:nvPr/>
        </p:nvPicPr>
        <p:blipFill>
          <a:blip r:embed="rId3"/>
          <a:stretch/>
        </p:blipFill>
        <p:spPr>
          <a:xfrm>
            <a:off x="4573440" y="1270080"/>
            <a:ext cx="3295800" cy="525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主要功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文献添加与组织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d and Organize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PDF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文件阅读与标注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ad and Annotate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备份、同步与移动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ackup, Sync and Mobile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网络与发现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twork and Discover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与全球同行协作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llaborate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4640-0C74-412B-85B7-892036D4871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042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一、添加文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添加本地文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直接拖动文件或文件夹到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mendeley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面板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从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file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中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add file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添加，选中想要添加的文件即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也可以导入其他文献管理工具中的文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0" name="Picture 4" descr=""/>
          <p:cNvPicPr/>
          <p:nvPr/>
        </p:nvPicPr>
        <p:blipFill>
          <a:blip r:embed="rId2"/>
          <a:stretch/>
        </p:blipFill>
        <p:spPr>
          <a:xfrm>
            <a:off x="357120" y="3000240"/>
            <a:ext cx="4318200" cy="2500560"/>
          </a:xfrm>
          <a:prstGeom prst="rect">
            <a:avLst/>
          </a:prstGeom>
          <a:ln w="0">
            <a:noFill/>
          </a:ln>
        </p:spPr>
      </p:pic>
      <p:pic>
        <p:nvPicPr>
          <p:cNvPr id="2001" name="图片 7" descr="添加文件.JPG"/>
          <p:cNvPicPr/>
          <p:nvPr/>
        </p:nvPicPr>
        <p:blipFill>
          <a:blip r:embed="rId3"/>
          <a:stretch/>
        </p:blipFill>
        <p:spPr>
          <a:xfrm>
            <a:off x="3429000" y="3333600"/>
            <a:ext cx="5610240" cy="3524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C7DC-58A0-423D-B771-EF76D55BC76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添加网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在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tools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中选择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Install Web Importer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就跳转到相关页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找出想要添加的网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将此                     图标添加到收藏夹，点击此链接，可自动检索网页上的文章并提供添加到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ndeley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的功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5" name="Picture 4" descr=""/>
          <p:cNvPicPr/>
          <p:nvPr/>
        </p:nvPicPr>
        <p:blipFill>
          <a:blip r:embed="rId2"/>
          <a:stretch/>
        </p:blipFill>
        <p:spPr>
          <a:xfrm>
            <a:off x="1500120" y="2143080"/>
            <a:ext cx="1371600" cy="314280"/>
          </a:xfrm>
          <a:prstGeom prst="rect">
            <a:avLst/>
          </a:prstGeom>
          <a:ln w="0">
            <a:noFill/>
          </a:ln>
        </p:spPr>
      </p:pic>
      <p:pic>
        <p:nvPicPr>
          <p:cNvPr id="2006" name="Picture 5" descr=""/>
          <p:cNvPicPr/>
          <p:nvPr/>
        </p:nvPicPr>
        <p:blipFill>
          <a:blip r:embed="rId3"/>
          <a:stretch/>
        </p:blipFill>
        <p:spPr>
          <a:xfrm>
            <a:off x="900000" y="2925720"/>
            <a:ext cx="7201080" cy="352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2:01:16Z</dcterms:created>
  <dc:creator>Administrator</dc:creator>
  <dc:description/>
  <dc:language>en-US</dc:language>
  <cp:lastModifiedBy>admin</cp:lastModifiedBy>
  <dcterms:modified xsi:type="dcterms:W3CDTF">2014-03-12T08:22:02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