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0C1-0BB7-4398-9E51-0C6E3F64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61E-5DBF-4E1B-B2EC-116F8F0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187-8B5E-4BDD-949E-927CFCEF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8CB-3DFC-4AA7-A714-60DC5309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59CE-E185-4BE3-8B88-B19CAA1F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E49-4AC3-4933-B706-65A70650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8023-E925-4968-B85D-6FA0BA68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1A15-DF95-40FE-988B-BBE3C31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F4C8-66B4-48CF-BB75-9334A0B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62FB-443D-4B3F-B7B6-904B01B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7D54-93D3-4343-BA54-E4690EB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636-A939-4681-A7DF-9B675313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1C5-5363-49F2-94CA-4685C9C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5FF8-3DC8-4696-A0E0-E4360AAA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4346-9F50-42C4-95E8-6CF3180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433-8D78-4232-A022-FDCE6528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E5D7-2E25-4F9C-8587-F9A87FB9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1C3-10F6-477A-B32F-1CF0456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666-3F50-44F9-9BD8-195CB1B8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B86-C726-4F70-B479-D8981375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966-AD69-4FFF-AE11-A6A0464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32E-82C2-41E6-B054-5C74929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054-9AF2-49BA-8F94-3221869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D14-480A-43FC-8906-20C796ED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1D5-D9F6-4A3A-8A65-038542C48EB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1A74-AF36-49D9-9410-A0D1B08A7B9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act.wisc.edu/Microtextbook/index.php?module=Book&amp;func=displayarticle&amp;art_id=137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RSA Treatment and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lecular Geometry/ Bondin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armaceutical Chemistry TI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: James Gorma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r. Philip Deshong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ncomycin – “Drug of Last Resort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comycin is a peptide-based antibiotic produc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ycolatopsis oriental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soil bac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ms, it cannot be administered orally but by 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ic compound which requires blood levels to be constantly monitored in the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comycin Hands-on Activ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han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9112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114800" y="2590920"/>
            <a:ext cx="4753080" cy="3809880"/>
            <a:chOff x="4114800" y="2590920"/>
            <a:chExt cx="4753080" cy="3809880"/>
          </a:xfrm>
        </p:grpSpPr>
        <p:grpSp>
          <p:nvGrpSpPr>
            <p:cNvPr id="124" name=""/>
            <p:cNvGrpSpPr/>
            <p:nvPr/>
          </p:nvGrpSpPr>
          <p:grpSpPr>
            <a:xfrm>
              <a:off x="4560840" y="2590920"/>
              <a:ext cx="4307040" cy="3809880"/>
              <a:chOff x="4560840" y="2590920"/>
              <a:chExt cx="4307040" cy="38098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5766840" y="2590920"/>
                <a:ext cx="1722600" cy="1560960"/>
                <a:chOff x="5766840" y="2590920"/>
                <a:chExt cx="1722600" cy="156096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5766840" y="2590920"/>
                  <a:ext cx="1377720" cy="1056240"/>
                  <a:chOff x="5766840" y="2590920"/>
                  <a:chExt cx="1377720" cy="10562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766840" y="2590920"/>
                    <a:ext cx="861120" cy="1056240"/>
                  </a:xfrm>
                  <a:prstGeom prst="rect">
                    <a:avLst/>
                  </a:prstGeom>
                  <a:solidFill>
                    <a:srgbClr val="ff99c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629760" y="2593440"/>
                    <a:ext cx="514800" cy="518400"/>
                  </a:xfrm>
                  <a:prstGeom prst="rect">
                    <a:avLst/>
                  </a:prstGeom>
                  <a:solidFill>
                    <a:srgbClr val="ff99c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455880" y="3286080"/>
                  <a:ext cx="1033560" cy="865800"/>
                  <a:chOff x="6455880" y="3286080"/>
                  <a:chExt cx="1033560" cy="8658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6455880" y="3633480"/>
                    <a:ext cx="1033560" cy="518400"/>
                  </a:xfrm>
                  <a:prstGeom prst="rect">
                    <a:avLst/>
                  </a:prstGeom>
                  <a:solidFill>
                    <a:srgbClr val="99ccf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629760" y="3286080"/>
                    <a:ext cx="859320" cy="347400"/>
                  </a:xfrm>
                  <a:prstGeom prst="rect">
                    <a:avLst/>
                  </a:prstGeom>
                  <a:solidFill>
                    <a:srgbClr val="99ccf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560840" y="2590920"/>
                <a:ext cx="4307040" cy="3809880"/>
                <a:chOff x="4560840" y="2590920"/>
                <a:chExt cx="4307040" cy="380988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60840" y="2590920"/>
                  <a:ext cx="4307040" cy="380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4905360" y="5024520"/>
                  <a:ext cx="861480" cy="86904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22320" y="4329360"/>
                  <a:ext cx="1033560" cy="104292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83800" y="4329360"/>
                  <a:ext cx="1378080" cy="104292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4114800" y="2767320"/>
              <a:ext cx="155052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L-vancosamine</a:t>
              </a:r>
              <a:endParaRPr b="0" lang="en-US" sz="1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8560" y="3459960"/>
              <a:ext cx="127440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D-glucose</a:t>
              </a:r>
              <a:endParaRPr b="0" lang="en-US" sz="1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comycin - Mechanis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ds into a bowl sha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termi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ys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 fits into this gro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hydrogen bond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40120" y="1981080"/>
            <a:ext cx="4110120" cy="4407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36840" y="62485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Knox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1990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comycin - Resist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 found in vancomycin producing bacteria as a set of 3 genes (VanA, H, and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replacement of termi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 with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2920" y="624852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Lessard and Walsh’s 1999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05360" cy="3178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X Mechanis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(II)-containing metalloenzyme which removes the terminal D-A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" y="62485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Mathews 2006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5791320" cy="369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181480"/>
            <a:ext cx="7924680" cy="9907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ffect of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Lact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fold reduction in affini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mine linking th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Ala’s changes to ket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iminates a hydrogen bo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oduces lone pair repulsion between carbonyl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nds-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duce this molecular change in peptidoglycan and point out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60880" y="6324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Bugg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et al. 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991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mework Assign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me one other class antibio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this class’ common targe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ketch the molecular structure of an antibiotic from this 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 a brief description of the molecular geometry of this compound and how it interacts with its target molec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s Ci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gg, Timothy; G. Wright, S. Dutka-Malen, M. Arthur, P. Courvailin, and C. Walsh. “Molecular Basis for Vancomycin Resistance in Enterococcus faecium BM4147: Biosynthesis of Depsipeptide Peptidoglycan Precursor by Vancomycin Resistance Proteins VanH and VanA.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iochemis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30 (1991):10408-104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itriev, Boris A., Filip V. Toukach, O. Holst, E. T. Rietschel, and S. Ehlers. “Tertiary Structure of Staphylococcus aureus Cell Wall Murein.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Journal of Bacteri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2004:7141–714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fferts, Jennifer F. “Schools trying to stay ahead of staph infections.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oston Glo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v. 11, 2007: 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sard, Ivan; Walsh, Christopher. “VanX, a bacterial D-alanyl-D-alanine dipeptidase: Resistance, immunity, or survival function?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c. Natl. Aced. Sc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96 1999:11028-1103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x, James R. and R. F. Pratt Antimicrobial Agents and Chemotherapy. 34(7) 1990:1342-134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ustian, T, comp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crobiology and Bacteriology: the World of Microb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2006. 31 Dec. 2007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bact.wisc.edu/Microtextbook/index.php?module=Book&amp;func=displayarticle&amp;art_id=1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acock, S. J., de Silva, I. &amp; Lowy, F. D. “What determines nasal carriage of Staphylococcus aureus?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rends Microbio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9 (2001):605–6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rm-up Activi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on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here are several types of staph infections, the one causing concern among health professions is methicillin-resistant staphylococcus aureus, or MRSA, a bacterium that is resistant to certain types of antibiotics. Several cases of MRSA have been confirmed in Massachusetts this fall, including schools in Winchester and Wrentha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617220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5760" y="601992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Lefferts, Jennifer F. 2007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phylococcus aur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Wall - Importance and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Wall -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Wall – Antibiotic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methicillin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comy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comycin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. aureu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Prevalenc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 Nasal Colonization of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anently - 2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ient - 6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- 2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5000" y="62485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Peacock et al. 2001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95680" y="563868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EM image of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S. aureus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(Paustian 2006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819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ell Wall – Importance &amp; Struc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ly supports the more flimsy cell membr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-40 nm th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32400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ptidogly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32400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ichoic ac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32400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rface prot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144" t="5301" r="3548" b="16333"/>
          <a:stretch/>
        </p:blipFill>
        <p:spPr>
          <a:xfrm>
            <a:off x="3962520" y="2666880"/>
            <a:ext cx="4800600" cy="295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94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Todar 2005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Wall – Constru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-3427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ptidoglycan mon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di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taglycine cross-li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ransglycos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utside of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ranspeptida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3117" b="18892"/>
          <a:stretch/>
        </p:blipFill>
        <p:spPr>
          <a:xfrm>
            <a:off x="4038480" y="1905120"/>
            <a:ext cx="4819680" cy="426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75440" y="62485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Fluit and Schmitz 2003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ptidoglycan Activ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hand out for hands-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553080" cy="378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18440" y="63244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Dmitriev 2004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ptidoglycan Cross-lin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ycan chain adopts helical structure allowing the pentapeptide chains to adopt a zigzag conformation facilitating the construction of a scaffold-like cell wal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2120" y="6248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Dmitriev 2004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6172200" cy="207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080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Wall – Antibiotic Targ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ms compete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 portion of peptidoglycan inhibiting cross-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 figh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gra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137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70240" y="6324480"/>
            <a:ext cx="65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http://sitemaker.umich.edu/medchem9/penicillin_pharmacology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30:58Z</dcterms:created>
  <dc:creator>James Gorman</dc:creator>
  <dc:description/>
  <cp:keywords/>
  <dc:language>en-US</dc:language>
  <cp:lastModifiedBy>James Gorman</cp:lastModifiedBy>
  <dcterms:modified xsi:type="dcterms:W3CDTF">2008-02-17T20:25:26Z</dcterms:modified>
  <cp:revision>36</cp:revision>
  <dc:subject/>
  <dc:title>MRSA Inf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