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E5ED-24FB-4B8A-A23B-EB71D82A9E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5669-619F-4BEC-94CE-E0B63397FB9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CDEA-F7FB-47DF-BA7C-361E1A7E26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EB5E-9AEB-4E96-AE3D-8485C76ABEA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E85D-A166-4756-ACAB-2C70481B13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55DC-4CEE-40D4-8644-DCC0F35215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15DC-A061-4C28-AE26-F2B1C7D928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CBE7-7618-48E6-B063-1F487A44FF7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FEF9-82C6-4E11-BC8F-0C4F318484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8087-6411-4DB0-9E8C-65967C6F0A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C708-CA49-4C5E-B6D4-6E544E6BD4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D18-D420-4C37-82E0-913ED687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74D-2BE8-42BD-A7C6-08EEA395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99A-5F07-4D51-896B-1F797B58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261-320D-4FDC-B560-4305ED3B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638-A6BC-45E9-81D6-9AB5EF83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30B-5338-44F0-B706-6DBF4D99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5B2-C0D6-40A8-8E10-295C9D4E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18E-EFEA-4B41-AE3B-55831306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93C-EF09-4EF2-A15F-CF78FFC2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5CC-25FA-44F7-9241-39F7C272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B1D-8683-485C-897D-F434CC21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577-835B-4E18-9520-E1C3683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ACFE-385E-4337-8557-12241173E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K_0DHgxfdA" TargetMode="External"/><Relationship Id="rId2" Type="http://schemas.openxmlformats.org/officeDocument/2006/relationships/hyperlink" Target="http://www.youtube.com/watch?v=pK_0DHgxfdA" TargetMode="External"/><Relationship Id="rId3" Type="http://schemas.openxmlformats.org/officeDocument/2006/relationships/hyperlink" Target="http://www.youtube.com/watch?v=pK_0DHgxfdA" TargetMode="External"/><Relationship Id="rId4" Type="http://schemas.openxmlformats.org/officeDocument/2006/relationships/hyperlink" Target="http://www.youtube.com/watch?v=pK_0DHgxfdA" TargetMode="External"/><Relationship Id="rId5" Type="http://schemas.openxmlformats.org/officeDocument/2006/relationships/hyperlink" Target="http://www.youtube.com/watch?v=pK_0DHgxfdA" TargetMode="External"/><Relationship Id="rId6" Type="http://schemas.openxmlformats.org/officeDocument/2006/relationships/hyperlink" Target="http://www.youtube.com/watch?v=pK_0DHgxfdA" TargetMode="External"/><Relationship Id="rId7" Type="http://schemas.openxmlformats.org/officeDocument/2006/relationships/hyperlink" Target="http://www.youtube.com/watch?v=pK_0DHgxfdA" TargetMode="External"/><Relationship Id="rId8" Type="http://schemas.openxmlformats.org/officeDocument/2006/relationships/hyperlink" Target="http://www.youtube.com/watch?v=pK_0DHgxfdA" TargetMode="External"/><Relationship Id="rId9" Type="http://schemas.openxmlformats.org/officeDocument/2006/relationships/hyperlink" Target="http://www.youtube.com/watch?v=pK_0DHgxfdA" TargetMode="External"/><Relationship Id="rId10" Type="http://schemas.openxmlformats.org/officeDocument/2006/relationships/hyperlink" Target="http://www.youtube.com/watch?v=9C-SjuP0wZo&amp;feature=related" TargetMode="External"/><Relationship Id="rId11" Type="http://schemas.openxmlformats.org/officeDocument/2006/relationships/hyperlink" Target="http://www.youtube.com/watch?v=9C-SjuP0wZo&amp;feature=related" TargetMode="External"/><Relationship Id="rId12" Type="http://schemas.openxmlformats.org/officeDocument/2006/relationships/hyperlink" Target="http://www.youtube.com/watch?v=9C-SjuP0wZo&amp;feature=related" TargetMode="External"/><Relationship Id="rId13" Type="http://schemas.openxmlformats.org/officeDocument/2006/relationships/hyperlink" Target="http://www.youtube.com/watch?v=9C-SjuP0wZo&amp;feature=related" TargetMode="External"/><Relationship Id="rId14" Type="http://schemas.openxmlformats.org/officeDocument/2006/relationships/hyperlink" Target="http://www.youtube.com/watch?v=9C-SjuP0wZo&amp;feature=related" TargetMode="External"/><Relationship Id="rId15" Type="http://schemas.openxmlformats.org/officeDocument/2006/relationships/hyperlink" Target="http://www.youtube.com/watch?v=9C-SjuP0wZo&amp;feature=related" TargetMode="External"/><Relationship Id="rId16" Type="http://schemas.openxmlformats.org/officeDocument/2006/relationships/hyperlink" Target="http://www.youtube.com/watch?v=9C-SjuP0wZo&amp;feature=related" TargetMode="External"/><Relationship Id="rId17" Type="http://schemas.openxmlformats.org/officeDocument/2006/relationships/hyperlink" Target="http://www.youtube.com/watch?v=9C-SjuP0wZo&amp;feature=related" TargetMode="External"/><Relationship Id="rId18" Type="http://schemas.openxmlformats.org/officeDocument/2006/relationships/hyperlink" Target="http://www.youtube.com/watch?v=9C-SjuP0wZo&amp;feature=related" TargetMode="External"/><Relationship Id="rId19" Type="http://schemas.openxmlformats.org/officeDocument/2006/relationships/hyperlink" Target="http://www.youtube.com/watch?v=9C-SjuP0wZo&amp;feature=related" TargetMode="External"/><Relationship Id="rId20" Type="http://schemas.openxmlformats.org/officeDocument/2006/relationships/hyperlink" Target="http://www.youtube.com/watch?v=9C-SjuP0wZo&amp;feature=related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58ed5"/>
                </a:solidFill>
                <a:latin typeface="Showcard Gothic"/>
                <a:ea typeface="Tahoma"/>
              </a:rPr>
              <a:t>Acollida  </a:t>
            </a:r>
            <a:r>
              <a:rPr b="1" i="1" lang="es-ES" sz="4400" spc="-1" strike="noStrike">
                <a:solidFill>
                  <a:srgbClr val="558ed5"/>
                </a:solidFill>
                <a:latin typeface="Showcard Gothic"/>
                <a:ea typeface="Tahoma"/>
              </a:rPr>
              <a:t>       ESO </a:t>
            </a:r>
            <a:r>
              <a:rPr b="1" i="1" lang="es-ES" sz="3200" spc="-1" strike="noStrike">
                <a:solidFill>
                  <a:srgbClr val="558ed5"/>
                </a:solidFill>
                <a:latin typeface="Showcard Gothic"/>
                <a:ea typeface="Tahoma"/>
              </a:rPr>
              <a:t>Curs 201 _-201 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39560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BENVING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         </a:t>
            </a: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curs ESO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Grup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ES Fòrum 2004!!"/>
          <p:cNvPicPr/>
          <p:nvPr/>
        </p:nvPicPr>
        <p:blipFill>
          <a:blip r:embed="rId2"/>
          <a:stretch/>
        </p:blipFill>
        <p:spPr>
          <a:xfrm>
            <a:off x="4788000" y="4076640"/>
            <a:ext cx="3814560" cy="20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pemb.cat/wp-content/uploads/2011/04/forum1.jpg"/>
          <p:cNvPicPr/>
          <p:nvPr/>
        </p:nvPicPr>
        <p:blipFill>
          <a:blip r:embed="rId3"/>
          <a:stretch/>
        </p:blipFill>
        <p:spPr>
          <a:xfrm>
            <a:off x="5003640" y="1773360"/>
            <a:ext cx="3240360" cy="231444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118728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558ed5"/>
                </a:solidFill>
                <a:latin typeface="Tahoma"/>
                <a:ea typeface="Tahoma"/>
              </a:rPr>
              <a:t>Institut </a:t>
            </a:r>
            <a:r>
              <a:rPr b="1" i="1" lang="es-ES" sz="3200" spc="-1" strike="noStrike">
                <a:solidFill>
                  <a:srgbClr val="558ed5"/>
                </a:solidFill>
                <a:latin typeface="Showcard Gothic"/>
                <a:ea typeface="Tahoma"/>
              </a:rPr>
              <a:t>Fòrum</a:t>
            </a:r>
            <a:r>
              <a:rPr b="1" i="1" lang="es-ES" sz="3200" spc="-1" strike="noStrike">
                <a:solidFill>
                  <a:srgbClr val="558ed5"/>
                </a:solidFill>
                <a:latin typeface="Tahoma"/>
                <a:ea typeface="Tahoma"/>
              </a:rPr>
              <a:t>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6975000" y="623736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Tahoma"/>
                <a:ea typeface="Tahoma"/>
              </a:rPr>
              <a:t>93  381 18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80"/>
                </a:solidFill>
                <a:latin typeface="Showcard Gothic"/>
              </a:rPr>
              <a:t>Que He DE FER  si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He faltat a clas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sé que he de falt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orno al centre després d’unes setmanes d’absènc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em trobo malament al cent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eig que arribaré tar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una companya em fa la vida im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sóc jo el que fa la vida im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Amb el material quan acaben les clas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m’he oblidat el material a cas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no em funciona bé l’ordin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80"/>
                </a:solidFill>
                <a:latin typeface="Showcard Gothic"/>
              </a:rPr>
              <a:t>Que He DE FER  si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 fer servir l’ordinador a l’hora del pat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faig servir l’ordinador al centre per temes que no són de clas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porto sobre el mòbil o qualsevol aparell electròn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m’han manat deures a cas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l anar al lavab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inc ganes de menjar o be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inc educació físic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alguna raó m’impedeix fer educació físic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hi ha alguna sortid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80"/>
                </a:solidFill>
                <a:latin typeface="Showcard Gothic"/>
              </a:rPr>
              <a:t>Que He DE FER  si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no estic d’acord amb les not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un/a professor/a no em tracta com cal o em té ma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inc alguna queixa, comentari o suggeriment sobre l’aula, o classes en gener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l organitzar algun esdeveniment al cen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l participar en alguna activitat extraescol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31859c"/>
                </a:solidFill>
                <a:latin typeface="Showcard Gothic"/>
                <a:ea typeface="Tahoma"/>
              </a:rPr>
              <a:t>Inici de 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1557000"/>
            <a:ext cx="82184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Dijous, 13/09 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– Acollida de 3r ESO de 10 a 13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Divendres, 14/09 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– De 10 a 13 h - </a:t>
            </a:r>
            <a:r>
              <a:rPr b="0" lang="ca-ES" sz="2400" spc="-1" strike="noStrike">
                <a:solidFill>
                  <a:srgbClr val="31859c"/>
                </a:solidFill>
                <a:latin typeface="Showcard Gothic"/>
                <a:ea typeface="Tahoma"/>
              </a:rPr>
              <a:t>Proves de nivell: català, castellà i matemàtiques. Lloc: a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Setmana vinent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: horari de 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Dilluns, 17/09 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- 17 h – Reunió amb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Showcard Gothic"/>
                <a:ea typeface="Tahoma"/>
              </a:rPr>
              <a:t>Oh Benvinguts passeu passeu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4 CuadroTexto"/>
          <p:cNvSpPr/>
          <p:nvPr/>
        </p:nvSpPr>
        <p:spPr>
          <a:xfrm>
            <a:off x="3348000" y="638172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Tahoma"/>
                <a:ea typeface="Tahoma"/>
              </a:rPr>
              <a:t>           </a:t>
            </a:r>
            <a:r>
              <a:rPr b="1" lang="es-ES" sz="2000" spc="-1" strike="noStrike">
                <a:solidFill>
                  <a:srgbClr val="376092"/>
                </a:solidFill>
                <a:latin typeface="Tahoma"/>
                <a:ea typeface="Tahoma"/>
              </a:rPr>
              <a:t>Institut Fòrum 2004, setem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2118240"/>
            <a:ext cx="9144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howcard Gothic"/>
              </a:rPr>
              <a:t>Qualsevol nit pot sortir el sol! Los Manol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3"/>
              </a:rPr>
              <a:t>www.youtube.com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4"/>
              </a:rPr>
              <a:t>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5"/>
              </a:rPr>
              <a:t>watch?v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6"/>
              </a:rPr>
              <a:t>=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7"/>
              </a:rPr>
              <a:t>pK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8"/>
              </a:rPr>
              <a:t>_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9"/>
              </a:rPr>
              <a:t>0DHgxfdA</a:t>
            </a:r>
            <a:r>
              <a:rPr b="0" lang="es-ES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howcard Gothic"/>
              </a:rPr>
              <a:t>Qualsevol nit pot sortir el Sol - Jaume Sisa - Palau de la Música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0"/>
              </a:rPr>
              <a:t>http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1"/>
              </a:rPr>
              <a:t>:/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2"/>
              </a:rPr>
              <a:t>www.youtube.com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3"/>
              </a:rPr>
              <a:t>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4"/>
              </a:rPr>
              <a:t>watch?v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5"/>
              </a:rPr>
              <a:t>=9C-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6"/>
              </a:rPr>
              <a:t>SjuP0wZo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7"/>
              </a:rPr>
              <a:t>&amp;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8"/>
              </a:rPr>
              <a:t>feature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9"/>
              </a:rPr>
              <a:t>=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20"/>
              </a:rPr>
              <a:t>related</a:t>
            </a:r>
            <a:r>
              <a:rPr b="0" lang="es-ES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558ed5"/>
                </a:solidFill>
                <a:latin typeface="Showcard Gothic"/>
                <a:ea typeface="Tahoma"/>
              </a:rPr>
              <a:t>L’institut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TRES OBJECTIUS IMPORTANTS I PRIORITAR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Convivència- resp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Responsabil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Aprenentat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774800" cy="18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2179440" cy="151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musicbulletinboards.net/images/respect.jpg"/>
          <p:cNvPicPr/>
          <p:nvPr/>
        </p:nvPicPr>
        <p:blipFill>
          <a:blip r:embed="rId3"/>
          <a:stretch/>
        </p:blipFill>
        <p:spPr>
          <a:xfrm>
            <a:off x="5003640" y="3789360"/>
            <a:ext cx="38163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e46c0a"/>
                </a:solidFill>
                <a:latin typeface="Tahoma"/>
                <a:ea typeface="Tahoma"/>
              </a:rPr>
              <a:t>Normes de convivèn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Assistència: matins i tard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46c0a"/>
                </a:solidFill>
                <a:latin typeface="Calibri"/>
              </a:rPr>
              <a:t>Puntualitat: 8.30 h / 15 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Lavabo: hora del pat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46c0a"/>
                </a:solidFill>
                <a:latin typeface="Calibri"/>
              </a:rPr>
              <a:t>Material : portàtil, bolígraf, llibreta, 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s-ES" sz="30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i="1" lang="es-ES" sz="3000" spc="-1" strike="noStrike">
                <a:solidFill>
                  <a:srgbClr val="e46c0a"/>
                </a:solidFill>
                <a:latin typeface="Calibri"/>
              </a:rPr>
              <a:t>No deixar material a l’aul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i="1" lang="es-ES" sz="3000" spc="-1" strike="noStrike">
                <a:solidFill>
                  <a:srgbClr val="e46c0a"/>
                </a:solidFill>
                <a:latin typeface="Calibri"/>
              </a:rPr>
              <a:t>(Esmorzar a casa i al pati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Respecte i comporta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46c0a"/>
                </a:solidFill>
                <a:latin typeface="Calibri"/>
              </a:rPr>
              <a:t>Interès i trebal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Delegat/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4.bp.blogspot.com/_cMnXymcNtjo/S9MHfeAt_6I/AAAAAAAAAkM/b_aHr3-zLVQ/s1600/p84_on_time.jpg"/>
          <p:cNvPicPr/>
          <p:nvPr/>
        </p:nvPicPr>
        <p:blipFill>
          <a:blip r:embed="rId1"/>
          <a:stretch/>
        </p:blipFill>
        <p:spPr>
          <a:xfrm>
            <a:off x="6372360" y="333360"/>
            <a:ext cx="248760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2time-sys.com/commerce/pics/workbook.jpg"/>
          <p:cNvPicPr/>
          <p:nvPr/>
        </p:nvPicPr>
        <p:blipFill>
          <a:blip r:embed="rId2"/>
          <a:stretch/>
        </p:blipFill>
        <p:spPr>
          <a:xfrm>
            <a:off x="6653160" y="3645000"/>
            <a:ext cx="2490840" cy="24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t1.gstatic.com/images?q=tbn:ANd9GcSp3zG0MeiBeiDigsvRYq-A5MtDfHY1v_qcKOB4iczuk5GnlLpa"/>
          <p:cNvPicPr/>
          <p:nvPr/>
        </p:nvPicPr>
        <p:blipFill>
          <a:blip r:embed="rId3"/>
          <a:stretch/>
        </p:blipFill>
        <p:spPr>
          <a:xfrm>
            <a:off x="4284720" y="450864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wiglu.com/cool/kit-shoes/main/diadora-equipe-trainers.jpeg"/>
          <p:cNvPicPr/>
          <p:nvPr/>
        </p:nvPicPr>
        <p:blipFill>
          <a:blip r:embed="rId4"/>
          <a:stretch/>
        </p:blipFill>
        <p:spPr>
          <a:xfrm>
            <a:off x="2700360" y="5361120"/>
            <a:ext cx="18716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76092"/>
                </a:solidFill>
                <a:latin typeface="Tahoma"/>
                <a:ea typeface="Tahoma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98064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46c0a"/>
                </a:solidFill>
                <a:latin typeface="Tahoma"/>
                <a:ea typeface="Tahoma"/>
              </a:rPr>
              <a:t>Lot motxilla, llibretes, material  - </a:t>
            </a:r>
            <a:r>
              <a:rPr b="1" lang="ca-ES" sz="2800" spc="-1" strike="noStrike">
                <a:solidFill>
                  <a:srgbClr val="984807"/>
                </a:solidFill>
                <a:latin typeface="Tahoma"/>
                <a:ea typeface="Tahoma"/>
              </a:rPr>
              <a:t>1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46c0a"/>
                </a:solidFill>
                <a:latin typeface="Tahoma"/>
                <a:ea typeface="Tahoma"/>
              </a:rPr>
              <a:t>Material divers curs – </a:t>
            </a:r>
            <a:r>
              <a:rPr b="1" lang="ca-ES" sz="2800" spc="-1" strike="noStrike">
                <a:solidFill>
                  <a:srgbClr val="984807"/>
                </a:solidFill>
                <a:latin typeface="Tahoma"/>
                <a:ea typeface="Tahoma"/>
              </a:rPr>
              <a:t>5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e46c0a"/>
                </a:solidFill>
                <a:latin typeface="Tahoma"/>
                <a:ea typeface="Tahoma"/>
              </a:rPr>
              <a:t>Connexió a internet, fotocòpies, materials...</a:t>
            </a:r>
            <a:r>
              <a:rPr b="1" i="1" lang="ca-ES" sz="2000" spc="-1" strike="noStrike">
                <a:solidFill>
                  <a:srgbClr val="e46c0a"/>
                </a:solidFill>
                <a:latin typeface="Tahoma"/>
                <a:ea typeface="Tahoma"/>
              </a:rPr>
              <a:t>Sort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46c0a"/>
                </a:solidFill>
                <a:latin typeface="Tahoma"/>
                <a:ea typeface="Tahoma"/>
              </a:rPr>
              <a:t>Llicència llibres digitals – </a:t>
            </a:r>
            <a:r>
              <a:rPr b="1" lang="ca-ES" sz="2800" spc="-1" strike="noStrike">
                <a:solidFill>
                  <a:srgbClr val="984807"/>
                </a:solidFill>
                <a:latin typeface="Tahoma"/>
                <a:ea typeface="Tahoma"/>
              </a:rPr>
              <a:t>3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t1.gstatic.com/images?q=tbn:ANd9GcS0AWAWTY2cSV2jJxRwW-cDa6oGs3tHF8pYxGQHaiBflv9nilkKkA"/>
          <p:cNvPicPr/>
          <p:nvPr/>
        </p:nvPicPr>
        <p:blipFill>
          <a:blip r:embed="rId1"/>
          <a:stretch/>
        </p:blipFill>
        <p:spPr>
          <a:xfrm>
            <a:off x="179280" y="155736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s://encrypted-tbn3.google.com/images?q=tbn:ANd9GcSQShqBnAaZv5k266X7rQ6sPFyUCOUN3-HdS6lmNaGIAzLxiTBq"/>
          <p:cNvPicPr/>
          <p:nvPr/>
        </p:nvPicPr>
        <p:blipFill>
          <a:blip r:embed="rId2"/>
          <a:stretch/>
        </p:blipFill>
        <p:spPr>
          <a:xfrm>
            <a:off x="3995640" y="162864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t3.gstatic.com/images?q=tbn:ANd9GcSDSa65DZJqGN3crwp1ZlZFSSVQyfO0J6UtI4c_-JSiMYIAXpD6"/>
          <p:cNvPicPr/>
          <p:nvPr/>
        </p:nvPicPr>
        <p:blipFill>
          <a:blip r:embed="rId3"/>
          <a:stretch/>
        </p:blipFill>
        <p:spPr>
          <a:xfrm>
            <a:off x="1692360" y="2133720"/>
            <a:ext cx="1871640" cy="142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t0.gstatic.com/images?q=tbn:ANd9GcRZFo3BPKWyylJhihIy_WfLJBKCAVBxf3ZX3j-5_c5Nk2qwhWNp"/>
          <p:cNvPicPr/>
          <p:nvPr/>
        </p:nvPicPr>
        <p:blipFill>
          <a:blip r:embed="rId4"/>
          <a:stretch/>
        </p:blipFill>
        <p:spPr>
          <a:xfrm>
            <a:off x="5867280" y="1844640"/>
            <a:ext cx="1679760" cy="1563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t1.gstatic.com/images?q=tbn:ANd9GcTMyq48Ja9vFIAziTPZbsKsec9G8lfJ4zd6-IPUtQM7imroQMFA3g"/>
          <p:cNvPicPr/>
          <p:nvPr/>
        </p:nvPicPr>
        <p:blipFill>
          <a:blip r:embed="rId5"/>
          <a:stretch/>
        </p:blipFill>
        <p:spPr>
          <a:xfrm>
            <a:off x="7740720" y="1916280"/>
            <a:ext cx="898560" cy="1064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t3.gstatic.com/images?q=tbn:ANd9GcRTbl_XisW-BASQvdNAY0zwmMHMjhAFU7ek0YOoYbrvHxNSh_jsFQ"/>
          <p:cNvPicPr/>
          <p:nvPr/>
        </p:nvPicPr>
        <p:blipFill>
          <a:blip r:embed="rId6"/>
          <a:stretch/>
        </p:blipFill>
        <p:spPr>
          <a:xfrm>
            <a:off x="6227640" y="4869000"/>
            <a:ext cx="269568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9 Llamada ovalada"/>
          <p:cNvSpPr/>
          <p:nvPr/>
        </p:nvSpPr>
        <p:spPr>
          <a:xfrm>
            <a:off x="6443640" y="189000"/>
            <a:ext cx="2376360" cy="71892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6804000" y="40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70c0"/>
                </a:solidFill>
                <a:latin typeface="Action Man Shaded"/>
              </a:rPr>
              <a:t>Novet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1 Elipse"/>
          <p:cNvSpPr/>
          <p:nvPr/>
        </p:nvSpPr>
        <p:spPr>
          <a:xfrm>
            <a:off x="5219640" y="4221000"/>
            <a:ext cx="1297080" cy="648000"/>
          </a:xfrm>
          <a:prstGeom prst="ellipse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e46c0a"/>
                </a:solidFill>
                <a:latin typeface="Showcard Gothic"/>
                <a:ea typeface="Tahoma"/>
              </a:rPr>
              <a:t>Quins companys i quines companyes tindré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7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8"/>
          <p:cNvSpPr/>
          <p:nvPr/>
        </p:nvSpPr>
        <p:spPr>
          <a:xfrm>
            <a:off x="4419720" y="3276720"/>
            <a:ext cx="12528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58ed5"/>
                </a:solidFill>
                <a:latin typeface="Showcard Gothic"/>
                <a:ea typeface="Tahoma"/>
              </a:rPr>
              <a:t>Quins professors i quines matèries tindré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Showcard Gothic"/>
              </a:rPr>
              <a:t>QUIN HORARI FARÉ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76092"/>
                </a:solidFill>
                <a:latin typeface="Showcard Gothic"/>
                <a:ea typeface="Tahoma"/>
              </a:rPr>
              <a:t>Documents impor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706752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Carta de compromí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Autorització de sor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Drets d’imat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376092"/>
                </a:solidFill>
                <a:latin typeface="Tahoma"/>
                <a:ea typeface="Tahoma"/>
              </a:rPr>
              <a:t>          </a:t>
            </a:r>
            <a:r>
              <a:rPr b="0" i="1" lang="ca-ES" sz="3200" spc="-1" strike="noStrike">
                <a:solidFill>
                  <a:srgbClr val="376092"/>
                </a:solidFill>
                <a:latin typeface="Tahoma"/>
                <a:ea typeface="Tahoma"/>
              </a:rPr>
              <a:t>Signats per la famí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terminemosconlapobrezainfantil.eu/fileadmin/user_upload/images/family.jpg"/>
          <p:cNvPicPr/>
          <p:nvPr/>
        </p:nvPicPr>
        <p:blipFill>
          <a:blip r:embed="rId1"/>
          <a:stretch/>
        </p:blipFill>
        <p:spPr>
          <a:xfrm>
            <a:off x="5724360" y="4005360"/>
            <a:ext cx="2698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e46c0a"/>
                </a:solidFill>
                <a:latin typeface="Tahoma"/>
                <a:ea typeface="Tahoma"/>
              </a:rPr>
              <a:t>Col·laboració alumnat, famílies i professorat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Tahoma"/>
                <a:ea typeface="Tahoma"/>
              </a:rPr>
              <a:t>Reunions gener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84807"/>
                </a:solidFill>
                <a:latin typeface="Tahoma"/>
                <a:ea typeface="Tahoma"/>
              </a:rPr>
              <a:t>(Primera: dilluns, 17.09.12 a les 17 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Tahoma"/>
                <a:ea typeface="Tahoma"/>
              </a:rPr>
              <a:t>Entrevistes amb les famíl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Tahoma"/>
                <a:ea typeface="Tahoma"/>
              </a:rPr>
              <a:t>Comunicació amb l’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stacysrandomthoughts.com/http:/stacysrandomthoughts.com/wp-content/2011/05/ReunionSign.jpg"/>
          <p:cNvPicPr/>
          <p:nvPr/>
        </p:nvPicPr>
        <p:blipFill>
          <a:blip r:embed="rId1"/>
          <a:stretch/>
        </p:blipFill>
        <p:spPr>
          <a:xfrm>
            <a:off x="1908000" y="4941720"/>
            <a:ext cx="2192400" cy="14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t2.gstatic.com/images?q=tbn:ANd9GcRvbrjv95pvexyzl-lDWTX1vnGXBUgMxTFC3Z0lfYozNf65dpCd4Q"/>
          <p:cNvPicPr/>
          <p:nvPr/>
        </p:nvPicPr>
        <p:blipFill>
          <a:blip r:embed="rId2"/>
          <a:stretch/>
        </p:blipFill>
        <p:spPr>
          <a:xfrm>
            <a:off x="6443640" y="3949560"/>
            <a:ext cx="18748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22:07:07Z</dcterms:created>
  <dc:creator>Marta del Campo</dc:creator>
  <dc:description/>
  <dc:language>en-US</dc:language>
  <cp:lastModifiedBy>pc</cp:lastModifiedBy>
  <dcterms:modified xsi:type="dcterms:W3CDTF">2013-11-04T00:00:20Z</dcterms:modified>
  <cp:revision>57</cp:revision>
  <dc:subject/>
  <dc:title>Acollida  Grup 1r ESO A</dc:title>
</cp:coreProperties>
</file>