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60E-6882-456C-BAC6-DEF6107F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E1CF-AF3F-4679-9574-28864405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CB8-44CD-40B8-AEC9-C8C9ABE8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F84-7C73-4F51-9121-A881DAD3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35B-C3A7-42AA-97D8-71573FC6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1D0-7FA5-4A9D-8111-4BBFDB0F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C23-6170-441D-BF18-3224A2F3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32D-293D-4FE2-BA32-508CBF1B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F2E-DD16-42D5-9245-99CCFE0A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BFF7-DB4F-4A13-9225-9514F27F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839-A301-461A-9EBC-7D6089B2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3FA-4EAC-4F7C-8BCC-89CB00C4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6DA2-7957-4A30-B4BC-8075CCFA8CA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rdle.net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aps.google.es/" TargetMode="External"/><Relationship Id="rId2" Type="http://schemas.openxmlformats.org/officeDocument/2006/relationships/hyperlink" Target="http://www.google.es/intl/es/earth/index.html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klikatekla.wikispaces.com/Im&#225;genes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sites.google.com/site/portafoliplantill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oki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Pecha_Kucha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thinglink.com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docs.google.com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581280" cy="3224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4495680" cy="3657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15 actividades digitales para comenzar el curso y trabajar cooperativam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ahoma"/>
              </a:rPr>
              <a:t>Pilar Etxebar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ahoma"/>
              </a:rPr>
              <a:t>Leioako Berritzegu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berri"/>
          <p:cNvPicPr/>
          <p:nvPr/>
        </p:nvPicPr>
        <p:blipFill>
          <a:blip r:embed="rId2"/>
          <a:stretch/>
        </p:blipFill>
        <p:spPr>
          <a:xfrm>
            <a:off x="304920" y="4724280"/>
            <a:ext cx="988920" cy="1752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3"/>
          <a:stretch/>
        </p:blipFill>
        <p:spPr>
          <a:xfrm>
            <a:off x="5791320" y="990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ahoma"/>
              </a:rPr>
              <a:t>8. RETRATO </a:t>
            </a:r>
            <a:r>
              <a:rPr b="0" lang="es-ES" sz="4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WORD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b900"/>
                </a:solidFill>
                <a:latin typeface="Tahoma"/>
              </a:rPr>
              <a:t>Realiza una dinámica para cohesionar la cl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cada grupo, los estudiantes hacen una encuesta de aficiones y gustos entre ellos/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grupo hace un Wordle  con los resultados y lo coloca en su Wi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 continuación, haces una dinámica. Vete diciendo: “poneos en pie los que más les gusta...e id hacia...” y los colocas en una zona de la clase y así sucesivamente hasta formar un “Wordle” de 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648320" y="533520"/>
            <a:ext cx="388620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Tahoma"/>
              </a:rPr>
              <a:t>9. MI MOCHI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ahoma"/>
              </a:rPr>
              <a:t>Comparte lo que les puede ayudar a superar el cur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de a cada alumno/a que busque 5 imágenes en la Red que representen acciones, valores, cosas, sentimientos, personas, ideas...que pueden ayudarles a superar el cu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pian las imágenes en un documento de texto o dia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grupos de cuatro, cada uno y por turnos, escoge una de las imágenes y explica a los demás porque la ha elegido. Así hasta agotar todas las imáge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i hay coincidencia o imagen similar, el que la ha pensado comparte con el compañero que esta exponie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571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6600"/>
                </a:solidFill>
                <a:latin typeface="Tahoma"/>
              </a:rPr>
              <a:t>10. VACACIONES MAPE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ahoma"/>
              </a:rPr>
              <a:t>Introduce la búsqueda y los map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busca en Internet una foto del lugar donde ha pasado las vacaciones y se la envía por e-mail a un compañero/a con unas pistas escr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compañero/a tiene que adivinar que lugar es y buscar  una pequeña información sobre él: nombre,  CCAA o país, porqué cree que la foto representa a ese lugar o le ha gustado al que se la ha mandado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bre en la pizarra digital un 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ogle maps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Google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señala en el mapa el sitio y explica a los demás: “ mi compañero/a .....ha pasado las vacaciones en ..... Y me ha enviado una foto de....porque creo que...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 continuación el que ha enviado la foto dice si ha acertado o no y porque la ha eleg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6172200" y="304920"/>
            <a:ext cx="229536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9900"/>
                </a:solidFill>
                <a:latin typeface="Tahoma"/>
              </a:rPr>
              <a:t>11. CONOCE TU CEN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ahoma"/>
              </a:rPr>
              <a:t>Presenta el centro haciendo que investiguen en su página We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para un pequeño cuestionario con los datos básicos del centro, horarios, calendario, profesorado, plano...con preguntas del tipo: ¿a qué hora podéis ir a la bibliote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r grupos, los alumnos/as investigan en la página Web del centro y van anotando los datos solicitados en una agenda 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00cc"/>
                </a:solidFill>
                <a:latin typeface="Tahoma"/>
              </a:rPr>
              <a:t>12. AVATAR/LO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b900"/>
                </a:solidFill>
                <a:latin typeface="Tahoma"/>
              </a:rPr>
              <a:t>Cada grupo diseña su avatar / Logo con la técnica del grupo nom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piensa en tres avatares-logos posibles para su equipo y asignan a cada uno un número de p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ponen en común, primero en parejas y después todo el grupo, eligiendo u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tre todos realizan el avatar con una 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aplicación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grupo, por medio de su portavoz, muestra el avatar confeccionado y comenta a los demás en clase porqué lo han eleg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avatar-logo se incluye en el cuaderno digital del equ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5867280" y="304920"/>
            <a:ext cx="2724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0066"/>
                </a:solidFill>
                <a:latin typeface="Tahoma"/>
              </a:rPr>
              <a:t>13. TABLÓN DE ANUNCIOS DIG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00"/>
                </a:solidFill>
                <a:latin typeface="Tahoma"/>
              </a:rPr>
              <a:t>Crea un sitio donde tu alumnado pueda op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bre un tablón de anuncios digital para tu materia y comparte la contraseña son tus alumnos/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plica que en ese mural virtual, se irán colocando sugerencias para la mejora de la clase, incluidas las tuy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grupos comienzan discutiendo las normas de a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ponen en común y cada grupo sube una al m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260028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6699"/>
                </a:solidFill>
                <a:latin typeface="Tahoma"/>
              </a:rPr>
              <a:t>14. CALEND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cc"/>
                </a:solidFill>
                <a:latin typeface="Tahoma"/>
              </a:rPr>
              <a:t>Crea un Google Calendar para la clase y compárt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plica como funci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coloca en él  la fecha de su cumple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hace el suyo propio y coloca algunos datos básicos: calendario del curso, fechas señalada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uno/a lo comparte contigo y su fami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6324480" y="45720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00"/>
                </a:solidFill>
                <a:latin typeface="Tahoma"/>
              </a:rPr>
              <a:t>15. GRÁFICA PERS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b900"/>
                </a:solidFill>
                <a:latin typeface="Tahoma"/>
              </a:rPr>
              <a:t>Presenta el funcionamiento de la hoja de cálculo Google Docs y plantea una activ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estudiante realiza una introduciendo datos de cuánto tiempo dedica a diario para sus actividades y hace su gráfica personal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ten esta gráfica con sus compañeros/as  de grupo y discuten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419720" y="838080"/>
            <a:ext cx="123012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5430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00cc"/>
                </a:solidFill>
                <a:latin typeface="Tahoma"/>
              </a:rPr>
              <a:t>DINÁM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50292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Georgia"/>
              </a:rPr>
              <a:t>Cuaderno Intercultural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Georgia"/>
              </a:rPr>
              <a:t>, </a:t>
            </a:r>
            <a:r>
              <a:rPr b="1" i="1" lang="es-ES" sz="2400" spc="-1" strike="noStrike">
                <a:solidFill>
                  <a:srgbClr val="000099"/>
                </a:solidFill>
                <a:latin typeface="Tahoma"/>
                <a:ea typeface="Georgia"/>
              </a:rPr>
              <a:t>Primeros días de Clase, guías, dinámicas e ideas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Georgia"/>
              </a:rPr>
              <a:t>Orientación Andújar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Georgia"/>
              </a:rPr>
              <a:t>, </a:t>
            </a:r>
            <a:r>
              <a:rPr b="1" i="1" lang="es-ES" sz="2400" spc="-1" strike="noStrike">
                <a:solidFill>
                  <a:srgbClr val="000099"/>
                </a:solidFill>
                <a:latin typeface="Tahoma"/>
                <a:ea typeface="Georgia"/>
              </a:rPr>
              <a:t>Actividades y dinámicas para los primeros días de clas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Guida Allés,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70 actividades para la primera semana de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m Barret,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36 Interesting Ways to Get to Know Your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5867280" y="4191120"/>
            <a:ext cx="2667240" cy="1776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5791320" y="1905120"/>
            <a:ext cx="29718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Tahoma"/>
              </a:rPr>
              <a:t>Antes de nad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5790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on actividades de presentación, conocimiento mutuo y cohesión de gru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lexibles, para que elijas la/s que mejor vaya/n a tu clase o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enen en cuentan las inteligencias mú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rven para ir conociendo herramientas digitales que se van a usar durante el curs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.. Y para trabajar en grupo cooperativament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019920" y="685800"/>
            <a:ext cx="2557440" cy="3124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6019920" y="396252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581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cc"/>
                </a:solidFill>
                <a:latin typeface="Tahoma"/>
              </a:rPr>
              <a:t>1. PRESENTA TU MA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b900"/>
                </a:solidFill>
                <a:latin typeface="Tahoma"/>
              </a:rPr>
              <a:t>Prepara unas diapositivas para presentar tu área  por medio de la Pizarra digi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formación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mágenes o vídeos que sean moti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nidos o música que ambienten tu 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tografías de producciones de tu alumnado de otros curs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lgunas direcciones de interés durante el curso, como la página Web del centro, la de la clase, sitios generales interesantes,  tu blog persona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4343400" y="762120"/>
            <a:ext cx="457200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b900"/>
                </a:solidFill>
                <a:latin typeface="Tahoma"/>
              </a:rPr>
              <a:t>2. WIKICUADE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cc"/>
                </a:solidFill>
                <a:latin typeface="Tahoma"/>
              </a:rPr>
              <a:t>Cada grupo crea un cuaderno digital en un Wiki Ejemplo de estructura bá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mbre y foto del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go/Ava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onentes y rol de cada uno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ducciones del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lanificación y diarios de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valuación gru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a página por cada miembro como portfolio 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052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162240" cy="2371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053"/>
          <p:cNvSpPr/>
          <p:nvPr/>
        </p:nvSpPr>
        <p:spPr>
          <a:xfrm>
            <a:off x="1523880" y="6019920"/>
            <a:ext cx="6096240" cy="44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mplo de portfolio de Núria Alart: 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2"/>
              </a:rPr>
              <a:t>E-PORTAF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Tahoma"/>
              </a:rPr>
              <a:t>3.PRESENTACIÓN CON </a:t>
            </a:r>
            <a:r>
              <a:rPr b="0" lang="es-ES" sz="4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VOK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Tahoma"/>
                <a:ea typeface="Arial"/>
              </a:rPr>
              <a:t>Pide a tus estudiantes que se presenten</a:t>
            </a:r>
            <a:r>
              <a:rPr b="0" lang="es-ES" sz="2400" spc="-1" strike="noStrike">
                <a:solidFill>
                  <a:srgbClr val="0099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grupos, los alumnos/as se plantean algunas preguntas que harían para conocerse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grupo expone su lista de preguntas y el docente las va anotando en la piza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eligen cinc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realiza su Voki  respondiendo a esas pregunt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la pizarra digital, por turnos, cada alumno/a se auto presenta por medio de su Vo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9" descr=""/>
          <p:cNvPicPr/>
          <p:nvPr/>
        </p:nvPicPr>
        <p:blipFill>
          <a:blip r:embed="rId2"/>
          <a:stretch/>
        </p:blipFill>
        <p:spPr>
          <a:xfrm>
            <a:off x="5715000" y="457200"/>
            <a:ext cx="29527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Tahoma"/>
              </a:rPr>
              <a:t>4.PRESENTACIÓN  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ECHA KUCHA</a:t>
            </a:r>
            <a:r>
              <a:rPr b="1" lang="es-ES" sz="3600" spc="-1" strike="noStrike">
                <a:solidFill>
                  <a:srgbClr val="008000"/>
                </a:solidFill>
                <a:latin typeface="Tahoma"/>
              </a:rPr>
              <a:t>  adaptado 5X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b900"/>
                </a:solidFill>
                <a:latin typeface="Tahoma"/>
                <a:ea typeface="Arial"/>
              </a:rPr>
              <a:t>Cada alumno/a prepara cinco diapositivas con texto e imágenes para exponer en clase en cinco minu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Un tema que me interesa y me gustaría apr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Una situación en la que me encuentro bien en el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Una cosa que puede hacer el profesor para que yo aprenda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Una cosa que puedo hacer yo para aprender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Una cualidad personal que puedo aportar para aprender en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2"/>
          <a:stretch/>
        </p:blipFill>
        <p:spPr>
          <a:xfrm>
            <a:off x="5867280" y="304920"/>
            <a:ext cx="25052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99"/>
                </a:solidFill>
                <a:latin typeface="Tahoma"/>
              </a:rPr>
              <a:t>5. FOTO DE FAM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Tahoma"/>
              </a:rPr>
              <a:t>Saca una fotografía de todo el grupo clase y  compártela en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Thing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hace un enlace en su retrato a un vídeo musical que le guste 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comenta en su grupo porqué lo ha elegido, que tipo de música le gusta, que recuerdos le evoca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29" descr=""/>
          <p:cNvPicPr/>
          <p:nvPr/>
        </p:nvPicPr>
        <p:blipFill>
          <a:blip r:embed="rId2"/>
          <a:stretch/>
        </p:blipFill>
        <p:spPr>
          <a:xfrm>
            <a:off x="4495680" y="380880"/>
            <a:ext cx="39243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6600"/>
                </a:solidFill>
                <a:latin typeface="Tahoma"/>
              </a:rPr>
              <a:t>6. EVALUACIÓN INI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00"/>
                </a:solidFill>
                <a:latin typeface="Tahoma"/>
              </a:rPr>
              <a:t>Conoce y comparte lo que ya saben tus alumnos/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ea un formulario de 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ogle docs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 los items que te interesan para hacer una evalua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ártelo por e-mail con los alumnos/as y pídeles que lo rellenen y te lo enví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naliza los datos obtenidos para ajustar los conte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az una gráfica con algunos datos que quieras compartir y coméntala con tus alumnos/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parte los items de la evaluación por grupos y realiza una dinámica para que los discutan y resuelvan coopera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9" descr=""/>
          <p:cNvPicPr/>
          <p:nvPr/>
        </p:nvPicPr>
        <p:blipFill>
          <a:blip r:embed="rId2"/>
          <a:stretch/>
        </p:blipFill>
        <p:spPr>
          <a:xfrm>
            <a:off x="5257800" y="457200"/>
            <a:ext cx="2924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7242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9900"/>
                </a:solidFill>
                <a:latin typeface="Tahoma"/>
              </a:rPr>
              <a:t>7. AUTORETRATO DEL Á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3200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cc"/>
                </a:solidFill>
                <a:latin typeface="Tahoma"/>
              </a:rPr>
              <a:t>Conoce la opinión del alumnado sobre tu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de a tus alumnos/as que cada uno/a haga una diapositiva con algo que le gusta del área. Tienen que ilustrarla con una gran foto de fondo y una frase represen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úne todas las diapositivas y haz un pase en la pizarra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liza un debate en grupos con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867280" y="685800"/>
            <a:ext cx="24098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8:00:58Z</dcterms:created>
  <dc:creator>IR015252AD</dc:creator>
  <dc:description/>
  <dc:language>en-US</dc:language>
  <cp:lastModifiedBy>mninero3@gmail.com</cp:lastModifiedBy>
  <dcterms:modified xsi:type="dcterms:W3CDTF">2014-09-11T21:53:48Z</dcterms:modified>
  <cp:revision>150</cp:revision>
  <dc:subject/>
  <dc:title>Actividades digitales para comenzar el curso y trabajar cooperativamente</dc:title>
</cp:coreProperties>
</file>