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260-C933-448D-8941-9EB173B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277-187E-4CDB-B21F-C5ECEABE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696-AE3F-4031-8325-ABB0CC93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DF5-0068-4059-A81B-0F2B5E14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3B3-7656-4565-8CE3-B5060DC3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77C-15E6-4845-8C94-222D29FE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021-7A95-4677-ABC7-089F6A24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37A-BE08-4998-AF15-4C10D8FB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49F-97E9-4BB7-AD03-CCB7E818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5F9-D0F9-467D-9D81-1B32389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168-356A-4333-BBCD-DE89781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63C-96DF-4AFB-BD81-E5E5874D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DF5-6262-4EF7-9BB7-A4AE87A744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aps.google.es/" TargetMode="External"/><Relationship Id="rId2" Type="http://schemas.openxmlformats.org/officeDocument/2006/relationships/hyperlink" Target="http://www.google.es/intl/es/earth/index.html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likatekla.wikispaces.com/Im&#225;genes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sites.google.com/site/portafoliplantill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echa_Kucha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thinglink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ocs.google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581280" cy="3224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495680" cy="3657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15 actividades digitales para comenzar el curso y trabajar cooperativa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Pilar Etxebar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ahoma"/>
              </a:rPr>
              <a:t>Leioako Berritzegu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berri"/>
          <p:cNvPicPr/>
          <p:nvPr/>
        </p:nvPicPr>
        <p:blipFill>
          <a:blip r:embed="rId2"/>
          <a:stretch/>
        </p:blipFill>
        <p:spPr>
          <a:xfrm>
            <a:off x="304920" y="4724280"/>
            <a:ext cx="98892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ahoma"/>
              </a:rPr>
              <a:t>8. RETRATO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OR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Realiza una dinámica para cohesionar la 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ada grupo, los estudiantes hacen una encuesta de aficiones y gustos entre ell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hace un Wordle  con los resultados y lo coloca en su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, haces una dinámica. Vete diciendo: “poneos en pie los que más les gusta...e id hacia...” y los colocas en una zona de la clase y así sucesivamente hasta formar un “Wordle”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86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9. MI MOCHI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</a:rPr>
              <a:t>Comparte lo que les puede ayudar a superar 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cada alumno/a que busque 5 imágenes en la Red que representen acciones, valores, cosas, sentimientos, personas, ideas...que pueden ayudarles a superar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pian las imágenes en un documento de texto o dia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de cuatro, cada uno y por turnos, escoge una de las imágenes y explica a los demás porque la ha elegido. Así hasta agotar todas las imá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hay coincidencia o imagen similar, el que la ha pensado comparte con el compañero que esta expon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6600"/>
                </a:solidFill>
                <a:latin typeface="Tahoma"/>
              </a:rPr>
              <a:t>10. VACACIONES MAPE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ahoma"/>
              </a:rPr>
              <a:t>Introduce la búsqueda y los map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busca en Internet una foto del lugar donde ha pasado las vacaciones y se la envía por e-mail a un compañero/a con unas pistas esc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ompañero/a tiene que adivinar que lugar es y buscar  una pequeña información sobre él: nombre,  CCAA o país, porqué cree que la foto representa a ese lugar o le ha gustado al que se la ha mandado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en la pizarra digital un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map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señala en el mapa el sitio y explica a los demás: “ mi compañero/a .....ha pasado las vacaciones en ..... Y me ha enviado una foto de....porque creo que...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continuación el que ha enviado la foto dice si ha acertado o no y porque la ha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11. CONOCE TU C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ahoma"/>
              </a:rPr>
              <a:t>Presenta el centro haciendo que investiguen en su página We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para un pequeño cuestionario con los datos básicos del centro, horarios, calendario, profesorado, plano...con preguntas del tipo: ¿a qué hora podéis ir a la bibliote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grupos, los alumnos/as investigan en la página Web del centro y van anotando los datos solicitados en una agenda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12. AVATAR/LO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Cada grupo diseña su avatar / Logo con la técnica del grupo nom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piensa en tres avatares-logos posibles para su equipo y asignan a cada uno un número de p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onen en común, primero en parejas y después todo el grupo, eligiendo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 todos realizan el avatar con una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aplicación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, por medio de su portavoz, muestra el avatar confeccionado y comenta a los demás en clase porqué lo han ele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avatar-logo se incluye en el cuaderno digital del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66"/>
                </a:solidFill>
                <a:latin typeface="Tahoma"/>
              </a:rPr>
              <a:t>13. TABLÓN DE ANUNCIOS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rea un sitio donde tu alumnado pueda op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re un tablón de anuncios digital para tu materia y comparte la contraseña s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que en ese mural virtual, se irán colocando sugerencias para la mejora de la clase, incluidas las tuy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 comienzan discutiendo las normas de a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onen en común y cada grupo sube una al m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6002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99"/>
                </a:solidFill>
                <a:latin typeface="Tahoma"/>
              </a:rPr>
              <a:t>14. CALEND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cc"/>
                </a:solidFill>
                <a:latin typeface="Tahoma"/>
              </a:rPr>
              <a:t>Crea un Google Calendar para la clase y compár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plica como func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loca en él  la fecha de su cumple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el suyo propio y coloca algunos datos básicos: calendario del curso, fechas señalad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uno/a lo comparte contigo y su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Tahoma"/>
              </a:rPr>
              <a:t>15. GRÁFICA PERS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senta el funcionamiento de la hoja de cálculo Google Docs y plantea una activ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estudiante realiza una introduciendo datos de cuánto tiempo dedica a diario para sus actividades y hace su gráfica persona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ten esta gráfica con sus compañeros/as  de grupo y discute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12301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543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cc"/>
                </a:solidFill>
                <a:latin typeface="Tahoma"/>
              </a:rPr>
              <a:t>DINÁM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50292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Cuaderno Intercultural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Primeros días de Clase, guías, dinámicas e idea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Orientación Andújar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Georgia"/>
              </a:rPr>
              <a:t>, </a:t>
            </a:r>
            <a:r>
              <a:rPr b="1" i="1" lang="es-ES" sz="2400" spc="-1" strike="noStrike">
                <a:solidFill>
                  <a:srgbClr val="000099"/>
                </a:solidFill>
                <a:latin typeface="Tahoma"/>
                <a:ea typeface="Georgia"/>
              </a:rPr>
              <a:t>Actividades y dinámicas para los primeros días de clas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uida Allés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70 actividades para la primera semana d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m Barret,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36 Interesting Ways to Get to Know Your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667240" cy="177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ahoma"/>
              </a:rPr>
              <a:t>Antes de na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7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actividades de presentación, conocimiento mutuo y cohesión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lexibles, para que elijas la/s que mejor vaya/n a tu clase o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nen en cuentan las inteligencias mú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rven para ir conociendo herramientas digitales que se van a usar durante el curs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.. Y para trabajar en grupo cooperativa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255744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cc"/>
                </a:solidFill>
                <a:latin typeface="Tahoma"/>
              </a:rPr>
              <a:t>1. PRESENTA TU MA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</a:rPr>
              <a:t>Prepara unas diapositivas para presentar tu área  por medio de la Pizarra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formación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ágenes o vídeos que sean moti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idos o música que ambienten tu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tografías de producciones de tu alumnado de otros cur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gunas direcciones de interés durante el curso, como la página Web del centro, la de la clase, sitios generales interesantes,  tu blog persona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572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b900"/>
                </a:solidFill>
                <a:latin typeface="Tahoma"/>
              </a:rPr>
              <a:t>2. WIKICUAD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ada grupo crea un cuaderno digital en un Wiki Ejemplo de estructura bá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bre y foto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go/Ava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nentes y rol de cada uno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ciones 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lanificación y diari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aluación gru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página por cada miembro como portfolio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52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53"/>
          <p:cNvSpPr/>
          <p:nvPr/>
        </p:nvSpPr>
        <p:spPr>
          <a:xfrm>
            <a:off x="1523880" y="6019920"/>
            <a:ext cx="609624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de portfolio de Núria Alart: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2"/>
              </a:rPr>
              <a:t>E-PORTAF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Tahoma"/>
              </a:rPr>
              <a:t>3.PRESENTACIÓN CON 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VO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Tahoma"/>
                <a:ea typeface="Arial"/>
              </a:rPr>
              <a:t>Pide a tus estudiantes que se presenten</a:t>
            </a:r>
            <a:r>
              <a:rPr b="0" lang="es-ES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grupos, los alumnos/as se plantean algunas preguntas que harían para conocers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grupo expone su lista de preguntas y el docente las va anotando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eligen cin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realiza su Voki  respondiendo a esas pregun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pizarra digital, por turnos, cada alumno/a se auto presenta por medio de su Vo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9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2952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4.PRESENTACIÓN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ECHA KUCHA</a:t>
            </a: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  adaptado 5X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b900"/>
                </a:solidFill>
                <a:latin typeface="Tahoma"/>
                <a:ea typeface="Arial"/>
              </a:rPr>
              <a:t>Cada alumno/a prepara cinco diapositivas con texto e imágenes para exponer en clase en cinco minu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 tema que me interesa y me gustaría apr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situación en la que me encuentro bien en el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e hacer el profesor para que yo aprenda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osa que puedo hacer yo para aprender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Una cualidad personal que puedo aportar para aprender e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5052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99"/>
                </a:solidFill>
                <a:latin typeface="Tahoma"/>
              </a:rPr>
              <a:t>5. FOTO DE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ahoma"/>
              </a:rPr>
              <a:t>Saca una fotografía de todo el grupo clase y  compártela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Thing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hace un enlace en su retrato a un vídeo musical que le guste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alumno/a comenta en su grupo porqué lo ha elegido, que tipo de música le gusta, que recuerdos le evoc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9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39243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6600"/>
                </a:solidFill>
                <a:latin typeface="Tahoma"/>
              </a:rPr>
              <a:t>6. EVALUACIÓN IN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00"/>
                </a:solidFill>
                <a:latin typeface="Tahoma"/>
              </a:rPr>
              <a:t>Conoce y comparte lo que ya saben tus alumnos/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ea un formulario de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ogle doc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los items que te interesan para hacer una evalu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ártelo por e-mail con los alumnos/as y pídeles que lo rellenen y te lo enví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naliza los datos obtenidos para ajustar los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z una gráfica con algunos datos que quieras compartir y coméntala con tus alumnos/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parte los items de la evaluación por grupos y realiza una dinámica para que los discutan y resuelvan coop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924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7242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9900"/>
                </a:solidFill>
                <a:latin typeface="Tahoma"/>
              </a:rPr>
              <a:t>7. AUTORETRATO DEL Á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Tahoma"/>
              </a:rPr>
              <a:t>Conoce la opinión del alumnado sobre tu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de a tus alumnos/as que cada uno/a haga una diapositiva con algo que le gusta del área. Tienen que ilustrarla con una gran foto de fondo y una frase represen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úne todas las diapositivas y haz un pase en la pizarr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za un debate en grupos con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409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8:00:58Z</dcterms:created>
  <dc:creator>IR015252AD</dc:creator>
  <dc:description/>
  <dc:language>en-US</dc:language>
  <cp:lastModifiedBy>mninero3@gmail.com</cp:lastModifiedBy>
  <dcterms:modified xsi:type="dcterms:W3CDTF">2014-09-11T21:53:48Z</dcterms:modified>
  <cp:revision>150</cp:revision>
  <dc:subject/>
  <dc:title>Actividades digitales para comenzar el curso y trabajar cooperativamente</dc:title>
</cp:coreProperties>
</file>