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wmf" ContentType="image/x-wmf"/>
  <Override PartName="/ppt/media/image25.png" ContentType="image/png"/>
  <Override PartName="/ppt/media/image8.png" ContentType="image/png"/>
  <Override PartName="/ppt/media/image7.png" ContentType="image/png"/>
  <Override PartName="/ppt/media/image32.png" ContentType="image/png"/>
  <Override PartName="/ppt/media/image11.wmf" ContentType="image/x-wmf"/>
  <Override PartName="/ppt/media/image26.png" ContentType="image/png"/>
  <Override PartName="/ppt/media/image33.png" ContentType="image/png"/>
  <Override PartName="/ppt/media/image3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19040" y="531360"/>
            <a:ext cx="399420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FA89B2-43C9-4B20-8E8B-62D0E8B29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DCA-DB64-4067-86A0-F1873C48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728-4C0F-49EF-B1EA-4572A83D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D57-DBCF-4F29-A6E4-D6B64B86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102-5A65-4E02-9BC7-FC7B1DD3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CF5-D7BF-4EA7-A45C-917CD89C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A3E-B463-47CE-AA40-8CCEB514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42A-BB6F-42EC-BB92-6011252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45F-835C-4087-88D7-294D562A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2F4-0A7F-4593-8DE0-4C56262C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A92-EF51-423C-9FC9-A1223AB5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860-08A0-4580-B622-B62FD97D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E89-54D1-4E32-AC2E-26C17DCC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DC73-4331-4DA8-8A29-1C8EACC9A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96760" y="517680"/>
            <a:ext cx="8583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onceitos sobre interações entre seres vivos, parasitismo e relação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arasita-hosped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65280" y="270504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ccff99"/>
                </a:solidFill>
                <a:latin typeface="Arial"/>
              </a:rPr>
              <a:t>Arthur Grube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30280" y="4006800"/>
            <a:ext cx="7129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MP0222 – Introdução à Parasitologia Veterin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5021280"/>
            <a:ext cx="4710240" cy="1406520"/>
          </a:xfrm>
          <a:custGeom>
            <a:avLst/>
            <a:gdLst>
              <a:gd name="textAreaLeft" fmla="*/ 0 w 4710240"/>
              <a:gd name="textAreaRight" fmla="*/ 4710600 w 4710240"/>
              <a:gd name="textAreaTop" fmla="*/ 104040 h 1406520"/>
              <a:gd name="textAreaBottom" fmla="*/ 1302480 h 1406520"/>
            </a:gdLst>
            <a:ahLst/>
            <a:rect l="textAreaLeft" t="textAreaTop" r="textAreaRight" b="textAreaBottom"/>
            <a:pathLst>
              <a:path w="21600" h="21600">
                <a:moveTo>
                  <a:pt x="0" y="799"/>
                </a:moveTo>
                <a:cubicBezTo>
                  <a:pt x="3600" y="-2032"/>
                  <a:pt x="7200" y="3630"/>
                  <a:pt x="10800" y="799"/>
                </a:cubicBezTo>
                <a:cubicBezTo>
                  <a:pt x="14400" y="-2032"/>
                  <a:pt x="18000" y="3630"/>
                  <a:pt x="21600" y="799"/>
                </a:cubicBezTo>
                <a:lnTo>
                  <a:pt x="21600" y="20801"/>
                </a:lnTo>
                <a:cubicBezTo>
                  <a:pt x="18000" y="23632"/>
                  <a:pt x="14400" y="17970"/>
                  <a:pt x="10800" y="20801"/>
                </a:cubicBezTo>
                <a:cubicBezTo>
                  <a:pt x="7200" y="23632"/>
                  <a:pt x="3600" y="17970"/>
                  <a:pt x="0" y="20801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717044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38520" y="53085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  <a:ea typeface="Arial Unicode MS"/>
              </a:rPr>
              <a:t>Instituto de Ciências Biomédicas Universidade de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01800" y="5078520"/>
            <a:ext cx="890640" cy="129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75680" y="5052960"/>
            <a:ext cx="1081080" cy="133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9640" y="1912320"/>
            <a:ext cx="836460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íodo pré-patente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empo que decorre a partir da penetração/ingestão do estágio infectante do parasita no hospedeiro até o aparecimento de ovos, larvas ou oocistos (formas jovens iniciais) d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ração segu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íodo de incubação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empo que transcorre desde o contágio até a aparição dos primeiros sintomas da doe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Incidência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freqüência da doença num determinado período de tempo (casos novos). É calculada a partir do número de casos novos em relação à população não infectad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revalência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número total de casos na população em dado instante. A prevalência reflete um retrato instantâneo da popul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800" y="56520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47800" y="463680"/>
            <a:ext cx="804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51040" y="619200"/>
            <a:ext cx="144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51040" y="619200"/>
            <a:ext cx="2469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19560" y="619200"/>
            <a:ext cx="144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0760" y="528480"/>
            <a:ext cx="918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90760" y="619200"/>
            <a:ext cx="918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89120" y="528480"/>
            <a:ext cx="9216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89120" y="619200"/>
            <a:ext cx="9216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040" y="2160"/>
            <a:ext cx="21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DEIA EPIDEMIO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5840" y="5061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0960" y="1357920"/>
            <a:ext cx="8569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Fonte de infec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Organismo vertebrado onde o agente pode sobreviver e multiplicar-se, tendo acesso ao meio exterior. Modalidades de fontes de infecção:  doentes, portadores, reservató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Via de elimin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É o meio ou veículo pelo qual o parasita é eliminado da fonte de infecção (secreções, excreções, sangue, exsudatos/descargas purulentas, descamações epiteliais, leite, placent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Via de transmis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É o meio ou veículo pelo qual o parasita alcança o novo hospedeiro (água, ar, poeiras, solo, fômites, alimentos, hospedeiros intermediários,  vet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Porta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Via pela qual o parasita penetra no novo hospedeiro (pele, mucosas, via oral, trato gênito-urinári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Suscet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ospedeiro passível de sofrer a infestação (ou infec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60400" y="428760"/>
            <a:ext cx="731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25560" y="1688400"/>
            <a:ext cx="840276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local do parasitismo</a:t>
            </a: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ndoparasita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ermanecem no interior do organismo hospedeiro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Ex.: helmintos (vermes)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ctoparasitas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 permanecem na superfície corpórea do hospedeiro, na pele, pêlos e cavidades naturais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Ex.: piolhos, pulgas, carrap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tempo de duração do parasi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Periód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somente são parasitos em uma fase do desenvolvimento. Ex.: pulgas,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ncylostoma canin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Permanente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assam a vida, em todos os seus estágios, no hospedeiro. Ex.: ácaros do gênero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Demodex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Temporários ou intermitente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realizam somente parte de seu desenvolvimento no hospedeiro ou se utilizam dele periodicamente para alimentação ou abrigo. Ex.: insetos hematófagos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São também chamados micropredadores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8240" y="392040"/>
            <a:ext cx="731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9080" y="1531440"/>
            <a:ext cx="8402760" cy="48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número de espécies que podem servir como hosped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stenoxênico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afetam somente uma espécie hospedeira;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Taenia sagin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urixênico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apresentam ampla especificidade de hospede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Toxoplasma gond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Olig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apresentam especificidade restrita de hospede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Echinococcus granulosu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(cão, cachorro-do-mato e raposa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número de hospedeiros necessários para a realização do ciclo de v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Mon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requerem somente a existência do hospedeiro definitiv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scaris lumbrico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Heteroxênicos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recisam de um hospedeiro intermediário e outro definitiv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Trypanosoma cru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Aut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um único hospedeiro pode servir de hospedeiro definitivo e intermediário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Taenia soli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no hom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77960" y="476280"/>
            <a:ext cx="865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8320" y="1741320"/>
            <a:ext cx="878832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a maior ou menor exigência à vida parasi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Obrigatórios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m condições normais,necessita obrigatoriamente de um hospedeiro; ex.: helmi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Facultativ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odem viver no hospedeiro ou em vida livre. ex.: larvas de moscas da família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Sarcophagid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Acidental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é o que parasita outro hospedeiro que não o seu normal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Dipylidium canin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arasitando crianç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ha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Normal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o parasita se encontra em determinado segmento, órgão ou tecido de seu hospedeiro e, somente assim, completa seu ciclo bioló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xtraviado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pode ocorrer em outro hospedeiro e fora do seu habitat natural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ncylostoma braziliense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, parasita do intestino delgado de cães e gatos, parasita o homem como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larva migrans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cutân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016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hospedei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120" y="1824840"/>
            <a:ext cx="80787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Obrigatório -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único que oferece ao parasita as condições necessárias ao seu 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Principal –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hospedeiro que oferece as melhores condições para o desenvolvimento do parasita, o qual também pode infectar outras espécies de hospedeiro menos e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Final ou definitivo -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spedeiro no qual ocorre o desenvolvimento dos estágios sexuais do ciclo. Se não há estágios sexuais, é considerado o hospedeiro mais importante do ciclo do ponto de vista do hom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97040" y="476280"/>
            <a:ext cx="874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hospedei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0920" y="1479960"/>
            <a:ext cx="811692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Intermediário –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sencial para o ciclo, não é requerido por todos os estágios do parasita. Geralmente alberga as fases mais jovens do paras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Falso -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quando não é o hospedeiro obrigatório do parasita, levando-o a encapsular-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Paratênico (ou de transporte)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m tipo de hospedeiro intermediário no qual o parasita imaturo pode sobreviver por tempo indefinido, mas o desenvolvimento requer a infecção pelo hospedeiro definitivo, geralmente por predação do hospedeiro paratê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0800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Sobrevivência e permanência do paras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6080" y="1615320"/>
            <a:ext cx="827892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Dependem dos seguintes fatores relacionado agente etiológ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Infectividade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instalar-se n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atogenicidade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determinar o aparecimento dos sintomas da doenç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Virul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medida pela intensidade da manifestação clínica da doenç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Resist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o parasita em sobreviver fora do organismo d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sist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o parasita de permanecer em uma população de hospedei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Tropismo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deslocar-se em direção ao hospedeiro)</a:t>
            </a:r>
            <a:br>
              <a:rPr sz="2000"/>
            </a:b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3280" y="330120"/>
            <a:ext cx="8184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Interações parasita-hosped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8200" y="1525680"/>
            <a:ext cx="829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Infecçã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: invasão e colonização do organismo hospedeiro por parasitos internos, como helmintos e protozo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Infestaçã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: ataque ao organismo hospedeiro por parasitos externos,como os artróp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daptações fisiológicas dos parasi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Nutriçã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hematófagos têm secreção oral anticoag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Dispersã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mecanismos que facilitam a difusão da espéc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Penetração no hospedeir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oral, cutânea ou percutâ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inalatória ou 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transovar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transplacen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inocu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contami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0720" y="452520"/>
            <a:ext cx="893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Ações desencadeadas pelos parasitas sobre os hospedeir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30320" y="1820880"/>
            <a:ext cx="868032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mecâ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strutivas (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scari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ressivas (cisto hidá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aumáticas (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ncylostom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, mosqu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tóx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otoxinas (parasita excreta produtos do seu metabol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dotoxinas (parasita libera ao morr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espol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9800" y="62388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ões simbi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ff99"/>
                </a:solidFill>
                <a:latin typeface="Arial Unicode MS"/>
              </a:rPr>
              <a:t>“</a:t>
            </a:r>
            <a:r>
              <a:rPr b="0" lang="en-GB" sz="3200" spc="-1" strike="noStrike">
                <a:solidFill>
                  <a:srgbClr val="ccff99"/>
                </a:solidFill>
                <a:latin typeface="Arial Unicode MS"/>
              </a:rPr>
              <a:t>Vivendo junt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7280" y="1768320"/>
            <a:ext cx="9113760" cy="49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imbios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o Grego: </a:t>
            </a: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sim -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“com“ e </a:t>
            </a: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biose -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“vivendo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Definição mais estri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relação em que organismos vivem em associação, com benefício mútu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Definição mais ampla (A. de Bary, 1879)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– “Dois organismos vivendo em associação próxima, geralmente um deles vivendo dentro ou sobre o corpo do outro, são simbióticos, em contraste com os organismos de vida liv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50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Um membro se beneficia da relação. O outr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utual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também se beneficia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ensal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não é afe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arasit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sofre d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90720" y="452520"/>
            <a:ext cx="893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Ações desencadeadas pelos parasitas sobre os hospedeir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27160" y="2246040"/>
            <a:ext cx="848988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iretas (artrópodes hematófa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diretas (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Toxocara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sp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rritativas (cesto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nfecciosas (L3 de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Bunostomum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spp. permite a entrada de agentes na p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antigênicas (secreções e excreções do parasita despertam a resposta imune d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anóxicas (babés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nflamatórias (picadas de mosqui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enzimáticas (L3 de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A. braziliense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8480" y="2004840"/>
            <a:ext cx="847728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Arial"/>
              </a:rPr>
              <a:t>Assexuada ou agâmica </a:t>
            </a:r>
            <a:r>
              <a:rPr b="0" lang="pt-BR" sz="1800" spc="-1" strike="noStrike">
                <a:solidFill>
                  <a:srgbClr val="ffcc00"/>
                </a:solidFill>
                <a:latin typeface="Arial"/>
              </a:rPr>
              <a:t>(novos individíuos a partir de uma única cél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Cissiparidade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flagelados, ciliados, amebozoár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Gemiparidade ou brotament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babés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Partenogênese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Strongyloides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squizogonia ou fissão múltipl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coccíd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ndodiogeni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Isospor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Toxoplasm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sporogonia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(coccíd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Arial"/>
              </a:rPr>
              <a:t>Sexuada ou gâmica ou singâmica </a:t>
            </a:r>
            <a:r>
              <a:rPr b="0" lang="pt-BR" sz="1800" spc="-1" strike="noStrike">
                <a:solidFill>
                  <a:srgbClr val="ffcc00"/>
                </a:solidFill>
                <a:latin typeface="Arial"/>
              </a:rPr>
              <a:t>(novos indivíduos a partir de cruzamento sexual entre célu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Conjugaçã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cili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Fecundaçã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união de células sexuais masculinas e feminin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00" y="428760"/>
            <a:ext cx="83012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Tipos de reprodu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8960" y="1506600"/>
            <a:ext cx="86248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ele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descamação celular, dessecação, acidez, secreção de ácidos grax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onjuntivas oculares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ação mecânica da secreção lacrimal, presença de lisozima na lágr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respiratóri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tamanho da abertura das narinas, irregularidades e tortuosidade das fossas nasais (causa o aumento da superfície de contato da mucosa com as partículas), produção de muco, movimento ciliar, presença de substâncias protetoras (lisozima, anticorpos,...), reflexo da tosse, fagocitose (a nível alveol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digestiv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epitélio plano poliestratificado da boca, saliva, pH ácido do suco gástrico, produção de muco, descamação celular, reflexo do vômito;  ao nível dos intestinos: pH ácido do conteúdo duodenal, microbiota residente, produção de muco, diarréia (causa aceleração do trânsito e aumento de secreção de líquid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gênito-urinári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pH da urina, efeito mecânico da micção, produção de muco, depósito de estrógenos nas células do epitélio vaginal (que com  a descamação, servem de substrato para o </a:t>
            </a: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Lactobacillus  acidophilus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, que produz ácido láctico e diminui o pH do mei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71560" y="476280"/>
            <a:ext cx="830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Regiões invadidas e mecanismos de defe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16080" y="1233360"/>
            <a:ext cx="4121280" cy="54644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9800" y="35712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ão parasita-hosped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3320" y="6532560"/>
            <a:ext cx="286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Adaptado de Bush </a:t>
            </a:r>
            <a:r>
              <a:rPr b="0" i="1" lang="pt-BR" sz="12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0840" y="15271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ff33"/>
                </a:solidFill>
                <a:latin typeface="Tahoma"/>
              </a:rPr>
              <a:t>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04880" y="56786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Do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51160" y="2841480"/>
            <a:ext cx="1292400" cy="201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Cels. efetoras imunes: céls. T (helper, citotóxicas e supressoras); céls. B, macrófagos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27720" y="1389240"/>
            <a:ext cx="1292040" cy="201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Respostas do hospedeiro: interleucinas, citocinas, respostas de fase aguda, respostas inflamató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37080" y="3909960"/>
            <a:ext cx="12924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Fatores não específicos: idade do hospedeiro, sexo, genética, céls. fagocíticas, status nutricional, virulência do paras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025880" y="1923840"/>
            <a:ext cx="1246320" cy="73476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025880" y="4803840"/>
            <a:ext cx="1284480" cy="73512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56280" y="3278160"/>
            <a:ext cx="11160" cy="52236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5840" y="4321080"/>
            <a:ext cx="1114560" cy="137268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Hospedeiro responde, mas parasita pers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82760" y="2424240"/>
            <a:ext cx="1114200" cy="11595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Hospedeiro responde, parasita é elimin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88" idx="1"/>
            <a:endCxn id="201" idx="2"/>
          </p:cNvCxnSpPr>
          <p:nvPr/>
        </p:nvCxnSpPr>
        <p:spPr>
          <a:xfrm rot="10800000">
            <a:off x="1939320" y="3394800"/>
            <a:ext cx="1062720" cy="570600"/>
          </a:xfrm>
          <a:prstGeom prst="bentConnector2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201" idx="0"/>
            <a:endCxn id="192" idx="3"/>
          </p:cNvCxnSpPr>
          <p:nvPr/>
        </p:nvCxnSpPr>
        <p:spPr>
          <a:xfrm flipV="1" rot="16200000">
            <a:off x="1280880" y="1755000"/>
            <a:ext cx="659520" cy="659520"/>
          </a:xfrm>
          <a:prstGeom prst="bentConnector2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8" idx="3"/>
            <a:endCxn id="200" idx="0"/>
          </p:cNvCxnSpPr>
          <p:nvPr/>
        </p:nvCxnSpPr>
        <p:spPr>
          <a:xfrm>
            <a:off x="7151760" y="3965400"/>
            <a:ext cx="1342080" cy="34704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0" idx="2"/>
            <a:endCxn id="193" idx="1"/>
          </p:cNvCxnSpPr>
          <p:nvPr/>
        </p:nvCxnSpPr>
        <p:spPr>
          <a:xfrm flipH="1" rot="16200000">
            <a:off x="8466480" y="5530680"/>
            <a:ext cx="402480" cy="35136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08400" y="719280"/>
            <a:ext cx="41608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Chelicerata (quelice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Arachnida (aracníde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ari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ácaros e carrapa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blypy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aneae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aranh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pil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pigra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seudoscorp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cinu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orpiones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escorpiõ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fug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ropy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ro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phos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ycnogonida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nt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Mandibulata (mandibulados)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yriapoda (miriáp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ilopod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plopod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uropoda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mphyl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ancrustacea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ustacea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crustáce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xapoda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inse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3880" y="439560"/>
            <a:ext cx="32133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Artróp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720" y="2459880"/>
            <a:ext cx="3009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rganismos cel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kary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Grupo dos Fungi/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metazo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Coel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rotosto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anarthrop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Bila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447040" y="5477040"/>
            <a:ext cx="961920" cy="8744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420040" y="4529160"/>
            <a:ext cx="970200" cy="7873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435880" y="3267000"/>
            <a:ext cx="871560" cy="723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8524800" y="2189160"/>
            <a:ext cx="615960" cy="938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8454960" y="1317600"/>
            <a:ext cx="912960" cy="644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8470800" y="525600"/>
            <a:ext cx="792360" cy="663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17" name=""/>
          <p:cNvSpPr/>
          <p:nvPr/>
        </p:nvSpPr>
        <p:spPr>
          <a:xfrm flipV="1">
            <a:off x="7778880" y="5929200"/>
            <a:ext cx="661680" cy="3254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515360" y="4843440"/>
            <a:ext cx="893520" cy="1028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37320" y="3159000"/>
            <a:ext cx="876600" cy="505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2016000"/>
            <a:ext cx="866520" cy="6922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0760" y="1631880"/>
            <a:ext cx="1352520" cy="238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934400" y="869760"/>
            <a:ext cx="492120" cy="561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áca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59720" y="2068560"/>
            <a:ext cx="288720" cy="1204920"/>
          </a:xfrm>
          <a:custGeom>
            <a:avLst/>
            <a:gdLst>
              <a:gd name="textAreaLeft" fmla="*/ 0 w 288720"/>
              <a:gd name="textAreaRight" fmla="*/ 104040 w 288720"/>
              <a:gd name="textAreaTop" fmla="*/ 31320 h 1204920"/>
              <a:gd name="textAreaBottom" fmla="*/ 117360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88160" y="4083120"/>
            <a:ext cx="260280" cy="1974960"/>
          </a:xfrm>
          <a:custGeom>
            <a:avLst/>
            <a:gdLst>
              <a:gd name="textAreaLeft" fmla="*/ 0 w 260280"/>
              <a:gd name="textAreaRight" fmla="*/ 93960 w 260280"/>
              <a:gd name="textAreaTop" fmla="*/ 51480 h 1974960"/>
              <a:gd name="textAreaBottom" fmla="*/ 1923480 h 19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2520" y="246204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arrapatos 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63560" y="474660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Ácaros caus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de sa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84280" y="1471680"/>
          <a:ext cx="6242040" cy="48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471680"/>
                    <a:ext cx="624204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7057440" y="348624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arrapatos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1400" y="3376440"/>
            <a:ext cx="234720" cy="584280"/>
          </a:xfrm>
          <a:custGeom>
            <a:avLst/>
            <a:gdLst>
              <a:gd name="textAreaLeft" fmla="*/ 0 w 234720"/>
              <a:gd name="textAreaRight" fmla="*/ 84600 w 234720"/>
              <a:gd name="textAreaTop" fmla="*/ 15120 h 584280"/>
              <a:gd name="textAreaBottom" fmla="*/ 56916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ins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50880" y="993600"/>
          <a:ext cx="5935680" cy="545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993600"/>
                    <a:ext cx="5935680" cy="545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826320" y="1670040"/>
            <a:ext cx="222120" cy="2239920"/>
          </a:xfrm>
          <a:custGeom>
            <a:avLst/>
            <a:gdLst>
              <a:gd name="textAreaLeft" fmla="*/ 0 w 222120"/>
              <a:gd name="textAreaRight" fmla="*/ 80280 w 222120"/>
              <a:gd name="textAreaTop" fmla="*/ 58320 h 2239920"/>
              <a:gd name="textAreaBottom" fmla="*/ 2181600 h 223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0760" y="4083120"/>
            <a:ext cx="247680" cy="1218960"/>
          </a:xfrm>
          <a:custGeom>
            <a:avLst/>
            <a:gdLst>
              <a:gd name="textAreaLeft" fmla="*/ 0 w 247680"/>
              <a:gd name="textAreaRight" fmla="*/ 89280 w 2476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88160" y="5505480"/>
            <a:ext cx="260280" cy="822240"/>
          </a:xfrm>
          <a:custGeom>
            <a:avLst/>
            <a:gdLst>
              <a:gd name="textAreaLeft" fmla="*/ 0 w 260280"/>
              <a:gd name="textAreaRight" fmla="*/ 93960 w 260280"/>
              <a:gd name="textAreaTop" fmla="*/ 21240 h 822240"/>
              <a:gd name="textAreaBottom" fmla="*/ 8010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19720" y="25891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iol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05680" y="446256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ul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8120" y="55674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Reduvíd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(barbei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ins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26320" y="1670040"/>
            <a:ext cx="222120" cy="2239920"/>
          </a:xfrm>
          <a:custGeom>
            <a:avLst/>
            <a:gdLst>
              <a:gd name="textAreaLeft" fmla="*/ 0 w 222120"/>
              <a:gd name="textAreaRight" fmla="*/ 80280 w 222120"/>
              <a:gd name="textAreaTop" fmla="*/ 58320 h 2239920"/>
              <a:gd name="textAreaBottom" fmla="*/ 2181600 h 223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73760" y="4832280"/>
            <a:ext cx="274680" cy="1630440"/>
          </a:xfrm>
          <a:custGeom>
            <a:avLst/>
            <a:gdLst>
              <a:gd name="textAreaLeft" fmla="*/ 0 w 274680"/>
              <a:gd name="textAreaRight" fmla="*/ 99000 w 274680"/>
              <a:gd name="textAreaTop" fmla="*/ 42480 h 1630440"/>
              <a:gd name="textAreaBottom" fmla="*/ 1587960 h 16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22600" y="25891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o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68960" y="54435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osq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63480" y="990720"/>
          <a:ext cx="5645160" cy="55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990720"/>
                    <a:ext cx="564516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826320" y="3992400"/>
            <a:ext cx="222120" cy="743040"/>
          </a:xfrm>
          <a:custGeom>
            <a:avLst/>
            <a:gdLst>
              <a:gd name="textAreaLeft" fmla="*/ 0 w 222120"/>
              <a:gd name="textAreaRight" fmla="*/ 80280 w 222120"/>
              <a:gd name="textAreaTop" fmla="*/ 19080 h 743040"/>
              <a:gd name="textAreaBottom" fmla="*/ 72396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29080" y="416412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utu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3880" y="439560"/>
            <a:ext cx="32133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helmint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40160" y="282600"/>
            <a:ext cx="572472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ila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Platyhelminthes (flat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estoda (tape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oge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Tr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urbel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aetognatha (arrow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ordata (chord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hinodermata (echinod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michordata (hemichord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enoturbel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nelida/Echiura/Pogonophora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achiopoda (lampsh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yozoa (bryozo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llusca (mollu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yzostom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ertea (ribbon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n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iapu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puncula (sipuncul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seudo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Acanthocephala (thorny-headed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yc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strotricha (gastrotric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inorhyn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ric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rognat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Nematod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round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atomorpha (horsehair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tifera (roti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720" y="2824920"/>
            <a:ext cx="3009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rganismos cel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kary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Grupo dos Fungi/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metazo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Bila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441600" y="5030640"/>
            <a:ext cx="1121040" cy="719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462880" y="324000"/>
            <a:ext cx="809640" cy="10285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666960" y="1106640"/>
            <a:ext cx="1013040" cy="682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4533840" y="5751360"/>
            <a:ext cx="1629000" cy="476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678200" y="1337760"/>
            <a:ext cx="1509840" cy="1731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897680" y="662040"/>
            <a:ext cx="557280" cy="2649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rcRect l="0" t="0" r="4686" b="6229"/>
          <a:stretch/>
        </p:blipFill>
        <p:spPr>
          <a:xfrm>
            <a:off x="8583480" y="3763800"/>
            <a:ext cx="1098720" cy="812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67" name=""/>
          <p:cNvSpPr/>
          <p:nvPr/>
        </p:nvSpPr>
        <p:spPr>
          <a:xfrm flipH="1">
            <a:off x="8295840" y="4584600"/>
            <a:ext cx="290520" cy="4510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Bilateria –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imais com simetria bilateral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10360" y="637704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67880" y="1157400"/>
            <a:ext cx="7032960" cy="5121000"/>
            <a:chOff x="767880" y="1157400"/>
            <a:chExt cx="7032960" cy="5121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1814400" y="1157400"/>
              <a:ext cx="5986440" cy="5121000"/>
            </a:xfrm>
            <a:prstGeom prst="rect">
              <a:avLst/>
            </a:prstGeom>
            <a:ln w="9360">
              <a:solidFill>
                <a:srgbClr val="ffcc00"/>
              </a:solidFill>
              <a:miter/>
            </a:ln>
          </p:spPr>
        </p:pic>
        <p:sp>
          <p:nvSpPr>
            <p:cNvPr id="274" name=""/>
            <p:cNvSpPr/>
            <p:nvPr/>
          </p:nvSpPr>
          <p:spPr>
            <a:xfrm>
              <a:off x="767880" y="34876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Arial"/>
                </a:rPr>
                <a:t>Bilate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03440" y="1927080"/>
              <a:ext cx="795600" cy="3175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48080" y="4383000"/>
              <a:ext cx="1087560" cy="3175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120" y="4546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Relações inter-específ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4480" y="1712880"/>
            <a:ext cx="892188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Foresia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–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relação temporária na qual um organismo transporta ou abriga um outro, geralmente sem dependência fisiológica ou metabólica. Ex.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Dermatobi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eposita seus ovos em mosquito, os ovos eclodem e caem no hospedeiro vertebrado. </a:t>
            </a:r>
            <a:r>
              <a:rPr b="0" lang="pt-BR" sz="2400" spc="-1" strike="noStrike">
                <a:solidFill>
                  <a:srgbClr val="66ffff"/>
                </a:solidFill>
                <a:latin typeface="Arial"/>
              </a:rPr>
              <a:t>“Viajando junt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omensalismo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uma espécie (comensal) se beneficia nutricionalmente, enquanto a outra não sofre qualquer alteração (benefício unidirecional). Pode ser facultativo. </a:t>
            </a:r>
            <a:r>
              <a:rPr b="0" lang="pt-BR" sz="2400" spc="-1" strike="noStrike">
                <a:solidFill>
                  <a:srgbClr val="99ff99"/>
                </a:solidFill>
                <a:latin typeface="Arial"/>
              </a:rPr>
              <a:t>Ex. rêmoras x peixes grandes e tartarugas marinhas. </a:t>
            </a:r>
            <a:r>
              <a:rPr b="0" lang="pt-BR" sz="2400" spc="-1" strike="noStrike">
                <a:solidFill>
                  <a:srgbClr val="66ffff"/>
                </a:solidFill>
                <a:latin typeface="Arial"/>
              </a:rPr>
              <a:t>“Comendo na mesma me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0440" y="291960"/>
            <a:ext cx="9826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Nematoda </a:t>
            </a:r>
            <a:r>
              <a:rPr b="0" lang="en-GB" sz="2800" spc="-1" strike="noStrike">
                <a:solidFill>
                  <a:srgbClr val="ccffff"/>
                </a:solidFill>
                <a:latin typeface="Tahoma"/>
              </a:rPr>
              <a:t>(vermes redon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47312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74560" y="1298520"/>
          <a:ext cx="6719760" cy="4300560"/>
        </p:xfrm>
        <a:graphic>
          <a:graphicData uri="http://schemas.openxmlformats.org/drawingml/2006/table">
            <a:tbl>
              <a:tblPr/>
              <a:tblGrid>
                <a:gridCol w="1959120"/>
                <a:gridCol w="2446200"/>
                <a:gridCol w="23144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rd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uperfami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omentá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Strongyl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chostrongyl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ngyl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cylostomat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trongyl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matóides "bursados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Ascarid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arid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matóides  "não bursados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Oxyu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yur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Rhabdit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abdi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Spiru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ru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lazi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a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ronema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Enopl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chu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richinelloidea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octopyma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5020920" y="4860360"/>
            <a:ext cx="2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424640" y="5316480"/>
          <a:ext cx="2712960" cy="1112760"/>
        </p:xfrm>
        <a:graphic>
          <a:graphicData uri="http://schemas.openxmlformats.org/drawingml/2006/table">
            <a:tbl>
              <a:tblPr/>
              <a:tblGrid>
                <a:gridCol w="761760"/>
                <a:gridCol w="1951200"/>
              </a:tblGrid>
              <a:tr h="21888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UFI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GRUPO TAXONÔM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da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D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oidea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ERFAMÍ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dae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MÍ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nae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FAMÍ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9051840" y="62038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10360" y="641520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5120" y="254160"/>
            <a:ext cx="95457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Nematoda </a:t>
            </a: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(vermes redon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95120" y="2752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Bila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130480" y="1393920"/>
            <a:ext cx="3678120" cy="4983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4281480" y="5673600"/>
            <a:ext cx="108756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94080" y="591516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55920" y="354024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41960" y="4962600"/>
            <a:ext cx="1179360" cy="2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59160" y="3782880"/>
            <a:ext cx="108756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8880" y="4022640"/>
            <a:ext cx="108720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rcRect l="0" t="48408" r="37801" b="0"/>
          <a:stretch/>
        </p:blipFill>
        <p:spPr>
          <a:xfrm>
            <a:off x="7324560" y="2001960"/>
            <a:ext cx="1140120" cy="763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3"/>
          <a:srcRect l="0" t="3887" r="3171" b="0"/>
          <a:stretch/>
        </p:blipFill>
        <p:spPr>
          <a:xfrm>
            <a:off x="7350120" y="2940120"/>
            <a:ext cx="1133640" cy="8413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97" name=""/>
          <p:cNvSpPr/>
          <p:nvPr/>
        </p:nvSpPr>
        <p:spPr>
          <a:xfrm>
            <a:off x="4243320" y="258768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392800" y="2378160"/>
            <a:ext cx="1920960" cy="12319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477040" y="3400560"/>
            <a:ext cx="1868400" cy="4492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7354800" y="3944880"/>
            <a:ext cx="1135080" cy="830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01" name=""/>
          <p:cNvSpPr/>
          <p:nvPr/>
        </p:nvSpPr>
        <p:spPr>
          <a:xfrm flipH="1" flipV="1">
            <a:off x="5493960" y="4171680"/>
            <a:ext cx="1841400" cy="1602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37080" y="1374840"/>
            <a:ext cx="2092320" cy="1284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7518240" y="1039680"/>
            <a:ext cx="719280" cy="787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Platyhelminth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4040" y="1184400"/>
            <a:ext cx="51436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bell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ertodermat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tenu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rostom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cithoepitheli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abdo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lecith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seri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iclad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yclad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oge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opisthocotyl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yopishtocotyl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Tr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ge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pidogast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Ces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sto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ces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ificação de Brusca &amp; Brusca (199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35120" y="1279440"/>
            <a:ext cx="1714320" cy="2381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08" name=""/>
          <p:cNvSpPr/>
          <p:nvPr/>
        </p:nvSpPr>
        <p:spPr>
          <a:xfrm>
            <a:off x="1710360" y="637704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8400" y="819000"/>
            <a:ext cx="3129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ahoma"/>
              </a:rPr>
              <a:t>(vermes cha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6640" y="254160"/>
            <a:ext cx="3490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dos Cesto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00680" y="442800"/>
            <a:ext cx="3486240" cy="62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es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esto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philin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Euces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yophyl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y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heto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ycl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abil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oplocepha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eno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vaine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ylid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ymeno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socesto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tadi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ato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ruterin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yclophyllidea não classifi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plo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cani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to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ippotaen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teo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seud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athe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tra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tra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ypanorhyn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82800" y="475308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chin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02760" y="2314440"/>
            <a:ext cx="16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onie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noploceph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0480" y="4675320"/>
            <a:ext cx="2584440" cy="7808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5280" y="2273400"/>
            <a:ext cx="2584440" cy="8078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46480" y="2322360"/>
            <a:ext cx="3260520" cy="385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87880" y="4204800"/>
            <a:ext cx="3192120" cy="84780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3367080" y="3425760"/>
            <a:ext cx="743040" cy="1305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44920" y="4908600"/>
            <a:ext cx="1042920" cy="798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875040" y="1306440"/>
            <a:ext cx="735120" cy="11192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419720" y="2637000"/>
            <a:ext cx="1057320" cy="7016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6640" y="291960"/>
            <a:ext cx="4127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dos Tremato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00680" y="950760"/>
            <a:ext cx="348624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r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spidogast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idogastr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Aspid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Cotylas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Cotyl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Lobatost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Multico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lticaly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Multical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gogastr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Rug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Digenea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(fluk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zyg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lodis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hinostom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stu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strodis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ymnophal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odiplostom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isthorch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giorch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nocepha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igei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ndanico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genea não classifi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77280" y="27208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asciola s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67840" y="500544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chistosom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8640" y="2598840"/>
            <a:ext cx="2584440" cy="62208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1960" y="4910040"/>
            <a:ext cx="2584440" cy="6224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05240" y="5253120"/>
            <a:ext cx="2903400" cy="223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86080" y="2946240"/>
            <a:ext cx="2968560" cy="102096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233960" y="2390760"/>
            <a:ext cx="1342800" cy="723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257720" y="4017960"/>
            <a:ext cx="720720" cy="1147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-752400" y="81360"/>
            <a:ext cx="8029440" cy="65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Prot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66ff33"/>
                </a:solidFill>
                <a:latin typeface="Arial"/>
              </a:rPr>
              <a:t>Prot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Cilioph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iliat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Balantid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alanti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Apicomplex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Cocc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Eimer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im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Cystoisosp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Cryptosporidium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Sarcocys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oxoplasm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Sarcocysti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Neosp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esnoit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ammon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epa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Piroplasmi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Babes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abes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heiler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heileria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Haemospori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Plasmod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aemoprot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Sarcomastig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Sarcodin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ntamoe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Mastigoph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rypanosoma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ypanosom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Leish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richomonad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itrich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ich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Monocercomonad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ist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Hexami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Gi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Microsp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ncephali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72240" y="21276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protozo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5360" y="657072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Filo Apicomplexa – classe Cocci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5640" y="1306440"/>
            <a:ext cx="6436440" cy="17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Cocci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66ffff"/>
                </a:solidFill>
                <a:latin typeface="Arial Unicode MS"/>
              </a:rPr>
              <a:t>Ordem Eimeri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Cryptosporid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Cryptospori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Eimeriidae - </a:t>
            </a:r>
            <a:r>
              <a:rPr b="0" i="1" lang="en-GB" sz="1400" spc="-1" strike="noStrike">
                <a:solidFill>
                  <a:srgbClr val="00ff00"/>
                </a:solidFill>
                <a:latin typeface="Arial Unicode MS"/>
              </a:rPr>
              <a:t>Eimeria, Isospora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, Caryospora, Cyclosp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Sarcocyst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Toxoplasma, Hammondia, Neospora, Sarcocysti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Besnoitia, Frenke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2971800"/>
            <a:ext cx="79995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8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66ffff"/>
                </a:solidFill>
                <a:latin typeface="Arial Unicode MS"/>
              </a:rPr>
              <a:t>Ordem Eucoccidi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Adeleina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Hepa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Lankesterill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Lankester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3809880"/>
            <a:ext cx="27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Gregar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6600" y="4335480"/>
            <a:ext cx="5028480" cy="16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Aconoida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Haemosporida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Haemoproteu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Hepatocystis, Plasmo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	</a:t>
            </a:r>
            <a:r>
              <a:rPr b="0" lang="en-GB" sz="1400" spc="-1" strike="noStrike">
                <a:solidFill>
                  <a:srgbClr val="ffff99"/>
                </a:solidFill>
                <a:latin typeface="Arial Unicode MS"/>
              </a:rPr>
              <a:t>Piroplasm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	</a:t>
            </a: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Babes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Babes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    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Theiler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Theil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016680" y="3278160"/>
            <a:ext cx="3325680" cy="24955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Kinetoplas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325760" y="1554120"/>
            <a:ext cx="1757520" cy="1176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2"/>
          <a:srcRect l="0" t="0" r="5039" b="20440"/>
          <a:stretch/>
        </p:blipFill>
        <p:spPr>
          <a:xfrm>
            <a:off x="4344840" y="2889360"/>
            <a:ext cx="1762200" cy="1236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4357800" y="4280040"/>
            <a:ext cx="1768320" cy="1635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52" name=""/>
          <p:cNvSpPr/>
          <p:nvPr/>
        </p:nvSpPr>
        <p:spPr>
          <a:xfrm>
            <a:off x="800280" y="1068840"/>
            <a:ext cx="41605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Kinetoplast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Bodonida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uz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yptaul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yptob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mastigel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chthy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rypt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ynch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ynch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ypano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Trypanosomatid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astocrith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ith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dotrypan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rpe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ish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p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ge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ypanos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llace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rcRect l="0" t="0" r="0" b="50754"/>
          <a:stretch/>
        </p:blipFill>
        <p:spPr>
          <a:xfrm>
            <a:off x="6340320" y="1546200"/>
            <a:ext cx="2738520" cy="2135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4" name="" descr=""/>
          <p:cNvPicPr/>
          <p:nvPr/>
        </p:nvPicPr>
        <p:blipFill>
          <a:blip r:embed="rId5"/>
          <a:srcRect l="27202" t="11642" r="0" b="31971"/>
          <a:stretch/>
        </p:blipFill>
        <p:spPr>
          <a:xfrm>
            <a:off x="6334200" y="3906720"/>
            <a:ext cx="2770200" cy="2014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00800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600" y="1557360"/>
            <a:ext cx="8442360" cy="27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ush, A.O.; Fernández, J.C.; Esch, G.W &amp; Seed, J.R. (2001). </a:t>
            </a:r>
            <a:r>
              <a:rPr b="0" lang="pt-BR" sz="2000" spc="-1" strike="noStrike">
                <a:solidFill>
                  <a:srgbClr val="ffccff"/>
                </a:solidFill>
                <a:latin typeface="Arial"/>
              </a:rPr>
              <a:t>Parasitism: The Diversity and Ecology of Animal Parasites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ambridge University Press, Cambridge, U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into, C.M. (2006). </a:t>
            </a:r>
            <a:r>
              <a:rPr b="0" lang="pt-BR" sz="2000" spc="-1" strike="noStrike">
                <a:solidFill>
                  <a:srgbClr val="ffccff"/>
                </a:solidFill>
                <a:latin typeface="Arial"/>
              </a:rPr>
              <a:t>Roteiro de Estudos de Parasitologia e Doenças Parasitárias em Medicina Veterinári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s, L.S.; Janovy Jr, J. &amp; Schmidt, P. (2004).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 Foundations of Parasitology. Seventh Edition.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McGraw-Hill Science/Engineering/Math, 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6120" y="4546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Relações inter-específ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621440"/>
            <a:ext cx="89218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Mutualism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associação permanente mutuamente benéfica e de dependência estrita. Ex.: líquens (algas e fungos), microbiota ruminal e os bovinos, cupins e flora microbiana. Geralmente representa uma relação obriga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tocooperação (mutualismo facultativo)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mbas as espécies se beneficiam da associação, embora possam viver independentemente dela. Ex. garça carrapateira e bovino, ave-palito e crocodi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Inquilinism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uma espécie se beneficia de outra para fins de proteção ou abrigo, porém sem prejudicá-la.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Ex.: peixe palhaço e anêm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rot="16200000">
            <a:off x="3761640" y="4939200"/>
            <a:ext cx="125892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847800" y="3366720"/>
            <a:ext cx="1020600" cy="9730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3739320" y="3761280"/>
            <a:ext cx="130644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783600" y="2610000"/>
            <a:ext cx="12207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824280" y="1571400"/>
            <a:ext cx="11397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800" y="50148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ões entre seres v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3840" y="367524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Simbi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92520" y="425592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Comens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43000" y="305424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Explo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20680" y="202104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Mutu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5760" y="4268880"/>
            <a:ext cx="2154240" cy="126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43920" y="3865680"/>
            <a:ext cx="1941480" cy="581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18840" y="3222720"/>
            <a:ext cx="461880" cy="25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332160" y="212688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332160" y="2141280"/>
            <a:ext cx="12600" cy="10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827360" y="2682720"/>
            <a:ext cx="1522440" cy="1028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8160" y="5384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For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4040" y="18478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Benefí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9120" y="32162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9569000">
            <a:off x="1593720" y="29016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Interação trófica dir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800000">
            <a:off x="1776600" y="4654080"/>
            <a:ext cx="21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Nenhuma interação tró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974400">
            <a:off x="1900440" y="389232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Interação trófica indir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6802920" y="3844080"/>
            <a:ext cx="102096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6727680" y="2573280"/>
            <a:ext cx="117504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6762600" y="1540800"/>
            <a:ext cx="110484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59720" y="42991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arasitó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06640"/>
            <a:ext cx="89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Micr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re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88960" y="19749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aras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788880" y="5045760"/>
            <a:ext cx="10209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39880" y="3209760"/>
            <a:ext cx="461880" cy="25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253200" y="211428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253200" y="2128680"/>
            <a:ext cx="12600" cy="109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16600" y="5505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re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6720" y="3203640"/>
            <a:ext cx="106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Mu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36640" y="5597640"/>
            <a:ext cx="461880" cy="25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9960" y="450180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249960" y="4516200"/>
            <a:ext cx="12600" cy="10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45600" y="1666800"/>
            <a:ext cx="99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61440" y="4054320"/>
            <a:ext cx="99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75040" y="5600880"/>
            <a:ext cx="106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Mu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81680" y="2641680"/>
            <a:ext cx="1288800" cy="519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0000" y="3471120"/>
            <a:ext cx="1303200" cy="1623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3019200">
            <a:off x="4864680" y="422784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Sempre m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244000">
            <a:off x="4864320" y="262692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Raramente m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5360" y="6532560"/>
            <a:ext cx="286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Adaptado de Bush </a:t>
            </a:r>
            <a:r>
              <a:rPr b="0" i="1" lang="pt-BR" sz="12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75440" y="2833560"/>
            <a:ext cx="216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organismos hematófagos (sanguessugas, mosquito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66080" y="5530680"/>
            <a:ext cx="21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leão x gaz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9320" y="1893960"/>
            <a:ext cx="21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vermes, carrapatos, protozoá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69320" y="3971880"/>
            <a:ext cx="2165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Vespas que depositam ovos no corpo de um inseto que por sua vez é devorado pelas larvas result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6440" y="4244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Parasit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" y="1641240"/>
            <a:ext cx="833256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ff99"/>
                </a:solidFill>
                <a:latin typeface="Arial"/>
              </a:rPr>
              <a:t>Paras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rganismo que, com a finalidade de alimentar-se, reproduzir-se ou completar o seu ciclo vital, se beneficia de um outro organismo, animal ou vegetal, de modo permanente ou temporário, produzindo efeitos deletérios nesse hosped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Parasitose -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ondição na qual o parasita é patogênico e causa danos ao hosped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Parasitíase –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ondição na qual o parasita é potencialmente patogênico, mas não causa danos aparentes ao hospedeiro (estado de port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08080" y="704880"/>
            <a:ext cx="7989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Parasitologia  </a:t>
            </a:r>
            <a:r>
              <a:rPr b="0" lang="en-GB" sz="3600" spc="-1" strike="noStrike">
                <a:solidFill>
                  <a:srgbClr val="ccff99"/>
                </a:solidFill>
                <a:latin typeface="Arial Unicode MS"/>
              </a:rPr>
              <a:t>- algumas defini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93760" y="1996920"/>
            <a:ext cx="78627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studo das relações parasita-hosped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Área multidisciplinar que contempla Bioquímica, Fisiologia, Biologia Celular e Molecular, Imunologia, Farmacologia, entre outras discipl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radicionalmente focado no estudo das interações com parasitas protozoários, artrópodes e helm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77840" y="1966320"/>
            <a:ext cx="837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Agente infeccios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- Parasito capaz de produzir infec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Suscetível -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Hospedeiro passível de sofrer a infec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Doenç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- qualquer manifestação clínica ou estado mórbido resultante de alterações  dos mecanismos reguladores da homeostasia orgâ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3160" y="47628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20880" y="1342800"/>
            <a:ext cx="8474040" cy="50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Classificação das infecções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Fitonoses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dos vegetais ao homem (ex.: blastomicose –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Paracoccidioides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brasilien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Zoonoses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acometem os animais e o ho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Antropozoonoses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uma zoonose mantida na natureza em reservatórios animais e transmitida ao homem (ex.: leishmanioses tegumentares, raiva, brucel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Zooantroponoses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do homem para os animais (ex.: cisticercoses, amebíase para cão, tubercul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Anfixenose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entre o homem e os animais (ex.: leishmaniose visceral, doença de Chagas, estafilococ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Antroponose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 ao homem a partir de um reservatório humano (ex.: AI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160" y="44136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12:12:41Z</dcterms:created>
  <dc:creator>Arthur Gruber</dc:creator>
  <dc:description/>
  <dc:language>en-US</dc:language>
  <cp:lastModifiedBy>Arthur Gruber</cp:lastModifiedBy>
  <dcterms:modified xsi:type="dcterms:W3CDTF">2008-03-05T19:05:22Z</dcterms:modified>
  <cp:revision>121</cp:revision>
  <dc:subject/>
  <dc:title>Desenvolvimento de marcadores microssatélites para a diferenciação de cepas de Eimeria tenella, E. acervulina e E. maxima</dc:title>
</cp:coreProperties>
</file>