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0.wmf" ContentType="image/x-wmf"/>
  <Override PartName="/ppt/media/image25.png" ContentType="image/png"/>
  <Override PartName="/ppt/media/image8.png" ContentType="image/png"/>
  <Override PartName="/ppt/media/image7.png" ContentType="image/png"/>
  <Override PartName="/ppt/media/image32.png" ContentType="image/png"/>
  <Override PartName="/ppt/media/image11.wmf" ContentType="image/x-wmf"/>
  <Override PartName="/ppt/media/image26.png" ContentType="image/png"/>
  <Override PartName="/ppt/media/image33.png" ContentType="image/png"/>
  <Override PartName="/ppt/media/image3.png" ContentType="image/png"/>
  <Override PartName="/ppt/media/image12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3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10288588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79708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19040" y="531360"/>
            <a:ext cx="399420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79708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FB94CA2-9612-4E83-8F6F-19DFF5C469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A19C-A7C1-4B02-B94B-17528592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CCC0-4A77-41D8-8C9C-7ABE228E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BD8D-8C4A-45DD-805D-9D8A2D4CB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969A-B654-4BF8-8098-880775489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EF11-781A-4F10-BAE4-A7ECC8ED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189C-9956-46D2-94EF-D912AFB8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DF7F-8774-4722-BBB4-09C5D354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AF60-A252-4718-858D-8C634EAC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080" y="27432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E5FD-1FE4-4314-BC76-45F8D0BE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4B22-D55C-4C26-B5BA-5C83362E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D321-2E88-40D5-9F7D-D3EDC16E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79E6-A560-478C-80D3-6D1B4C0C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6244920"/>
            <a:ext cx="2400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4920"/>
            <a:ext cx="3257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4920"/>
            <a:ext cx="2400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FDEF-C617-483A-9056-7BF0B6EA2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96760" y="517680"/>
            <a:ext cx="8583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onceitos sobre interações entre seres vivos, parasitismo e relação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parasita-hospedei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65280" y="2705040"/>
            <a:ext cx="5105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ccff99"/>
                </a:solidFill>
                <a:latin typeface="Arial"/>
              </a:rPr>
              <a:t>Arthur Gruber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30280" y="4006800"/>
            <a:ext cx="71294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BMP0222 – Introdução à Parasitologia Veteriná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5021280"/>
            <a:ext cx="4710240" cy="1406520"/>
          </a:xfrm>
          <a:custGeom>
            <a:avLst/>
            <a:gdLst>
              <a:gd name="textAreaLeft" fmla="*/ 0 w 4710240"/>
              <a:gd name="textAreaRight" fmla="*/ 4710600 w 4710240"/>
              <a:gd name="textAreaTop" fmla="*/ 104040 h 1406520"/>
              <a:gd name="textAreaBottom" fmla="*/ 1302480 h 1406520"/>
            </a:gdLst>
            <a:ahLst/>
            <a:rect l="textAreaLeft" t="textAreaTop" r="textAreaRight" b="textAreaBottom"/>
            <a:pathLst>
              <a:path w="21600" h="21600">
                <a:moveTo>
                  <a:pt x="0" y="799"/>
                </a:moveTo>
                <a:cubicBezTo>
                  <a:pt x="3600" y="-2032"/>
                  <a:pt x="7200" y="3630"/>
                  <a:pt x="10800" y="799"/>
                </a:cubicBezTo>
                <a:cubicBezTo>
                  <a:pt x="14400" y="-2032"/>
                  <a:pt x="18000" y="3630"/>
                  <a:pt x="21600" y="799"/>
                </a:cubicBezTo>
                <a:lnTo>
                  <a:pt x="21600" y="20801"/>
                </a:lnTo>
                <a:cubicBezTo>
                  <a:pt x="18000" y="23632"/>
                  <a:pt x="14400" y="17970"/>
                  <a:pt x="10800" y="20801"/>
                </a:cubicBezTo>
                <a:cubicBezTo>
                  <a:pt x="7200" y="23632"/>
                  <a:pt x="3600" y="17970"/>
                  <a:pt x="0" y="20801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50000">
                <a:srgbClr val="717044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38520" y="530856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  <a:ea typeface="Arial Unicode MS"/>
              </a:rPr>
              <a:t>Instituto de Ciências Biomédicas Universidade de São Pa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01800" y="5078520"/>
            <a:ext cx="890640" cy="1299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375680" y="5052960"/>
            <a:ext cx="1081080" cy="1338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9640" y="1912320"/>
            <a:ext cx="8364600" cy="38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Período pré-patente -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tempo que decorre a partir da penetração/ingestão do estágio infectante do parasita no hospedeiro até o aparecimento de ovos, larvas ou oocistos (formas jovens iniciais) d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g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ração segui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Período de incubação -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tempo que transcorre desde o contágio até a aparição dos primeiros sintomas da doenç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Incidência -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freqüência da doença num determinado período de tempo (casos novos). É calculada a partir do número de casos novos em relação à população não infectad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Prevalência -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número total de casos na população em dado instante. A prevalência reflete um retrato instantâneo da popul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9800" y="565200"/>
            <a:ext cx="804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ffff00"/>
                </a:solidFill>
                <a:latin typeface="Arial Unicode MS"/>
              </a:rPr>
              <a:t>Conceitos epidemiológic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47800" y="463680"/>
            <a:ext cx="8042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ffff00"/>
                </a:solidFill>
                <a:latin typeface="Arial Unicode MS"/>
              </a:rPr>
              <a:t>Conceitos epidemiológic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851040" y="619200"/>
            <a:ext cx="144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51040" y="619200"/>
            <a:ext cx="2469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319560" y="619200"/>
            <a:ext cx="144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90760" y="528480"/>
            <a:ext cx="9180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490760" y="619200"/>
            <a:ext cx="9180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89120" y="528480"/>
            <a:ext cx="9216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589120" y="619200"/>
            <a:ext cx="9216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4040" y="2160"/>
            <a:ext cx="211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ADEIA EPIDEMIOLÓG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5840" y="5061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0960" y="1357920"/>
            <a:ext cx="85690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  <a:ea typeface="Times New Roman"/>
              </a:rPr>
              <a:t>Fonte de infec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Organismo vertebrado onde o agente pode sobreviver e multiplicar-se, tendo acesso ao meio exterior. Modalidades de fontes de infecção:  doentes, portadores, reservató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  <a:ea typeface="Times New Roman"/>
              </a:rPr>
              <a:t>	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  <a:ea typeface="Times New Roman"/>
              </a:rPr>
              <a:t>Via de elimin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É o meio ou veículo pelo qual o parasita é eliminado da fonte de infecção (secreções, excreções, sangue, exsudatos/descargas purulentas, descamações epiteliais, leite, placent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  <a:ea typeface="Times New Roman"/>
              </a:rPr>
              <a:t>Via de transmiss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É o meio ou veículo pelo qual o parasita alcança o novo hospedeiro (água, ar, poeiras, solo, fômites, alimentos, hospedeiros intermediários,  vetor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  <a:ea typeface="Times New Roman"/>
              </a:rPr>
              <a:t>Porta de ent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Via pela qual o parasita penetra no novo hospedeiro (pele, mucosas, via oral, trato gênito-urinári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  <a:ea typeface="Times New Roman"/>
              </a:rPr>
              <a:t>Suscetí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Hospedeiro passível de sofrer a infestação (ou infecçã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60400" y="428760"/>
            <a:ext cx="7313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 Unicode MS"/>
              </a:rPr>
              <a:t>Classificação dos parasi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25560" y="1688400"/>
            <a:ext cx="8402760" cy="44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ff99"/>
                </a:solidFill>
                <a:latin typeface="Tahoma"/>
              </a:rPr>
              <a:t>Segundo o local do parasitismo</a:t>
            </a:r>
            <a:r>
              <a:rPr b="0" lang="pt-BR" sz="2400" spc="-1" strike="noStrike">
                <a:solidFill>
                  <a:srgbClr val="ccff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4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Endoparasitas -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permanecem no interior do organismo hospedeiro. </a:t>
            </a:r>
            <a:r>
              <a:rPr b="0" lang="pt-BR" sz="1600" spc="-1" strike="noStrike">
                <a:solidFill>
                  <a:srgbClr val="66ffff"/>
                </a:solidFill>
                <a:latin typeface="Tahoma"/>
              </a:rPr>
              <a:t>Ex.: helmintos (vermes)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4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Ectoparasitas 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- permanecem na superfície corpórea do hospedeiro, na pele, pêlos e cavidades naturais. </a:t>
            </a:r>
            <a:r>
              <a:rPr b="0" lang="pt-BR" sz="1600" spc="-1" strike="noStrike">
                <a:solidFill>
                  <a:srgbClr val="66ffff"/>
                </a:solidFill>
                <a:latin typeface="Tahoma"/>
              </a:rPr>
              <a:t>Ex.: piolhos, pulgas, carrapa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ff99"/>
                </a:solidFill>
                <a:latin typeface="Tahoma"/>
              </a:rPr>
              <a:t>Segundo o tempo de duração do parasit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4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Periódicos -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somente são parasitos em uma fase do desenvolvimento. Ex.: pulgas, 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Ancylostoma caninum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4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Permanentes -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passam a vida, em todos os seus estágios, no hospedeiro. Ex.: ácaros do gênero 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Demodex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4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Temporários ou intermitentes -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realizam somente parte de seu desenvolvimento no hospedeiro ou se utilizam dele periodicamente para alimentação ou abrigo. Ex.: insetos hematófagos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pt-BR" sz="1600" spc="-1" strike="noStrike">
                <a:solidFill>
                  <a:srgbClr val="66ffff"/>
                </a:solidFill>
                <a:latin typeface="Tahoma"/>
              </a:rPr>
              <a:t>São também chamados micropredadores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68240" y="392040"/>
            <a:ext cx="7313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 Unicode MS"/>
              </a:rPr>
              <a:t>Classificação dos parasi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9080" y="1531440"/>
            <a:ext cx="8402760" cy="48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ff99"/>
                </a:solidFill>
                <a:latin typeface="Tahoma"/>
              </a:rPr>
              <a:t>Segundo o número de espécies que podem servir como hospede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Estenoxênicos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- afetam somente uma espécie hospedeira; ex.: 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Taenia sagin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Eurixênicos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- apresentam ampla especificidade de hospedei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ex.: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 Toxoplasma gond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Oligoxênicos -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apresentam especificidade restrita de hospedei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ex.: 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Echinococcus granulosus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(cão, cachorro-do-mato e raposa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ff99"/>
                </a:solidFill>
                <a:latin typeface="Tahoma"/>
              </a:rPr>
              <a:t>Segundo o número de hospedeiros necessários para a realização do ciclo de vi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Monoxênicos -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requerem somente a existência do hospedeiro definitivo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x.: 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Ascaris lumbricoi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Heteroxênicos - 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precisam de um hospedeiro intermediário e outro definitiv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Ex.: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 Trypanosoma cruz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Autoxênicos -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um único hospedeiro pode servir de hospedeiro definitivo e intermediário. Ex.: 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Taenia solium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no hom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77960" y="476280"/>
            <a:ext cx="865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 Unicode MS"/>
              </a:rPr>
              <a:t>Classificação dos parasi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68320" y="1741320"/>
            <a:ext cx="8788320" cy="42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ff99"/>
                </a:solidFill>
                <a:latin typeface="Tahoma"/>
              </a:rPr>
              <a:t>Segundo a maior ou menor exigência à vida parasitá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4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Obrigatórios - 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em condições normais,necessita obrigatoriamente de um hospedeiro; ex.: helmi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4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Facultativos -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podem viver no hospedeiro ou em vida livre. ex.: larvas de moscas da família 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Sarcophagid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4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Acidental - 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é o que parasita outro hospedeiro que não o seu normal. ex.: 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Dipylidium caninum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parasitando crianç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ff99"/>
                </a:solidFill>
                <a:latin typeface="Tahoma"/>
              </a:rPr>
              <a:t>Segundo o habi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4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Normal - 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o parasita se encontra em determinado segmento, órgão ou tecido de seu hospedeiro e, somente assim, completa seu ciclo biológ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4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Extraviado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- pode ocorrer em outro hospedeiro e fora do seu habitat natural. Ex.: 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Ancylostoma braziliense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, parasita do intestino delgado de cães e gatos, parasita o homem como 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larva migrans 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cutân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30160" y="476280"/>
            <a:ext cx="874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 Unicode MS"/>
              </a:rPr>
              <a:t>Classificação dos hospedei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3120" y="1824840"/>
            <a:ext cx="80787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Obrigatório -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único que oferece ao parasita as condições necessárias ao seu desenvolv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Principal –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hospedeiro que oferece as melhores condições para o desenvolvimento do parasita, o qual também pode infectar outras espécies de hospedeiro menos efic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Final ou definitivo - 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spedeiro no qual ocorre o desenvolvimento dos estágios sexuais do ciclo. Se não há estágios sexuais, é considerado o hospedeiro mais importante do ciclo do ponto de vista do hom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97040" y="476280"/>
            <a:ext cx="874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 Unicode MS"/>
              </a:rPr>
              <a:t>Classificação dos hospedei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80920" y="1479960"/>
            <a:ext cx="811692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Intermediário –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ssencial para o ciclo, não é requerido por todos os estágios do parasita. Geralmente alberga as fases mais jovens do parasi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Falso -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quando não é o hospedeiro obrigatório do parasita, levando-o a encapsular-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Paratênico (ou de transporte) 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m tipo de hospedeiro intermediário no qual o parasita imaturo pode sobreviver por tempo indefinido, mas o desenvolvimento requer a infecção pelo hospedeiro definitivo, geralmente por predação do hospedeiro paratên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08000" y="476280"/>
            <a:ext cx="874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Sobrevivência e permanência do paras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46080" y="1615320"/>
            <a:ext cx="8278920" cy="48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ff99"/>
                </a:solidFill>
                <a:latin typeface="Tahoma"/>
              </a:rPr>
              <a:t>Dependem dos seguintes fatores relacionado agente etiológic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876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Infectividade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(capacidade de instalar-se no hospedei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876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Patogenicidade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(capacidade de determinar o aparecimento dos sintomas da doenç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876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Virulência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(medida pela intensidade da manifestação clínica da doenç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876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Resistência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(capacidade do parasita em sobreviver fora do organismo do hospedei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876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Persistência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(capacidade do parasita de permanecer em uma população de hospedei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876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Tropismo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(capacidade de deslocar-se em direção ao hospedeiro)</a:t>
            </a:r>
            <a:br>
              <a:rPr sz="2000"/>
            </a:b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73280" y="330120"/>
            <a:ext cx="8184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 Unicode MS"/>
              </a:rPr>
              <a:t>Interações parasita-hospedei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08200" y="1525680"/>
            <a:ext cx="8299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Infecção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: invasão e colonização do organismo hospedeiro por parasitos internos, como helmintos e protozoá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Infestação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: ataque ao organismo hospedeiro por parasitos externos,como os artróp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Adaptações fisiológicas dos parasit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ccff99"/>
                </a:solidFill>
                <a:latin typeface="Tahoma"/>
              </a:rPr>
              <a:t>Nutrição -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 hematófagos têm secreção oral anticoagu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ccff99"/>
                </a:solidFill>
                <a:latin typeface="Tahoma"/>
              </a:rPr>
              <a:t>Dispersão -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mecanismos que facilitam a difusão da espéci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ccff99"/>
                </a:solidFill>
                <a:latin typeface="Tahoma"/>
              </a:rPr>
              <a:t>Penetração no hospedeiro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oral, cutânea ou percutâ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inalatória ou respirató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transovar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transplacentá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inocul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contamin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90720" y="452520"/>
            <a:ext cx="8937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Ações desencadeadas pelos parasitas sobre os hospedeir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30320" y="1820880"/>
            <a:ext cx="868032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ções mecâ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bstrutivas (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Ascaris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ompressivas (cisto hidát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raumáticas (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Ancylostoma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, mosqui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ções tóx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xotoxinas (parasita excreta produtos do seu metabolis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ndotoxinas (parasita libera ao morr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ções espoliad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69800" y="623880"/>
            <a:ext cx="835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 Unicode MS"/>
              </a:rPr>
              <a:t>Relações simbió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ff99"/>
                </a:solidFill>
                <a:latin typeface="Arial Unicode MS"/>
              </a:rPr>
              <a:t>“</a:t>
            </a:r>
            <a:r>
              <a:rPr b="0" lang="en-GB" sz="3200" spc="-1" strike="noStrike">
                <a:solidFill>
                  <a:srgbClr val="ccff99"/>
                </a:solidFill>
                <a:latin typeface="Arial Unicode MS"/>
              </a:rPr>
              <a:t>Vivendo junto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7280" y="1768320"/>
            <a:ext cx="9113760" cy="49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Simbios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do Grego: </a:t>
            </a:r>
            <a:r>
              <a:rPr b="0" i="1" lang="en-US" sz="2800" spc="-1" strike="noStrike">
                <a:solidFill>
                  <a:srgbClr val="ccffff"/>
                </a:solidFill>
                <a:latin typeface="Tahoma"/>
              </a:rPr>
              <a:t>sim -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“com“ e </a:t>
            </a:r>
            <a:r>
              <a:rPr b="0" i="1" lang="en-US" sz="2800" spc="-1" strike="noStrike">
                <a:solidFill>
                  <a:srgbClr val="ccffff"/>
                </a:solidFill>
                <a:latin typeface="Tahoma"/>
              </a:rPr>
              <a:t>biose -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“vivendo”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ahoma"/>
              </a:rPr>
              <a:t>Definição mais estrita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– relação em que organismos vivem em associação, com benefício mútu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ahoma"/>
              </a:rPr>
              <a:t>Definição mais ampla (A. de Bary, 1879)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– “Dois organismos vivendo em associação próxima, geralmente um deles vivendo dentro ou sobre o corpo do outro, são simbióticos, em contraste com os organismos de vida livr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500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Um membro se beneficia da relação. O outr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Mutualism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…também se beneficia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Comensalism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…não é afe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Parasitism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…sofre da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990720" y="452520"/>
            <a:ext cx="8937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Ações desencadeadas pelos parasitas sobre os hospedeir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27160" y="2246040"/>
            <a:ext cx="8489880" cy="38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Aft>
                <a:spcPts val="751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Diretas (artrópodes hematófag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51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Indiretas (</a:t>
            </a:r>
            <a:r>
              <a:rPr b="0" i="1" lang="pt-BR" sz="2000" spc="-1" strike="noStrike">
                <a:solidFill>
                  <a:srgbClr val="ffffff"/>
                </a:solidFill>
                <a:latin typeface="Tahoma"/>
              </a:rPr>
              <a:t>Toxocara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spp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51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ções irritativas (cestod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51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ções infecciosas (L3 de </a:t>
            </a:r>
            <a:r>
              <a:rPr b="0" i="1" lang="pt-BR" sz="2000" spc="-1" strike="noStrike">
                <a:solidFill>
                  <a:srgbClr val="ffffff"/>
                </a:solidFill>
                <a:latin typeface="Tahoma"/>
              </a:rPr>
              <a:t>Bunostomum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spp. permite a entrada de agentes na pe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51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ções antigênicas (secreções e excreções do parasita despertam a resposta imune do hospedei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51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ções anóxicas (babési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51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ções inflamatórias (picadas de mosqui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51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ções enzimáticas (L3 de </a:t>
            </a:r>
            <a:r>
              <a:rPr b="0" i="1" lang="pt-BR" sz="2000" spc="-1" strike="noStrike">
                <a:solidFill>
                  <a:srgbClr val="ffffff"/>
                </a:solidFill>
                <a:latin typeface="Tahoma"/>
              </a:rPr>
              <a:t>A. braziliense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8480" y="2004840"/>
            <a:ext cx="8477280" cy="38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ff99"/>
                </a:solidFill>
                <a:latin typeface="Arial"/>
              </a:rPr>
              <a:t>Assexuada ou agâmica </a:t>
            </a:r>
            <a:r>
              <a:rPr b="0" lang="pt-BR" sz="1800" spc="-1" strike="noStrike">
                <a:solidFill>
                  <a:srgbClr val="ffcc00"/>
                </a:solidFill>
                <a:latin typeface="Arial"/>
              </a:rPr>
              <a:t>(novos individíuos a partir de uma única célu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69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Cissiparidade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(flagelados, ciliados, amebozoári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69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Gemiparidade ou brotamento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(babési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69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Partenogênese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pt-BR" sz="1600" spc="-1" strike="noStrike">
                <a:solidFill>
                  <a:srgbClr val="ffffff"/>
                </a:solidFill>
                <a:latin typeface="Arial"/>
              </a:rPr>
              <a:t>Strongyloides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69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Esquizogonia ou fissão múltipla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(coccídi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69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Endodiogenia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pt-BR" sz="1600" spc="-1" strike="noStrike">
                <a:solidFill>
                  <a:srgbClr val="ffffff"/>
                </a:solidFill>
                <a:latin typeface="Arial"/>
              </a:rPr>
              <a:t>Isospora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i="1" lang="pt-BR" sz="1600" spc="-1" strike="noStrike">
                <a:solidFill>
                  <a:srgbClr val="ffffff"/>
                </a:solidFill>
                <a:latin typeface="Arial"/>
              </a:rPr>
              <a:t>Toxoplasma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69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Esporogonia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(coccídi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ff99"/>
                </a:solidFill>
                <a:latin typeface="Arial"/>
              </a:rPr>
              <a:t>Sexuada ou gâmica ou singâmica </a:t>
            </a:r>
            <a:r>
              <a:rPr b="0" lang="pt-BR" sz="1800" spc="-1" strike="noStrike">
                <a:solidFill>
                  <a:srgbClr val="ffcc00"/>
                </a:solidFill>
                <a:latin typeface="Arial"/>
              </a:rPr>
              <a:t>(novos indivíduos a partir de cruzamento sexual entre célul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69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Conjugação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(cilia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69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Fecundação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(união de células sexuais masculinas e feminin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0800" y="428760"/>
            <a:ext cx="830124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Tipos de reproduç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58960" y="1506600"/>
            <a:ext cx="862488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Aft>
                <a:spcPts val="788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Pele -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descamação celular, dessecação, acidez, secreção de ácidos grax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88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Conjuntivas oculares -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ação mecânica da secreção lacrimal, presença de lisozima na lágri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88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Ap.respiratório -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tamanho da abertura das narinas, irregularidades e tortuosidade das fossas nasais (causa o aumento da superfície de contato da mucosa com as partículas), produção de muco, movimento ciliar, presença de substâncias protetoras (lisozima, anticorpos,...), reflexo da tosse, fagocitose (a nível alveola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88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Ap.digestivo -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epitélio plano poliestratificado da boca, saliva, pH ácido do suco gástrico, produção de muco, descamação celular, reflexo do vômito;  ao nível dos intestinos: pH ácido do conteúdo duodenal, microbiota residente, produção de muco, diarréia (causa aceleração do trânsito e aumento de secreção de líquid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88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Ap.gênito-urinário -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pH da urina, efeito mecânico da micção, produção de muco, depósito de estrógenos nas células do epitélio vaginal (que com  a descamação, servem de substrato para o </a:t>
            </a:r>
            <a:r>
              <a:rPr b="0" i="1" lang="pt-BR" sz="1800" spc="-1" strike="noStrike">
                <a:solidFill>
                  <a:srgbClr val="ffffff"/>
                </a:solidFill>
                <a:latin typeface="Tahoma"/>
              </a:rPr>
              <a:t>Lactobacillus  acidophilus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, que produz ácido láctico e diminui o pH do mei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71560" y="476280"/>
            <a:ext cx="8300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Regiões invadidas e mecanismos de defes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016080" y="1233360"/>
            <a:ext cx="4121280" cy="54644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9800" y="357120"/>
            <a:ext cx="835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 Unicode MS"/>
              </a:rPr>
              <a:t>Relação parasita-hospedei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3320" y="6532560"/>
            <a:ext cx="286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Adaptado de Bush </a:t>
            </a:r>
            <a:r>
              <a:rPr b="0" i="1" lang="pt-BR" sz="12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.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0840" y="1527120"/>
            <a:ext cx="10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ff33"/>
                </a:solidFill>
                <a:latin typeface="Tahoma"/>
              </a:rPr>
              <a:t>Saú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804880" y="56786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Doe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51160" y="2841480"/>
            <a:ext cx="1292400" cy="201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Tahoma"/>
              </a:rPr>
              <a:t>Cels. efetoras imunes: céls. T (helper, citotóxicas e supressoras); céls. B, macrófagos, etc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27720" y="1389240"/>
            <a:ext cx="1292040" cy="201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Tahoma"/>
              </a:rPr>
              <a:t>Respostas do hospedeiro: interleucinas, citocinas, respostas de fase aguda, respostas inflamatór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37080" y="3909960"/>
            <a:ext cx="1292400" cy="265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Tahoma"/>
              </a:rPr>
              <a:t>Fatores não específicos: idade do hospedeiro, sexo, genética, céls. fagocíticas, status nutricional, virulência do paras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025880" y="1923840"/>
            <a:ext cx="1246320" cy="734760"/>
          </a:xfrm>
          <a:prstGeom prst="line">
            <a:avLst/>
          </a:prstGeom>
          <a:ln w="38160">
            <a:solidFill>
              <a:srgbClr val="cc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025880" y="4803840"/>
            <a:ext cx="1284480" cy="735120"/>
          </a:xfrm>
          <a:prstGeom prst="line">
            <a:avLst/>
          </a:prstGeom>
          <a:ln w="38160">
            <a:solidFill>
              <a:srgbClr val="cc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56280" y="3278160"/>
            <a:ext cx="11160" cy="522360"/>
          </a:xfrm>
          <a:prstGeom prst="line">
            <a:avLst/>
          </a:prstGeom>
          <a:ln w="38160">
            <a:solidFill>
              <a:srgbClr val="cc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935840" y="4321080"/>
            <a:ext cx="1114560" cy="1372680"/>
          </a:xfrm>
          <a:prstGeom prst="rect">
            <a:avLst/>
          </a:prstGeom>
          <a:noFill/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Hospedeiro responde, mas parasita persi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82760" y="2424240"/>
            <a:ext cx="1114200" cy="1159560"/>
          </a:xfrm>
          <a:prstGeom prst="rect">
            <a:avLst/>
          </a:prstGeom>
          <a:noFill/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Hospedeiro responde, parasita é elimin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>
            <a:stCxn id="188" idx="1"/>
            <a:endCxn id="201" idx="2"/>
          </p:cNvCxnSpPr>
          <p:nvPr/>
        </p:nvCxnSpPr>
        <p:spPr>
          <a:xfrm rot="10800000">
            <a:off x="1939320" y="3394800"/>
            <a:ext cx="1062720" cy="570600"/>
          </a:xfrm>
          <a:prstGeom prst="bentConnector2">
            <a:avLst/>
          </a:prstGeom>
          <a:ln w="38160">
            <a:solidFill>
              <a:srgbClr val="66ff66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201" idx="0"/>
            <a:endCxn id="192" idx="3"/>
          </p:cNvCxnSpPr>
          <p:nvPr/>
        </p:nvCxnSpPr>
        <p:spPr>
          <a:xfrm flipV="1" rot="16200000">
            <a:off x="1280880" y="1755000"/>
            <a:ext cx="659520" cy="659520"/>
          </a:xfrm>
          <a:prstGeom prst="bentConnector2">
            <a:avLst/>
          </a:prstGeom>
          <a:ln w="38160">
            <a:solidFill>
              <a:srgbClr val="66ff66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88" idx="3"/>
            <a:endCxn id="200" idx="0"/>
          </p:cNvCxnSpPr>
          <p:nvPr/>
        </p:nvCxnSpPr>
        <p:spPr>
          <a:xfrm>
            <a:off x="7151760" y="3965400"/>
            <a:ext cx="1342080" cy="347040"/>
          </a:xfrm>
          <a:prstGeom prst="bentConnector2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200" idx="2"/>
            <a:endCxn id="193" idx="1"/>
          </p:cNvCxnSpPr>
          <p:nvPr/>
        </p:nvCxnSpPr>
        <p:spPr>
          <a:xfrm flipH="1" rot="16200000">
            <a:off x="8466480" y="5530680"/>
            <a:ext cx="402480" cy="351360"/>
          </a:xfrm>
          <a:prstGeom prst="bentConnector2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5108400" y="719280"/>
            <a:ext cx="41608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rthrop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Chelicerata (quelicerad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Arachnida (aracníde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cari </a:t>
            </a:r>
            <a:r>
              <a:rPr b="1" lang="en-US" sz="1400" spc="-1" strike="noStrike">
                <a:solidFill>
                  <a:srgbClr val="99ff99"/>
                </a:solidFill>
                <a:latin typeface="Arial"/>
              </a:rPr>
              <a:t>(ácaros e carrapa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mblypyg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raneae </a:t>
            </a:r>
            <a:r>
              <a:rPr b="1" lang="en-US" sz="1400" spc="-1" strike="noStrike">
                <a:solidFill>
                  <a:srgbClr val="99ff99"/>
                </a:solidFill>
                <a:latin typeface="Arial"/>
              </a:rPr>
              <a:t>(aranh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pil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lpigrad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seudoscorp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icinu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corpiones </a:t>
            </a:r>
            <a:r>
              <a:rPr b="1" lang="en-US" sz="1400" spc="-1" strike="noStrike">
                <a:solidFill>
                  <a:srgbClr val="99ff99"/>
                </a:solidFill>
                <a:latin typeface="Arial"/>
              </a:rPr>
              <a:t>(escorpiõ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lifuga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ropyg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erostom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iphos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Pycnogonida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ntop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Mandibulata (mandibulados)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yriapoda (miriáp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ilopoda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plopoda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uropoda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mphyla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Pancrustacea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rustacea </a:t>
            </a:r>
            <a:r>
              <a:rPr b="1" lang="en-US" sz="1400" spc="-1" strike="noStrike">
                <a:solidFill>
                  <a:srgbClr val="99ff99"/>
                </a:solidFill>
                <a:latin typeface="Arial"/>
              </a:rPr>
              <a:t>(crustáce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exapoda </a:t>
            </a:r>
            <a:r>
              <a:rPr b="1" lang="en-US" sz="1400" spc="-1" strike="noStrike">
                <a:solidFill>
                  <a:srgbClr val="99ff99"/>
                </a:solidFill>
                <a:latin typeface="Arial"/>
              </a:rPr>
              <a:t>(inse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3880" y="439560"/>
            <a:ext cx="3213360" cy="16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Classificação dos Artróp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6720" y="2459880"/>
            <a:ext cx="30099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Organismos celul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Eukary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Grupo dos Fungi/Metaz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Metaz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Eumetazo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Coelom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Protostom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Panarthrop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Bila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7040" y="5861160"/>
            <a:ext cx="505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onte:</a:t>
            </a: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 NCBI Taxonomy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http://www.ncbi.nlm.nih.gov/Taxonomy/Browser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8447040" y="5477040"/>
            <a:ext cx="961920" cy="87444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420040" y="4529160"/>
            <a:ext cx="970200" cy="78732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8435880" y="3267000"/>
            <a:ext cx="871560" cy="7239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8524800" y="2189160"/>
            <a:ext cx="615960" cy="9381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8454960" y="1317600"/>
            <a:ext cx="912960" cy="6444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8470800" y="525600"/>
            <a:ext cx="792360" cy="6634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217" name=""/>
          <p:cNvSpPr/>
          <p:nvPr/>
        </p:nvSpPr>
        <p:spPr>
          <a:xfrm flipV="1">
            <a:off x="7778880" y="5929200"/>
            <a:ext cx="661680" cy="32544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515360" y="4843440"/>
            <a:ext cx="893520" cy="10288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37320" y="3159000"/>
            <a:ext cx="876600" cy="5050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620120" y="2016000"/>
            <a:ext cx="866520" cy="6922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70760" y="1631880"/>
            <a:ext cx="1352520" cy="23832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7934400" y="869760"/>
            <a:ext cx="492120" cy="5619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88120" y="463680"/>
            <a:ext cx="346068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Classificação dos áca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759720" y="2068560"/>
            <a:ext cx="288720" cy="1204920"/>
          </a:xfrm>
          <a:custGeom>
            <a:avLst/>
            <a:gdLst>
              <a:gd name="textAreaLeft" fmla="*/ 0 w 288720"/>
              <a:gd name="textAreaRight" fmla="*/ 104040 w 288720"/>
              <a:gd name="textAreaTop" fmla="*/ 31320 h 1204920"/>
              <a:gd name="textAreaBottom" fmla="*/ 1173600 h 12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788160" y="4083120"/>
            <a:ext cx="260280" cy="1974960"/>
          </a:xfrm>
          <a:custGeom>
            <a:avLst/>
            <a:gdLst>
              <a:gd name="textAreaLeft" fmla="*/ 0 w 260280"/>
              <a:gd name="textAreaRight" fmla="*/ 93960 w 260280"/>
              <a:gd name="textAreaTop" fmla="*/ 51480 h 1974960"/>
              <a:gd name="textAreaBottom" fmla="*/ 1923480 h 197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022520" y="2462040"/>
            <a:ext cx="20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Carrapatos d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63560" y="474660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Ácaros caus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de sar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584280" y="1471680"/>
          <a:ext cx="6242040" cy="48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280" y="1471680"/>
                    <a:ext cx="6242040" cy="48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7057440" y="3486240"/>
            <a:ext cx="20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Carrapatos m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91400" y="3376440"/>
            <a:ext cx="234720" cy="584280"/>
          </a:xfrm>
          <a:custGeom>
            <a:avLst/>
            <a:gdLst>
              <a:gd name="textAreaLeft" fmla="*/ 0 w 234720"/>
              <a:gd name="textAreaRight" fmla="*/ 84600 w 234720"/>
              <a:gd name="textAreaTop" fmla="*/ 15120 h 584280"/>
              <a:gd name="textAreaBottom" fmla="*/ 569160 h 5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88120" y="463680"/>
            <a:ext cx="346068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Classificação dos inse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650880" y="993600"/>
          <a:ext cx="5935680" cy="545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0880" y="993600"/>
                    <a:ext cx="5935680" cy="545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6826320" y="1670040"/>
            <a:ext cx="222120" cy="2239920"/>
          </a:xfrm>
          <a:custGeom>
            <a:avLst/>
            <a:gdLst>
              <a:gd name="textAreaLeft" fmla="*/ 0 w 222120"/>
              <a:gd name="textAreaRight" fmla="*/ 80280 w 222120"/>
              <a:gd name="textAreaTop" fmla="*/ 58320 h 2239920"/>
              <a:gd name="textAreaBottom" fmla="*/ 2181600 h 223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00760" y="4083120"/>
            <a:ext cx="247680" cy="1218960"/>
          </a:xfrm>
          <a:custGeom>
            <a:avLst/>
            <a:gdLst>
              <a:gd name="textAreaLeft" fmla="*/ 0 w 247680"/>
              <a:gd name="textAreaRight" fmla="*/ 89280 w 2476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788160" y="5505480"/>
            <a:ext cx="260280" cy="822240"/>
          </a:xfrm>
          <a:custGeom>
            <a:avLst/>
            <a:gdLst>
              <a:gd name="textAreaLeft" fmla="*/ 0 w 260280"/>
              <a:gd name="textAreaRight" fmla="*/ 93960 w 260280"/>
              <a:gd name="textAreaTop" fmla="*/ 21240 h 822240"/>
              <a:gd name="textAreaBottom" fmla="*/ 8010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119720" y="258912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Piolh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105680" y="446256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Pul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98120" y="556740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Reduvíde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(barbeir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288120" y="463680"/>
            <a:ext cx="346068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Classificação dos inse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26320" y="1670040"/>
            <a:ext cx="222120" cy="2239920"/>
          </a:xfrm>
          <a:custGeom>
            <a:avLst/>
            <a:gdLst>
              <a:gd name="textAreaLeft" fmla="*/ 0 w 222120"/>
              <a:gd name="textAreaRight" fmla="*/ 80280 w 222120"/>
              <a:gd name="textAreaTop" fmla="*/ 58320 h 2239920"/>
              <a:gd name="textAreaBottom" fmla="*/ 2181600 h 223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73760" y="4832280"/>
            <a:ext cx="274680" cy="1630440"/>
          </a:xfrm>
          <a:custGeom>
            <a:avLst/>
            <a:gdLst>
              <a:gd name="textAreaLeft" fmla="*/ 0 w 274680"/>
              <a:gd name="textAreaRight" fmla="*/ 99000 w 274680"/>
              <a:gd name="textAreaTop" fmla="*/ 42480 h 1630440"/>
              <a:gd name="textAreaBottom" fmla="*/ 1587960 h 163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122600" y="2589120"/>
            <a:ext cx="9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Mo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068960" y="544356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Mosqu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663480" y="990720"/>
          <a:ext cx="5645160" cy="554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3480" y="990720"/>
                    <a:ext cx="5645160" cy="55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6826320" y="3992400"/>
            <a:ext cx="222120" cy="743040"/>
          </a:xfrm>
          <a:custGeom>
            <a:avLst/>
            <a:gdLst>
              <a:gd name="textAreaLeft" fmla="*/ 0 w 222120"/>
              <a:gd name="textAreaRight" fmla="*/ 80280 w 222120"/>
              <a:gd name="textAreaTop" fmla="*/ 19080 h 743040"/>
              <a:gd name="textAreaBottom" fmla="*/ 723960 h 7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29080" y="416412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Mutu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53880" y="439560"/>
            <a:ext cx="3213360" cy="16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Classificação dos helmint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340160" y="282600"/>
            <a:ext cx="5724720" cy="64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Bilate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Acoelom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bbe0e3"/>
                </a:solidFill>
                <a:latin typeface="Arial"/>
              </a:rPr>
              <a:t>Platyhelminthes (flatwo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Cestoda (tapewo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onogen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Tremat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urbel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Coelom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bbe0e3"/>
                </a:solidFill>
                <a:latin typeface="Arial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haetognatha (arrow wo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hordata (chorda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chinodermata (echinode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emichordata (hemichorda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Xenoturbell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bbe0e3"/>
                </a:solidFill>
                <a:latin typeface="Arial"/>
              </a:rPr>
              <a:t>Prot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nnelida/Echiura/Pogonophora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rachiopoda (lampsh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ryozoa (bryozo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topro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ollusca (mollus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yzostom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emertea (ribbon wo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anarthr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iapul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ipuncula (sipunculi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            </a:t>
            </a: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Pseudocoelom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Acanthocephala (thorny-headed wo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ycli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astrotricha (gastrotrich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inorhync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ricif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crognath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Nematod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(roundwo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ematomorpha (horsehair wo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otifera (roti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6720" y="2824920"/>
            <a:ext cx="3009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Organismos celul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Eukary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Grupo dos Fungi/Metaz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Metaz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Eumetazo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Bila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441600" y="5030640"/>
            <a:ext cx="1121040" cy="7192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8462880" y="324000"/>
            <a:ext cx="809640" cy="102852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666960" y="1106640"/>
            <a:ext cx="1013040" cy="6825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263" name=""/>
          <p:cNvSpPr/>
          <p:nvPr/>
        </p:nvSpPr>
        <p:spPr>
          <a:xfrm>
            <a:off x="4533840" y="5751360"/>
            <a:ext cx="1629000" cy="47628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678200" y="1337760"/>
            <a:ext cx="1509840" cy="17316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7897680" y="662040"/>
            <a:ext cx="557280" cy="26496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rcRect l="0" t="0" r="4686" b="6229"/>
          <a:stretch/>
        </p:blipFill>
        <p:spPr>
          <a:xfrm>
            <a:off x="8583480" y="3763800"/>
            <a:ext cx="1098720" cy="8128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267" name=""/>
          <p:cNvSpPr/>
          <p:nvPr/>
        </p:nvSpPr>
        <p:spPr>
          <a:xfrm flipH="1">
            <a:off x="8295840" y="4584600"/>
            <a:ext cx="290520" cy="45108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7040" y="5861160"/>
            <a:ext cx="505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onte:</a:t>
            </a: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 NCBI Taxonomy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http://www.ncbi.nlm.nih.gov/Taxonomy/Browser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66640" y="254160"/>
            <a:ext cx="830124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Bilateria –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nimais com simetria bilateral</a:t>
            </a: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10360" y="6377040"/>
            <a:ext cx="62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onte:</a:t>
            </a: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 Tree of Life Web Project - </a:t>
            </a: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http://www.tolweb.org/tre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767880" y="1157400"/>
            <a:ext cx="7032960" cy="5121000"/>
            <a:chOff x="767880" y="1157400"/>
            <a:chExt cx="7032960" cy="5121000"/>
          </a:xfrm>
        </p:grpSpPr>
        <p:pic>
          <p:nvPicPr>
            <p:cNvPr id="273" name="" descr=""/>
            <p:cNvPicPr/>
            <p:nvPr/>
          </p:nvPicPr>
          <p:blipFill>
            <a:blip r:embed="rId1"/>
            <a:stretch/>
          </p:blipFill>
          <p:spPr>
            <a:xfrm>
              <a:off x="1814400" y="1157400"/>
              <a:ext cx="5986440" cy="5121000"/>
            </a:xfrm>
            <a:prstGeom prst="rect">
              <a:avLst/>
            </a:prstGeom>
            <a:ln w="9360">
              <a:solidFill>
                <a:srgbClr val="ffcc00"/>
              </a:solidFill>
              <a:miter/>
            </a:ln>
          </p:spPr>
        </p:pic>
        <p:sp>
          <p:nvSpPr>
            <p:cNvPr id="274" name=""/>
            <p:cNvSpPr/>
            <p:nvPr/>
          </p:nvSpPr>
          <p:spPr>
            <a:xfrm>
              <a:off x="767880" y="34876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00"/>
                  </a:solidFill>
                  <a:latin typeface="Arial"/>
                </a:rPr>
                <a:t>Bilate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403440" y="1927080"/>
              <a:ext cx="795600" cy="3175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448080" y="4383000"/>
              <a:ext cx="1087560" cy="3175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6120" y="454680"/>
            <a:ext cx="863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 Unicode MS"/>
              </a:rPr>
              <a:t>Relações inter-específ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4480" y="1712880"/>
            <a:ext cx="892188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77840" algn="just">
              <a:spcAft>
                <a:spcPts val="9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Foresia</a:t>
            </a: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 –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relação temporária na qual um organismo transporta ou abriga um outro, geralmente sem dependência fisiológica ou metabólica. Ex.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Dermatobia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deposita seus ovos em mosquito, os ovos eclodem e caem no hospedeiro vertebrado. </a:t>
            </a:r>
            <a:r>
              <a:rPr b="0" lang="pt-BR" sz="2400" spc="-1" strike="noStrike">
                <a:solidFill>
                  <a:srgbClr val="66ffff"/>
                </a:solidFill>
                <a:latin typeface="Arial"/>
              </a:rPr>
              <a:t>“Viajando junto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spcAft>
                <a:spcPts val="9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Comensalismo</a:t>
            </a: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 -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uma espécie (comensal) se beneficia nutricionalmente, enquanto a outra não sofre qualquer alteração (benefício unidirecional). Pode ser facultativo. </a:t>
            </a:r>
            <a:r>
              <a:rPr b="0" lang="pt-BR" sz="2400" spc="-1" strike="noStrike">
                <a:solidFill>
                  <a:srgbClr val="99ff99"/>
                </a:solidFill>
                <a:latin typeface="Arial"/>
              </a:rPr>
              <a:t>Ex. rêmoras x peixes grandes e tartarugas marinhas. </a:t>
            </a:r>
            <a:r>
              <a:rPr b="0" lang="pt-BR" sz="2400" spc="-1" strike="noStrike">
                <a:solidFill>
                  <a:srgbClr val="66ffff"/>
                </a:solidFill>
                <a:latin typeface="Arial"/>
              </a:rPr>
              <a:t>“Comendo na mesma mes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0440" y="291960"/>
            <a:ext cx="9826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Classificação dos Nematoda </a:t>
            </a:r>
            <a:r>
              <a:rPr b="0" lang="en-GB" sz="2800" spc="-1" strike="noStrike">
                <a:solidFill>
                  <a:srgbClr val="ccffff"/>
                </a:solidFill>
                <a:latin typeface="Tahoma"/>
              </a:rPr>
              <a:t>(vermes redond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47312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74560" y="1298520"/>
          <a:ext cx="6719760" cy="4300560"/>
        </p:xfrm>
        <a:graphic>
          <a:graphicData uri="http://schemas.openxmlformats.org/drawingml/2006/table">
            <a:tbl>
              <a:tblPr/>
              <a:tblGrid>
                <a:gridCol w="1959120"/>
                <a:gridCol w="2446200"/>
                <a:gridCol w="23144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Ord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Superfami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Comentá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Arial"/>
                        </a:rPr>
                        <a:t>Strongyl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chostrongyloidea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ongyloidea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cylostomatoidea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astrongyloid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matóides "bursados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Arial"/>
                        </a:rPr>
                        <a:t>Ascarid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caridoid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matóides  "não bursados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Arial"/>
                        </a:rPr>
                        <a:t>Oxyur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xyuroid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Arial"/>
                        </a:rPr>
                        <a:t>Rhabdit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habditoid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Arial"/>
                        </a:rPr>
                        <a:t>Spirur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iruroidea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lazioidea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laroidea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bronematoid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Arial"/>
                        </a:rPr>
                        <a:t>Enopl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churoidea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Trichinelloidea)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octopymatoid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>
            <a:off x="5020920" y="4860360"/>
            <a:ext cx="24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7424640" y="5316480"/>
          <a:ext cx="2712960" cy="1112760"/>
        </p:xfrm>
        <a:graphic>
          <a:graphicData uri="http://schemas.openxmlformats.org/drawingml/2006/table">
            <a:tbl>
              <a:tblPr/>
              <a:tblGrid>
                <a:gridCol w="761760"/>
                <a:gridCol w="1951200"/>
              </a:tblGrid>
              <a:tr h="218880"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UFIX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GRUPO TAXONÔMIC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ida</a:t>
                      </a:r>
                      <a:r>
                        <a:rPr b="1" lang="en-US" sz="12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D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oidea</a:t>
                      </a:r>
                      <a:r>
                        <a:rPr b="1" lang="en-US" sz="12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PERFAMÍL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idae</a:t>
                      </a:r>
                      <a:r>
                        <a:rPr b="1" lang="en-US" sz="12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MÍ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200"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inae</a:t>
                      </a:r>
                      <a:r>
                        <a:rPr b="1" lang="en-US" sz="12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BFAMÍ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"/>
          <p:cNvSpPr/>
          <p:nvPr/>
        </p:nvSpPr>
        <p:spPr>
          <a:xfrm>
            <a:off x="9051840" y="62038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10360" y="6415200"/>
            <a:ext cx="62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onte:</a:t>
            </a: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 Tree of Life Web Project - </a:t>
            </a: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http://www.tolweb.org/tre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65120" y="254160"/>
            <a:ext cx="954576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Classificação dos Nematoda </a:t>
            </a:r>
            <a:r>
              <a:rPr b="0" lang="en-GB" sz="2800" spc="-1" strike="noStrike">
                <a:solidFill>
                  <a:srgbClr val="ccffff"/>
                </a:solidFill>
                <a:latin typeface="Arial"/>
              </a:rPr>
              <a:t>(vermes redond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095120" y="2752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Bila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2130480" y="1393920"/>
            <a:ext cx="3678120" cy="498312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289" name=""/>
          <p:cNvSpPr/>
          <p:nvPr/>
        </p:nvSpPr>
        <p:spPr>
          <a:xfrm>
            <a:off x="4281480" y="5673600"/>
            <a:ext cx="1087560" cy="2383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294080" y="5915160"/>
            <a:ext cx="1087560" cy="2379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55920" y="3540240"/>
            <a:ext cx="1087560" cy="2379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341960" y="4962600"/>
            <a:ext cx="1179360" cy="250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59160" y="3782880"/>
            <a:ext cx="1087560" cy="2383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8880" y="4022640"/>
            <a:ext cx="1087200" cy="2383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rcRect l="0" t="48408" r="37801" b="0"/>
          <a:stretch/>
        </p:blipFill>
        <p:spPr>
          <a:xfrm>
            <a:off x="7324560" y="2001960"/>
            <a:ext cx="1140120" cy="7635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296" name="" descr=""/>
          <p:cNvPicPr/>
          <p:nvPr/>
        </p:nvPicPr>
        <p:blipFill>
          <a:blip r:embed="rId3"/>
          <a:srcRect l="0" t="3887" r="3171" b="0"/>
          <a:stretch/>
        </p:blipFill>
        <p:spPr>
          <a:xfrm>
            <a:off x="7350120" y="2940120"/>
            <a:ext cx="1133640" cy="84132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297" name=""/>
          <p:cNvSpPr/>
          <p:nvPr/>
        </p:nvSpPr>
        <p:spPr>
          <a:xfrm>
            <a:off x="4243320" y="2587680"/>
            <a:ext cx="1087560" cy="2379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5392800" y="2378160"/>
            <a:ext cx="1920960" cy="123192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5477040" y="3400560"/>
            <a:ext cx="1868400" cy="44928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>
            <a:off x="7354800" y="3944880"/>
            <a:ext cx="1135080" cy="8301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301" name=""/>
          <p:cNvSpPr/>
          <p:nvPr/>
        </p:nvSpPr>
        <p:spPr>
          <a:xfrm flipH="1" flipV="1">
            <a:off x="5493960" y="4171680"/>
            <a:ext cx="1841400" cy="16020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5437080" y="1374840"/>
            <a:ext cx="2092320" cy="128412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5"/>
          <a:stretch/>
        </p:blipFill>
        <p:spPr>
          <a:xfrm>
            <a:off x="7518240" y="1039680"/>
            <a:ext cx="719280" cy="7876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66640" y="254160"/>
            <a:ext cx="830124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Classificação dos Platyhelminthe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624040" y="1184400"/>
            <a:ext cx="5143680" cy="50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urbell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mertodermat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co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tenul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crostom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cithoepitheli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habdoco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lecithoph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seri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iclad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lyclad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nogen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nopisthocotyl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lyopishtocotyl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Tremat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gen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spidogast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Cest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estod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ucest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assificação de Brusca &amp; Brusca (199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735120" y="1279440"/>
            <a:ext cx="1714320" cy="23814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308" name=""/>
          <p:cNvSpPr/>
          <p:nvPr/>
        </p:nvSpPr>
        <p:spPr>
          <a:xfrm>
            <a:off x="1710360" y="6377040"/>
            <a:ext cx="62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onte:</a:t>
            </a: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 Tree of Life Web Project - </a:t>
            </a: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http://www.tolweb.org/tre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108400" y="819000"/>
            <a:ext cx="31291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Tahoma"/>
              </a:rPr>
              <a:t>(vermes chat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66640" y="254160"/>
            <a:ext cx="34909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Classificação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dos Cestod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800680" y="442800"/>
            <a:ext cx="3486240" cy="62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Cest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Cesto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mphilin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Eucest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ryophyll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ryophyll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thetocephal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Cyclophyll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mabili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noplocephal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tenotaeni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avaine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lepid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pylidi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ymenolepid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esocestoid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etadilepid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ematotaeni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aruterin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aeni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yclophyllidea não classific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phyll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aplobothri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ecanicephal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itobothri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ippotaeni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teocephal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seudophyll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pathebothri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trabothri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traphyll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rypanorhync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47040" y="5861160"/>
            <a:ext cx="505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onte:</a:t>
            </a: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 NCBI Taxonomy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http://www.ncbi.nlm.nih.gov/Taxonomy/Browser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82800" y="4753080"/>
            <a:ext cx="203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Echinococ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Ta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202760" y="2314440"/>
            <a:ext cx="16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Moniez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Anoploceph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0480" y="4675320"/>
            <a:ext cx="2584440" cy="780840"/>
          </a:xfrm>
          <a:prstGeom prst="ellipse">
            <a:avLst/>
          </a:prstGeom>
          <a:noFill/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65280" y="2273400"/>
            <a:ext cx="2584440" cy="807840"/>
          </a:xfrm>
          <a:prstGeom prst="ellipse">
            <a:avLst/>
          </a:prstGeom>
          <a:noFill/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246480" y="2322360"/>
            <a:ext cx="3260520" cy="385920"/>
          </a:xfrm>
          <a:prstGeom prst="line">
            <a:avLst/>
          </a:prstGeom>
          <a:ln w="2844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287880" y="4204800"/>
            <a:ext cx="3192120" cy="847800"/>
          </a:xfrm>
          <a:prstGeom prst="line">
            <a:avLst/>
          </a:prstGeom>
          <a:ln w="2844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3367080" y="3425760"/>
            <a:ext cx="743040" cy="13050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44920" y="4908600"/>
            <a:ext cx="1042920" cy="7984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3875040" y="1306440"/>
            <a:ext cx="735120" cy="111924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4419720" y="2637000"/>
            <a:ext cx="1057320" cy="70164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66640" y="291960"/>
            <a:ext cx="41277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Classificação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dos Trematod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800680" y="950760"/>
            <a:ext cx="3486240" cy="50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Tremat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Aspidogast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idogastr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Aspidog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Cotylas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Cotylog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Lobatost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Multicoty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ulticalyc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Multicaly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ugogastr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Rugog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Digenea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(fluk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zygi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plodisc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chinostom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stul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astrodisc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ymnophall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eodiplostom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pisthorchi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lagiorchi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nocephal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rigeid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andanicol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genea não classific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7040" y="5861160"/>
            <a:ext cx="505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onte:</a:t>
            </a: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 NCBI Taxonomy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http://www.ncbi.nlm.nih.gov/Taxonomy/Browser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77280" y="272088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Fasciola sp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67840" y="500544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Schistosoma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sp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28640" y="2598840"/>
            <a:ext cx="2584440" cy="622080"/>
          </a:xfrm>
          <a:prstGeom prst="ellipse">
            <a:avLst/>
          </a:prstGeom>
          <a:noFill/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31960" y="4910040"/>
            <a:ext cx="2584440" cy="622440"/>
          </a:xfrm>
          <a:prstGeom prst="ellipse">
            <a:avLst/>
          </a:prstGeom>
          <a:noFill/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405240" y="5253120"/>
            <a:ext cx="2903400" cy="223920"/>
          </a:xfrm>
          <a:prstGeom prst="line">
            <a:avLst/>
          </a:prstGeom>
          <a:ln w="2844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86080" y="2946240"/>
            <a:ext cx="2968560" cy="1020960"/>
          </a:xfrm>
          <a:prstGeom prst="line">
            <a:avLst/>
          </a:prstGeom>
          <a:ln w="2844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233960" y="2390760"/>
            <a:ext cx="1342800" cy="7239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4257720" y="4017960"/>
            <a:ext cx="720720" cy="11476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-752400" y="81360"/>
            <a:ext cx="8029440" cy="65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cc00"/>
                </a:solidFill>
                <a:latin typeface="Arial"/>
              </a:rPr>
              <a:t>Prot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pt-BR" sz="1400" spc="-1" strike="noStrike">
                <a:solidFill>
                  <a:srgbClr val="66ff33"/>
                </a:solidFill>
                <a:latin typeface="Arial"/>
              </a:rPr>
              <a:t>Proto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00"/>
                </a:solidFill>
                <a:latin typeface="Arial"/>
              </a:rPr>
              <a:t>Ciliophor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Ciliat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Balantidiidae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Balanti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00"/>
                </a:solidFill>
                <a:latin typeface="Arial"/>
              </a:rPr>
              <a:t>Apicomplex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1400" spc="-1" strike="noStrike">
                <a:solidFill>
                  <a:srgbClr val="ccffff"/>
                </a:solidFill>
                <a:latin typeface="Arial"/>
              </a:rPr>
              <a:t>Cocci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Eimeriidae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Eim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Cystoisospor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Cryptosporidium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Sarcocystidae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Toxoplasm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Sarcocystis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Neospor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Besnoiti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Hammondi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Hepatozo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ccffff"/>
                </a:solidFill>
                <a:latin typeface="Arial"/>
              </a:rPr>
              <a:t>Piroplasmidi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Babesiidae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Babesi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Theileriidae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Theileria</a:t>
            </a: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ccffff"/>
                </a:solidFill>
                <a:latin typeface="Arial"/>
              </a:rPr>
              <a:t>Haemosporidi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Plasmodiidae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Plasmodium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Haemoprot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00"/>
                </a:solidFill>
                <a:latin typeface="Arial"/>
              </a:rPr>
              <a:t>Sarcomastigoph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ccffff"/>
                </a:solidFill>
                <a:latin typeface="Arial"/>
              </a:rPr>
              <a:t>Sarcodin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Entamoe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ccffff"/>
                </a:solidFill>
                <a:latin typeface="Arial"/>
              </a:rPr>
              <a:t>Mastigophor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Trypanosomatidae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Trypanosom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Leishm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Trichomonadidae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Tritrichomonas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Trichomonas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Monocercomonadidae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Histomonas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Hexamitidae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Giar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00"/>
                </a:solidFill>
                <a:latin typeface="Arial"/>
              </a:rPr>
              <a:t>Microsp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Encephalitozo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672240" y="212760"/>
            <a:ext cx="346068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Classificação dos protozoá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5360" y="657072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66640" y="254160"/>
            <a:ext cx="830124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Filo Apicomplexa – classe Cocci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45640" y="1306440"/>
            <a:ext cx="6436440" cy="17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Arial Unicode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ccff"/>
                </a:solidFill>
                <a:latin typeface="Arial Unicode MS"/>
              </a:rPr>
              <a:t> </a:t>
            </a:r>
            <a:r>
              <a:rPr b="0" lang="en-GB" sz="1800" spc="-1" strike="noStrike">
                <a:solidFill>
                  <a:srgbClr val="00ccff"/>
                </a:solidFill>
                <a:latin typeface="Arial Unicode MS"/>
              </a:rPr>
              <a:t>Classe Cocci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Arial Unicode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1600" spc="-1" strike="noStrike">
                <a:solidFill>
                  <a:srgbClr val="66ffff"/>
                </a:solidFill>
                <a:latin typeface="Arial Unicode MS"/>
              </a:rPr>
              <a:t>Ordem Eimeri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349"/>
              </a:spcBef>
              <a:buClr>
                <a:srgbClr val="ff0000"/>
              </a:buClr>
              <a:buSzPct val="70000"/>
              <a:buFont typeface="Arial Unicode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 Unicode MS"/>
              </a:rPr>
              <a:t>Cryptosporidiidae - </a:t>
            </a:r>
            <a:r>
              <a:rPr b="0" i="1" lang="en-GB" sz="1400" spc="-1" strike="noStrike">
                <a:solidFill>
                  <a:srgbClr val="99ff66"/>
                </a:solidFill>
                <a:latin typeface="Arial Unicode MS"/>
              </a:rPr>
              <a:t>Cryptospori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349"/>
              </a:spcBef>
              <a:buClr>
                <a:srgbClr val="ff0000"/>
              </a:buClr>
              <a:buSzPct val="70000"/>
              <a:buFont typeface="Arial Unicode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 Unicode MS"/>
              </a:rPr>
              <a:t>Eimeriidae - </a:t>
            </a:r>
            <a:r>
              <a:rPr b="0" i="1" lang="en-GB" sz="1400" spc="-1" strike="noStrike">
                <a:solidFill>
                  <a:srgbClr val="00ff00"/>
                </a:solidFill>
                <a:latin typeface="Arial Unicode MS"/>
              </a:rPr>
              <a:t>Eimeria, Isospora</a:t>
            </a:r>
            <a:r>
              <a:rPr b="0" i="1" lang="en-GB" sz="1400" spc="-1" strike="noStrike">
                <a:solidFill>
                  <a:srgbClr val="99ff66"/>
                </a:solidFill>
                <a:latin typeface="Arial Unicode MS"/>
              </a:rPr>
              <a:t>, Caryospora, Cyclosp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349"/>
              </a:spcBef>
              <a:buClr>
                <a:srgbClr val="ff0000"/>
              </a:buClr>
              <a:buSzPct val="70000"/>
              <a:buFont typeface="Arial Unicode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 Unicode MS"/>
              </a:rPr>
              <a:t>Sarcocystidae - </a:t>
            </a:r>
            <a:r>
              <a:rPr b="0" i="1" lang="en-GB" sz="1400" spc="-1" strike="noStrike">
                <a:solidFill>
                  <a:srgbClr val="99ff66"/>
                </a:solidFill>
                <a:latin typeface="Arial Unicode MS"/>
              </a:rPr>
              <a:t>Toxoplasma, Hammondia, Neospora, Sarcocysti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99ff66"/>
                </a:solidFill>
                <a:latin typeface="Arial Unicode MS"/>
              </a:rPr>
              <a:t>Besnoitia, Frenke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2971800"/>
            <a:ext cx="799956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5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Arial Unicode MS"/>
              <a:buChar char="•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1800" spc="-1" strike="noStrike">
                <a:solidFill>
                  <a:srgbClr val="ffcc66"/>
                </a:solidFill>
                <a:latin typeface="Arial Unicode MS"/>
              </a:rPr>
              <a:t> </a:t>
            </a:r>
            <a:r>
              <a:rPr b="0" lang="en-GB" sz="1600" spc="-1" strike="noStrike">
                <a:solidFill>
                  <a:srgbClr val="66ffff"/>
                </a:solidFill>
                <a:latin typeface="Arial Unicode MS"/>
              </a:rPr>
              <a:t>Ordem Eucoccidi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349"/>
              </a:spcBef>
              <a:buClr>
                <a:srgbClr val="ff0000"/>
              </a:buClr>
              <a:buSzPct val="70000"/>
              <a:buFont typeface="Arial Unicode MS"/>
              <a:buChar char="•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 Unicode MS"/>
              </a:rPr>
              <a:t>Adeleina - </a:t>
            </a:r>
            <a:r>
              <a:rPr b="0" i="1" lang="en-GB" sz="1400" spc="-1" strike="noStrike">
                <a:solidFill>
                  <a:srgbClr val="99ff66"/>
                </a:solidFill>
                <a:latin typeface="Arial Unicode MS"/>
              </a:rPr>
              <a:t>Hepatozo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349"/>
              </a:spcBef>
              <a:buClr>
                <a:srgbClr val="ff0000"/>
              </a:buClr>
              <a:buSzPct val="70000"/>
              <a:buFont typeface="Arial Unicode MS"/>
              <a:buChar char="•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 Unicode MS"/>
              </a:rPr>
              <a:t>Lankesterillidae - </a:t>
            </a:r>
            <a:r>
              <a:rPr b="0" i="1" lang="en-GB" sz="1400" spc="-1" strike="noStrike">
                <a:solidFill>
                  <a:srgbClr val="99ff66"/>
                </a:solidFill>
                <a:latin typeface="Arial Unicode MS"/>
              </a:rPr>
              <a:t>Lankestere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38080" y="3809880"/>
            <a:ext cx="27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Arial Unicode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ccff"/>
                </a:solidFill>
                <a:latin typeface="Arial Unicode MS"/>
              </a:rPr>
              <a:t> </a:t>
            </a:r>
            <a:r>
              <a:rPr b="0" lang="en-GB" sz="1800" spc="-1" strike="noStrike">
                <a:solidFill>
                  <a:srgbClr val="00ccff"/>
                </a:solidFill>
                <a:latin typeface="Arial Unicode MS"/>
              </a:rPr>
              <a:t>Classe Gregari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6600" y="4335480"/>
            <a:ext cx="5028480" cy="16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Arial Unicode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ccff"/>
                </a:solidFill>
                <a:latin typeface="Arial Unicode MS"/>
              </a:rPr>
              <a:t> </a:t>
            </a:r>
            <a:r>
              <a:rPr b="0" lang="en-GB" sz="1800" spc="-1" strike="noStrike">
                <a:solidFill>
                  <a:srgbClr val="00ccff"/>
                </a:solidFill>
                <a:latin typeface="Arial Unicode MS"/>
              </a:rPr>
              <a:t>Classe Aconoidas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99"/>
                </a:solidFill>
                <a:latin typeface="Arial"/>
              </a:rPr>
              <a:t>Haemosporida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GB" sz="1400" spc="-1" strike="noStrike">
                <a:solidFill>
                  <a:srgbClr val="99ff66"/>
                </a:solidFill>
                <a:latin typeface="Arial"/>
              </a:rPr>
              <a:t>Haemoproteu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99ff66"/>
                </a:solidFill>
                <a:latin typeface="Arial"/>
              </a:rPr>
              <a:t>Hepatocystis, Plasmo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ccff"/>
                </a:solidFill>
                <a:latin typeface="Arial Unicode MS"/>
              </a:rPr>
              <a:t>	</a:t>
            </a:r>
            <a:r>
              <a:rPr b="0" lang="en-GB" sz="1400" spc="-1" strike="noStrike">
                <a:solidFill>
                  <a:srgbClr val="ffff99"/>
                </a:solidFill>
                <a:latin typeface="Arial Unicode MS"/>
              </a:rPr>
              <a:t>Piroplasm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ccff"/>
                </a:solidFill>
                <a:latin typeface="Arial Unicode MS"/>
              </a:rPr>
              <a:t>	</a:t>
            </a:r>
            <a:r>
              <a:rPr b="0" lang="en-GB" sz="1400" spc="-1" strike="noStrike">
                <a:solidFill>
                  <a:srgbClr val="00ccff"/>
                </a:solidFill>
                <a:latin typeface="Arial Unicode MS"/>
              </a:rPr>
              <a:t>          </a:t>
            </a:r>
            <a:r>
              <a:rPr b="0" lang="en-GB" sz="1400" spc="-1" strike="noStrike">
                <a:solidFill>
                  <a:srgbClr val="ffffff"/>
                </a:solidFill>
                <a:latin typeface="Arial Unicode MS"/>
              </a:rPr>
              <a:t>Babesiidae - </a:t>
            </a:r>
            <a:r>
              <a:rPr b="0" i="1" lang="en-GB" sz="1400" spc="-1" strike="noStrike">
                <a:solidFill>
                  <a:srgbClr val="99ff66"/>
                </a:solidFill>
                <a:latin typeface="Arial Unicode MS"/>
              </a:rPr>
              <a:t>Babes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99ff66"/>
                </a:solidFill>
                <a:latin typeface="Arial Unicode MS"/>
              </a:rPr>
              <a:t>                             </a:t>
            </a:r>
            <a:r>
              <a:rPr b="0" lang="en-GB" sz="1400" spc="-1" strike="noStrike">
                <a:solidFill>
                  <a:srgbClr val="ffffff"/>
                </a:solidFill>
                <a:latin typeface="Arial Unicode MS"/>
              </a:rPr>
              <a:t>Theileriidae - </a:t>
            </a:r>
            <a:r>
              <a:rPr b="0" i="1" lang="en-GB" sz="1400" spc="-1" strike="noStrike">
                <a:solidFill>
                  <a:srgbClr val="99ff66"/>
                </a:solidFill>
                <a:latin typeface="Arial Unicode MS"/>
              </a:rPr>
              <a:t>Theil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016680" y="3278160"/>
            <a:ext cx="3325680" cy="249552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6640" y="254160"/>
            <a:ext cx="830124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Kinetoplast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4325760" y="1554120"/>
            <a:ext cx="1757520" cy="11764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350" name="" descr=""/>
          <p:cNvPicPr/>
          <p:nvPr/>
        </p:nvPicPr>
        <p:blipFill>
          <a:blip r:embed="rId2"/>
          <a:srcRect l="0" t="0" r="5039" b="20440"/>
          <a:stretch/>
        </p:blipFill>
        <p:spPr>
          <a:xfrm>
            <a:off x="4344840" y="2889360"/>
            <a:ext cx="1762200" cy="12366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4357800" y="4280040"/>
            <a:ext cx="1768320" cy="163512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352" name=""/>
          <p:cNvSpPr/>
          <p:nvPr/>
        </p:nvSpPr>
        <p:spPr>
          <a:xfrm>
            <a:off x="800280" y="1068840"/>
            <a:ext cx="416052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Kinetoplastid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Bodonida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o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ruze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ryptaul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ryptob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mastigel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chthyobo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obo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abo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crypto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hynchobo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hynchomo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ypanoplas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Trypanosomatida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lastocrithi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rithi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dotrypan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erpetomo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ishm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ptomo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ytomo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ge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ypanoso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allacei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4"/>
          <a:srcRect l="0" t="0" r="0" b="50754"/>
          <a:stretch/>
        </p:blipFill>
        <p:spPr>
          <a:xfrm>
            <a:off x="6340320" y="1546200"/>
            <a:ext cx="2738520" cy="21351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354" name="" descr=""/>
          <p:cNvPicPr/>
          <p:nvPr/>
        </p:nvPicPr>
        <p:blipFill>
          <a:blip r:embed="rId5"/>
          <a:srcRect l="27202" t="11642" r="0" b="31971"/>
          <a:stretch/>
        </p:blipFill>
        <p:spPr>
          <a:xfrm>
            <a:off x="6334200" y="3906720"/>
            <a:ext cx="2770200" cy="20145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008000" y="476280"/>
            <a:ext cx="874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Bibliograf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020600" y="1557360"/>
            <a:ext cx="8442360" cy="27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75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Bush, A.O.; Fernández, J.C.; Esch, G.W &amp; Seed, J.R. (2001). </a:t>
            </a:r>
            <a:r>
              <a:rPr b="0" lang="pt-BR" sz="2000" spc="-1" strike="noStrike">
                <a:solidFill>
                  <a:srgbClr val="ffccff"/>
                </a:solidFill>
                <a:latin typeface="Arial"/>
              </a:rPr>
              <a:t>Parasitism: The Diversity and Ecology of Animal Parasites.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Cambridge University Press, Cambridge, U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75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into, C.M. (2006). </a:t>
            </a:r>
            <a:r>
              <a:rPr b="0" lang="pt-BR" sz="2000" spc="-1" strike="noStrike">
                <a:solidFill>
                  <a:srgbClr val="ffccff"/>
                </a:solidFill>
                <a:latin typeface="Arial"/>
              </a:rPr>
              <a:t>Roteiro de Estudos de Parasitologia e Doenças Parasitárias em Medicina Veterinária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,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75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berts, L.S.; Janovy Jr, J. &amp; Schmidt, P. (2004).</a:t>
            </a:r>
            <a:r>
              <a:rPr b="0" lang="en-US" sz="2000" spc="-1" strike="noStrike">
                <a:solidFill>
                  <a:srgbClr val="ffccff"/>
                </a:solidFill>
                <a:latin typeface="Arial"/>
              </a:rPr>
              <a:t> Foundations of Parasitology. Seventh Edition. </a:t>
            </a: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McGraw-Hill Science/Engineering/Math, U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6120" y="454680"/>
            <a:ext cx="863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 Unicode MS"/>
              </a:rPr>
              <a:t>Relações inter-específ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1621440"/>
            <a:ext cx="892188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77840" algn="just">
              <a:spcAft>
                <a:spcPts val="9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Mutualismo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- associação permanente mutuamente benéfica e de dependência estrita. Ex.: líquens (algas e fungos), microbiota ruminal e os bovinos, cupins e flora microbiana. Geralmente representa uma relação obrigató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spcAft>
                <a:spcPts val="9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Protocooperação (mutualismo facultativo)</a:t>
            </a: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 -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ambas as espécies se beneficiam da associação, embora possam viver independentemente dela. Ex. garça carrapateira e bovino, ave-palito e crocodi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spcAft>
                <a:spcPts val="9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Inquilinismo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- uma espécie se beneficia de outra para fins de proteção ou abrigo, porém sem prejudicá-la.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Ex.: peixe palhaço e anêmo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spcAft>
                <a:spcPts val="9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 rot="16200000">
            <a:off x="3761640" y="4939200"/>
            <a:ext cx="1258920" cy="122220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847800" y="3366720"/>
            <a:ext cx="1020600" cy="97308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6200000">
            <a:off x="3739320" y="3761280"/>
            <a:ext cx="1306440" cy="122220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3783600" y="2610000"/>
            <a:ext cx="1220760" cy="122256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3824280" y="1571400"/>
            <a:ext cx="1139760" cy="122256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9800" y="501480"/>
            <a:ext cx="835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 Unicode MS"/>
              </a:rPr>
              <a:t>Relações entre seres v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43840" y="367524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Simbi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92520" y="425592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Tahoma"/>
              </a:rPr>
              <a:t>Comensa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43000" y="3054240"/>
            <a:ext cx="110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Tahoma"/>
              </a:rPr>
              <a:t>Explor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20680" y="2021040"/>
            <a:ext cx="117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Tahoma"/>
              </a:rPr>
              <a:t>Mutua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25760" y="4268880"/>
            <a:ext cx="2154240" cy="126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43920" y="3865680"/>
            <a:ext cx="1941480" cy="5810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18840" y="3222720"/>
            <a:ext cx="461880" cy="25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332160" y="2126880"/>
            <a:ext cx="461880" cy="11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332160" y="2141280"/>
            <a:ext cx="12600" cy="1090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827360" y="2682720"/>
            <a:ext cx="1522440" cy="1028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8160" y="538488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Tahoma"/>
              </a:rPr>
              <a:t>Fore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84040" y="1847880"/>
            <a:ext cx="8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99ffcc"/>
                </a:solidFill>
                <a:latin typeface="Tahoma"/>
              </a:rPr>
              <a:t>Benefí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19120" y="321624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99ffcc"/>
                </a:solidFill>
                <a:latin typeface="Tahoma"/>
              </a:rPr>
              <a:t>D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9569000">
            <a:off x="1593720" y="2901600"/>
            <a:ext cx="182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</a:rPr>
              <a:t>Interação trófica dire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800000">
            <a:off x="1776600" y="4654080"/>
            <a:ext cx="21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</a:rPr>
              <a:t>Nenhuma interação tróf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974400">
            <a:off x="1900440" y="3892320"/>
            <a:ext cx="19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</a:rPr>
              <a:t>Interação trófica indire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6200000">
            <a:off x="6802920" y="3844080"/>
            <a:ext cx="1020960" cy="122220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6727680" y="2573280"/>
            <a:ext cx="1175040" cy="122256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6762600" y="1540800"/>
            <a:ext cx="1104840" cy="122256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59720" y="429912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Tahoma"/>
              </a:rPr>
              <a:t>Parasitó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77080" y="2906640"/>
            <a:ext cx="890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Tahoma"/>
              </a:rPr>
              <a:t>Micro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Tahoma"/>
              </a:rPr>
              <a:t>pred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88960" y="197496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Tahoma"/>
              </a:rPr>
              <a:t>Paras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6788880" y="5045760"/>
            <a:ext cx="1020960" cy="122256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39880" y="3209760"/>
            <a:ext cx="461880" cy="255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253200" y="2114280"/>
            <a:ext cx="461880" cy="11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253200" y="2128680"/>
            <a:ext cx="12600" cy="1090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16600" y="5505480"/>
            <a:ext cx="9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Tahoma"/>
              </a:rPr>
              <a:t>Pred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6720" y="3203640"/>
            <a:ext cx="106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99ffcc"/>
                </a:solidFill>
                <a:latin typeface="Tahoma"/>
              </a:rPr>
              <a:t>Mui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99ffcc"/>
                </a:solidFill>
                <a:latin typeface="Tahoma"/>
              </a:rPr>
              <a:t>hosped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36640" y="5597640"/>
            <a:ext cx="461880" cy="25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249960" y="4501800"/>
            <a:ext cx="461880" cy="11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249960" y="4516200"/>
            <a:ext cx="12600" cy="1090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45600" y="1666800"/>
            <a:ext cx="99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99ffcc"/>
                </a:solidFill>
                <a:latin typeface="Tahoma"/>
              </a:rPr>
              <a:t>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99ffcc"/>
                </a:solidFill>
                <a:latin typeface="Tahoma"/>
              </a:rPr>
              <a:t>hospedei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61440" y="4054320"/>
            <a:ext cx="99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99ffcc"/>
                </a:solidFill>
                <a:latin typeface="Tahoma"/>
              </a:rPr>
              <a:t>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99ffcc"/>
                </a:solidFill>
                <a:latin typeface="Tahoma"/>
              </a:rPr>
              <a:t>hospedei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75040" y="5600880"/>
            <a:ext cx="106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99ffcc"/>
                </a:solidFill>
                <a:latin typeface="Tahoma"/>
              </a:rPr>
              <a:t>Mui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99ffcc"/>
                </a:solidFill>
                <a:latin typeface="Tahoma"/>
              </a:rPr>
              <a:t>hosped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981680" y="2641680"/>
            <a:ext cx="1288800" cy="519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50000" y="3471120"/>
            <a:ext cx="1303200" cy="16239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3019200">
            <a:off x="4864680" y="4227840"/>
            <a:ext cx="122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</a:rPr>
              <a:t>Sempre mor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20244000">
            <a:off x="4864320" y="2626920"/>
            <a:ext cx="14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</a:rPr>
              <a:t>Raramente mor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5360" y="6532560"/>
            <a:ext cx="286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Adaptado de Bush </a:t>
            </a:r>
            <a:r>
              <a:rPr b="0" i="1" lang="pt-BR" sz="12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.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75440" y="2833560"/>
            <a:ext cx="216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ahoma"/>
              </a:rPr>
              <a:t>Ex. organismos hematófagos (sanguessugas, mosquito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966080" y="5530680"/>
            <a:ext cx="216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ahoma"/>
              </a:rPr>
              <a:t>Ex. leão x gaz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69320" y="1893960"/>
            <a:ext cx="216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ahoma"/>
              </a:rPr>
              <a:t>Ex. vermes, carrapatos, protozoá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969320" y="3971880"/>
            <a:ext cx="2165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ahoma"/>
              </a:rPr>
              <a:t>Ex. Vespas que depositam ovos no corpo de um inseto que por sua vez é devorado pelas larvas result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6440" y="4244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 Unicode MS"/>
              </a:rPr>
              <a:t>Parasitis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81200" y="1641240"/>
            <a:ext cx="8332560" cy="44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ff99"/>
                </a:solidFill>
                <a:latin typeface="Arial"/>
              </a:rPr>
              <a:t>Paras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Organismo que, com a finalidade de alimentar-se, reproduzir-se ou completar o seu ciclo vital, se beneficia de um outro organismo, animal ou vegetal, de modo permanente ou temporário, produzindo efeitos deletérios nesse hospedei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algn="just">
              <a:lnSpc>
                <a:spcPct val="100000"/>
              </a:lnSpc>
              <a:spcAft>
                <a:spcPts val="75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Arial"/>
              </a:rPr>
              <a:t>Parasitose -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condição na qual o parasita é patogênico e causa danos ao hosped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algn="just">
              <a:lnSpc>
                <a:spcPct val="100000"/>
              </a:lnSpc>
              <a:spcAft>
                <a:spcPts val="75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Arial"/>
              </a:rPr>
              <a:t>Parasitíase –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condição na qual o parasita é potencialmente patogênico, mas não causa danos aparentes ao hospedeiro (estado de portado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08080" y="704880"/>
            <a:ext cx="7989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 Unicode MS"/>
              </a:rPr>
              <a:t>Parasitologia  </a:t>
            </a:r>
            <a:r>
              <a:rPr b="0" lang="en-GB" sz="3600" spc="-1" strike="noStrike">
                <a:solidFill>
                  <a:srgbClr val="ccff99"/>
                </a:solidFill>
                <a:latin typeface="Arial Unicode MS"/>
              </a:rPr>
              <a:t>- algumas defini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93760" y="1996920"/>
            <a:ext cx="7862760" cy="39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576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Estudo das relações parasita-hosped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576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Área multidisciplinar que contempla Bioquímica, Fisiologia, Biologia Celular e Molecular, Imunologia, Farmacologia, entre outras discipl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576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radicionalmente focado no estudo das interações com parasitas protozoários, artrópodes e helmi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77840" y="1966320"/>
            <a:ext cx="8371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Agente infeccioso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- Parasito capaz de produzir infec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Suscetível -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Hospedeiro passível de sofrer a infec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Doença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- qualquer manifestação clínica ou estado mórbido resultante de alterações  dos mecanismos reguladores da homeostasia orgân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73160" y="476280"/>
            <a:ext cx="804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ffff00"/>
                </a:solidFill>
                <a:latin typeface="Arial Unicode MS"/>
              </a:rPr>
              <a:t>Conceitos epidemiológic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20880" y="1342800"/>
            <a:ext cx="8474040" cy="50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ff99"/>
                </a:solidFill>
                <a:latin typeface="Tahoma"/>
              </a:rPr>
              <a:t>Classificação das infecções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Fitonoses -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transmitidas dos vegetais ao homem (ex.: blastomicose – </a:t>
            </a:r>
            <a:r>
              <a:rPr b="0" i="1" lang="pt-BR" sz="2000" spc="-1" strike="noStrike">
                <a:solidFill>
                  <a:srgbClr val="ffffff"/>
                </a:solidFill>
                <a:latin typeface="Tahoma"/>
              </a:rPr>
              <a:t>Paracoccidioides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brasilien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Zoonoses -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acometem os animais e o ho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001"/>
              </a:spcAft>
              <a:buClr>
                <a:srgbClr val="ffcc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ccffff"/>
                </a:solidFill>
                <a:latin typeface="Tahoma"/>
              </a:rPr>
              <a:t>Antropozoonoses: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uma zoonose mantida na natureza em reservatórios animais e transmitida ao homem (ex.: leishmanioses tegumentares, raiva, brucelo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001"/>
              </a:spcAft>
              <a:buClr>
                <a:srgbClr val="ffcc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ccffff"/>
                </a:solidFill>
                <a:latin typeface="Tahoma"/>
              </a:rPr>
              <a:t>Zooantroponoses: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transmitidas do homem para os animais (ex.: cisticercoses, amebíase para cão, tuberculo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001"/>
              </a:spcAft>
              <a:buClr>
                <a:srgbClr val="ffcc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ccffff"/>
                </a:solidFill>
                <a:latin typeface="Tahoma"/>
              </a:rPr>
              <a:t>Anfixenose: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transmitidas entre o homem e os animais (ex.: leishmaniose visceral, doença de Chagas, estafilococo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Antroponose -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transmitida ao homem a partir de um reservatório humano (ex.: AID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84160" y="441360"/>
            <a:ext cx="804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ffff00"/>
                </a:solidFill>
                <a:latin typeface="Arial Unicode MS"/>
              </a:rPr>
              <a:t>Conceitos epidemiológic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1T12:12:41Z</dcterms:created>
  <dc:creator>Arthur Gruber</dc:creator>
  <dc:description/>
  <dc:language>en-US</dc:language>
  <cp:lastModifiedBy>Arthur Gruber</cp:lastModifiedBy>
  <dcterms:modified xsi:type="dcterms:W3CDTF">2008-03-05T19:05:22Z</dcterms:modified>
  <cp:revision>121</cp:revision>
  <dc:subject/>
  <dc:title>Desenvolvimento de marcadores microssatélites para a diferenciação de cepas de Eimeria tenella, E. acervulina e E. maxima</dc:title>
</cp:coreProperties>
</file>