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42D-63EA-4A02-B041-9E4F373F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AA8-3FD6-4162-940E-15974BF2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562-2A2A-4E68-9878-322EA675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918-86E4-47FC-ABB5-BDB4CDC5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A90-E857-46B0-A9E7-B28AF1C4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088-AEAB-4024-AA45-A3EEDECF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C2B-C8C4-4F51-B7CB-55210F89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CB9-D1F4-4507-90BE-A2DF6E84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981-75E0-47A5-9630-98509040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A7E-9B1A-43BD-8E3A-C14774F8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17B-47BF-47DC-921A-B8DD2361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BD2-FFAB-4A88-AFA2-EAFF6174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C9AC-DBE2-4925-A869-C9F30470CD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77336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Comunitat virtu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del PDI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Pedagogi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09000" y="4724280"/>
            <a:ext cx="23738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Integrants de gr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ristina Bacigalu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Juana Maria Gela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Tomeu S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408560" y="6350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4320" y="40464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efinició de comunitat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93040" y="1149840"/>
            <a:ext cx="6738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És un entorn Web on s’agrupen persones per compartir valo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lenguatge, experiències i un propòsit comú mitjanç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a comunicació a través d’una red telemàtica.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l concepte està format per dos termes: Comunitat i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 Coneixement compart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inam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Propòsit comú o una visió compar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Utilització d’un llenguatge com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Evolu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Tip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dis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prà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construcció de coneix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aprenentat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01760" y="475560"/>
            <a:ext cx="83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Origen de les comunitats virtuals de professors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9200" y="1845720"/>
            <a:ext cx="8270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er aconseguir la</a:t>
            </a:r>
            <a:r>
              <a:rPr b="0" lang="ca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implicació del professorat es necessari que teng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neixements de l’ensenyança de la informàtica a més de coneix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 la mateixa i de la pràctica de la instrucció (Gallego 1994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a Asociación Internacional para la Tecnología de la Educación, IS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recomana una sèrie d’habilitats, capacitats i nocions fonamentals del professor.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02520" y="2133720"/>
            <a:ext cx="3786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Experièn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rellev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0840" y="1076400"/>
            <a:ext cx="7740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1.- Institucionalització del suport al professorat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l’ús de tecnologia a La University of Central Flo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2.- Virginia 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02240" y="2178000"/>
            <a:ext cx="381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Planteja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38800" y="3430080"/>
            <a:ext cx="607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l personal docent implicats en els estudis de Pedagog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 més de personal docent d’altres universit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5240" y="112536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estinat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3080" y="907920"/>
            <a:ext cx="57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Idea prèvia i visió de la institu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7600" y="1989000"/>
            <a:ext cx="3531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aràcter oblig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unció de distribució de ta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ordinació de tem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ina d’investigació i innova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estió de caràcter ta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09680" y="692280"/>
            <a:ext cx="666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escripció de la situació problemà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i naturalesa del projec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9760" y="1989000"/>
            <a:ext cx="50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anca de col·laboració entre professo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Repetició de contingu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anca de possibilitat d’ampliació de contingu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shumanització de la tasca do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(professor-alumne; professor-profess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67080" y="80496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Object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2920" y="2008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18223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otenciar la col·laboració entre professo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vitar la repetició de conting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acilitar l’ampliació de tem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illorar les relacions interpersonals i interprofess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82120" y="2493000"/>
            <a:ext cx="624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os anys experimentals i si te acceptació passarà a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 caràcter indefin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questa etapa experimental estarà form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 Un primer any de pressa de contacte i mil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 Un segon any per consolidar la comunitat virt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7984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11240" y="83664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ur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55920" y="2637000"/>
            <a:ext cx="640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s de una iniciativa pròpia d’un grup de profes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interessats en la coordinació pedagògica interdepartament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er tant, estarà gestionat per un grup de 5-6 profes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 diferents departaments de la carrera de pedagog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4880" y="907920"/>
            <a:ext cx="43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Gestió i responsabil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37080" y="2133720"/>
            <a:ext cx="1858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Ma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Teò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6:36:37Z</dcterms:created>
  <dc:creator>Juana</dc:creator>
  <dc:description/>
  <dc:language>en-US</dc:language>
  <cp:lastModifiedBy>Cristina</cp:lastModifiedBy>
  <dcterms:modified xsi:type="dcterms:W3CDTF">2007-11-21T17:46:45Z</dcterms:modified>
  <cp:revision>18</cp:revision>
  <dc:subject/>
  <dc:title>Diapositiva 1</dc:title>
</cp:coreProperties>
</file>