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67E0-5052-4333-A96C-6C1E8A943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3352-2CBC-40A6-B4E9-5B3CD349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B18A-2DD2-458B-9DC5-1A4E8374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B8DF-1FEC-4E3F-B0EA-31362E5D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2B7-A890-4467-B6A7-D2C49AF8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BE7-A27D-47BF-B952-476FD8FD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DA4-001C-4A52-8E42-2D7990AF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C663-5CBE-4305-BFFA-E2C792F6F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1BB-E0F6-4D85-B947-73E64CB2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6F4-6D25-4C08-8102-9ADB9C61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6C8-59D3-47A4-91D3-8200449D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0CA-F930-432B-A83E-D2F95269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F125A-394E-4A2A-A858-096236545BF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773360"/>
            <a:ext cx="51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Comunitat virtu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del PDI 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Arial"/>
              </a:rPr>
              <a:t>Pedagogia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309000" y="4724280"/>
            <a:ext cx="237384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grants de gru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ristina Bacigalu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Juana Maria Gelab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Tomeu Ser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408560" y="6350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84320" y="404640"/>
            <a:ext cx="515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finició de comunitat vir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1773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93040" y="1149840"/>
            <a:ext cx="6738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És un entorn Web on s’agrupen persones per compartir valo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lenguatge, experiències i un propòsit comú mitjanç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comunicació a través d’una red telemàtica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concepte està format per dos termes: Comunitat i Vir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* Coneixement compart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inami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Propòsit comú o una visió compar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Utilització d’un llenguatge com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Evolu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- Tip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dis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prà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construcció de coneix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De aprenentat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1760" y="475560"/>
            <a:ext cx="837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rigen de les comunitats virtuals de professors</a:t>
            </a: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9200" y="1845720"/>
            <a:ext cx="8270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aconseguir la</a:t>
            </a:r>
            <a:r>
              <a:rPr b="0" lang="ca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mplicació del professorat es necessari que teng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neixements de l’ensenyança de la informàtica a més de coneixem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la mateixa i de la pràctica de la instrucció (Gallego 1994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La Asociación Internacional para la Tecnología de la Educación, IST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comana una sèrie d’habilitats, capacitats i nocions fonamentals del professor.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02520" y="2133720"/>
            <a:ext cx="3786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Experiènci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rellev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80840" y="1076400"/>
            <a:ext cx="7740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1.- Institucionalització del suport al professorat 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l’ús de tecnologia a La University of Central Flo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2.- Virginia T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802240" y="2178000"/>
            <a:ext cx="3815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Planteja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38800" y="3430080"/>
            <a:ext cx="607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personal docent implicats en els estudis de Pedagogi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 més de personal docent d’altres universit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5240" y="1125360"/>
            <a:ext cx="22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tinata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053080" y="907920"/>
            <a:ext cx="573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dea prèvia i visió de la institu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07600" y="1989000"/>
            <a:ext cx="3531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aràcter oblig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unció de distribució de tas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ordinació de tem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ina d’investigació i innovac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Gestió de caràcter tanc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309680" y="692280"/>
            <a:ext cx="666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escripció de la situació problemà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i naturalesa del projec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9760" y="1989000"/>
            <a:ext cx="507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Repeti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anca de possibilitat d’ampliació de contingu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humanització de la tasca doc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(professor-alumne; professor-professo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267080" y="804960"/>
            <a:ext cx="18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Object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2920" y="20080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547640" y="18223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otenciar la col·laboració entre professor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vitar la repetició de conting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Facilitar l’ampliació de temar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Millorar les relacions interpersonals i interprofessio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482120" y="2493000"/>
            <a:ext cx="624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os anys experimentals i si te acceptació passarà a 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caràcter indefin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Aquesta etapa experimental estarà forma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primer any de pressa de contacte i mil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*  Un segon any per consolidar la comunitat virt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47984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11240" y="836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Dur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55920" y="2637000"/>
            <a:ext cx="640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s de una iniciativa pròpia d’un grup de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interessats en la coordinació pedagògica interdepartament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per tant, estarà gestionat per un grup de 5-6 professo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de diferents departaments de la carrera de pedagog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414880" y="907920"/>
            <a:ext cx="431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 u="sng">
                <a:solidFill>
                  <a:srgbClr val="000000"/>
                </a:solidFill>
                <a:uFillTx/>
                <a:latin typeface="Arial"/>
              </a:rPr>
              <a:t>Gestió i responsabilit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37080" y="2133720"/>
            <a:ext cx="1858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Mar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000000"/>
                </a:solidFill>
                <a:latin typeface="Arial"/>
              </a:rPr>
              <a:t>Teò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5T16:36:37Z</dcterms:created>
  <dc:creator>Juana</dc:creator>
  <dc:description/>
  <dc:language>en-US</dc:language>
  <cp:lastModifiedBy>Cristina</cp:lastModifiedBy>
  <dcterms:modified xsi:type="dcterms:W3CDTF">2007-11-21T17:46:45Z</dcterms:modified>
  <cp:revision>18</cp:revision>
  <dc:subject/>
  <dc:title>Diapositiva 1</dc:title>
</cp:coreProperties>
</file>