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BDB5-BE65-424B-84B2-E48740E1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34CF-661C-464C-8401-B0CE7FF4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5FF5-3AFD-4F0F-881D-378B6B14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1D78-821B-435E-8DE2-1EBC4B4DA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BE61-D6F3-4F52-8A73-61C9AA18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7BB3-D599-4A2B-BB9C-E3895402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D388-EB4A-46C0-979F-169CBD2D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BD64-8641-45CE-8220-B8598C7C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91D7-2C82-4A6F-B7DA-795D4653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A547-C1E9-428C-A93F-4FF78383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1DE0-3D6C-4E57-B9C3-4EB0E98B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FA06-B910-494B-A81C-7BF3F6F1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67DB-4E2E-48B4-AA71-C37A0043D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619280" cy="1116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101080" y="2060640"/>
            <a:ext cx="823680" cy="917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940360" y="189000"/>
            <a:ext cx="1224000" cy="912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900000" y="1556640"/>
            <a:ext cx="647640" cy="934920"/>
          </a:xfrm>
          <a:prstGeom prst="foldedCorner">
            <a:avLst>
              <a:gd name="adj" fmla="val 12500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144440"/>
            <a:ext cx="1008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Wingdings"/>
                <a:ea typeface="Wingdings"/>
              </a:rPr>
              <a:t>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524720" y="2637000"/>
            <a:ext cx="647640" cy="863280"/>
            <a:chOff x="7524720" y="2637000"/>
            <a:chExt cx="647640" cy="863280"/>
          </a:xfrm>
        </p:grpSpPr>
        <p:sp>
          <p:nvSpPr>
            <p:cNvPr id="47" name="Puzzle3"/>
            <p:cNvSpPr/>
            <p:nvPr/>
          </p:nvSpPr>
          <p:spPr>
            <a:xfrm>
              <a:off x="7840080" y="2637000"/>
              <a:ext cx="254520" cy="4586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Puzzle2"/>
            <p:cNvSpPr/>
            <p:nvPr/>
          </p:nvSpPr>
          <p:spPr>
            <a:xfrm>
              <a:off x="7765920" y="2971080"/>
              <a:ext cx="406440" cy="41796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Puzzle4"/>
            <p:cNvSpPr/>
            <p:nvPr/>
          </p:nvSpPr>
          <p:spPr>
            <a:xfrm>
              <a:off x="7608600" y="2966040"/>
              <a:ext cx="244800" cy="53424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Puzzle1"/>
            <p:cNvSpPr/>
            <p:nvPr/>
          </p:nvSpPr>
          <p:spPr>
            <a:xfrm>
              <a:off x="7524720" y="2775600"/>
              <a:ext cx="411480" cy="31824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8128080" y="1125360"/>
            <a:ext cx="1015920" cy="986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8209080" y="3141720"/>
            <a:ext cx="934920" cy="100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79640" y="1557360"/>
            <a:ext cx="4753080" cy="86364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1712880"/>
            <a:ext cx="23763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omic Sans MS"/>
              </a:rPr>
              <a:t>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365720"/>
            <a:ext cx="259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omic Sans MS"/>
              </a:rPr>
              <a:t>toma de deci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4365720"/>
            <a:ext cx="259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omic Sans MS"/>
              </a:rPr>
              <a:t>Seleccio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omic Sans MS"/>
              </a:rPr>
              <a:t>conocimi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763640" y="2276640"/>
            <a:ext cx="2160720" cy="18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67280" y="23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92720" y="4365720"/>
            <a:ext cx="259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omic Sans MS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omic Sans MS"/>
              </a:rPr>
              <a:t>(tar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13080" y="2276640"/>
            <a:ext cx="194328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229360"/>
            <a:ext cx="259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33399"/>
                </a:solidFill>
                <a:latin typeface="Comic Sans MS"/>
              </a:rPr>
              <a:t>Plani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33399"/>
                </a:solidFill>
                <a:latin typeface="Comic Sans MS"/>
              </a:rPr>
              <a:t>Autorre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33399"/>
                </a:solidFill>
                <a:latin typeface="Comic Sans MS"/>
              </a:rPr>
              <a:t>Evalu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5229360"/>
            <a:ext cx="259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33399"/>
                </a:solidFill>
                <a:latin typeface="Comic Sans MS"/>
              </a:rPr>
              <a:t>Declar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33399"/>
                </a:solidFill>
                <a:latin typeface="Comic Sans MS"/>
              </a:rPr>
              <a:t>Procedi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33399"/>
                </a:solidFill>
                <a:latin typeface="Comic Sans MS"/>
              </a:rPr>
              <a:t>Actitudi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2720" y="5589720"/>
            <a:ext cx="259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33399"/>
                </a:solidFill>
                <a:latin typeface="Comic Sans MS"/>
              </a:rPr>
              <a:t>Cont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88000" y="522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0000" y="3068640"/>
            <a:ext cx="72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3068640"/>
            <a:ext cx="144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33399"/>
                </a:solidFill>
                <a:latin typeface="Comic Sans MS"/>
              </a:rPr>
              <a:t>cons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33399"/>
                </a:solidFill>
                <a:latin typeface="Comic Sans MS"/>
              </a:rPr>
              <a:t>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59280" y="3068640"/>
            <a:ext cx="93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2205000"/>
            <a:ext cx="25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99"/>
                </a:solidFill>
                <a:latin typeface="Comic Sans MS"/>
              </a:rPr>
              <a:t>(MONEREO, 200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9:16:55Z</dcterms:created>
  <dc:creator>Esther</dc:creator>
  <dc:description/>
  <dc:language>en-US</dc:language>
  <cp:lastModifiedBy>Esther</cp:lastModifiedBy>
  <dcterms:modified xsi:type="dcterms:W3CDTF">2007-12-24T13:12:11Z</dcterms:modified>
  <cp:revision>55</cp:revision>
  <dc:subject/>
  <dc:title>Diapositiva 1</dc:title>
</cp:coreProperties>
</file>