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2DC-B4A3-4526-B53D-8235AAB2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EBD-18EC-481C-AF3D-4CC83BC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433-D7A4-4540-B7A4-51EDC581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EA8-010F-4092-9479-2F51C127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836-2D5A-4351-871C-FAA75371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C21-06B7-4548-AF81-0FA8A664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ABD-4BC2-4236-B93D-460A185F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445-69D2-46FD-AF52-0F37F1CA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4BD-E849-41A1-978E-3E47AE8B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242-D418-4E4C-88AB-045EC2F9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C98-B201-4C39-A970-E16C42B1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54B-A4AE-483F-BFCA-8255E97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3E35-C9AB-40C4-B001-06C3B21B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619280" cy="111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01080" y="2060640"/>
            <a:ext cx="823680" cy="91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1224000" cy="912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900000" y="1556640"/>
            <a:ext cx="647640" cy="934920"/>
          </a:xfrm>
          <a:prstGeom prst="foldedCorner">
            <a:avLst>
              <a:gd name="adj" fmla="val 125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144440"/>
            <a:ext cx="1008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524720" y="2637000"/>
            <a:ext cx="647640" cy="863280"/>
            <a:chOff x="7524720" y="2637000"/>
            <a:chExt cx="647640" cy="863280"/>
          </a:xfrm>
        </p:grpSpPr>
        <p:sp>
          <p:nvSpPr>
            <p:cNvPr id="47" name="Puzzle3"/>
            <p:cNvSpPr/>
            <p:nvPr/>
          </p:nvSpPr>
          <p:spPr>
            <a:xfrm>
              <a:off x="7840080" y="2637000"/>
              <a:ext cx="254520" cy="4586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Puzzle2"/>
            <p:cNvSpPr/>
            <p:nvPr/>
          </p:nvSpPr>
          <p:spPr>
            <a:xfrm>
              <a:off x="7765920" y="2971080"/>
              <a:ext cx="406440" cy="4179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Puzzle4"/>
            <p:cNvSpPr/>
            <p:nvPr/>
          </p:nvSpPr>
          <p:spPr>
            <a:xfrm>
              <a:off x="7608600" y="2966040"/>
              <a:ext cx="244800" cy="5342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uzzle1"/>
            <p:cNvSpPr/>
            <p:nvPr/>
          </p:nvSpPr>
          <p:spPr>
            <a:xfrm>
              <a:off x="7524720" y="2775600"/>
              <a:ext cx="411480" cy="3182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128080" y="1125360"/>
            <a:ext cx="1015920" cy="98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8209080" y="3141720"/>
            <a:ext cx="934920" cy="100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1557360"/>
            <a:ext cx="4753080" cy="86364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1712880"/>
            <a:ext cx="2376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omic Sans MS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365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toma de dec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4365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Selecci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cono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763640" y="2276640"/>
            <a:ext cx="216072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23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4365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(t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3080" y="2276640"/>
            <a:ext cx="19432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22936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Plan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Autor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Eval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522936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Decla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Procedi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Actitud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5589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88000" y="52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306864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06864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cons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068640"/>
            <a:ext cx="9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2205000"/>
            <a:ext cx="25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Comic Sans MS"/>
              </a:rPr>
              <a:t>(MONEREO, 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9:16:55Z</dcterms:created>
  <dc:creator>Esther</dc:creator>
  <dc:description/>
  <dc:language>en-US</dc:language>
  <cp:lastModifiedBy>Esther</cp:lastModifiedBy>
  <dcterms:modified xsi:type="dcterms:W3CDTF">2007-12-24T13:12:11Z</dcterms:modified>
  <cp:revision>55</cp:revision>
  <dc:subject/>
  <dc:title>Diapositiva 1</dc:title>
</cp:coreProperties>
</file>