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4CD-0D49-461C-8B39-E1777F72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A875-610C-4B07-8DB7-2BCC3BB2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A5A-59ED-44CE-A333-7131535F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4F1-837A-49C1-A242-C28CD4BE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5C0-3507-422B-A858-B965ADDC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E30B-A623-45F6-8FCB-9AB146D1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B2F-55E4-4E25-A21E-5EB8626E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276-B97C-4EF0-A2F8-D9777709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808-C6EB-4A30-B5D1-1030B85F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42B-9D1E-4B7B-B54D-AF661A51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5D4-C915-4D69-BDA9-FD4241C9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A7D-B170-4C59-BF20-87A515F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992F-7E2B-4946-8AE8-7FA02B7C5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619280" cy="111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01080" y="2060640"/>
            <a:ext cx="823680" cy="91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1224000" cy="912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900000" y="1556640"/>
            <a:ext cx="647640" cy="934920"/>
          </a:xfrm>
          <a:prstGeom prst="foldedCorner">
            <a:avLst>
              <a:gd name="adj" fmla="val 12500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144440"/>
            <a:ext cx="1008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Wingdings"/>
                <a:ea typeface="Wingdings"/>
              </a:rPr>
              <a:t>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524720" y="2637000"/>
            <a:ext cx="647640" cy="863280"/>
            <a:chOff x="7524720" y="2637000"/>
            <a:chExt cx="647640" cy="863280"/>
          </a:xfrm>
        </p:grpSpPr>
        <p:sp>
          <p:nvSpPr>
            <p:cNvPr id="47" name="Puzzle3"/>
            <p:cNvSpPr/>
            <p:nvPr/>
          </p:nvSpPr>
          <p:spPr>
            <a:xfrm>
              <a:off x="7840080" y="2637000"/>
              <a:ext cx="254520" cy="4586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Puzzle2"/>
            <p:cNvSpPr/>
            <p:nvPr/>
          </p:nvSpPr>
          <p:spPr>
            <a:xfrm>
              <a:off x="7765920" y="2971080"/>
              <a:ext cx="406440" cy="4179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Puzzle4"/>
            <p:cNvSpPr/>
            <p:nvPr/>
          </p:nvSpPr>
          <p:spPr>
            <a:xfrm>
              <a:off x="7608600" y="2966040"/>
              <a:ext cx="244800" cy="5342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uzzle1"/>
            <p:cNvSpPr/>
            <p:nvPr/>
          </p:nvSpPr>
          <p:spPr>
            <a:xfrm>
              <a:off x="7524720" y="2775600"/>
              <a:ext cx="411480" cy="3182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128080" y="1125360"/>
            <a:ext cx="1015920" cy="986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8209080" y="3141720"/>
            <a:ext cx="934920" cy="100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1557360"/>
            <a:ext cx="4753080" cy="86364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1712880"/>
            <a:ext cx="23763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omic Sans MS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36572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toma de dec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436572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Selecci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cono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763640" y="2276640"/>
            <a:ext cx="216072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23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92720" y="436572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(t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3080" y="2276640"/>
            <a:ext cx="194328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22936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Plan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Autorre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Eval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522936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Decla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Procedi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Actitudi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558972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88000" y="52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306864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068640"/>
            <a:ext cx="144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cons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3068640"/>
            <a:ext cx="9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2205000"/>
            <a:ext cx="25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Comic Sans MS"/>
              </a:rPr>
              <a:t>(MONEREO, 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9:16:55Z</dcterms:created>
  <dc:creator>Esther</dc:creator>
  <dc:description/>
  <dc:language>en-US</dc:language>
  <cp:lastModifiedBy>Esther</cp:lastModifiedBy>
  <dcterms:modified xsi:type="dcterms:W3CDTF">2007-12-24T13:12:11Z</dcterms:modified>
  <cp:revision>55</cp:revision>
  <dc:subject/>
  <dc:title>Diapositiva 1</dc:title>
</cp:coreProperties>
</file>