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19A-7FCD-4B30-8785-BA5A2453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6F3-C279-4883-AFD9-E750961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D1F-4B32-4C07-AEDD-5828313F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42F-CC81-4B3F-9A8B-951761B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38-354C-4C86-9A7E-118C6BF1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B76-0904-4975-9000-EE48329A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866-D3DD-4E3E-A78B-7F32887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F1A-6346-4ACC-A9F2-DA95DB3B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441-AB42-4EBB-BAD9-B87B440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6E4-20C3-4D1A-A1CC-756C072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F58-81BF-498C-8D48-1D5BA2B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E62-2BB9-4410-B5E9-C1E3B45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32A-9480-4C14-A64B-9ADF5F2667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rte latinoamericano del siglo XX: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mágenes y contex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584760" cy="220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plomatura en Educación y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ACSO –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yecto present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GLÁS, 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, Marisa 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ZQUERRO, Luis Ja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ZTERENLICHT, Edmundo Gab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7384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ntendemos el aprendizaje como una práctica que puede tener no sólo objetivos cognoscitivos, sino también de práctica social, como un proceso no lineal de interacción entre el alumno y el doc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ello y siguiendo a Echevarría (2000), debemos tener en cuenta los siguientes entornos para la edu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doc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interre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juego y el entreten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8880" y="1412640"/>
            <a:ext cx="77738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xisten cuatro criterios para Brennan a la hora de decidir qué recursos debemos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ondiciones de la 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Recursos dispon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 los desti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l contenido de la formación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384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tajas del uso de TICs (Marchesi et alii, 2003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reación de nuevos contextos de aprendizaje, información y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Interactividad.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ransformación de nociones abstractas en modelos figurativos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proximar el entorno escolar a otros entornos del alumno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mpliar las relaciones de los alumnos y de los profesores con otros maestros o apre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3840" cy="56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compuesto por cuatro perso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ersonal, de cada uno de los integrantes del grupo, sobre el tema propues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multidisciplinar que abarca diversos temas: educación, economía, ciencias políticas, arte e historia, nuevas tecnologías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xperiencia pedagógica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técn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exión de Internet dispon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Herramientas de oficina: impresora, escáner, cámara digital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de las posibilidades que nos ofrece la denominada Web 2.0 para la elaboración de nuestro proyecto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estratég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y análisis del entorno educativo y de los programas de educación propuestos por los respectivos Ministerios de Educación de tres países de Sur América: Argentina, Perú y Colomb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reatividad en constante desarrol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Facilidad de reacción y de actuación ante los diferentes problemas que puedan suscitarse durante el desarrollo del proyecto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tr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or un tema novedoso entre la comun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conjugar diversas opciones en un mismo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ercamiento de los jóvenes a realidades regionales y suprarregionales a través de las nuevas tecnologí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recrear el proyecto según las propias necesidades de cada grupo de estud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l proyecto pretende incentivar no sólo el proceso de aprendizaje de los alumnos y profesores, sino también su capacidad de razonamiento crítico y de interrelación de las diferentes temáticas propues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ste proyecto promueve las relaciones entre alumnos de toda la región y sus respectivos centros escolares, lo cual puede conducir a alianzas de diferentes tipos, v.gr. intercambios tanto de personas como de materiales educati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La interacción en el mismo proyecto entre estudiantes de distintas regiones del mismo país pero que se mueven en diferentes contextos  y la de otros adolescentes que viven en otros países pero que pueden compartir una misma identidad latinoamericana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para las reunione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ferencia horaria entre Argentina y Perú/Colombia de dos ho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ticencia por parte de los docentes en aceptar una propuesta novedosa pero que implica mayor esfuerzo pedagógico por su parte.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técn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de acceso a las nuevas tecnologías de la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norme oferta que se puede encontrar para la elaboración de la pro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estratég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y variedad del territorio latinoamerica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de la temática a tratar requiere una selección subjetiva de los temas objeto d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l existir una múltiple variedad de programas educativos deben detectarse los puntos en común que puedan interesar a todos ellos de manera individ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osibilidad de financiación de un proyecto de esta índ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consecución de un proyecto que sea sostenible en sí mismo partiendo de unas bases d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ograr una articulación en el proceso de evaluación según criterios y estándares realmente unific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u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año académico com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lanificación y organ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formación del equipo coordin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boración del plan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ifusión del programa en los países elegidos para e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irma de acuerdos con una instancia local de cada uno de los Ministerios de Edu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elección y capacitación de escuelas piloto por paí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a escue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os particip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Preparación de la plataforma de capacitación para maes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apacitación de los docentes (nivelación en el uso de las TI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djudicación de t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Preparación de la plataforma de intercambio con los maestr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Creación y búsqueda de material básico por parte de los doc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de fuentes, tanto bibliográficas como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copilación de todas las fuentes que serán utilizadas en un solo documento, por país, disponible para todos los integrantes de esta etap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final, en paralelo, de los recursos con los que se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alidación del material didáctic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dición y publicación en versión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Implementación de la propuesta pedagógica, tanto nacional como internacional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eneración de comunidades de intercambio, dependiendo de las características particulares de cada institución, con un mínimo de coordinación entre los diferentes centros particip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esarrollo de contenidos de arte latinoamericano con las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aboración de productos colaborativ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Seguimiento y monitor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valuación de logros del aprendizaje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valuación del proye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7846920" cy="59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os maestr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einte a treinta alumn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coordinador de escue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equipo coordinador (un representante por país)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Tecnológ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 de comp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Quince computadores, un escáner, quince webcam, quince micrófonos,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nexiones disponibles a Internet.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Bibliotecas, archivos, museos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: una cámara digital y una grabadora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ccesibilidad de los recursos: número de usuarios por equipo, horarios de utilización, disponibilidad fuera del centro educativo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raestructu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sala de cómp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biblioteca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ateriales bás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Útiles de escritorio, tales como resmas de papel, tinta para impresión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Medios magnéticos para computadora: dos Cds, una US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tc.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resupuesto (en U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ersonal: $108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écnicos: $964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ateriales de oficina: $1565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Varios: $10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Gran total: $23.005 dó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inisterios de Educación y 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UNESCO –United Nations Educational, Scientific, and Cultural Organization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Organizaciones no gubernamentales u ONG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Fundaciones privadas –Almacenes Éxito de Colombia, Coca Cola Foundation, etc.–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ul Getty Foundation, Smithonian Institution y otras entidades museísticas y artísticas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5760"/>
            <a:ext cx="3886200" cy="57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Pres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ategoriz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3" action="ppaction://hlinksldjump"/>
              </a:rPr>
              <a:t>Justific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4" action="ppaction://hlinksldjump"/>
              </a:rPr>
              <a:t>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5" action="ppaction://hlinksldjump"/>
              </a:rPr>
              <a:t>Población objetiv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6" action="ppaction://hlinksldjump"/>
              </a:rPr>
              <a:t>Fundamentación pedagóg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7" action="ppaction://hlinksldjump"/>
              </a:rPr>
              <a:t>Utilización de </a:t>
            </a: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8" action="ppaction://hlinksldjump"/>
              </a:rPr>
              <a:t>TIC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9" action="ppaction://hlinksldjump"/>
              </a:rPr>
              <a:t>Fortalez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i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tiv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7240" y="1765440"/>
            <a:ext cx="7772400" cy="33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ra que el proceso de evaluación sea los más objetivo posible, tendremos en cu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ten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stru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la converg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manifi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sign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retroa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riterios de evaluación: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prendizajes de los alum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Manejo de las relaciones interperson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mprensión global de tema objeto de estud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apacidad de condensar y sintetizar.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Habilidad para el raciocinio y, por tanto, para la creación de conceptos prop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Participación activa en la construcción colecti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lcances del proyecto piloto en su conju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Times New Roman"/>
              </a:rPr>
              <a:t>La pertinencia del proyecto pedagógico propuesto para abordar la temática del proyecto a través del uso de las TICs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uso potencial de las herramientas TICs para promover el arte latinoamericano entre los estudiant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costo-efectividad del proyecto vinculado al nivel de aprendizajes logrados por los alumnos y el impacto en desarrollo socio-cultural  e integración de los países involucrado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rado de satisfacción de los beneficiarios directos del proyecto piloto (alumnos, maestros, representantes de las escuelas, equipo coordinador) así como  representantes del Ministerio de Educación, Instituto Nacional de Cultura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iabilidad y sostenibilidad del proyecto para ser replicada posteriormente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63128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artes plásticas son una de las muestras de la producción intelectual del ser humano a lo largo de la his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 conocimiento es importante dentro del proceso educativo de los jóvenes educandos y de su acercamiento a otras real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cilitar dicho conocimiento mediante las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ecnologías de Información y Comunic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úna a lo anterior las nuevas posibilidades técnicas, su implementación, manejo y expa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Proyecto colaborativo de intercambio educativo o profe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7724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nque el arte está presente en los diferentes currículos académicos pretendemos estudiarlo de manera trasversal y con ayuda de las nuevas tecnologías para, así, lograr un mayor aprovechamiento del 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4160"/>
            <a:ext cx="777240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tegrar a adolescentes y jóvenes estudiantes de los niveles de bachillerato o secundaria, de Latinoamérica, en un proyecto piloto que sirva para alcanzar un incremento sustancial en la calidad educativa necesaria en la sociedad del conocimiento en que nos hallamos inmersos. Todo esto mediante el acercamiento a las distintas realidades políticas, económicas y sociales de la región, vistas todas ellas a través del arte del siglo XX y por medio del trabajo en colaboración y del intercambio, apoyados estos en las denominadas TIC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omover, tanto entre sus integrantes como entre sus respectivas comunidades, valores y comportamientos que sirvan para mejorar la calidad de vida de todos ellos. Podemos señalar, principalmente, tres: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Valores esté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onsabilidad.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eto a la divers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visar la situación del arte en Latinoamérica durante 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geográficamente y diferenciar las distintas tendencias, corrientes y autores que lo constituyen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en el contexto global de la creación artística el arte latinoamericano d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flexionar a partir del acercamiento a otras realidades de la zona, como son en los países las políticas, sociales o económicas,  entre otras.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Elaborar productos colaborativos dentro de un marco de respeto y valoración por la opinión del otro y que sirvan para condensar y sintetizar las diversas manifestaciones artísticas regionales, nacionales y local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70160"/>
            <a:ext cx="7772400" cy="2311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studiantes de uno de los últimos cursos de bachillerato o educación media de tres instituciones de Argentina, Perú y Colombia.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6:43:29Z</dcterms:modified>
  <cp:revision>35</cp:revision>
  <dc:subject/>
  <dc:title>PowerPoint Presentation</dc:title>
</cp:coreProperties>
</file>