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1AC-505C-4EED-BB11-2CE74C06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4AB-81A3-48F0-992F-4C634B76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066-6FD4-4C9D-AA1A-0797CF89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0DEC-7F60-4E01-B10A-295DEB02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087F-85CF-44A9-B693-AED6D617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B972-84FB-495D-BE3A-4CC818AD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CDF-F85C-400F-8D9B-297D5CC6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272-04A6-458A-9C93-CE1091E5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59E-3A6A-4340-9CC2-77C8DEB1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04D-846F-4CAD-BDA3-0EC1CB0B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42C-EB98-41BD-97D4-D98A7DC5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766-2535-4E5A-9566-AED9DC14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9A2D-434B-4E7B-85F3-185738C9666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47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Arte latinoamericano del siglo XX: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Imágenes y contex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3789360"/>
            <a:ext cx="6584760" cy="220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iplomatura en Educación y Nuev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ACSO –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royecto present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GLÁS, A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, Marisa El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ZQUERRO, Luis Ja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ZTERENLICHT, Edmundo Gabr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545760"/>
            <a:ext cx="7773840" cy="56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Entendemos el aprendizaje como una práctica que puede tener no sólo objetivos cognoscitivos, sino también de práctica social, como un proceso no lineal de interacción entre el alumno y el docen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or ello y siguiendo a Echevarría (2000), debemos tener en cuenta los siguientes entornos para la educ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el estu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la doc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la interre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el juego y el entreten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58880" y="1412640"/>
            <a:ext cx="7773840" cy="38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Existen cuatro criterios para Brennan a la hora de decidir qué recursos debemos utiliz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ondiciones de la form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Recursos dispon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aracterísticas de los destina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aracterísticas del contenido de la formación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3840" cy="540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Ventajas del uso de TICs (Marchesi et alii, 2003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reación de nuevos contextos de aprendizaje, información y comun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Interactividad. 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Transformación de nociones abstractas en modelos figurativos.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Aproximar el entorno escolar a otros entornos del alumno.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Ampliar las relaciones de los alumnos y de los profesores con otros maestros o aprendi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3840" cy="5619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cursos human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Grupo compuesto por cuatro person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Interés personal, de cada uno de los integrantes del grupo, sobre el tema propues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Grupo multidisciplinar que abarca diversos temas: educación, economía, ciencias políticas, arte e historia, nuevas tecnologías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Experiencia pedagógica.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cursos técnic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onexión de Internet dispon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Herramientas de oficina: impresora, escáner, cámara digital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onocimiento de las posibilidades que nos ofrece la denominada Web 2.0 para la elaboración de nuestro proyecto.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cursos estratégic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onocimiento y análisis del entorno educativo y de los programas de educación propuestos por los respectivos Ministerios de Educación de tres países de Sur América: Argentina, Perú y Colomb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reatividad en constante desarroll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Facilidad de reacción y de actuación ante los diferentes problemas que puedan suscitarse durante el desarrollo del proyecto.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tr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Interés por un tema novedoso entre la comunida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Posibilidad de conjugar diversas opciones en un mismo proyec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Acercamiento de los jóvenes a realidades regionales y suprarregionales a través de las nuevas tecnologí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Posibilidad de recrear el proyecto según las propias necesidades de cada grupo de estudi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El proyecto pretende incentivar no sólo el proceso de aprendizaje de los alumnos y profesores, sino también su capacidad de razonamiento crítico y de interrelación de las diferentes temáticas propuest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Este proyecto promueve las relaciones entre alumnos de toda la región y sus respectivos centros escolares, lo cual puede conducir a alianzas de diferentes tipos, v.gr. intercambios tanto de personas como de materiales educativ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La interacción en el mismo proyecto entre estudiantes de distintas regiones del mismo país pero que se mueven en diferentes contextos  y la de otros adolescentes que viven en otros países pero que pueden compartir una misma identidad latinoamericana.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618840"/>
            <a:ext cx="7773840" cy="554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Times New Roman"/>
              </a:rPr>
              <a:t>Recursos humanos:</a:t>
            </a: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isponibilidad para las reuniones virtua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iferencia horaria entre Argentina y Perú/Colombia de dos hor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ticencia por parte de los docentes en aceptar una propuesta novedosa pero que implica mayor esfuerzo pedagógico por su parte.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CO" sz="2000" spc="-1" strike="noStrike">
                <a:solidFill>
                  <a:srgbClr val="000000"/>
                </a:solidFill>
                <a:latin typeface="Times New Roman"/>
              </a:rPr>
              <a:t>ecursos técn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isponibilidad de acceso a las nuevas tecnologías de la inform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enorme oferta que se puede encontrar para la elaboración de la propue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CO" sz="2000" spc="-1" strike="noStrike">
                <a:solidFill>
                  <a:srgbClr val="000000"/>
                </a:solidFill>
                <a:latin typeface="Times New Roman"/>
              </a:rPr>
              <a:t>ecursos estratégic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extensión y variedad del territorio latinoamerica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extensión de la temática a tratar requiere una selección subjetiva de los temas objeto de estu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Al existir una múltiple variedad de programas educativos deben detectarse los puntos en común que puedan interesar a todos ellos de manera individu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Posibilidad de financiación de un proyecto de esta índo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consecución de un proyecto que sea sostenible en sí mismo partiendo de unas bases dad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ograr una articulación en el proceso de evaluación según criterios y estándares realmente unific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618840"/>
            <a:ext cx="7773840" cy="554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ur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año académico comp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lanificación y organiz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Conformación del equipo coordinad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Elaboración del plan de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Difusión del programa en los países elegidos para el mism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Firma de acuerdos con una instancia local de cada uno de los Ministerios de Educ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Selección y capacitación de escuelas piloto por paí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Selección de la escue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Selección de los participa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Preparación de la plataforma de capacitación para maestr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Capacitación de los docentes (nivelación en el uso de las TIC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djudicación de ta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Times New Roman"/>
              </a:rPr>
              <a:t>Preparación de la plataforma de intercambio con los maestro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Creación y búsqueda de material básico por parte de los docent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visión de fuentes, tanto bibliográficas como </a:t>
            </a:r>
            <a:r>
              <a:rPr b="0" i="1" lang="es-CO" sz="1800" spc="-1" strike="noStrike">
                <a:solidFill>
                  <a:srgbClr val="000000"/>
                </a:solidFill>
                <a:latin typeface="Times New Roman"/>
              </a:rPr>
              <a:t>on line</a:t>
            </a: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copilación de todas las fuentes que serán utilizadas en un solo documento, por país, disponible para todos los integrantes de esta etap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visión final, en paralelo, de los recursos con los que se cuen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Validación del material didáctico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dición y publicación en versión </a:t>
            </a:r>
            <a:r>
              <a:rPr b="0" i="1" lang="es-CO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Times New Roman"/>
              </a:rPr>
              <a:t>Implementación de la propuesta pedagógica, tanto nacional como internacionalm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Generación de comunidades de intercambio, dependiendo de las características particulares de cada institución, con un mínimo de coordinación entre los diferentes centros particip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esarrollo de contenidos de arte latinoamericano con las T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laboración de productos colaborativ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Seguimiento y monitore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valuación de logros del aprendizaje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valuación del proyec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440" y="476280"/>
            <a:ext cx="7846920" cy="590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Human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os maestros por paí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Veinte a treinta alumnos por paí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Un coordinador de escue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Un equipo coordinador (un representante por país).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Tecnológ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quipos de comput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Quince computadores, un escáner, quince webcam, quince micrófonos, ot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onexiones disponibles a Internet..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Bibliotecas, archivos, museos, etc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quipos: una cámara digital y una grabadora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Accesibilidad de los recursos: número de usuarios por equipo, horarios de utilización, disponibilidad fuera del centro educativo.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fraestructur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sala de cómpu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biblioteca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Materiales básic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Útiles de escritorio, tales como resmas de papel, tinta para impresión,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Medios magnéticos para computadora: dos Cds, una USB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tc.      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699920"/>
            <a:ext cx="7772400" cy="331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Presupuesto (en US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Personal: $10800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Técnicos: $9640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Materiales de oficina: $1565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Varios: $1000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Gran total: $23.005 dó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Ministerios de Educación y Cul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UNESCO –United Nations Educational, Scientific, and Cultural Organization–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Organizaciones no gubernamentales u ONG.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Fundaciones privadas –Almacenes Éxito de Colombia, Coca Cola Foundation, etc.–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Paul Getty Foundation, Smithonian Institution y otras entidades museísticas y artísticas del m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280" y="545760"/>
            <a:ext cx="3886200" cy="57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1" action="ppaction://hlinksldjump"/>
              </a:rPr>
              <a:t>Pres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2" action="ppaction://hlinksldjump"/>
              </a:rPr>
              <a:t>Categoriz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3" action="ppaction://hlinksldjump"/>
              </a:rPr>
              <a:t>Justific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4" action="ppaction://hlinksldjump"/>
              </a:rPr>
              <a:t>Objetiv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5" action="ppaction://hlinksldjump"/>
              </a:rPr>
              <a:t>Población objetiv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6" action="ppaction://hlinksldjump"/>
              </a:rPr>
              <a:t>Fundamentación pedagógic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7" action="ppaction://hlinksldjump"/>
              </a:rPr>
              <a:t>Utilización de </a:t>
            </a: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8" action="ppaction://hlinksldjump"/>
              </a:rPr>
              <a:t>TIC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9" action="ppaction://hlinksldjump"/>
              </a:rPr>
              <a:t>Fortalez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il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perativ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cur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esu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ina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lu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7240" y="1765440"/>
            <a:ext cx="7772400" cy="3319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Para que el proceso de evaluación sea los más objetivo posible, tendremos en cuen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conteni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constru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la converg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manifie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signific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retroa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772400" cy="568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riterios de evaluación: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A nivel de aprendizajes de los alumn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Manejo de las relaciones interpersonal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omprensión global de tema objeto de estudi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apacidad de condensar y sintetizar.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Habilidad para el raciocinio y, por tanto, para la creación de conceptos prop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Participación activa en la construcción colectiv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A nivel de alcances del proyecto piloto en su conjun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Times New Roman"/>
              </a:rPr>
              <a:t>La pertinencia del proyecto pedagógico propuesto para abordar la temática del proyecto a través del uso de las TICs. 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l uso potencial de las herramientas TICs para promover el arte latinoamericano entre los estudiantes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l costo-efectividad del proyecto vinculado al nivel de aprendizajes logrados por los alumnos y el impacto en desarrollo socio-cultural  e integración de los países involucrados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Grado de satisfacción de los beneficiarios directos del proyecto piloto (alumnos, maestros, representantes de las escuelas, equipo coordinador) así como  representantes del Ministerio de Educación, Instituto Nacional de Cultura, etc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Viabilidad y sostenibilidad del proyecto para ser replicada posteriormente.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pervíncu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631280" cy="540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artes plásticas son una de las muestras de la producción intelectual del ser humano a lo largo de la hist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 conocimiento es importante dentro del proceso educativo de los jóvenes educandos y de su acercamiento a otras realida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acilitar dicho conocimiento mediante las denominada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ecnologías de Información y Comunic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úna a lo anterior las nuevas posibilidades técnicas, su implementación, manejo y expan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253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Times New Roman"/>
              </a:rPr>
              <a:t>Proyecto colaborativo de intercambio educativo o profes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1280" y="1989000"/>
            <a:ext cx="777240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unque el arte está presente en los diferentes currículos académicos pretendemos estudiarlo de manera trasversal y con ayuda de las nuevas tecnologías para, así, lograr un mayor aprovechamiento del 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14160"/>
            <a:ext cx="7772400" cy="353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Integrar a adolescentes y jóvenes estudiantes de los niveles de bachillerato o secundaria, de Latinoamérica, en un proyecto piloto que sirva para alcanzar un incremento sustancial en la calidad educativa necesaria en la sociedad del conocimiento en que nos hallamos inmersos. Todo esto mediante el acercamiento a las distintas realidades políticas, económicas y sociales de la región, vistas todas ellas a través del arte del siglo XX y por medio del trabajo en colaboración y del intercambio, apoyados estos en las denominadas TIC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romover, tanto entre sus integrantes como entre sus respectivas comunidades, valores y comportamientos que sirvan para mejorar la calidad de vida de todos ellos. Podemos señalar, principalmente, tres: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Valores estéti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esponsabilidad. 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espeto a la divers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Revisar la situación del arte en Latinoamérica durante el siglo XX. 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Situar geográficamente y diferenciar las distintas tendencias, corrientes y autores que lo constituyen. 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Situar en el contexto global de la creación artística el arte latinoamericano del siglo XX. 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Reflexionar a partir del acercamiento a otras realidades de la zona, como son en los países las políticas, sociales o económicas,  entre otras.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Elaborar productos colaborativos dentro de un marco de respeto y valoración por la opinión del otro y que sirvan para condensar y sintetizar las diversas manifestaciones artísticas regionales, nacionales y locale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2270160"/>
            <a:ext cx="7772400" cy="2311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Estudiantes de uno de los últimos cursos de bachillerato o educación media de tres instituciones de Argentina, Perú y Colombia.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is Ezquerro</cp:lastModifiedBy>
  <dcterms:modified xsi:type="dcterms:W3CDTF">2000-01-01T06:43:29Z</dcterms:modified>
  <cp:revision>35</cp:revision>
  <dc:subject/>
  <dc:title>PowerPoint Presentation</dc:title>
</cp:coreProperties>
</file>