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3ECA-06E7-4C34-9274-A9180E6B6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3FC9-7982-4B16-B030-F7DF4FE42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43C5-C847-435A-A656-96B7A1099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874A-84D2-4D3E-8DA6-12180DCAA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CCBE-12E3-4C9E-9553-67196A4C7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95E5-C46F-4D04-BB83-9225AC6DB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70D9-33A0-4857-8A28-A4644484D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8CC1-48B4-43CA-93A8-E14449BF9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AACA-8D7A-475D-9631-9B711D061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433A-4466-4851-94B5-E21F66EC2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50D6-1133-4DF2-A294-307938CC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915F-BEF5-42FB-AE1E-659FC3B34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2195E-4095-4BD7-9C66-AF503CF642D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9.xml"/><Relationship Id="rId6" Type="http://schemas.openxmlformats.org/officeDocument/2006/relationships/slide" Target="slide10.xml"/><Relationship Id="rId7" Type="http://schemas.openxmlformats.org/officeDocument/2006/relationships/slide" Target="slide11.xml"/><Relationship Id="rId8" Type="http://schemas.openxmlformats.org/officeDocument/2006/relationships/slide" Target="slide11.xml"/><Relationship Id="rId9" Type="http://schemas.openxmlformats.org/officeDocument/2006/relationships/slide" Target="slide13.xml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28640"/>
            <a:ext cx="7772400" cy="1470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Times New Roman"/>
              </a:rPr>
              <a:t>Arte latinoamericano del siglo XX:</a:t>
            </a:r>
            <a:br>
              <a:rPr sz="4000"/>
            </a:br>
            <a:r>
              <a:rPr b="0" lang="es-MX" sz="4000" spc="-1" strike="noStrike">
                <a:solidFill>
                  <a:srgbClr val="000000"/>
                </a:solidFill>
                <a:latin typeface="Times New Roman"/>
              </a:rPr>
              <a:t>Imágenes y context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58560" y="3789360"/>
            <a:ext cx="6584760" cy="220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Diplomatura en Educación y Nuevas Tecnologí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FLACSO – Argent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Proyecto presentado p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ANGLÁS, Al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ONDE, Marisa Ele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ZQUERRO, Luis Ja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SZTERENLICHT, Edmundo Gabri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85800" y="545760"/>
            <a:ext cx="7773840" cy="569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Times New Roman"/>
              </a:rPr>
              <a:t>Entendemos el aprendizaje como una práctica que puede tener no sólo objetivos cognoscitivos, sino también de práctica social, como un proceso no lineal de interacción entre el alumno y el docent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Por ello y siguiendo a Echevarría (2000), debemos tener en cuenta los siguientes entornos para la educaci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Para el estud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Para la docenc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Para la interrel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Para el juego y el entreteni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1" action="ppaction://hlinksldjump"/>
          </p:cNvPr>
          <p:cNvSpPr/>
          <p:nvPr/>
        </p:nvSpPr>
        <p:spPr>
          <a:xfrm>
            <a:off x="7596360" y="6237360"/>
            <a:ext cx="504720" cy="341280"/>
          </a:xfrm>
          <a:prstGeom prst="leftArrow">
            <a:avLst>
              <a:gd name="adj1" fmla="val 50000"/>
              <a:gd name="adj2" fmla="val 3697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758880" y="1412640"/>
            <a:ext cx="7773840" cy="388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Times New Roman"/>
              </a:rPr>
              <a:t>Existen cuatro criterios para Brennan a la hora de decidir qué recursos debemos utiliza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Times New Roman"/>
              </a:rPr>
              <a:t>Condiciones de la form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Times New Roman"/>
              </a:rPr>
              <a:t>Recursos disponibl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Times New Roman"/>
              </a:rPr>
              <a:t>Características de los destinatari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Times New Roman"/>
              </a:rPr>
              <a:t>Características del contenido de la formación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85800" y="692280"/>
            <a:ext cx="7773840" cy="5403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Ventajas del uso de TICs (Marchesi et alii, 2003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Times New Roman"/>
              </a:rPr>
              <a:t>Creación de nuevos contextos de aprendizaje, información y comunic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Times New Roman"/>
              </a:rPr>
              <a:t>Interactividad.  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Times New Roman"/>
              </a:rPr>
              <a:t>Transformación de nociones abstractas en modelos figurativos.  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Times New Roman"/>
              </a:rPr>
              <a:t>Aproximar el entorno escolar a otros entornos del alumno.  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Times New Roman"/>
              </a:rPr>
              <a:t>Ampliar las relaciones de los alumnos y de los profesores con otros maestros o aprendic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1" action="ppaction://hlinksldjump"/>
          </p:cNvPr>
          <p:cNvSpPr/>
          <p:nvPr/>
        </p:nvSpPr>
        <p:spPr>
          <a:xfrm>
            <a:off x="7596360" y="6237360"/>
            <a:ext cx="504720" cy="341280"/>
          </a:xfrm>
          <a:prstGeom prst="leftArrow">
            <a:avLst>
              <a:gd name="adj1" fmla="val 50000"/>
              <a:gd name="adj2" fmla="val 3697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85800" y="476280"/>
            <a:ext cx="7773840" cy="5619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Times New Roman"/>
              </a:rPr>
              <a:t>Recursos humanos: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Grupo compuesto por cuatro persona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Interés personal, de cada uno de los integrantes del grupo, sobre el tema propuest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Grupo multidisciplinar que abarca diversos temas: educación, economía, ciencias políticas, arte e historia, nuevas tecnologías..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Experiencia pedagógica.   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Times New Roman"/>
              </a:rPr>
              <a:t>Recursos técnicos: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Conexión de Internet disponib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Herramientas de oficina: impresora, escáner, cámara digital, et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Conocimiento de las posibilidades que nos ofrece la denominada Web 2.0 para la elaboración de nuestro proyecto.   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Times New Roman"/>
              </a:rPr>
              <a:t>Recursos estratégicos: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Conocimiento y análisis del entorno educativo y de los programas de educación propuestos por los respectivos Ministerios de Educación de tres países de Sur América: Argentina, Perú y Colombi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Creatividad en constante desarroll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Facilidad de reacción y de actuación ante los diferentes problemas que puedan suscitarse durante el desarrollo del proyecto.  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s-CO" sz="1400" spc="-1" strike="noStrike">
                <a:solidFill>
                  <a:srgbClr val="000000"/>
                </a:solidFill>
                <a:latin typeface="Times New Roman"/>
              </a:rPr>
              <a:t>tros: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Interés por un tema novedoso entre la comunida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Posibilidad de conjugar diversas opciones en un mismo proyect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Acercamiento de los jóvenes a realidades regionales y suprarregionales a través de las nuevas tecnología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Posibilidad de recrear el proyecto según las propias necesidades de cada grupo de estudi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El proyecto pretende incentivar no sólo el proceso de aprendizaje de los alumnos y profesores, sino también su capacidad de razonamiento crítico y de interrelación de las diferentes temáticas propuesta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Este proyecto promueve las relaciones entre alumnos de toda la región y sus respectivos centros escolares, lo cual puede conducir a alianzas de diferentes tipos, v.gr. intercambios tanto de personas como de materiales educativo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La interacción en el mismo proyecto entre estudiantes de distintas regiones del mismo país pero que se mueven en diferentes contextos  y la de otros adolescentes que viven en otros países pero que pueden compartir una misma identidad latinoamericana.  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1" action="ppaction://hlinksldjump"/>
          </p:cNvPr>
          <p:cNvSpPr/>
          <p:nvPr/>
        </p:nvSpPr>
        <p:spPr>
          <a:xfrm>
            <a:off x="7596360" y="6237360"/>
            <a:ext cx="504720" cy="341280"/>
          </a:xfrm>
          <a:prstGeom prst="leftArrow">
            <a:avLst>
              <a:gd name="adj1" fmla="val 50000"/>
              <a:gd name="adj2" fmla="val 3697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85800" y="618840"/>
            <a:ext cx="7773840" cy="5546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Times New Roman"/>
              </a:rPr>
              <a:t>Recursos humanos:</a:t>
            </a:r>
            <a:r>
              <a:rPr b="0" lang="es-CO" sz="2000" spc="-1" strike="noStrike">
                <a:solidFill>
                  <a:srgbClr val="000000"/>
                </a:solidFill>
                <a:latin typeface="Times New Roman"/>
              </a:rPr>
              <a:t> 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Disponibilidad para las reuniones virtual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Diferencia horaria entre Argentina y Perú/Colombia de dos hora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Reticencia por parte de los docentes en aceptar una propuesta novedosa pero que implica mayor esfuerzo pedagógico por su parte.   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s-CO" sz="2000" spc="-1" strike="noStrike">
                <a:solidFill>
                  <a:srgbClr val="000000"/>
                </a:solidFill>
                <a:latin typeface="Times New Roman"/>
              </a:rPr>
              <a:t>ecursos técnic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Disponibilidad de acceso a las nuevas tecnologías de la inform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La enorme oferta que se puede encontrar para la elaboración de la propues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s-CO" sz="2000" spc="-1" strike="noStrike">
                <a:solidFill>
                  <a:srgbClr val="000000"/>
                </a:solidFill>
                <a:latin typeface="Times New Roman"/>
              </a:rPr>
              <a:t>ecursos estratégico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La extensión y variedad del territorio latinoamerican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La extensión de la temática a tratar requiere una selección subjetiva de los temas objeto de estud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Al existir una múltiple variedad de programas educativos deben detectarse los puntos en común que puedan interesar a todos ellos de manera individua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Posibilidad de financiación de un proyecto de esta índol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La consecución de un proyecto que sea sostenible en sí mismo partiendo de unas bases dada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Lograr una articulación en el proceso de evaluación según criterios y estándares realmente unificad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1" action="ppaction://hlinksldjump"/>
          </p:cNvPr>
          <p:cNvSpPr/>
          <p:nvPr/>
        </p:nvSpPr>
        <p:spPr>
          <a:xfrm>
            <a:off x="7596360" y="6237360"/>
            <a:ext cx="504720" cy="341280"/>
          </a:xfrm>
          <a:prstGeom prst="leftArrow">
            <a:avLst>
              <a:gd name="adj1" fmla="val 50000"/>
              <a:gd name="adj2" fmla="val 3697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685800" y="618840"/>
            <a:ext cx="7773840" cy="5546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Dura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Un año académico compe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Etap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Planificación y organiza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Times New Roman"/>
              </a:rPr>
              <a:t>Conformación del equipo coordinado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Times New Roman"/>
              </a:rPr>
              <a:t>Elaboración del plan de trabaj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Times New Roman"/>
              </a:rPr>
              <a:t>Difusión del programa en los países elegidos para el mism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Times New Roman"/>
              </a:rPr>
              <a:t>Firma de acuerdos con una instancia local de cada uno de los Ministerios de Educa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Selección y capacitación de escuelas piloto por paí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Times New Roman"/>
              </a:rPr>
              <a:t>Selección de la escuel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Times New Roman"/>
              </a:rPr>
              <a:t>Selección de los participant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Times New Roman"/>
              </a:rPr>
              <a:t>Preparación de la plataforma de capacitación para maestr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Times New Roman"/>
              </a:rPr>
              <a:t>Capacitación de los docentes (nivelación en el uso de las TICs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Adjudicación de tare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685800" y="549000"/>
            <a:ext cx="7772400" cy="5545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Times New Roman"/>
              </a:rPr>
              <a:t>Preparación de la plataforma de intercambio con los maestros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Creación y búsqueda de material básico por parte de los docent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Revisión de fuentes, tanto bibliográficas como </a:t>
            </a:r>
            <a:r>
              <a:rPr b="0" i="1" lang="es-CO" sz="1800" spc="-1" strike="noStrike">
                <a:solidFill>
                  <a:srgbClr val="000000"/>
                </a:solidFill>
                <a:latin typeface="Times New Roman"/>
              </a:rPr>
              <a:t>on line</a:t>
            </a: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Recopilación de todas las fuentes que serán utilizadas en un solo documento, por país, disponible para todos los integrantes de esta etap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Revisión final, en paralelo, de los recursos con los que se cuen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Validación del material didáctico.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Edición y publicación en versión </a:t>
            </a:r>
            <a:r>
              <a:rPr b="0" i="1" lang="es-CO" sz="18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Times New Roman"/>
              </a:rPr>
              <a:t>Implementación de la propuesta pedagógica, tanto nacional como internacionalment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Generación de comunidades de intercambio, dependiendo de las características particulares de cada institución, con un mínimo de coordinación entre los diferentes centros participant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Desarrollo de contenidos de arte latinoamericano con las TIC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Elaboración de productos colaborativ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Seguimiento y monitore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Evaluación de logros del aprendizaje.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imes New Roman"/>
              </a:rPr>
              <a:t>Evaluación del proyect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596360" y="6237360"/>
            <a:ext cx="504720" cy="341280"/>
          </a:xfrm>
          <a:prstGeom prst="leftArrow">
            <a:avLst>
              <a:gd name="adj1" fmla="val 50000"/>
              <a:gd name="adj2" fmla="val 3697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685440" y="476280"/>
            <a:ext cx="7846920" cy="5905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Times New Roman"/>
              </a:rPr>
              <a:t>Human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Dos maestros por paí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Veinte a treinta alumnos por paí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Un coordinador de escuel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Un equipo coordinador (un representante por país). 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Times New Roman"/>
              </a:rPr>
              <a:t>Tecnológic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Equipos de computació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Times New Roman"/>
              </a:rPr>
              <a:t>Quince computadores, un escáner, quince webcam, quince micrófonos, otr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Times New Roman"/>
              </a:rPr>
              <a:t>Conexiones disponibles a Internet.. 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Bibliotecas, archivos, museos, etc.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Equipos: una cámara digital y una grabadora.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Accesibilidad de los recursos: número de usuarios por equipo, horarios de utilización, disponibilidad fuera del centro educativo. 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nfraestructur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Una sala de cómput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Una biblioteca.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Times New Roman"/>
              </a:rPr>
              <a:t>Materiales básico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Útiles de escritorio, tales como resmas de papel, tinta para impresión, etc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Medios magnéticos para computadora: dos Cds, una USB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Etc.       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596360" y="6237360"/>
            <a:ext cx="504720" cy="341280"/>
          </a:xfrm>
          <a:prstGeom prst="leftArrow">
            <a:avLst>
              <a:gd name="adj1" fmla="val 50000"/>
              <a:gd name="adj2" fmla="val 3697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85800" y="1699920"/>
            <a:ext cx="7772400" cy="3319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Times New Roman"/>
              </a:rPr>
              <a:t>Presupuesto (en USD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Times New Roman"/>
              </a:rPr>
              <a:t>Personal: $10800 dóla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Times New Roman"/>
              </a:rPr>
              <a:t>Técnicos: $9640 dóla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Times New Roman"/>
              </a:rPr>
              <a:t>Materiales de oficina: $1565 dóla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Times New Roman"/>
              </a:rPr>
              <a:t>Varios: $1000 dóla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Gran total: $23.005 dóla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596360" y="6237360"/>
            <a:ext cx="504720" cy="341280"/>
          </a:xfrm>
          <a:prstGeom prst="leftArrow">
            <a:avLst>
              <a:gd name="adj1" fmla="val 50000"/>
              <a:gd name="adj2" fmla="val 3697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800" y="1341360"/>
            <a:ext cx="777240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Times New Roman"/>
              </a:rPr>
              <a:t>Ministerios de Educación y Cultu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Times New Roman"/>
              </a:rPr>
              <a:t>UNESCO –United Nations Educational, Scientific, and Cultural Organization–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Times New Roman"/>
              </a:rPr>
              <a:t>Organizaciones no gubernamentales u ONG. 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Times New Roman"/>
              </a:rPr>
              <a:t>Fundaciones privadas –Almacenes Éxito de Colombia, Coca Cola Foundation, etc.–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Times New Roman"/>
              </a:rPr>
              <a:t>Paul Getty Foundation, Smithonian Institution y otras entidades museísticas y artísticas del mun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596360" y="6237360"/>
            <a:ext cx="504720" cy="341280"/>
          </a:xfrm>
          <a:prstGeom prst="leftArrow">
            <a:avLst>
              <a:gd name="adj1" fmla="val 50000"/>
              <a:gd name="adj2" fmla="val 3697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539280" y="545760"/>
            <a:ext cx="3886200" cy="5762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800000"/>
                </a:solidFill>
                <a:uFillTx/>
                <a:latin typeface="Times New Roman"/>
                <a:hlinkClick r:id="rId1" action="ppaction://hlinksldjump"/>
              </a:rPr>
              <a:t>Presentación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800000"/>
                </a:solidFill>
                <a:uFillTx/>
                <a:latin typeface="Times New Roman"/>
                <a:hlinkClick r:id="rId2" action="ppaction://hlinksldjump"/>
              </a:rPr>
              <a:t>Categorización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800000"/>
                </a:solidFill>
                <a:uFillTx/>
                <a:latin typeface="Times New Roman"/>
                <a:hlinkClick r:id="rId3" action="ppaction://hlinksldjump"/>
              </a:rPr>
              <a:t>Justificación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800000"/>
                </a:solidFill>
                <a:uFillTx/>
                <a:latin typeface="Times New Roman"/>
                <a:hlinkClick r:id="rId4" action="ppaction://hlinksldjump"/>
              </a:rPr>
              <a:t>Objetivo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800000"/>
                </a:solidFill>
                <a:uFillTx/>
                <a:latin typeface="Times New Roman"/>
                <a:hlinkClick r:id="rId5" action="ppaction://hlinksldjump"/>
              </a:rPr>
              <a:t>Población objetivo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800000"/>
                </a:solidFill>
                <a:uFillTx/>
                <a:latin typeface="Times New Roman"/>
                <a:hlinkClick r:id="rId6" action="ppaction://hlinksldjump"/>
              </a:rPr>
              <a:t>Fundamentación pedagógica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800000"/>
                </a:solidFill>
                <a:uFillTx/>
                <a:latin typeface="Times New Roman"/>
                <a:hlinkClick r:id="rId7" action="ppaction://hlinksldjump"/>
              </a:rPr>
              <a:t>Utilización de </a:t>
            </a:r>
            <a:r>
              <a:rPr b="0" lang="es-MX" sz="2400" spc="-1" strike="noStrike" u="sng">
                <a:solidFill>
                  <a:srgbClr val="800000"/>
                </a:solidFill>
                <a:uFillTx/>
                <a:latin typeface="Times New Roman"/>
                <a:hlinkClick r:id="rId8" action="ppaction://hlinksldjump"/>
              </a:rPr>
              <a:t>TIC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800000"/>
                </a:solidFill>
                <a:uFillTx/>
                <a:latin typeface="Times New Roman"/>
                <a:hlinkClick r:id="rId9" action="ppaction://hlinksldjump"/>
              </a:rPr>
              <a:t>Fortaleza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ebili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Operativiz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ecurs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Presupue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Financi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valu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687240" y="1765440"/>
            <a:ext cx="7772400" cy="3319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Times New Roman"/>
              </a:rPr>
              <a:t>Para que el proceso de evaluación sea los más objetivo posible, tendremos en cuen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Validez de contenid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Validez de construc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Validez de la convergenci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Validez manifies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Validez de significad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Validez de retroac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4360" y="549360"/>
            <a:ext cx="7772400" cy="5689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Times New Roman"/>
              </a:rPr>
              <a:t>Criterios de evaluación:  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Times New Roman"/>
              </a:rPr>
              <a:t>A nivel de aprendizajes de los alumn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Times New Roman"/>
              </a:rPr>
              <a:t>Manejo de las relaciones interpersonal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Times New Roman"/>
              </a:rPr>
              <a:t>Comprensión global de tema objeto de estudio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Times New Roman"/>
              </a:rPr>
              <a:t>Capacidad de condensar y sintetizar.   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Times New Roman"/>
              </a:rPr>
              <a:t>Habilidad para el raciocinio y, por tanto, para la creación de conceptos propi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Times New Roman"/>
              </a:rPr>
              <a:t>Participación activa en la construcción colectiv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Times New Roman"/>
              </a:rPr>
              <a:t>A nivel de alcances del proyecto piloto en su conjun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300" spc="-1" strike="noStrike">
                <a:solidFill>
                  <a:srgbClr val="000000"/>
                </a:solidFill>
                <a:latin typeface="Times New Roman"/>
              </a:rPr>
              <a:t>La pertinencia del proyecto pedagógico propuesto para abordar la temática del proyecto a través del uso de las TICs. 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El uso potencial de las herramientas TICs para promover el arte latinoamericano entre los estudiantes.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El costo-efectividad del proyecto vinculado al nivel de aprendizajes logrados por los alumnos y el impacto en desarrollo socio-cultural  e integración de los países involucrados.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Grado de satisfacción de los beneficiarios directos del proyecto piloto (alumnos, maestros, representantes de las escuelas, equipo coordinador) así como  representantes del Ministerio de Educación, Instituto Nacional de Cultura, etc.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Viabilidad y sostenibilidad del proyecto para ser replicada posteriormente. 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Otr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596360" y="6237360"/>
            <a:ext cx="504720" cy="341280"/>
          </a:xfrm>
          <a:prstGeom prst="leftArrow">
            <a:avLst>
              <a:gd name="adj1" fmla="val 50000"/>
              <a:gd name="adj2" fmla="val 3697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679480"/>
            <a:ext cx="7772400" cy="1469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Hipervíncul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55640" y="692280"/>
            <a:ext cx="7631280" cy="5403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s artes plásticas son una de las muestras de la producción intelectual del ser humano a lo largo de la histori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u conocimiento es importante dentro del proceso educativo de los jóvenes educandos y de su acercamiento a otras realidad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Facilitar dicho conocimiento mediante las denominadas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Tecnologías de Información y Comunicación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aúna a lo anterior las nuevas posibilidades técnicas, su implementación, manejo y expans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1" action="ppaction://hlinksldjump"/>
          </p:cNvPr>
          <p:cNvSpPr/>
          <p:nvPr/>
        </p:nvSpPr>
        <p:spPr>
          <a:xfrm>
            <a:off x="7596360" y="6237360"/>
            <a:ext cx="504720" cy="341280"/>
          </a:xfrm>
          <a:prstGeom prst="leftArrow">
            <a:avLst>
              <a:gd name="adj1" fmla="val 50000"/>
              <a:gd name="adj2" fmla="val 3697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2531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000" spc="-1" strike="noStrike">
                <a:solidFill>
                  <a:srgbClr val="000000"/>
                </a:solidFill>
                <a:latin typeface="Times New Roman"/>
              </a:rPr>
              <a:t>Proyecto colaborativo de intercambio educativo o profesion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" action="ppaction://hlinksldjump"/>
          </p:cNvPr>
          <p:cNvSpPr/>
          <p:nvPr/>
        </p:nvSpPr>
        <p:spPr>
          <a:xfrm>
            <a:off x="7596360" y="6237360"/>
            <a:ext cx="504720" cy="341280"/>
          </a:xfrm>
          <a:prstGeom prst="leftArrow">
            <a:avLst>
              <a:gd name="adj1" fmla="val 50000"/>
              <a:gd name="adj2" fmla="val 3697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11280" y="1989000"/>
            <a:ext cx="7772400" cy="288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Aunque el arte está presente en los diferentes currículos académicos pretendemos estudiarlo de manera trasversal y con ayuda de las nuevas tecnologías para, así, lograr un mayor aprovechamiento del te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1" action="ppaction://hlinksldjump"/>
          </p:cNvPr>
          <p:cNvSpPr/>
          <p:nvPr/>
        </p:nvSpPr>
        <p:spPr>
          <a:xfrm>
            <a:off x="7596360" y="6237360"/>
            <a:ext cx="504720" cy="341280"/>
          </a:xfrm>
          <a:prstGeom prst="leftArrow">
            <a:avLst>
              <a:gd name="adj1" fmla="val 50000"/>
              <a:gd name="adj2" fmla="val 3697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Objetivo ge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414160"/>
            <a:ext cx="7772400" cy="3535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Integrar a adolescentes y jóvenes estudiantes de los niveles de bachillerato o secundaria, de Latinoamérica, en un proyecto piloto que sirva para alcanzar un incremento sustancial en la calidad educativa necesaria en la sociedad del conocimiento en que nos hallamos inmersos. Todo esto mediante el acercamiento a las distintas realidades políticas, económicas y sociales de la región, vistas todas ellas a través del arte del siglo XX y por medio del trabajo en colaboración y del intercambio, apoyados estos en las denominadas TICs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Objetivos específ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Promover, tanto entre sus integrantes como entre sus respectivas comunidades, valores y comportamientos que sirvan para mejorar la calidad de vida de todos ellos. Podemos señalar, principalmente, tres: 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Times New Roman"/>
              </a:rPr>
              <a:t>Valores estétic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Times New Roman"/>
              </a:rPr>
              <a:t>Responsabilidad.  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Times New Roman"/>
              </a:rPr>
              <a:t>Respeto a la diversida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700" spc="-1" strike="noStrike">
                <a:solidFill>
                  <a:srgbClr val="000000"/>
                </a:solidFill>
                <a:latin typeface="Times New Roman"/>
              </a:rPr>
              <a:t>Revisar la situación del arte en Latinoamérica durante el siglo XX.  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700" spc="-1" strike="noStrike">
                <a:solidFill>
                  <a:srgbClr val="000000"/>
                </a:solidFill>
                <a:latin typeface="Times New Roman"/>
              </a:rPr>
              <a:t>Situar geográficamente y diferenciar las distintas tendencias, corrientes y autores que lo constituyen.  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700" spc="-1" strike="noStrike">
                <a:solidFill>
                  <a:srgbClr val="000000"/>
                </a:solidFill>
                <a:latin typeface="Times New Roman"/>
              </a:rPr>
              <a:t>Situar en el contexto global de la creación artística el arte latinoamericano del siglo XX.  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700" spc="-1" strike="noStrike">
                <a:solidFill>
                  <a:srgbClr val="000000"/>
                </a:solidFill>
                <a:latin typeface="Times New Roman"/>
              </a:rPr>
              <a:t>Reflexionar a partir del acercamiento a otras realidades de la zona, como son en los países las políticas, sociales o económicas,  entre otras. 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700" spc="-1" strike="noStrike">
                <a:solidFill>
                  <a:srgbClr val="000000"/>
                </a:solidFill>
                <a:latin typeface="Times New Roman"/>
              </a:rPr>
              <a:t>Elaborar productos colaborativos dentro de un marco de respeto y valoración por la opinión del otro y que sirvan para condensar y sintetizar las diversas manifestaciones artísticas regionales, nacionales y locales.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" action="ppaction://hlinksldjump"/>
          </p:cNvPr>
          <p:cNvSpPr/>
          <p:nvPr/>
        </p:nvSpPr>
        <p:spPr>
          <a:xfrm>
            <a:off x="7596360" y="6237360"/>
            <a:ext cx="504720" cy="341280"/>
          </a:xfrm>
          <a:prstGeom prst="leftArrow">
            <a:avLst>
              <a:gd name="adj1" fmla="val 50000"/>
              <a:gd name="adj2" fmla="val 3697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800" y="2270160"/>
            <a:ext cx="7772400" cy="2311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Times New Roman"/>
              </a:rPr>
              <a:t>Estudiantes de uno de los últimos cursos de bachillerato o educación media de tres instituciones de Argentina, Perú y Colombia.   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1" action="ppaction://hlinksldjump"/>
          </p:cNvPr>
          <p:cNvSpPr/>
          <p:nvPr/>
        </p:nvSpPr>
        <p:spPr>
          <a:xfrm>
            <a:off x="7596360" y="6237360"/>
            <a:ext cx="504720" cy="341280"/>
          </a:xfrm>
          <a:prstGeom prst="leftArrow">
            <a:avLst>
              <a:gd name="adj1" fmla="val 50000"/>
              <a:gd name="adj2" fmla="val 3697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uis Ezquerro</cp:lastModifiedBy>
  <dcterms:modified xsi:type="dcterms:W3CDTF">2000-01-01T06:43:29Z</dcterms:modified>
  <cp:revision>35</cp:revision>
  <dc:subject/>
  <dc:title>PowerPoint Presentation</dc:title>
</cp:coreProperties>
</file>