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001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500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7000" y="750600"/>
            <a:ext cx="5005440" cy="3754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510480"/>
            <a:ext cx="2971800" cy="500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510480"/>
            <a:ext cx="297180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BBEA-6733-447A-953C-4969ABDAF1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27000" y="750960"/>
            <a:ext cx="5005440" cy="3754440"/>
          </a:xfrm>
          <a:prstGeom prst="rect">
            <a:avLst/>
          </a:prstGeom>
          <a:ln w="0">
            <a:noFill/>
          </a:ln>
        </p:spPr>
      </p:sp>
      <p:sp>
        <p:nvSpPr>
          <p:cNvPr id="63"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análisis político,  social o económ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7000" y="750960"/>
            <a:ext cx="5005440" cy="3754440"/>
          </a:xfrm>
          <a:prstGeom prst="rect">
            <a:avLst/>
          </a:prstGeom>
          <a:ln w="0">
            <a:noFill/>
          </a:ln>
        </p:spPr>
      </p:sp>
      <p:sp>
        <p:nvSpPr>
          <p:cNvPr id="65"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
            </a:r>
            <a:r>
              <a:rPr b="1" lang="es-ES" sz="1200" spc="-1" strike="noStrike">
                <a:solidFill>
                  <a:srgbClr val="000000"/>
                </a:solidFill>
                <a:latin typeface="Arial"/>
              </a:rPr>
              <a:t>población objetivo</a:t>
            </a:r>
            <a:r>
              <a:rPr b="0" lang="es-ES" sz="1200" spc="-1" strike="noStrike">
                <a:solidFill>
                  <a:srgbClr val="000000"/>
                </a:solidFill>
                <a:latin typeface="Arial"/>
              </a:rPr>
              <a:t> propuesta para nuestro proyecto estará compuesta por los estudiantes de uno de los últimos cursos de bachillerato o educación media de tres instituciones de los países latinoamericanos propuestos –de norte a sur: Colombia, Perú y Argent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nemos un programa</a:t>
            </a:r>
            <a:r>
              <a:rPr b="0" lang="es-ES" sz="1200" spc="-1" strike="noStrike">
                <a:solidFill>
                  <a:srgbClr val="000000"/>
                </a:solidFill>
                <a:latin typeface="Arial"/>
              </a:rPr>
              <a:t> trasversal de la asignatura, programa que, consideramos, deberá servir como base a la que cada profesor, cada pedagogo y, por supuesto, cada estudiante, añada sus propios intereses y la moldee de acuerdo a sus propias necesidades o gustos. Por tanto, será una propuesta que sirva de base para mostrar cómo el arte puede ser utilizado por las diversas materias impartidas en los currículos escolares. Más allá de particularidades pedagógicas o regionales, lo que queremos es que el arte sea visto no sólo como una producción del intelecto o sensibilidad humanas, sino también como fruto de una determinada situación sociopolítica, económica, psicológica,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4F0D2-BDDA-4FF0-B4F9-9FE320AFD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B523-5CC3-4D1E-9889-944664014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B5CC9-D280-4C45-B4A3-F4AEED08B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79519-C871-4E34-800F-87488D722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C7A68-3B60-4139-828B-E0C1E7F6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E71B-656F-4F49-BB76-2345EFB2C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6363-33C7-4F22-B03C-C0066963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641F4-89DE-4A78-921C-7AB43D677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67C76-3EB9-4EF5-A4DF-D75F4367C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E9C62-EDF0-42C0-97C4-F7B1B2D3F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B917D-AAE0-4F2E-96B2-872FAE0A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6000-477C-4DD0-83D5-B2DE15E6F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EFFE-955D-47BC-BD4B-EEF1FFD75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pe/imgres?imgurl=http://www.tribunalatina.com/latinoamerica/img2/jovenes_medicos_cuba.jpg&amp;imgrefurl=http://www.tribunalatina.com/latinoamerica/economia.php&amp;h=222&amp;w=350&amp;sz=25&amp;hl=es&amp;start=25&amp;sig2=2ZZEBEFeb4I2_ldDQ_R1mw&amp;tbnid=mp78Cx9DQcc5EM:&amp;tbnh=76&amp;tbnw=120&amp;ei=z8TwR720CYvoeeri7O8B&amp;prev=/images%3Fq%3Djovenes%2Blatinoamericanos%26start%3D20%26gbv%3D2%26ndsp%3D20%26hl%3Des%26sa%3DN"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pic>
        <p:nvPicPr>
          <p:cNvPr id="48" name="" descr="arte.jpg"/>
          <p:cNvPicPr/>
          <p:nvPr/>
        </p:nvPicPr>
        <p:blipFill>
          <a:blip r:embed="rId1"/>
          <a:stretch/>
        </p:blipFill>
        <p:spPr>
          <a:xfrm rot="21088200">
            <a:off x="5579640" y="2060280"/>
            <a:ext cx="2808360" cy="2116080"/>
          </a:xfrm>
          <a:prstGeom prst="rect">
            <a:avLst/>
          </a:prstGeom>
          <a:ln w="0">
            <a:noFill/>
          </a:ln>
        </p:spPr>
      </p:pic>
      <p:sp>
        <p:nvSpPr>
          <p:cNvPr id="49" name="PlaceHolder 1"/>
          <p:cNvSpPr>
            <a:spLocks noGrp="1"/>
          </p:cNvSpPr>
          <p:nvPr>
            <p:ph/>
          </p:nvPr>
        </p:nvSpPr>
        <p:spPr>
          <a:xfrm>
            <a:off x="324000" y="2061720"/>
            <a:ext cx="4752720" cy="4103640"/>
          </a:xfrm>
          <a:prstGeom prst="rect">
            <a:avLst/>
          </a:prstGeom>
          <a:solidFill>
            <a:srgbClr val="ffff99"/>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UANTO AL AR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buscar en nuestras raíces conocimientos  ancestral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buscar en los currículos educativos acercar al estudiante al arte de manera profu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integrar a los jóvenes a la cultura del arte latinoamericano y a su contex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mirada a la situación de Latinoamérica y el Caribe</a:t>
            </a:r>
            <a:endParaRPr b="0" lang="en-US" sz="4000" spc="-1" strike="noStrike">
              <a:solidFill>
                <a:srgbClr val="000000"/>
              </a:solidFill>
              <a:latin typeface="Arial"/>
            </a:endParaRPr>
          </a:p>
        </p:txBody>
      </p:sp>
      <p:pic>
        <p:nvPicPr>
          <p:cNvPr id="51" name="" descr="">
            <a:hlinkClick r:id="rId2"/>
          </p:cNvPr>
          <p:cNvPicPr/>
          <p:nvPr/>
        </p:nvPicPr>
        <p:blipFill>
          <a:blip r:embed="rId3"/>
          <a:stretch/>
        </p:blipFill>
        <p:spPr>
          <a:xfrm rot="1499400">
            <a:off x="5435640" y="4149720"/>
            <a:ext cx="2879640" cy="171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3640" y="1917360"/>
            <a:ext cx="4392360" cy="4606920"/>
          </a:xfrm>
          <a:prstGeom prst="rect">
            <a:avLst/>
          </a:prstGeom>
          <a:solidFill>
            <a:srgbClr val="ffff99"/>
          </a:solid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UANTO A TIC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cesidad de involucrarlos en el aprendizaje con medios cercanos a ello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cesidad de utilizar herramientas atractivas y accesibl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net, herramienta potente para informar y educar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estrategia que utiliza las TICs, tiene amplia cobertura a bajo costo</a:t>
            </a:r>
            <a:endParaRPr b="0" lang="en-US" sz="20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mirada a la situación de Latinoamérica y el Caribe</a:t>
            </a:r>
            <a:endParaRPr b="0" lang="en-US" sz="4000" spc="-1" strike="noStrike">
              <a:solidFill>
                <a:srgbClr val="000000"/>
              </a:solidFill>
              <a:latin typeface="Arial"/>
            </a:endParaRPr>
          </a:p>
        </p:txBody>
      </p:sp>
      <p:pic>
        <p:nvPicPr>
          <p:cNvPr id="54" name="" descr=""/>
          <p:cNvPicPr/>
          <p:nvPr/>
        </p:nvPicPr>
        <p:blipFill>
          <a:blip r:embed="rId1"/>
          <a:stretch/>
        </p:blipFill>
        <p:spPr>
          <a:xfrm>
            <a:off x="4859280" y="2708280"/>
            <a:ext cx="3889440" cy="273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ál es nuestro sueño? </a:t>
            </a:r>
            <a:endParaRPr b="0" lang="en-US" sz="4400" spc="-1" strike="noStrike">
              <a:solidFill>
                <a:srgbClr val="000000"/>
              </a:solidFill>
              <a:latin typeface="Arial"/>
            </a:endParaRPr>
          </a:p>
        </p:txBody>
      </p:sp>
      <p:pic>
        <p:nvPicPr>
          <p:cNvPr id="56" name="" descr=""/>
          <p:cNvPicPr/>
          <p:nvPr/>
        </p:nvPicPr>
        <p:blipFill>
          <a:blip r:embed="rId1"/>
          <a:stretch/>
        </p:blipFill>
        <p:spPr>
          <a:xfrm>
            <a:off x="468360" y="3860640"/>
            <a:ext cx="2485800" cy="2665440"/>
          </a:xfrm>
          <a:prstGeom prst="rect">
            <a:avLst/>
          </a:prstGeom>
          <a:ln w="0">
            <a:noFill/>
          </a:ln>
        </p:spPr>
      </p:pic>
      <p:sp>
        <p:nvSpPr>
          <p:cNvPr id="57" name=""/>
          <p:cNvSpPr/>
          <p:nvPr/>
        </p:nvSpPr>
        <p:spPr>
          <a:xfrm>
            <a:off x="2771640" y="1628640"/>
            <a:ext cx="6372360" cy="3529080"/>
          </a:xfrm>
          <a:prstGeom prst="cloudCallout">
            <a:avLst>
              <a:gd name="adj1" fmla="val -42800"/>
              <a:gd name="adj2" fmla="val 682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es y jóvenes de Colombia, Perú y Argentina se integran, mediante el acercamiento a las distintas realidades políticas, económicas y sociales de la región latinoamericana, vistas todas ellas a través del arte del siglo XX y por medio del trabajo colaborativo y de intercambio usando las T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 qué nos basamos?</a:t>
            </a:r>
            <a:endParaRPr b="0" lang="en-US" sz="4400" spc="-1" strike="noStrike">
              <a:solidFill>
                <a:srgbClr val="000000"/>
              </a:solidFill>
              <a:latin typeface="Arial"/>
            </a:endParaRPr>
          </a:p>
        </p:txBody>
      </p:sp>
      <p:sp>
        <p:nvSpPr>
          <p:cNvPr id="59" name="PlaceHolder 2"/>
          <p:cNvSpPr>
            <a:spLocks noGrp="1"/>
          </p:cNvSpPr>
          <p:nvPr>
            <p:ph/>
          </p:nvPr>
        </p:nvSpPr>
        <p:spPr>
          <a:xfrm>
            <a:off x="1042920" y="1600200"/>
            <a:ext cx="7274160" cy="4781520"/>
          </a:xfrm>
          <a:prstGeom prst="rect">
            <a:avLst/>
          </a:prstGeom>
          <a:solidFill>
            <a:srgbClr val="ffff99"/>
          </a:solid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clusión de las TICs en el campo educativo. (Castells, 1997)</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cuela sitio de investigación y crítica. (Morin,2007)</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ujeto construye conocimiento y a su vez construye al sujeto.</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ula escenario de: (Echevarria, 2002)</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udios</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cencia</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pretación</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uego y entreten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 qué nos basamos?</a:t>
            </a:r>
            <a:endParaRPr b="0" lang="en-US" sz="4400" spc="-1" strike="noStrike">
              <a:solidFill>
                <a:srgbClr val="000000"/>
              </a:solidFill>
              <a:latin typeface="Arial"/>
            </a:endParaRPr>
          </a:p>
        </p:txBody>
      </p:sp>
      <p:sp>
        <p:nvSpPr>
          <p:cNvPr id="61" name="PlaceHolder 2"/>
          <p:cNvSpPr>
            <a:spLocks noGrp="1"/>
          </p:cNvSpPr>
          <p:nvPr>
            <p:ph/>
          </p:nvPr>
        </p:nvSpPr>
        <p:spPr>
          <a:xfrm>
            <a:off x="1042920" y="1600200"/>
            <a:ext cx="7274160" cy="4781520"/>
          </a:xfrm>
          <a:prstGeom prst="rect">
            <a:avLst/>
          </a:prstGeom>
          <a:solidFill>
            <a:srgbClr val="ffff99"/>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l </a:t>
            </a:r>
            <a:r>
              <a:rPr b="0" i="1" lang="es-ES" sz="2400" spc="-1" strike="noStrike">
                <a:solidFill>
                  <a:srgbClr val="000000"/>
                </a:solidFill>
                <a:latin typeface="Arial"/>
              </a:rPr>
              <a:t>blended learning</a:t>
            </a:r>
            <a:r>
              <a:rPr b="0" lang="es-ES" sz="2400" spc="-1" strike="noStrike">
                <a:solidFill>
                  <a:srgbClr val="000000"/>
                </a:solidFill>
                <a:latin typeface="Arial"/>
              </a:rPr>
              <a:t> –o aprendizaje combinado (Bartolomé, 200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recho a la educación. Niños y niñas son autodidactas en el tercer entorno o E3 (Echevarría, 2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r sitios (sites) específicos para cada materia y para cada nivel educativo (Echevarria, 20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scuela, organización viva y dinámica, capaz de aprender mientras se desarrolla y consolida (Martin 20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3:16:22Z</dcterms:created>
  <dc:creator>ALINA ANGLAS </dc:creator>
  <dc:description/>
  <dc:language>en-US</dc:language>
  <cp:lastModifiedBy>ALINA</cp:lastModifiedBy>
  <dcterms:modified xsi:type="dcterms:W3CDTF">2008-03-31T12:30:14Z</dcterms:modified>
  <cp:revision>43</cp:revision>
  <dc:subject/>
  <dc:title>UN MODELO DE ORGANIZACIÓN Y GESTIÓN  ESCOLAR, DESDE LA PERSPECTIVA DE LOS ACTORES:  CASO DE UN COLEGIO FE Y ALEGRÍA DE LIMA </dc:title>
</cp:coreProperties>
</file>