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BFB-9068-4E26-A9D6-E9926DFE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950-69A2-4FE1-B6FB-38BE513E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565F-A1C6-47DE-86B1-919551BC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518-AC20-4DF5-842E-1F5EA2FD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E4E-4C8A-40BC-9E78-35088225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C073-AAF4-4E99-90BF-9D2E5673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867-2087-455B-B74A-53D84CE6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89C-6FC9-460C-96CD-602D6C68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019-E2E2-4FC0-8E63-6ADD628F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F80-B034-47E7-9A6C-E4084DBD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5CC-AF07-4C8C-8245-17F84A52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3CC-40AE-46EB-9314-104BBDE6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9D1C-4CF1-49D0-B180-2575664447A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76360" y="476280"/>
          <a:ext cx="6121440" cy="59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76280"/>
                    <a:ext cx="6121440" cy="59752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585960" y="5842080"/>
            <a:ext cx="1918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Luis Ezque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7846920" cy="56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3600" spc="-1" strike="noStrike">
                <a:solidFill>
                  <a:srgbClr val="3333cc"/>
                </a:solidFill>
                <a:latin typeface="Times New Roman"/>
              </a:rPr>
              <a:t>Se pueden incorporar algunas útiles TIC mediante formas fáciles bien planeadas (…) Sugiero utilizar tecnologías ampliamente disponibles combinadas con planteamientos más familiares de enseñanza y aprendizaj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3333cc"/>
                </a:solidFill>
                <a:latin typeface="Times New Roman"/>
              </a:rPr>
              <a:t>Pincas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4129200"/>
            <a:ext cx="3809880" cy="2539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4160" y="764640"/>
            <a:ext cx="7918200" cy="518796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a Web 2.0. dinamiza la participación del estudiante media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La publicación de materi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De consumidor a </a:t>
            </a: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prosumidor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El desarrollo del aprendiza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Colaborativo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la misma comun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sco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regiones dist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geográfica y cultur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Cooper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Abie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En permanente constr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6720" y="2965320"/>
            <a:ext cx="3888000" cy="25974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3840" cy="425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Bartolomé (1997) señala cambios que tienen lugar gracias a los intercambios de inform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l modo en que ésta es codific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cantidad y calidad de la información a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que acced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forma en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accedemos a ella.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54560" y="3429000"/>
            <a:ext cx="432108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0920" y="473040"/>
            <a:ext cx="7918200" cy="583560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Marchesi,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et alli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(2003), señal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Conexión con otras competencias que son necesarias para desenvolverse exitosamente en el siglo XX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Interactiv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ormación, en modelos figurativos, de nociones abstrac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erencia de los aprendizajes entre contextos diferentes.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mpli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las relaciones en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lumnos y profes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difer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proced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School children sign"/>
          <p:cNvPicPr/>
          <p:nvPr/>
        </p:nvPicPr>
        <p:blipFill>
          <a:blip r:embed="rId1"/>
          <a:stretch/>
        </p:blipFill>
        <p:spPr>
          <a:xfrm>
            <a:off x="4290840" y="3573360"/>
            <a:ext cx="3810240" cy="2849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474840"/>
            <a:ext cx="8280360" cy="590688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osotros, además, considera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os programas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libres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y gratuitos favorec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Que el proyecto pueda ser reproducido allá donde haya conexión a Internet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Mínimos conocimientos técnicos previ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3070080"/>
            <a:ext cx="5180040" cy="345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215640"/>
            <a:ext cx="4319280" cy="6381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Posibilidad de recreación del proceso educativ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Generación 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ueva conciencia glob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Reafirmación de la propia identidad en la difer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32360" y="546120"/>
            <a:ext cx="3890880" cy="58356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000" y="3571920"/>
            <a:ext cx="7700760" cy="2952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Abogamos no sólo por objetivos cognoscitivos, sino también de práctica social, como proceso no lineal de interacción entre el alumno y el doce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98480" y="773280"/>
            <a:ext cx="2030760" cy="7034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Times New Roman"/>
              </a:rPr>
              <a:t>Por ta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02000" y="2133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 Ezquerro</cp:lastModifiedBy>
  <dcterms:modified xsi:type="dcterms:W3CDTF">2000-01-01T05:11:54Z</dcterms:modified>
  <cp:revision>28</cp:revision>
  <dc:subject/>
  <dc:title>PowerPoint Presentation</dc:title>
</cp:coreProperties>
</file>