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6A0-3AB8-4EA5-A676-C1EFCD53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0E9-22C4-440E-A197-9801A303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712-6C26-43ED-B651-86991526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64F-46E0-4A14-B3F9-F2217261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5B2-09A7-43B0-ADFE-E0D26E1A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CDD-B9B5-4937-B5AF-5D0BE432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03A-7026-407F-9B1A-F9B99AB8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A27-40C3-451F-81A9-15CE66D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2D7-EA67-4914-BA01-7FDAD127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012-A285-4AC8-BAF4-FBF56626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BEF-453B-4D0F-B06D-18DA3E7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848-1D05-40F1-AF26-6CAFF62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8E63-4268-4306-8DD8-791164BBF50E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10:42:06Z</dcterms:modified>
  <cp:revision>42</cp:revision>
  <dc:subject/>
  <dc:title>PowerPoint Presentation</dc:title>
</cp:coreProperties>
</file>