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13A8-BE92-4303-BE93-F0417FEAE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8188-1B8C-4A9B-87F2-E2487D97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85C0-6FFF-406B-A2B6-62BA538EB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42BA-80CC-4B14-B093-D59E45E0B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D449-357E-4080-9C3F-74319B07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07BA-E3D2-402B-A77A-61DB0A27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3DD8-3AD0-4CAA-B2E1-19AB691D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9AC8-63C5-4A69-9584-B5E70AB3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15ED-9DB5-457B-AFB0-FA170D80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0BC6-14E0-4110-A347-06EEEA5F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7F6A-F8AF-4FB8-8247-5010E510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DC07-DF25-4910-8B42-2257DC4B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3910-1142-446A-800C-8215F6F72F16}" type="slidenum">
              <a:rPr b="0" lang="es-E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99"/>
                </a:solidFill>
                <a:latin typeface="Verdana"/>
              </a:rPr>
              <a:t>Evaluación del proyecto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2" name="evaluacion%202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Proceso de evaluación objetivo: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Validez de contenido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Validez de construcción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Validez de la convergencia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Validez manifiesta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Validez de significado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Validez de retroacción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99"/>
                </a:solidFill>
                <a:latin typeface="Verdana"/>
              </a:rPr>
              <a:t>Evaluación del proyecto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99"/>
                </a:solidFill>
                <a:latin typeface="Times New Roman"/>
              </a:rPr>
              <a:t> </a:t>
            </a:r>
            <a:r>
              <a:rPr b="0" lang="es-CO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Aprendizajes de los alumnos: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Relaciones interpersonales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Comprensión global del tema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Capacidad de condensar y sintetizar.   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Habilidad para la creación de conceptos propios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Participación activa en la construcción colectiva.</a:t>
            </a:r>
            <a:r>
              <a:rPr b="0" lang="es-CO" sz="1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6" name="construyendo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99"/>
                </a:solidFill>
                <a:latin typeface="Verdana"/>
              </a:rPr>
              <a:t>Evaluación del proyecto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5800" y="1981080"/>
          <a:ext cx="7772400" cy="42404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1159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ITEMS DE LA RUBRICA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APRECIACIONES PERSONALES SOBRE LOS CONCEPTOS TRATADOS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CANTIDAD DE TRABAJO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CONTENIDO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2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IMÁGENES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ESTILO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ORGANIZACIÓN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ORIGINALIDAD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2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PARTICIPACIÓN EN LOS FOROS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PUNTO DE VISTA, CONCIENCIA DE LA AUDIENCIA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REDACCIÓN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RELACIÓN CON LOS CONCEPTOS CENTRALES A TRATAR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REQUISITOS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TIEMPO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USO DE LA HERRAMIENTA WEB 2.0 SELECCIONADA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USO GENERAL DEL BLOG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99"/>
                </a:solidFill>
                <a:latin typeface="Verdana"/>
              </a:rPr>
              <a:t>Evaluación del proyecto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Alcances del proyecto piloto: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Pertinencia del proyecto pedagógico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Uso potencial de las herramientas TICs para promover el arte latinoamericano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El costo-efectividad del proyecto  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Grado de satisfacción de los beneficiarios del proyecto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Viabilidad y sostenibilidad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51" name="evalucion%203" descr=""/>
          <p:cNvPicPr/>
          <p:nvPr/>
        </p:nvPicPr>
        <p:blipFill>
          <a:blip r:embed="rId1"/>
          <a:stretch/>
        </p:blipFill>
        <p:spPr>
          <a:xfrm>
            <a:off x="685800" y="2616120"/>
            <a:ext cx="380988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99"/>
                </a:solidFill>
                <a:latin typeface="Verdana"/>
              </a:rPr>
              <a:t>Evaluación del proyecto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99"/>
                </a:solidFill>
                <a:latin typeface="Verdana"/>
              </a:rPr>
              <a:t>Métricas a implementa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99"/>
                </a:solidFill>
                <a:latin typeface="Verdana"/>
              </a:rPr>
              <a:t>Eficacia</a:t>
            </a:r>
            <a:r>
              <a:rPr b="0" lang="es-AR" sz="1800" spc="-1" strike="noStrike">
                <a:solidFill>
                  <a:srgbClr val="000099"/>
                </a:solidFill>
                <a:latin typeface="Verdana"/>
              </a:rPr>
              <a:t>: indicadores de Technoratti para el Blog, cantidad y calidad de WQ, proyectos colaborativos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99"/>
                </a:solidFill>
                <a:latin typeface="Verdana"/>
              </a:rPr>
              <a:t>Efectividad</a:t>
            </a:r>
            <a:r>
              <a:rPr b="0" lang="es-AR" sz="1800" spc="-1" strike="noStrike">
                <a:solidFill>
                  <a:srgbClr val="000099"/>
                </a:solidFill>
                <a:latin typeface="Verdana"/>
              </a:rPr>
              <a:t>: cantidad de accesos desde la web, encuestas en el blog, enlaces a otros sitios educativo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Verdana"/>
              </a:rPr>
              <a:t>Eficiencia</a:t>
            </a:r>
            <a:r>
              <a:rPr b="0" lang="es-ES" sz="1800" spc="-1" strike="noStrike">
                <a:solidFill>
                  <a:srgbClr val="000099"/>
                </a:solidFill>
                <a:latin typeface="Verdana"/>
              </a:rPr>
              <a:t>: medición de costos y detección de externalidade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54" name="evaluacion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sa</cp:lastModifiedBy>
  <dcterms:modified xsi:type="dcterms:W3CDTF">2008-04-04T10:42:06Z</dcterms:modified>
  <cp:revision>42</cp:revision>
  <dc:subject/>
  <dc:title>PowerPoint Presentation</dc:title>
</cp:coreProperties>
</file>