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67C-F49A-417F-858B-769548EF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BC4-B8AE-49E7-B0C8-B46BC78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464-008E-4F3F-9AF8-8B51E851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994-F136-4B87-A043-77700AA2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2CA-E566-4F19-A197-248FA8A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5D6-4BF9-4289-8A44-0C8A79C1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17D-96E8-43FE-9D72-44B686CB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43A-6C09-41BA-985A-145466D6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52E-4AD6-4B0D-A967-CD27FC7A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BB2-241A-4C61-A583-6210CD3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3B-44A0-49C3-89B0-387E728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0B8-50BC-46DA-B5CF-84A1BFF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2884-537C-4F80-B400-80651868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elpais.com/recorte/20070108elpepiedu_1/LCO340/Ies/Alumnos_secundaria.jpg&amp;imgrefurl=http://www.elpais.com/articulo/educacion/alumnos/podran/titularse/excepcionalmente/suspensos/elpepusocedu/20070108elpepiedu_3/Tes&amp;h=250&amp;w=340&amp;sz=21&amp;hl=es&amp;start=2&amp;tbnid=al_VwE2EVPGn6M:&amp;tbnh=88&amp;tbnw=119&amp;prev=/images%3Fq%3Dalumnos%2Bsecundaria%26gbv%3D2%26hl%3Des%26newwindow%3D1%26safe%3Dof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9400"/>
            <a:ext cx="855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5:46:57Z</dcterms:created>
  <dc:creator>Belen Martini</dc:creator>
  <dc:description/>
  <dc:language>en-US</dc:language>
  <cp:lastModifiedBy>Belen Martini</cp:lastModifiedBy>
  <dcterms:modified xsi:type="dcterms:W3CDTF">2008-07-16T05:53:41Z</dcterms:modified>
  <cp:revision>2</cp:revision>
  <dc:subject/>
  <dc:title>Slide 1</dc:title>
</cp:coreProperties>
</file>