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233D-351B-493F-99AF-BDD1C65C1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FBF2-CEE9-496C-B49F-7875699C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6AC1-35C6-4D36-8199-9EC150E46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BD9D-5887-484B-8F8E-6F334840F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853C-3FE1-47AF-A12A-51DF5C6F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9B71-1B98-4FE8-9AEC-922B68FB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A065-0BB2-4493-80B3-A4ED1EDD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CB82-CC7F-49FD-9F8C-7C3AF3BF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992B-43D0-4180-9F0D-32D1A796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3B13-AFA4-4D6E-A29A-B23642E8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0E05-3602-4D76-B456-F84945F5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76FA-D8DA-4C75-88D8-9F4DA2A1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EC4B-3ADD-4243-9943-B89EB3E25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www.elpais.com/recorte/20070108elpepiedu_1/LCO340/Ies/Alumnos_secundaria.jpg&amp;imgrefurl=http://www.elpais.com/articulo/educacion/alumnos/podran/titularse/excepcionalmente/suspensos/elpepusocedu/20070108elpepiedu_3/Tes&amp;h=250&amp;w=340&amp;sz=21&amp;hl=es&amp;start=2&amp;tbnid=al_VwE2EVPGn6M:&amp;tbnh=88&amp;tbnw=119&amp;prev=/images%3Fq%3Dalumnos%2Bsecundaria%26gbv%3D2%26hl%3Des%26newwindow%3D1%26safe%3Dof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49400"/>
            <a:ext cx="8556840" cy="63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05:46:57Z</dcterms:created>
  <dc:creator>Belen Martini</dc:creator>
  <dc:description/>
  <dc:language>en-US</dc:language>
  <cp:lastModifiedBy>Belen Martini</cp:lastModifiedBy>
  <dcterms:modified xsi:type="dcterms:W3CDTF">2008-07-16T05:53:41Z</dcterms:modified>
  <cp:revision>2</cp:revision>
  <dc:subject/>
  <dc:title>Slide 1</dc:title>
</cp:coreProperties>
</file>