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4F64-9DBC-4A75-81F6-3D38BBD2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5C7D-0859-4338-9DB7-1C2AF98C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35E-A4CC-498E-897F-E4719BFB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42C-BC55-4053-824D-F7F15F56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316E-A73B-4A56-A658-3B28821B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A70-E7A4-4EF7-9BED-987AF099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7838-82AD-48FB-A017-851B7AC8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C35-5F84-4F9B-9111-FFE31B08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C4B6-AA90-49EA-9802-76792391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ADD-00A3-4F7E-91D1-93D76D84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EFA-E7F4-472E-8954-80B5F017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F2A-2752-4F94-B379-D29D3433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0869-17F2-4636-9411-2B3441530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elpais.com/recorte/20070108elpepiedu_1/LCO340/Ies/Alumnos_secundaria.jpg&amp;imgrefurl=http://www.elpais.com/articulo/educacion/alumnos/podran/titularse/excepcionalmente/suspensos/elpepusocedu/20070108elpepiedu_3/Tes&amp;h=250&amp;w=340&amp;sz=21&amp;hl=es&amp;start=2&amp;tbnid=al_VwE2EVPGn6M:&amp;tbnh=88&amp;tbnw=119&amp;prev=/images%3Fq%3Dalumnos%2Bsecundaria%26gbv%3D2%26hl%3Des%26newwindow%3D1%26safe%3Dof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49400"/>
            <a:ext cx="855684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5:46:57Z</dcterms:created>
  <dc:creator>Belen Martini</dc:creator>
  <dc:description/>
  <dc:language>en-US</dc:language>
  <cp:lastModifiedBy>Belen Martini</cp:lastModifiedBy>
  <dcterms:modified xsi:type="dcterms:W3CDTF">2008-07-16T05:53:41Z</dcterms:modified>
  <cp:revision>2</cp:revision>
  <dc:subject/>
  <dc:title>Slide 1</dc:title>
</cp:coreProperties>
</file>