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1F2-E981-4EC2-BB20-26A09822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DED-BF4F-4BDC-91C1-B8817A4C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08E-2375-455D-9C34-BB6AC48A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5B5-3A04-40DD-BF06-B5417D15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A89B-0AFC-4E59-9C81-D8F809A6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8074-F5AD-43E7-A644-9F803114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0046-FE41-4C7B-9194-687117CE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C8CD-0CEF-4169-94C8-C0E71D38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E7F5-E4FD-45EF-BE38-4399A0EA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9BD9-019C-44C7-87A8-778FEFE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918-4040-4007-80E2-788E7F7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14E-89C0-4B0A-B59D-D3C81A07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A7E0-8976-4731-84BD-6A03FF02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8EBA-53F3-4FB0-9B35-A938B2F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873E-CC6F-4D39-9EDF-6C32DEEE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8990-848C-4219-8D29-2E6EE18B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0F27-20F7-481F-9822-EA0AB5C5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D37-9041-4B36-9331-8ABD34C0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24A-CD6E-4402-8B2D-6EA18929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902-99AF-4C69-B3A0-4648ED63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BF0-C25B-4999-9BBF-E0EBDA39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726-F9AF-4D79-9806-B4CF92A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387-6254-46EF-9CDD-36A32F5F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BCA-81E3-4427-96E8-C9CC9DC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6527-68B8-492D-81D5-BC3251041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D27F-755F-4E81-8FFF-8413C33E34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powerpoints.org/envia.php?pps=471" TargetMode="External"/><Relationship Id="rId4" Type="http://schemas.openxmlformats.org/officeDocument/2006/relationships/hyperlink" Target="http://www.powerpoints.org/suscripcion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952880" y="53341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20, aprendí que los grandes problema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empiezan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088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9 años aprend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mi profeso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ólo me preguntaba cuando yo no sabía la res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3049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0, aprendí que era posible estar enamorado de cuatro chicas al mismo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7432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12, aprendí que, si tenía problemas en la escuela, los tenia  mas grandes en c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286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3, aprendí que cuando mi cuarto quedaba del modo que yo quería, mi madre me mandaba a orden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4197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5, aprendí que no debía descargar mis frustraciones en mi hermano men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porque mi padre tenía frustraciones mayores y la mano más pe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638680" y="51577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39, aprendí que puedes saber que tu esp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te ama cuando quedan dos galletas y elige la men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8088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25, aprendí que nunca debía elogiar la comida de mi mad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cuando estaba comiendo algo preparado por mi muj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0492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27 aprendí que el título obtenido no 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la meta soñ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1523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28,  aprendí que se puede hacer, en un instante, algo que te puede doler la vida ent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6668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30, aprendí que cuando mi mujer y yo teníamos una noche sin chicos, pasábamos la mayor parte del tiempo hablando de e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2819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33, aprendí que a las mujeres les gusta recibir flores, especialmente sin ningún mo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4267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34, aprendí que no se cometen muchos err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con la boca  cer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0292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38, aprendí que, siempre que estoy viajando, quisiera estar en casa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y siempre que estoy en casa me gustaría estar viaj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477120" y="472428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64, aprendí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la mayoría de las cosas por las cuales me he  preocupado nunca suce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049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42, aprendí que si estás llevando una vida sin fracasos, no estás corriendo los suficientes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049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44, aprendí que puedes hacer a alguien disfrutar el día con solo enviarle una pequeña pos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666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47, aprendí que niños y abuelos son aliados na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266688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55, aprendí que es absolutamente imposible tomar vacaciones sin  engordar cinco ki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64832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63, aprendí que es razonable disfrutar del éxito, pero que  no se  debe confiar demasiado en él. Y que no puedo cambiar lo que pasó, pero puedo dejarlo atr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7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4648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92, aprendí que todavía tengo mucho para apren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67, aprendí que si esperas a jubilarte para disfrutar de la  vida, esperaste demasiado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0666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71, aprendí que nunca se debe ir a la cama sin resolver una pel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0574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72, aprendí que, si las cosas van mal, yo no tengo por qué ir con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19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76, aprendí que envejecer es import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0384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91, aprendí que amé menos de lo que hubiera deb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53352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iempre estamos apr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lgo nuevo, algo lin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lgo digno, como por ejemp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la paz no se log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i realmente no se está dis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perdonar por ell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entender cual es la verdad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importancia de la famil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de la gente simple, de la vida mis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5720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si bien todos tenemos distin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cualidades, capacidades y habilidad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epamos valorar las que tenemo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y podamos ofrecerlas a los dem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y disfrutar con las que otros nos pueden brind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5880" y="304920"/>
            <a:ext cx="2743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Saber aceptar nuestras limitaciones y no olvidarnos de nuestras metas, aunque muchas veces parezcan muy lejanas y difíc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Encaminarse hacia ellas es el primer paso hacia algo que ni siquiera podemos imagin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8006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REALMENTE NO TIENE MUCHA IMPORTANCIA HASTA QUÉ EDAD VIVIMOS. LO  IMPORTANTE ES SENTIR QUE NO LO HEMOS HECHO EN V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41840" y="5661000"/>
            <a:ext cx="1838160" cy="552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1640" y="1557360"/>
            <a:ext cx="734364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te ha gusta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vía este PowerPoint a un amig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AQUÍ para env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uchas más Presentaciones PPS 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2560" y="6524640"/>
            <a:ext cx="51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Times New Roman"/>
              </a:rPr>
              <a:t>Si quieres suscribirte y recibir powerpoints gratis en tu email pulsa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qu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3:28:26Z</dcterms:created>
  <dc:creator>Carlos A. Castillo Díaz</dc:creator>
  <dc:description/>
  <dc:language>en-US</dc:language>
  <cp:lastModifiedBy>JOSE</cp:lastModifiedBy>
  <dcterms:modified xsi:type="dcterms:W3CDTF">2006-03-22T00:35:38Z</dcterms:modified>
  <cp:revision>11</cp:revision>
  <dc:subject>Superación Personal</dc:subject>
  <dc:title>Aprender</dc:title>
</cp:coreProperties>
</file>