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6EB-9AC9-4916-92D4-63021AB7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5CA-FE2E-47F0-9CD9-5FE16124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CF3-9123-41AF-A000-F2433628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38B-3D43-4C89-813F-54D08CD7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7B1C-CC20-41AE-8F2A-97F0490A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54C2-3038-4320-95E5-2F7AAB50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0315-D893-4079-9BF2-BB51DC37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99BC-A0B9-4811-A5E1-4117982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6E7D-846E-40F2-8CBA-7B72705F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6564-92DE-41DD-B130-3BC2B768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A3B3-2726-489C-A496-C0879C86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344-F457-41CC-B3B7-83AF546D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C08A-D3AF-4687-A473-E84F9678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7EDF-E6F7-437C-8817-802CA00E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D9A4-989A-43D4-9714-04DA216B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798-3C95-4EAD-9F5D-E39AA7E3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F98D-7410-4ADB-B9E8-D369396C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48C-998B-4D01-B693-8633EEAF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3D8-824B-4F70-807E-00CBD629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589-F9A5-4ACD-A451-C715DED7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849-3057-407C-8788-E20BA44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5C4-4570-4D9D-BC0E-4059FA1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6B3-F390-47B8-B1D8-00363FFA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1AA-A849-436C-A3C2-FAB740A4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14A8-4187-440F-BCA0-73D8FA5B7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2231-B21A-4FB4-9C3E-9C65CC82D8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powerpoints.org/envia.php?pps=471" TargetMode="External"/><Relationship Id="rId4" Type="http://schemas.openxmlformats.org/officeDocument/2006/relationships/hyperlink" Target="http://www.powerpoints.org/suscripcion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952880" y="53341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20, aprendí que los grandes problema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empiezan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088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9 años aprend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que mi profeso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ólo me preguntaba cuando yo no sabía la res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30492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10, aprendí que era posible estar enamorado de cuatro chicas al mismo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7432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12, aprendí que, si tenía problemas en la escuela, los tenia  mas grandes en c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2286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13, aprendí que cuando mi cuarto quedaba del modo que yo quería, mi madre me mandaba a orden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41972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15, aprendí que no debía descargar mis frustraciones en mi hermano men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porque mi padre tenía frustraciones mayores y la mano más pe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638680" y="515772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39, aprendí que puedes saber que tu esp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te ama cuando quedan dos galletas y elige la men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8088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25, aprendí que nunca debía elogiar la comida de mi mad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cuando estaba comiendo algo preparado por mi muj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0492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27 aprendí que el título obtenido no e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la meta soñ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1523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28,  aprendí que se puede hacer, en un instante, algo que te puede doler la vida ent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66688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30, aprendí que cuando mi mujer y yo teníamos una noche sin chicos, pasábamos la mayor parte del tiempo hablando de e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2819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33, aprendí que a las mujeres les gusta recibir flores, especialmente sin ningún mo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4267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34, aprendí que no se cometen muchos err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con la boca  cer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02920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38, aprendí que, siempre que estoy viajando, quisiera estar en casa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y siempre que estoy en casa me gustaría estar viaj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477120" y="472428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64, aprendí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la mayoría de las cosas por las cuales me he  preocupado nunca suce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049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42, aprendí que si estás llevando una vida sin fracasos, no estás corriendo los suficientes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049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44, aprendí que puedes hacer a alguien disfrutar el día con solo enviarle una pequeña pos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666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47, aprendí que niños y abuelos son aliados nat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266688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55, aprendí que es absolutamente imposible tomar vacaciones sin  engordar cinco ki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64832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63, aprendí que es razonable disfrutar del éxito, pero que  no se  debe confiar demasiado en él. Y que no puedo cambiar lo que pasó, pero puedo dejarlo atr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73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4648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92, aprendí que todavía tengo mucho para apren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49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67, aprendí que si esperas a jubilarte para disfrutar de la  vida, esperaste demasiado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0666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71, aprendí que nunca se debe ir a la cama sin resolver una pel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0574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72, aprendí que, si las cosas van mal, yo no tengo por qué ir con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19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76, aprendí que envejecer es import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40384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91, aprendí que amé menos de lo que hubiera deb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53352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iempre estamos aprendi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lgo nuevo, algo lin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lgo digno, como por ejemp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que la paz no se log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i realmente no se está dis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perdonar por ell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entender cual es la verdade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importancia de la famil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de la gente simple, de la vida mis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5720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Que si bien todos tenemos distin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cualidades, capacidades y habilidad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epamos valorar las que tenemo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y podamos ofrecerlas a los demá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y disfrutar con las que otros nos pueden brind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5880" y="304920"/>
            <a:ext cx="2743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Saber aceptar nuestras limitaciones y no olvidarnos de nuestras metas, aunque muchas veces parezcan muy lejanas y difíc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Encaminarse hacia ellas es el primer paso hacia algo que ni siquiera podemos imagin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8006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REALMENTE NO TIENE MUCHA IMPORTANCIA HASTA QUÉ EDAD VIVIMOS. LO  IMPORTANTE ES SENTIR QUE NO LO HEMOS HECHO EN V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41840" y="5661000"/>
            <a:ext cx="1838160" cy="552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1640" y="1557360"/>
            <a:ext cx="734364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te ha gusta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vía este PowerPoint a un amig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AQUÍ para env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uchas más Presentaciones PPS 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2560" y="6524640"/>
            <a:ext cx="51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Times New Roman"/>
              </a:rPr>
              <a:t>Si quieres suscribirte y recibir powerpoints gratis en tu email pulsa 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aqu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13:28:26Z</dcterms:created>
  <dc:creator>Carlos A. Castillo Díaz</dc:creator>
  <dc:description/>
  <dc:language>en-US</dc:language>
  <cp:lastModifiedBy>JOSE</cp:lastModifiedBy>
  <dcterms:modified xsi:type="dcterms:W3CDTF">2006-03-22T00:35:38Z</dcterms:modified>
  <cp:revision>11</cp:revision>
  <dc:subject>Superación Personal</dc:subject>
  <dc:title>Aprender</dc:title>
</cp:coreProperties>
</file>