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1FC2-96F3-45AA-9394-CBED6594E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B8D4-6A95-4ACE-B4F6-1EE5648C8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479E-EF63-4CBE-9D12-17289503E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76A2-4F61-4BD6-9BE2-B674F0B3B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F5D98-FF4D-4327-9447-712EB3D90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DDE87-DBD5-4B3E-BD7E-5263AFF29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996BA-E548-491E-9838-EA00918D9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4EA86-59AF-44E8-B2BA-40C18D521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BD7B8-187B-45D5-9486-D58AFCE1D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D8666-F3F0-44A5-9CFE-8FCE40DEB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9CBFF-8F61-4D8D-978F-BEA465FA4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F91E-E266-4820-B801-7B22C5BAE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53FBB-9898-4FA9-ACF6-BB04C0E6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21927-B7C0-4587-ADB5-9982DF479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64E33-7A4C-4F17-9DF8-77A993F09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A531B-B91C-4A51-A2DF-E348C6A41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BC9AC-2889-4039-854A-AC3089005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5EF2-2FB9-4BAC-9B37-88A678537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18EC-0FC1-4594-809E-7D74EBF3A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B8F2-B48B-4BE4-B5EA-011A3A0CA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3B68-439C-4732-8BE1-53706D26C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1B41-E3BB-45D3-865E-9205A4217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E353-C7ED-44ED-A134-CCAD208B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140E-FA78-45E7-B299-4E4927B1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499EC-07D2-437F-9B41-E19A63CD99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04B63-625C-4C5C-AB09-CE633D59F81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powerpoints.org/" TargetMode="External"/><Relationship Id="rId2" Type="http://schemas.openxmlformats.org/officeDocument/2006/relationships/image" Target="../media/image7.png"/><Relationship Id="rId3" Type="http://schemas.openxmlformats.org/officeDocument/2006/relationships/hyperlink" Target="http://www.powerpoints.org/envia.php?pps=471" TargetMode="External"/><Relationship Id="rId4" Type="http://schemas.openxmlformats.org/officeDocument/2006/relationships/hyperlink" Target="http://www.powerpoints.org/suscripcion" TargetMode="External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952880" y="5334120"/>
            <a:ext cx="358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omic Sans MS"/>
              </a:rPr>
              <a:t>A los 20, aprendí que los grandes problemas siemp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omic Sans MS"/>
              </a:rPr>
              <a:t>empiezan pequeñ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380880"/>
            <a:ext cx="2987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Comic Sans MS"/>
              </a:rPr>
              <a:t>A los 9 años aprendí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Comic Sans MS"/>
              </a:rPr>
              <a:t>que mi profeso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Comic Sans MS"/>
              </a:rPr>
              <a:t>sólo me preguntaba cuando yo no sabía la respues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53080" y="304920"/>
            <a:ext cx="2590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omic Sans MS"/>
              </a:rPr>
              <a:t>A los 10, aprendí que era posible estar enamorado de cuatro chicas al mismo tiemp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274320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Comic Sans MS"/>
              </a:rPr>
              <a:t>A los 12, aprendí que, si tenía problemas en la escuela, los tenia  mas grandes en cas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5880" y="2286000"/>
            <a:ext cx="3048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omic Sans MS"/>
              </a:rPr>
              <a:t>A los 13, aprendí que cuando mi cuarto quedaba del modo que yo quería, mi madre me mandaba a ordenarl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4419720"/>
            <a:ext cx="2590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omic Sans MS"/>
              </a:rPr>
              <a:t>A los 15, aprendí que no debía descargar mis frustraciones en mi hermano meno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omic Sans MS"/>
              </a:rPr>
              <a:t>porque mi padre tenía frustraciones mayores y la mano más pes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638680" y="5157720"/>
            <a:ext cx="3200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00"/>
                </a:solidFill>
                <a:latin typeface="Comic Sans MS"/>
              </a:rPr>
              <a:t>A los 39, aprendí que puedes saber que tu espos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00"/>
                </a:solidFill>
                <a:latin typeface="Comic Sans MS"/>
              </a:rPr>
              <a:t>te ama cuando quedan dos galletas y elige la men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380880"/>
            <a:ext cx="298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00"/>
                </a:solidFill>
                <a:latin typeface="Comic Sans MS"/>
              </a:rPr>
              <a:t>A los 25, aprendí que nunca debía elogiar la comida de mi madre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00"/>
                </a:solidFill>
                <a:latin typeface="Comic Sans MS"/>
              </a:rPr>
              <a:t>cuando estaba comiendo algo preparado por mi muj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15000" y="304920"/>
            <a:ext cx="29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Comic Sans MS"/>
              </a:rPr>
              <a:t>A los 27 aprendí que el título obtenido no e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Comic Sans MS"/>
              </a:rPr>
              <a:t>la meta soña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05320" y="152388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Comic Sans MS"/>
              </a:rPr>
              <a:t>A los 28,  aprendí que se puede hacer, en un instante, algo que te puede doler la vida ente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2666880"/>
            <a:ext cx="3200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Comic Sans MS"/>
              </a:rPr>
              <a:t>A los 30, aprendí que cuando mi mujer y yo teníamos una noche sin chicos, pasábamos la mayor parte del tiempo hablando de ell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05520" y="281952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00"/>
                </a:solidFill>
                <a:latin typeface="Comic Sans MS"/>
              </a:rPr>
              <a:t>A los 33, aprendí que a las mujeres les gusta recibir flores, especialmente sin ningún motiv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48120" y="426708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Comic Sans MS"/>
              </a:rPr>
              <a:t>A los 34, aprendí que no se cometen muchos err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Comic Sans MS"/>
              </a:rPr>
              <a:t>con la boca  cerra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029200"/>
            <a:ext cx="3200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omic Sans MS"/>
              </a:rPr>
              <a:t>A los 38, aprendí que, siempre que estoy viajando, quisiera estar en casa;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omic Sans MS"/>
              </a:rPr>
              <a:t>y siempre que estoy en casa me gustaría estar viajan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477120" y="4724280"/>
            <a:ext cx="2666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00"/>
                </a:solidFill>
                <a:latin typeface="Comic Sans MS"/>
              </a:rPr>
              <a:t>A los 64, aprendí 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00"/>
                </a:solidFill>
                <a:latin typeface="Comic Sans MS"/>
              </a:rPr>
              <a:t>la mayoría de las cosas por las cuales me he  preocupado nunca suced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304920"/>
            <a:ext cx="2057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omic Sans MS"/>
              </a:rPr>
              <a:t>A los 42, aprendí que si estás llevando una vida sin fracasos, no estás corriendo los suficientes riesg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553080" y="304920"/>
            <a:ext cx="236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00"/>
                </a:solidFill>
                <a:latin typeface="Comic Sans MS"/>
              </a:rPr>
              <a:t>A los 44, aprendí que puedes hacer a alguien disfrutar el día con solo enviarle una pequeña post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266688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Comic Sans MS"/>
              </a:rPr>
              <a:t>A los 47, aprendí que niños y abuelos son aliados natur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19920" y="2666880"/>
            <a:ext cx="2819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00"/>
                </a:solidFill>
                <a:latin typeface="Comic Sans MS"/>
              </a:rPr>
              <a:t>A los 55, aprendí que es absolutamente imposible tomar vacaciones sin  engordar cinco kil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4648320"/>
            <a:ext cx="4495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00"/>
                </a:solidFill>
                <a:latin typeface="Comic Sans MS"/>
              </a:rPr>
              <a:t>A los 63, aprendí que es razonable disfrutar del éxito, pero que  no se  debe confiar demasiado en él. Y que no puedo cambiar lo que pasó, pero puedo dejarlo atrá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rcRect l="0" t="0" r="0" b="738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04920" y="46483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00"/>
                </a:solidFill>
                <a:latin typeface="Comic Sans MS"/>
              </a:rPr>
              <a:t>A los 92, aprendí que todavía tengo mucho para aprend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30492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Comic Sans MS"/>
              </a:rPr>
              <a:t>A los 67, aprendí que si esperas a jubilarte para disfrutar de la  vida, esperaste demasiado tiemp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952880" y="1066680"/>
            <a:ext cx="358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omic Sans MS"/>
              </a:rPr>
              <a:t>A los 71, aprendí que nunca se debe ir a la cama sin resolver una pele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2057400"/>
            <a:ext cx="358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Comic Sans MS"/>
              </a:rPr>
              <a:t>A los 72, aprendí que, si las cosas van mal, yo no tengo por qué ir con ell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52880" y="281952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Comic Sans MS"/>
              </a:rPr>
              <a:t>A los 76, aprendí que envejecer es importa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029200" y="4038480"/>
            <a:ext cx="35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Comic Sans MS"/>
              </a:rPr>
              <a:t>A los 91, aprendí que amé menos de lo que hubiera debi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4920" y="533520"/>
            <a:ext cx="4114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Comic Sans MS"/>
              </a:rPr>
              <a:t>Siempre estamos aprendien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Comic Sans MS"/>
              </a:rPr>
              <a:t>algo nuevo, algo lindo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Comic Sans MS"/>
              </a:rPr>
              <a:t>algo digno, como por ejempl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Comic Sans MS"/>
              </a:rPr>
              <a:t>que la paz no se log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Comic Sans MS"/>
              </a:rPr>
              <a:t>si realmente no se está dispues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Comic Sans MS"/>
              </a:rPr>
              <a:t>a perdonar por ella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Comic Sans MS"/>
              </a:rPr>
              <a:t>entender cual es la verdade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Comic Sans MS"/>
              </a:rPr>
              <a:t>importancia de la familia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Comic Sans MS"/>
              </a:rPr>
              <a:t>de la gente simple, de la vida mism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95680" y="4572000"/>
            <a:ext cx="4343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Comic Sans MS"/>
              </a:rPr>
              <a:t>Que si bien todos tenemos distint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Comic Sans MS"/>
              </a:rPr>
              <a:t>cualidades, capacidades y habilidade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Comic Sans MS"/>
              </a:rPr>
              <a:t>sepamos valorar las que tenemos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Comic Sans MS"/>
              </a:rPr>
              <a:t>y podamos ofrecerlas a los demá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Comic Sans MS"/>
              </a:rPr>
              <a:t>y disfrutar con las que otros nos pueden brind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-71280"/>
            <a:ext cx="9144000" cy="69292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095880" y="304920"/>
            <a:ext cx="27432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00"/>
                </a:solidFill>
                <a:latin typeface="Comic Sans MS"/>
              </a:rPr>
              <a:t>Saber aceptar nuestras limitaciones y no olvidarnos de nuestras metas, aunque muchas veces parezcan muy lejanas y difíci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00"/>
                </a:solidFill>
                <a:latin typeface="Comic Sans MS"/>
              </a:rPr>
              <a:t>Encaminarse hacia ellas es el primer paso hacia algo que ni siquiera podemos imagin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724280" y="480060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00"/>
                </a:solidFill>
                <a:latin typeface="Comic Sans MS"/>
              </a:rPr>
              <a:t>REALMENTE NO TIENE MUCHA IMPORTANCIA HASTA QUÉ EDAD VIVIMOS. LO  IMPORTANTE ES SENTIR QUE NO LO HEMOS HECHO EN VA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41840" y="5661000"/>
            <a:ext cx="1838160" cy="5526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971640" y="1557360"/>
            <a:ext cx="7343640" cy="40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i te ha gustado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nvía este PowerPoint a un amigo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LICK AQUÍ para envi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Muchas más Presentaciones PPS en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122560" y="6524640"/>
            <a:ext cx="511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9999"/>
                </a:solidFill>
                <a:latin typeface="Times New Roman"/>
              </a:rPr>
              <a:t>Si quieres suscribirte y recibir powerpoints gratis en tu email pulsa </a:t>
            </a:r>
            <a:r>
              <a:rPr b="0" lang="es-ES" sz="10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aqu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0T13:28:26Z</dcterms:created>
  <dc:creator>Carlos A. Castillo Díaz</dc:creator>
  <dc:description/>
  <dc:language>en-US</dc:language>
  <cp:lastModifiedBy>JOSE</cp:lastModifiedBy>
  <dcterms:modified xsi:type="dcterms:W3CDTF">2006-03-22T00:35:38Z</dcterms:modified>
  <cp:revision>11</cp:revision>
  <dc:subject>Superación Personal</dc:subject>
  <dc:title>Aprender</dc:title>
</cp:coreProperties>
</file>