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549-DA7C-4F60-9DEF-C3565D42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6C6-C6CF-4164-AC57-EAF27330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453-7FD2-4E67-AEE5-965AF135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8A7-C40A-4C5F-ACA4-9FE4C39F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79F-A475-4D90-A4AC-46F20BA1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B45-196B-44B7-B85E-B1E5218E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B72-6B60-47A4-860C-0AE88189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A1A-2F69-4CCB-95E9-1CD4E194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F1D-2CFE-4359-84C8-E1D549D1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D8D-D457-4237-A6BC-CA0EDE80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6B6-2B22-419D-81C4-7A84E7DB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163-D9D8-4F8F-8372-F8109E9F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72C7-5944-4191-99BE-9404F417E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4"/>
          <p:cNvSpPr txBox="1"/>
          <p:nvPr/>
        </p:nvSpPr>
        <p:spPr>
          <a:xfrm>
            <a:off x="1403280" y="692280"/>
            <a:ext cx="6193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A EDUCACION COMO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NECESIDAD DE L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ID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971640" y="292428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9"/>
          <p:cNvSpPr txBox="1"/>
          <p:nvPr/>
        </p:nvSpPr>
        <p:spPr>
          <a:xfrm>
            <a:off x="1403280" y="2060640"/>
            <a:ext cx="5977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1.- RENOVACION DE LA VIDA POR TRANSMISIO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611280" y="2852640"/>
            <a:ext cx="287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La diferencia entre seres vivos e inanimados, es que los primeros se conservan por renov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3"/>
          <p:cNvSpPr/>
          <p:nvPr/>
        </p:nvSpPr>
        <p:spPr>
          <a:xfrm>
            <a:off x="4067280" y="2708280"/>
            <a:ext cx="432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n tanto que subsiste, la lucha para utilizar en provecho propio las energías que nos rodean, utiliza, la luz, el aire , a la humedad y las materias del suelo, es decir las convierte en medios para su propia conserv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4"/>
          <p:cNvSpPr/>
          <p:nvPr/>
        </p:nvSpPr>
        <p:spPr>
          <a:xfrm>
            <a:off x="468360" y="4221000"/>
            <a:ext cx="30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Un ser vivo es aquel que domina y controla para su propia continuidad humana  las energías que en otro caso se perderí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5"/>
          <p:cNvSpPr/>
          <p:nvPr/>
        </p:nvSpPr>
        <p:spPr>
          <a:xfrm>
            <a:off x="4211640" y="4221000"/>
            <a:ext cx="34560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reproducción de otras formas de vida se prosigue en una sucesión continu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s especies, el proceso de vida continua en formas mas complejas. Algunas desaparecen y surgen formas mas avanzadas para vencer obstacu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6"/>
          <p:cNvSpPr/>
          <p:nvPr/>
        </p:nvSpPr>
        <p:spPr>
          <a:xfrm>
            <a:off x="611280" y="5373720"/>
            <a:ext cx="32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la continuidad de la vida significa una readaptación continua del ambiente  a las necesidades de los organismos v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7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468360" y="62064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pleamos la palabra vida para designar toda la extensión de la experiencia, tanto racial como individual.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348000" y="620640"/>
            <a:ext cx="45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La vida abarca costumbres, instituciones, creencias, las victorias y derrotas, los ocios y las ocupacion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5219640" y="1484280"/>
            <a:ext cx="30956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experiencia aplica el principio de la continuidad mediante la renov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renovación de la existencia física se realiza en el caso de los seres humanos la creación de las creencias, ideales, esperanzas, la felicidad, las miserias y las práctic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1"/>
          <p:cNvSpPr txBox="1"/>
          <p:nvPr/>
        </p:nvSpPr>
        <p:spPr>
          <a:xfrm>
            <a:off x="324000" y="2421000"/>
            <a:ext cx="4643280" cy="18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1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EDUCACION ES EL MEDIO DE ESTA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INUIDAD DE LA VIDA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755640" y="364500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l individuo nace inmaduro, indefenso, sin lenguaje, sin creencias, ideas, ni normas soci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84360" y="5157720"/>
            <a:ext cx="35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39640" y="4221000"/>
            <a:ext cx="273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Cada individuo, cada unidad de portadores vital de un grupo desaparece con el tiem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211640" y="4149720"/>
            <a:ext cx="39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El nacimiento y la muerte de cada uno de los miembros constituidos de un grupo social determinan la necesidad de la educ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24000" y="5300640"/>
            <a:ext cx="8064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Hay un contraste : La inmadurez de los miembros recién nacidos, son los únicos representantes futuros y la madurez de los miembros adultos que posen conocimiento y las costumbres del gru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Es importante que sean iniciados en los intereses, propósitos, informaciones, destrezas y prácticas de los miembros maduros  en otro caso cesara del grupo su vida característica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187280" y="1197000"/>
            <a:ext cx="56898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.- EDUCACION Y COMUNICAC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55640" y="220500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NECESIDAD DE ENSEÑAR Y APRENDER PARA LA EXISTENCIA CONTINUA DE LA SOCIE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68360" y="2924280"/>
            <a:ext cx="410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Tiene la justificación en el hecho de que tal insistencia es un medio de evitar que caigamos en una noción escolástica  y formal de la educ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932360" y="292428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Las escuelas son un método importante de la transmisión  que forma las disposiciones de los seres inmadu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1835280" y="3789360"/>
            <a:ext cx="453708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3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 sociedad existe en la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ansmisión y en l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unicación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68360" y="4797360"/>
            <a:ext cx="2735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comunicación es un modo en que llegan a poseer cosas en común. Hay de poseer cosas en común a fin de formar una comunidad o son los objetivos, creencias, aspiraciones, _inteligencia en comú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924360" y="5229360"/>
            <a:ext cx="4895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Los individuos no constituyen un grupo social porque trabajen todos en el mismo lug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El fin común regula las actividades especificas en vista de el, entonces  forman una comun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68360" y="981000"/>
            <a:ext cx="367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os individuos se utilizan unos a otros  para obtener los resultados apetecidos sin  tomar en cuenta disposiciones  emocionales e intelectuales  y el consentimiento de los utiliz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1004400">
            <a:off x="4066920" y="1628640"/>
            <a:ext cx="4390920" cy="7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perioridad fisica o de posicion,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trezas, habilidad técnica 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 dominio de instrumentos,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canismos o fiscales.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2268360" y="2327400"/>
            <a:ext cx="44848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 experiencia debe de formularse</a:t>
            </a:r>
            <a:endParaRPr b="0" lang="en-US" sz="800" spc="1" strike="noStrike">
              <a:ln w="0">
                <a:noFill/>
              </a:ln>
              <a:solidFill>
                <a:srgbClr val="00cc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ara ser  comunicada.</a:t>
            </a:r>
            <a:endParaRPr b="0" lang="en-US" sz="800" spc="1" strike="noStrike">
              <a:ln w="0">
                <a:noFill/>
              </a:ln>
              <a:solidFill>
                <a:srgbClr val="00cc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3429000"/>
            <a:ext cx="345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0000"/>
                </a:solidFill>
                <a:latin typeface="Arial"/>
              </a:rPr>
              <a:t>La vida social amplia  e ilumina la experiencia, estimula y enriquece, la imaginación, crea  responsabilidad respecto  ala preescisión y la vivacidad de expresión del pensa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211640" y="4005360"/>
            <a:ext cx="42480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La necesidad de esta enseñanza proporciona un inmenso estimulo  para reducir la experiencia  a aquel orden  y forma que hará más fáci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Comunicable y por lo tanto mas utiliz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1258920" y="692280"/>
            <a:ext cx="676908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.- EL LUGAR DE LA EDUCACIÓN SISTEMATICA.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26920" y="1916280"/>
            <a:ext cx="266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00ff"/>
                </a:solidFill>
                <a:latin typeface="Arial"/>
              </a:rPr>
              <a:t>La educación que cada uno obtiene de vivir con los demás  y la educación deliberada del jov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643280" y="191628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Toda institución social sea económica, doméstica, política, legal o religiosa  amplia y perfecciona la experien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71640" y="2924280"/>
            <a:ext cx="73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necesidad del adiestramiento para producir un cambio su actitud y hábitos es demasiado urgente para prescindir completamente de las consecuencias. Nuestro principal quehacer es el de capacitarse para compartir una vida en comú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84360" y="3933720"/>
            <a:ext cx="295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00"/>
                </a:solidFill>
                <a:latin typeface="Arial"/>
              </a:rPr>
              <a:t>En los grupos sociales no desarrollamos encontramos muy poca enseñanza y adiestramie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56000" y="3789360"/>
            <a:ext cx="34560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n su mayor parte depende de los niños aprendan las costumbres de los adul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sta participación es directa y es indirecta a través del juego, en donde reproducen acciones de los adul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55640" y="530064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La capacidad para participar en actividades adultas depende de un adiestramiento previo, que se otorga a organizaciones institucionales intencionadas (escuel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3"/>
          <p:cNvSpPr txBox="1"/>
          <p:nvPr/>
        </p:nvSpPr>
        <p:spPr>
          <a:xfrm>
            <a:off x="1116000" y="981000"/>
            <a:ext cx="7129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n educación sistematica  no es 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sible transmitir todos los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ursos y adquisiciones 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 una sociedad compleja.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2276640"/>
            <a:ext cx="345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Existe el peligro de que el material de instrucción sistemática meramente el tema de estudio  de las escuelas, aislando los temas de las experiencias de la vi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572000" y="2276640"/>
            <a:ext cx="367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 filosofía de la educación  es el método de mantener en equilibrio entre los modos de educación espontáneos  y los sistemáticos, los incidentales y los intencion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1835280" y="4221000"/>
            <a:ext cx="597672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VERDADERA NATURALEZA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 LA VIDA CONSISTE EN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UCHAR PARA  SEGUIR SIENDO.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TA CONTINUACIÓN SE ASEGURA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R RENOVACIONES .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VIDA ES UN PROCESO DE AUTORRENOVACIÓN.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1692360" y="537372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LA NUTRICION Y LA REPRODUCCION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SON LA VIDA FISIOLOGICA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LA EDUCACION ES LA VIDA SOCIAL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4:29:17Z</dcterms:created>
  <dc:creator>LILI</dc:creator>
  <dc:description/>
  <dc:language>en-US</dc:language>
  <cp:lastModifiedBy>Carmen Galicia</cp:lastModifiedBy>
  <dcterms:modified xsi:type="dcterms:W3CDTF">2008-07-17T16:52:54Z</dcterms:modified>
  <cp:revision>60</cp:revision>
  <dc:subject/>
  <dc:title>Diapositiva 1</dc:title>
</cp:coreProperties>
</file>