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76E-5CC4-4DC4-9BBD-3CEC5907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53A-4BC4-4F3C-8622-E45368B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367-EB30-4627-B23B-F0513904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6EE-A56D-4812-B42B-E3D1E52E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2F2-3ED4-4964-A1F7-4D1B042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C38-423D-4BFF-AE00-120D6B6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A8A-FC57-4E05-8BA1-4FAD74F5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A07-4B16-430F-B88D-306ADD6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611-6C00-436E-95E2-EF97361B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E7E-F44A-44A3-B83A-2E744FD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3B8-DC21-4293-8139-2802496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366-5FDD-4FA0-A2F0-E73EF82F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FC0-7FFC-4C8C-BA0F-52D4F760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403280" y="692280"/>
            <a:ext cx="61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EDUCACION COMO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CESIDAD DE L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971640" y="2924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1403280" y="2060640"/>
            <a:ext cx="5977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.- RENOVACION DE LA VIDA POR TRANSMISI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611280" y="285264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La diferencia entre seres vivos e inanimados, es que los primeros se conservan por re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067280" y="2708280"/>
            <a:ext cx="432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tanto que subsiste, la lucha para utilizar en provecho propio las energías que nos rodean, utiliza, la luz, el aire , a la humedad y las materias del suelo, es decir las convierte en medios para su propia conserv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468360" y="422100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Un ser vivo es aquel que domina y controla para su propia continuidad humana  las energías que en otro caso se perderí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4211640" y="4221000"/>
            <a:ext cx="3456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reproducción de otras formas de vida se prosigue en una sucesión contin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s especies, el proceso de vida continua en formas mas complejas. Algunas desaparecen y surgen formas mas avanzadas para vencer obsta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611280" y="537372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 continuidad de la vida significa una readaptación continua del ambiente  a las necesidades de los organismos v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leamos la palabra vida para designar toda la extensión de la experiencia, tanto racial como individual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48000" y="620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La vida abarca costumbres, instituciones, creencias, las victorias y derrotas, los ocios y las ocup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19640" y="1484280"/>
            <a:ext cx="3095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experiencia aplica el principio de la continuidad mediante la re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renovación de la existencia física se realiza en el caso de los seres humanos la creación de las creencias, ideales, esperanzas, la felicidad, las miserias y las pr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4000" y="2421000"/>
            <a:ext cx="4643280" cy="1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EDUCACION ES EL MEDIO DE EST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INUIDAD DE LA VID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55640" y="3645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 individuo nace inmaduro, indefenso, sin lenguaje, sin creencias, ideas, ni normas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515772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422100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Cada individuo, cada unidad de portadores vital de un grupo desaparece con 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211640" y="41497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nacimiento y la muerte de cada uno de los miembros constituidos de un grupo social determinan la necesidad de l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24000" y="5300640"/>
            <a:ext cx="8064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Hay un contraste : La inmadurez de los miembros recién nacidos, son los únicos representantes futuros y la madurez de los miembros adultos que posen conocimiento y las costumbres del gr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Es importante que sean iniciados en los intereses, propósitos, informaciones, destrezas y prácticas de los miembros maduros  en otro caso cesara del grupo su vida característic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187280" y="1197000"/>
            <a:ext cx="5689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- EDUCACION Y COMUNICAC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55640" y="220500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 ENSEÑAR Y APRENDER PARA LA EXISTENCIA CONTINUA DE LA SOCI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92428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Tiene la justificación en el hecho de que tal insistencia es un medio de evitar que caigamos en una noción escolástica  y formal de la edu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932360" y="2924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s escuelas son un método importante de la transmisión  que forma las disposiciones de los seres inmadu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1835280" y="3789360"/>
            <a:ext cx="4537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sociedad existe en l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nsmisión y en 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unicación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8360" y="4797360"/>
            <a:ext cx="27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comunicación es un modo en que llegan a poseer cosas en común. Hay de poseer cosas en común a fin de formar una comunidad o son los objetivos, creencias, aspiraciones, _inteligencia en comú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5229360"/>
            <a:ext cx="4895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Los individuos no constituyen un grupo social porque trabajen todos en el mismo lug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fin común regula las actividades especificas en vista de el, entonces  forman una comun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8100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individuos se utilizan unos a otros  para obtener los resultados apetecidos sin  tomar en cuenta disposiciones  emocionales e intelectuales  y el consentimiento de los uti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1004400">
            <a:off x="4066920" y="1628640"/>
            <a:ext cx="43909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ioridad fisica o de posicion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trezas, habilidad técnica 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 dominio de instrumentos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anismos o fiscales.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268360" y="2327400"/>
            <a:ext cx="4484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 experiencia debe de formularse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ra ser  comunicada.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42900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Arial"/>
              </a:rPr>
              <a:t>La vida social amplia  e ilumina la experiencia, estimula y enriquece, la imaginación, crea  responsabilidad respecto  ala preescisión y la vivacidad de expresión del pens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211640" y="4005360"/>
            <a:ext cx="4248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La necesidad de esta enseñanza proporciona un inmenso estimulo  para reducir la experiencia  a aquel orden  y forma que hará más fáci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Comunicable y por lo tanto mas utiliz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258920" y="692280"/>
            <a:ext cx="6769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- EL LUGAR DE LA EDUCACIÓN SISTEMATICA.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26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ff"/>
                </a:solidFill>
                <a:latin typeface="Arial"/>
              </a:rPr>
              <a:t>La educación que cada uno obtiene de vivir con los demás  y la educación deliberada del jov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1916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Toda institución social sea económica, doméstica, política, legal o religiosa  amplia y perfecciona la experi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71640" y="292428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l adiestramiento para producir un cambio su actitud y hábitos es demasiado urgente para prescindir completamente de las consecuencias. Nuestro principal quehacer es el de capacitarse para compartir una vida en comú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393372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En los grupos sociales no desarrollamos encontramos muy poca enseñanza y adiestrami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56000" y="3789360"/>
            <a:ext cx="3456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su mayor parte depende de los niños aprendan las costumbr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sta participación es directa y es indirecta a través del juego, en donde reproducen accion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5300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La capacidad para participar en actividades adultas depende de un adiestramiento previo, que se otorga a organizaciones institucionales intencionadas (escue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1116000" y="981000"/>
            <a:ext cx="71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educación sistematica  no 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ible transmitir todos los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ursos y adquisicion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sociedad compleja.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227664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Existe el peligro de que el material de instrucción sistemática meramente el tema de estudio  de las escuelas, aislando los temas de las experiencias de la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72000" y="227664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 filosofía de la educación  es el método de mantener en equilibrio entre los modos de educación espontáneos  y los sistemáticos, los incidentales y los inten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835280" y="4221000"/>
            <a:ext cx="597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ERDADERA NATURALEZA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VIDA CONSISTE EN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CHAR PARA  SEGUIR SIENDO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TA CONTINUACIÓN SE ASEGURA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R RENOVACIONES 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IDA ES UN PROCESO DE AUTORRENOVACIÓN.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692360" y="53737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NUTRICION Y LA REPRODUCCI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SON LA VIDA FISIOLOGICA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EDUCACION ES LA VIDA SOCIAL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29:17Z</dcterms:created>
  <dc:creator>LILI</dc:creator>
  <dc:description/>
  <dc:language>en-US</dc:language>
  <cp:lastModifiedBy>Carmen Galicia</cp:lastModifiedBy>
  <dcterms:modified xsi:type="dcterms:W3CDTF">2008-07-17T16:52:54Z</dcterms:modified>
  <cp:revision>60</cp:revision>
  <dc:subject/>
  <dc:title>Diapositiva 1</dc:title>
</cp:coreProperties>
</file>