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476-C672-41B6-BBBC-D46121A2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16D-E713-46BC-BDB9-B48D3E2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3D8-6E12-4858-8620-14134741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1F1-FC8F-42DC-AEE1-53416DCD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39B7-FD58-495D-8F22-F8B71BEB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955-4049-4614-A0E1-6EE150A6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824-8C05-4443-9EB6-B434042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DCFF-517E-433F-BFE0-94D46F55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9202-38C3-4BC1-B49A-64D1668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ABA5-55D2-408D-AF6A-A2463970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D6EE-F6B0-4BC5-AF85-323A4DA8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88C-EAD2-48FC-89BB-589A70B7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9E7-3F4E-466E-B2ED-C4289E65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3D62-A7CA-48BF-9247-F107CF5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ED5-8C12-4CE2-9477-2463DC0F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EE35-DC36-4D3D-A54C-F0678C60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3A9F-8656-40A2-97AC-5547CBFA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25CB-FA9C-418C-8E39-48A3B6F8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7FC5-4AE7-45BC-BB1D-F386EF8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0AC9-EDBB-4E8E-AF4E-E9818174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0337-8F11-4A2C-8E31-86F533B0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02F4-023E-4789-BC54-B7998301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4BB-8C9C-4063-A723-B1DF4B2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E296-33CD-4025-AAEB-22D49791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A4CC-C396-43E4-8B88-ED4356B4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686A-2C0E-4B97-A775-233F23E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B7FF-7D6F-4F90-A377-22E18443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8681-9E8C-49E3-9AE1-B80931B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D2DC-39BA-4CD1-B9E0-AA151DA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7C80-1AB4-4935-AF4A-03D3F60C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82AB-8377-4286-8A8A-893C09DC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41E0-40D4-414E-BCEF-9B0DA83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CEFB-29C0-451B-B4B1-ECB4E19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DBB-EDA5-40B0-BF02-B8852090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968B-4162-4A46-8035-CC994398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DB5A-7C75-4501-8ABD-49F6CA8F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294F-A038-4298-94A5-D4F1232D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ABDA-8D18-44E8-94CB-C563ABB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6FD9-12EA-463A-A701-E184F6B5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F48C-845A-41F0-A2DF-5755FEE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0C2C-D958-4335-A40E-BED0A624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C8A9-EA92-4067-918A-47949230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82D0-0035-4EE2-8748-14651A7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6F42-B592-41B2-8A53-ED587EE1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399-3D0B-48B7-8EFD-100BE3B8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B94E-F9A5-4109-997D-D73079E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C48C-160A-4B6A-AA1F-DEBFD939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ABF4-F95F-4787-ADEF-AD0E30F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649A4-2BD0-4545-8B1B-48E477AC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9204-3463-4A35-AA04-043F554B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37EE-4BF9-4217-B72B-218B8CA6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8B551-A08C-404B-8BF3-DCE25681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FD50A-E206-45E2-ACDC-7AEC055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C065-82B6-40E7-8E2E-1DD98398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D1EF-834D-4976-A57F-D457DC58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9E4-E4E4-46EA-B407-0EE8FB58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B932-98DD-4CC1-928A-1142723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54D43-263F-4AF4-944E-7D22C543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73465-DAD6-438F-B9EE-A47B491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64CB-D979-4F79-ACEC-7287006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CE45-6839-45E5-996B-E3AF2A2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F6A33-E6C5-481E-A447-2E6E623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1C679-C85D-4706-9EB1-28FA32B2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9169-CBEA-4937-AD46-88959DA8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98504-A4BB-4A6C-B94A-855ECD82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94D84-2806-4EDA-A7C7-9744DAE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F51-1E38-4A57-9C45-EAC7BBE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A8CC7-91B0-4F3A-B9F5-E6E034AD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1D6B-5E7D-47DB-A9F0-20B16E6F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629A9-3249-4DFE-ABCD-7CA63E4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990B-3698-4E57-A453-960F215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0E12-6868-4BE0-8CF5-1B5DC78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FB41-3316-4217-8980-2564DEBB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E911-C843-4413-ACD4-DAC4153B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B240-00F5-42BE-BB72-B4E4148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9C291-5044-401D-A393-FE87391F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4069-F625-467F-97E6-B6E21E6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0DC-C906-4F5C-B1B4-EABE493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5500-758E-465B-B900-90C64BA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DAA7-7A6C-4573-B944-3C4D410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9521-4EE2-4789-B168-94CAA5CC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D65A-59F4-4571-93DD-A65CA111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A87C-945C-4C6F-BBC1-49E4969E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108E-83B1-4AF4-8116-83E5E59E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74CD0-A6D1-4518-B451-8CCED294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48D3-05D0-41C8-B1AF-BB3104E8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C97C-EDB9-4964-B8BD-94D2F371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76A2-30DD-4061-ABD4-03017BA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F0A-19E0-4173-AFB7-40AE9B2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6B9C-6077-4505-99BC-F68705D6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6B0C-A78F-47CD-B96D-F7785D41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E7DCE-1699-4AD2-897A-8D450547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F794-5229-4485-AEA3-523458CF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5211-F7B0-46A0-82CD-FE4D926E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E1B72-BAB3-4773-8F37-C7057A7C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E3986-DE4C-4C1B-9D1C-259088DE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EA0-5F81-462E-B409-E8C088109A25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3559-D768-47A0-9F28-4F0F9E62F90E}" type="slidenum">
              <a:rPr b="0" lang="es-MX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585-B354-49FE-A45B-235F20160411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865-D750-417A-A879-EE4299962E0E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2B84-43EF-4EFE-A561-5A944159F776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610-6A62-4ABF-B246-DB9AF48EC130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AAC-E989-4683-8576-DDD2A078D248}" type="slidenum"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68B-4EA7-4670-B389-8A56C634A7C1}" type="slidenum"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1 CuadroTexto"/>
          <p:cNvGrpSpPr/>
          <p:nvPr/>
        </p:nvGrpSpPr>
        <p:grpSpPr>
          <a:xfrm>
            <a:off x="2127240" y="433440"/>
            <a:ext cx="5353200" cy="627120"/>
            <a:chOff x="2127240" y="433440"/>
            <a:chExt cx="5353200" cy="627120"/>
          </a:xfrm>
        </p:grpSpPr>
        <p:pic>
          <p:nvPicPr>
            <p:cNvPr id="346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27240" y="433440"/>
              <a:ext cx="5353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214720" y="57168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entury Gothic"/>
                </a:rPr>
                <a:t>PROGRAMA DE TUTORÍ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48" name="3 Conector recto"/>
          <p:cNvSpPr/>
          <p:nvPr/>
        </p:nvSpPr>
        <p:spPr>
          <a:xfrm flipH="1">
            <a:off x="3000240" y="2013120"/>
            <a:ext cx="1857600" cy="6886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9" name="4 CuadroTexto"/>
          <p:cNvGrpSpPr/>
          <p:nvPr/>
        </p:nvGrpSpPr>
        <p:grpSpPr>
          <a:xfrm>
            <a:off x="1054080" y="2682720"/>
            <a:ext cx="2994120" cy="779760"/>
            <a:chOff x="1054080" y="2682720"/>
            <a:chExt cx="2994120" cy="779760"/>
          </a:xfrm>
        </p:grpSpPr>
        <p:pic>
          <p:nvPicPr>
            <p:cNvPr id="350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54080" y="2682720"/>
              <a:ext cx="2994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2786040"/>
              <a:ext cx="2857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Detectamos a los alumnos  con irregularidades en las materias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2" name="6 Conector recto"/>
          <p:cNvSpPr/>
          <p:nvPr/>
        </p:nvSpPr>
        <p:spPr>
          <a:xfrm>
            <a:off x="4822200" y="1033560"/>
            <a:ext cx="34920" cy="609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3" name="9 CuadroTexto"/>
          <p:cNvGrpSpPr/>
          <p:nvPr/>
        </p:nvGrpSpPr>
        <p:grpSpPr>
          <a:xfrm>
            <a:off x="3273480" y="1517760"/>
            <a:ext cx="3133800" cy="523800"/>
            <a:chOff x="3273480" y="1517760"/>
            <a:chExt cx="3133800" cy="523800"/>
          </a:xfrm>
        </p:grpSpPr>
        <p:pic>
          <p:nvPicPr>
            <p:cNvPr id="354" name="9 CuadroTexto" descr=""/>
            <p:cNvPicPr/>
            <p:nvPr/>
          </p:nvPicPr>
          <p:blipFill>
            <a:blip r:embed="rId3"/>
            <a:stretch/>
          </p:blipFill>
          <p:spPr>
            <a:xfrm>
              <a:off x="3273480" y="1517760"/>
              <a:ext cx="313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57720" y="164304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entury Gothic"/>
                </a:rPr>
                <a:t>Reuniones académicas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6" name="2 Subtítulo"/>
          <p:cNvSpPr/>
          <p:nvPr/>
        </p:nvSpPr>
        <p:spPr>
          <a:xfrm>
            <a:off x="3643200" y="12859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Que consisten  en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2 Subtítulo"/>
          <p:cNvSpPr/>
          <p:nvPr/>
        </p:nvSpPr>
        <p:spPr>
          <a:xfrm>
            <a:off x="2500200" y="235728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n las qu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15 Conector recto"/>
          <p:cNvSpPr/>
          <p:nvPr/>
        </p:nvSpPr>
        <p:spPr>
          <a:xfrm>
            <a:off x="4857120" y="2013120"/>
            <a:ext cx="1785960" cy="70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9" name="18 CuadroTexto"/>
          <p:cNvGrpSpPr/>
          <p:nvPr/>
        </p:nvGrpSpPr>
        <p:grpSpPr>
          <a:xfrm>
            <a:off x="5126040" y="2610000"/>
            <a:ext cx="2994120" cy="779400"/>
            <a:chOff x="5126040" y="2610000"/>
            <a:chExt cx="2994120" cy="779400"/>
          </a:xfrm>
        </p:grpSpPr>
        <p:pic>
          <p:nvPicPr>
            <p:cNvPr id="360" name="18 CuadroTexto" descr=""/>
            <p:cNvPicPr/>
            <p:nvPr/>
          </p:nvPicPr>
          <p:blipFill>
            <a:blip r:embed="rId4"/>
            <a:stretch/>
          </p:blipFill>
          <p:spPr>
            <a:xfrm>
              <a:off x="5126040" y="2610000"/>
              <a:ext cx="2994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14960" y="2714760"/>
              <a:ext cx="285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Nos organizamos por áreas y los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Invitamos a participar en su regularización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2" name="24 Conector recto"/>
          <p:cNvSpPr/>
          <p:nvPr/>
        </p:nvSpPr>
        <p:spPr>
          <a:xfrm flipH="1">
            <a:off x="2569680" y="343368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25 Conector recto"/>
          <p:cNvSpPr/>
          <p:nvPr/>
        </p:nvSpPr>
        <p:spPr>
          <a:xfrm flipH="1">
            <a:off x="6928920" y="335772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26 Conector recto"/>
          <p:cNvSpPr/>
          <p:nvPr/>
        </p:nvSpPr>
        <p:spPr>
          <a:xfrm flipV="1">
            <a:off x="2571840" y="4000680"/>
            <a:ext cx="4357440" cy="712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2 Subtítulo"/>
          <p:cNvSpPr/>
          <p:nvPr/>
        </p:nvSpPr>
        <p:spPr>
          <a:xfrm>
            <a:off x="4000680" y="37861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sta se lleva a cabo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30 Conector recto"/>
          <p:cNvSpPr/>
          <p:nvPr/>
        </p:nvSpPr>
        <p:spPr>
          <a:xfrm flipH="1">
            <a:off x="4857840" y="4000680"/>
            <a:ext cx="1440" cy="285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7" name="34 CuadroTexto"/>
          <p:cNvGrpSpPr/>
          <p:nvPr/>
        </p:nvGrpSpPr>
        <p:grpSpPr>
          <a:xfrm>
            <a:off x="3413160" y="4181400"/>
            <a:ext cx="2994120" cy="598680"/>
            <a:chOff x="3413160" y="4181400"/>
            <a:chExt cx="2994120" cy="598680"/>
          </a:xfrm>
        </p:grpSpPr>
        <p:pic>
          <p:nvPicPr>
            <p:cNvPr id="368" name="34 CuadroTexto" descr=""/>
            <p:cNvPicPr/>
            <p:nvPr/>
          </p:nvPicPr>
          <p:blipFill>
            <a:blip r:embed="rId5"/>
            <a:stretch/>
          </p:blipFill>
          <p:spPr>
            <a:xfrm>
              <a:off x="3413160" y="4181400"/>
              <a:ext cx="2994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500280" y="428616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n el trayecto del semestre en actividades ex traclase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0" name="35 Conector recto"/>
          <p:cNvSpPr/>
          <p:nvPr/>
        </p:nvSpPr>
        <p:spPr>
          <a:xfrm flipH="1">
            <a:off x="4785840" y="4786200"/>
            <a:ext cx="1800" cy="2858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2 Subtítulo"/>
          <p:cNvSpPr/>
          <p:nvPr/>
        </p:nvSpPr>
        <p:spPr>
          <a:xfrm>
            <a:off x="3786120" y="485784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2" name="37 CuadroTexto"/>
          <p:cNvGrpSpPr/>
          <p:nvPr/>
        </p:nvGrpSpPr>
        <p:grpSpPr>
          <a:xfrm>
            <a:off x="3413160" y="5041800"/>
            <a:ext cx="2994120" cy="590760"/>
            <a:chOff x="3413160" y="5041800"/>
            <a:chExt cx="2994120" cy="590760"/>
          </a:xfrm>
        </p:grpSpPr>
        <p:pic>
          <p:nvPicPr>
            <p:cNvPr id="373" name="37 CuadroTexto" descr=""/>
            <p:cNvPicPr/>
            <p:nvPr/>
          </p:nvPicPr>
          <p:blipFill>
            <a:blip r:embed="rId6"/>
            <a:stretch/>
          </p:blipFill>
          <p:spPr>
            <a:xfrm>
              <a:off x="3413160" y="5041800"/>
              <a:ext cx="2994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00280" y="514368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vitamos tener un alto índice de reprobación estudiantil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21:35Z</dcterms:created>
  <dc:creator>PC</dc:creator>
  <dc:description/>
  <dc:language>en-US</dc:language>
  <cp:lastModifiedBy>PC</cp:lastModifiedBy>
  <dcterms:modified xsi:type="dcterms:W3CDTF">2008-07-22T19:33:54Z</dcterms:modified>
  <cp:revision>2</cp:revision>
  <dc:subject/>
  <dc:title>Diapositiva 1</dc:title>
</cp:coreProperties>
</file>