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2DA-EB87-4453-86CE-BA7FCFF6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25A-A22D-483A-90E5-0D0E935B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A97-0832-4890-B6AE-B4486C78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FE0-A468-4B85-9E9A-B47E4BB3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1E40-42BC-4F23-AB04-A561AA4F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827D-F3C5-4D97-A29E-546FE0AD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8281-7188-4161-9975-EACB3A0D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13AD-BE33-4B69-A4A7-F37AEBAA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E223-B7F2-4E97-83EB-B0E8AAF9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D38E-A480-4D99-A98F-55E7456B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90B1-49A5-4C9D-8A5D-2131DA3B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17B-C76E-4977-8D40-B72FF998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3CFD-4FA1-449C-8597-6B680812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282C-E436-4B86-AFF9-470CA1CF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1EC7-EABA-4708-92B5-A3D9F044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5DDC-68A9-4BD2-AFDF-4E655D07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91A1-8579-4807-80F3-0F7A9BD2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0F60-D804-40A4-AE61-F0D71A89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975A-7B92-46E6-B5FF-F6A99E76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82CAB-E488-4F6B-9385-E82B0B4F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52225-0F10-4E88-8F32-F4579CF3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965D-027B-4A14-BBC8-A52BDFC4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4BE-4908-4797-97BF-C0969BD6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EB302-0E9B-4103-86ED-C1386D23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57AB2-4ED5-42EB-A62F-74ED9443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1D4F4-345F-47A7-B858-1DA148A1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59C2A-4385-460E-837D-EB97AEB8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AD542-63B8-436D-9808-060CC4BE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BEEC1-CE52-4A07-AC71-B818DC16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DF9D-21F6-4C1F-8949-73F659C7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D7D83-DB8E-415F-B93F-A78AA61C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F7FDF-D47F-41DD-8837-3E15BAF4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AA49A-F2DC-4731-B2C7-89C5AC7B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BD7-F81C-4D21-B3B2-9DE0F289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C79A3-AB26-4EAB-96DF-C358A6E7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D8DEC-82A7-4DEA-9E4E-4BFF2AF2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74936-6B57-4117-BD07-4E62FE4E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BEF91-8B27-4FBD-B98D-87D11912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3E49C-304E-4EA9-AA61-61F0CF78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0CDF0-6EAB-42CA-97A9-37C46937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545CF-2100-410D-BABC-2A7C57A7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273A7-EDEE-4FD3-BA20-EA4FA1F6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DC64C-E2AE-4FD7-8A8F-1E01576C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F04C9-9698-455C-864D-064F03D6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B62-E382-4197-A909-5632E2AC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63221-B547-4DF7-B884-A2D1C0AC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36508-3854-42FF-9DB1-43CC4A05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51278-0D9C-4020-B74C-0885279A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016C1-1FDB-48A3-B053-C298567D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2FDEA-8591-440F-B9AB-FD024B07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57386-BE25-4F94-BF45-FF057BF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DEA4A-12F4-4F28-9253-B449FB22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32B92-761A-436D-B3E8-0BA1312D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C098E-DEBF-472B-ABA9-5577A2D2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AD1B8-0806-4BAE-9419-2772FC50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2E0-5AF3-4552-B685-90A7AE21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5374E-CED3-4C4B-9FEF-2180C27F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99FB8-E021-4F10-89AD-781BCA57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29069-B86E-4136-8234-86B46351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F143D-32FC-46C5-870F-5687F23E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34840-F4A6-4895-94E7-617DA0F8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7371A-CC66-4534-9F46-2A0ECDCA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66D01-5F70-44FC-B74F-AD736C72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395D9-6A81-48FC-B65D-5528DCDB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2C598-6FF5-4051-91FB-093FAEB7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9939E-C293-456C-8200-0142448E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1BF-B048-41FE-95F5-57C4166C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0AB0E-C46D-4B75-AB54-1D452FD9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5CFAF-6FF1-4117-9A2C-95B9B9AB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78D94-D6EF-4823-A764-9D8CCB30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BE3B9-B1E3-4A4C-8710-E290C228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24C83-8B3A-40F6-90BC-44C7DEAC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F5B5C-6122-4CD3-97C6-7AB1FF6E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331E9-31EC-4EBE-A220-39916B05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E9DCB-5F69-4B78-9293-42CC1796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47FE1-B768-42AF-88C8-461D2AFB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6978B-CD60-4A3F-903F-B30EEE31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BA9-01C0-43DA-9058-6B3965B3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5B5C6-0D01-4124-B5E7-C791DDCE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F98BE-103F-45D3-A64C-1DD2A49A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29136-AD7A-40C9-B792-FECFDE86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12CD5-841C-444B-BBFE-209818C5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E83BD-C387-437B-B244-07F122F5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38346-DE85-432A-9749-BC24443D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360AC-5900-444C-9D15-D7CFB939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76DFA-D88F-4EE5-8C92-9C034F61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739F4-72EC-45C8-8FFA-12C69898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9D083-7F6C-4742-9DFA-20701A2E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0E1-7079-43FC-B33C-F2A974F5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22C45-1049-4543-A32F-FF857557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8C146-A757-4E79-9930-730FC677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9267E-C267-4DA9-9606-6DD0FE09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2FF30-C64A-4C76-8BB8-F2DC1D1F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9D90B-39E6-485E-9866-A049AF77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6C5F6-9296-4506-9243-2E8B8D43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FB928-4A03-4C99-8632-9F230D62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DFD3-D641-49B4-A633-505598F2E775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47EC-CB7A-4AFD-8429-6E6424B656D6}" type="slidenum">
              <a:rPr b="0" lang="es-MX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1755-745E-4D38-89B2-7B9BC71808EA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9B5B-D0AF-4156-859D-F1BAA4C74063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8DDB-4DF1-4188-A6EB-EC9D243D8DD8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491D-ACCB-4D20-921A-2B941A7218D9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7EAC-0BEC-4CDA-A309-E60F38B326B2}" type="slidenum">
              <a:rPr b="0" lang="es-MX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CCE1-24CC-403E-AC2B-F805A39748CA}" type="slidenum">
              <a:rPr b="0" lang="es-MX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1 CuadroTexto"/>
          <p:cNvGrpSpPr/>
          <p:nvPr/>
        </p:nvGrpSpPr>
        <p:grpSpPr>
          <a:xfrm>
            <a:off x="2127240" y="433440"/>
            <a:ext cx="5353200" cy="627120"/>
            <a:chOff x="2127240" y="433440"/>
            <a:chExt cx="5353200" cy="627120"/>
          </a:xfrm>
        </p:grpSpPr>
        <p:pic>
          <p:nvPicPr>
            <p:cNvPr id="346" name="1 CuadroTexto" descr=""/>
            <p:cNvPicPr/>
            <p:nvPr/>
          </p:nvPicPr>
          <p:blipFill>
            <a:blip r:embed="rId1"/>
            <a:stretch/>
          </p:blipFill>
          <p:spPr>
            <a:xfrm>
              <a:off x="2127240" y="433440"/>
              <a:ext cx="53532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214720" y="571680"/>
              <a:ext cx="52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Century Gothic"/>
                </a:rPr>
                <a:t>PROGRAMA DE TUTORÍAS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48" name="3 Conector recto"/>
          <p:cNvSpPr/>
          <p:nvPr/>
        </p:nvSpPr>
        <p:spPr>
          <a:xfrm flipH="1">
            <a:off x="3000240" y="2013120"/>
            <a:ext cx="1857600" cy="6886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9" name="4 CuadroTexto"/>
          <p:cNvGrpSpPr/>
          <p:nvPr/>
        </p:nvGrpSpPr>
        <p:grpSpPr>
          <a:xfrm>
            <a:off x="1054080" y="2682720"/>
            <a:ext cx="2994120" cy="779760"/>
            <a:chOff x="1054080" y="2682720"/>
            <a:chExt cx="2994120" cy="779760"/>
          </a:xfrm>
        </p:grpSpPr>
        <p:pic>
          <p:nvPicPr>
            <p:cNvPr id="350" name="4 CuadroTexto" descr=""/>
            <p:cNvPicPr/>
            <p:nvPr/>
          </p:nvPicPr>
          <p:blipFill>
            <a:blip r:embed="rId2"/>
            <a:stretch/>
          </p:blipFill>
          <p:spPr>
            <a:xfrm>
              <a:off x="1054080" y="2682720"/>
              <a:ext cx="299412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143000" y="2786040"/>
              <a:ext cx="2857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Detectamos a los alumnos  con irregularidades en las materias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52" name="6 Conector recto"/>
          <p:cNvSpPr/>
          <p:nvPr/>
        </p:nvSpPr>
        <p:spPr>
          <a:xfrm>
            <a:off x="4822200" y="1033560"/>
            <a:ext cx="34920" cy="6094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3" name="9 CuadroTexto"/>
          <p:cNvGrpSpPr/>
          <p:nvPr/>
        </p:nvGrpSpPr>
        <p:grpSpPr>
          <a:xfrm>
            <a:off x="3273480" y="1517760"/>
            <a:ext cx="3133800" cy="523800"/>
            <a:chOff x="3273480" y="1517760"/>
            <a:chExt cx="3133800" cy="523800"/>
          </a:xfrm>
        </p:grpSpPr>
        <p:pic>
          <p:nvPicPr>
            <p:cNvPr id="354" name="9 CuadroTexto" descr=""/>
            <p:cNvPicPr/>
            <p:nvPr/>
          </p:nvPicPr>
          <p:blipFill>
            <a:blip r:embed="rId3"/>
            <a:stretch/>
          </p:blipFill>
          <p:spPr>
            <a:xfrm>
              <a:off x="3273480" y="1517760"/>
              <a:ext cx="31338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3357720" y="1643040"/>
              <a:ext cx="30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Century Gothic"/>
                </a:rPr>
                <a:t>Reuniones académicas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56" name="2 Subtítulo"/>
          <p:cNvSpPr/>
          <p:nvPr/>
        </p:nvSpPr>
        <p:spPr>
          <a:xfrm>
            <a:off x="3643200" y="128592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Que consisten  en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2 Subtítulo"/>
          <p:cNvSpPr/>
          <p:nvPr/>
        </p:nvSpPr>
        <p:spPr>
          <a:xfrm>
            <a:off x="2500200" y="235728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en las que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15 Conector recto"/>
          <p:cNvSpPr/>
          <p:nvPr/>
        </p:nvSpPr>
        <p:spPr>
          <a:xfrm>
            <a:off x="4857120" y="2013120"/>
            <a:ext cx="1785960" cy="7016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9" name="18 CuadroTexto"/>
          <p:cNvGrpSpPr/>
          <p:nvPr/>
        </p:nvGrpSpPr>
        <p:grpSpPr>
          <a:xfrm>
            <a:off x="5126040" y="2610000"/>
            <a:ext cx="2994120" cy="779400"/>
            <a:chOff x="5126040" y="2610000"/>
            <a:chExt cx="2994120" cy="779400"/>
          </a:xfrm>
        </p:grpSpPr>
        <p:pic>
          <p:nvPicPr>
            <p:cNvPr id="360" name="18 CuadroTexto" descr=""/>
            <p:cNvPicPr/>
            <p:nvPr/>
          </p:nvPicPr>
          <p:blipFill>
            <a:blip r:embed="rId4"/>
            <a:stretch/>
          </p:blipFill>
          <p:spPr>
            <a:xfrm>
              <a:off x="5126040" y="2610000"/>
              <a:ext cx="29941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214960" y="2714760"/>
              <a:ext cx="2857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Nos organizamos por áreas y los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Invitamos a participar en su regularización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62" name="24 Conector recto"/>
          <p:cNvSpPr/>
          <p:nvPr/>
        </p:nvSpPr>
        <p:spPr>
          <a:xfrm flipH="1">
            <a:off x="2569680" y="3433680"/>
            <a:ext cx="1800" cy="6397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25 Conector recto"/>
          <p:cNvSpPr/>
          <p:nvPr/>
        </p:nvSpPr>
        <p:spPr>
          <a:xfrm flipH="1">
            <a:off x="6928920" y="3357720"/>
            <a:ext cx="1800" cy="6397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26 Conector recto"/>
          <p:cNvSpPr/>
          <p:nvPr/>
        </p:nvSpPr>
        <p:spPr>
          <a:xfrm flipV="1">
            <a:off x="2571840" y="4000680"/>
            <a:ext cx="4357440" cy="712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2 Subtítulo"/>
          <p:cNvSpPr/>
          <p:nvPr/>
        </p:nvSpPr>
        <p:spPr>
          <a:xfrm>
            <a:off x="4000680" y="378612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esta se lleva a cabo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30 Conector recto"/>
          <p:cNvSpPr/>
          <p:nvPr/>
        </p:nvSpPr>
        <p:spPr>
          <a:xfrm flipH="1">
            <a:off x="4857840" y="4000680"/>
            <a:ext cx="1440" cy="2854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67" name="34 CuadroTexto"/>
          <p:cNvGrpSpPr/>
          <p:nvPr/>
        </p:nvGrpSpPr>
        <p:grpSpPr>
          <a:xfrm>
            <a:off x="3413160" y="4181400"/>
            <a:ext cx="2994120" cy="598680"/>
            <a:chOff x="3413160" y="4181400"/>
            <a:chExt cx="2994120" cy="598680"/>
          </a:xfrm>
        </p:grpSpPr>
        <p:pic>
          <p:nvPicPr>
            <p:cNvPr id="368" name="34 CuadroTexto" descr=""/>
            <p:cNvPicPr/>
            <p:nvPr/>
          </p:nvPicPr>
          <p:blipFill>
            <a:blip r:embed="rId5"/>
            <a:stretch/>
          </p:blipFill>
          <p:spPr>
            <a:xfrm>
              <a:off x="3413160" y="4181400"/>
              <a:ext cx="29941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500280" y="4286160"/>
              <a:ext cx="285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En el trayecto del semestre en actividades ex traclase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70" name="35 Conector recto"/>
          <p:cNvSpPr/>
          <p:nvPr/>
        </p:nvSpPr>
        <p:spPr>
          <a:xfrm flipH="1">
            <a:off x="4785840" y="4786200"/>
            <a:ext cx="1800" cy="2858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2 Subtítulo"/>
          <p:cNvSpPr/>
          <p:nvPr/>
        </p:nvSpPr>
        <p:spPr>
          <a:xfrm>
            <a:off x="3786120" y="485784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resultados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72" name="37 CuadroTexto"/>
          <p:cNvGrpSpPr/>
          <p:nvPr/>
        </p:nvGrpSpPr>
        <p:grpSpPr>
          <a:xfrm>
            <a:off x="3413160" y="5041800"/>
            <a:ext cx="2994120" cy="590760"/>
            <a:chOff x="3413160" y="5041800"/>
            <a:chExt cx="2994120" cy="590760"/>
          </a:xfrm>
        </p:grpSpPr>
        <p:pic>
          <p:nvPicPr>
            <p:cNvPr id="373" name="37 CuadroTexto" descr=""/>
            <p:cNvPicPr/>
            <p:nvPr/>
          </p:nvPicPr>
          <p:blipFill>
            <a:blip r:embed="rId6"/>
            <a:stretch/>
          </p:blipFill>
          <p:spPr>
            <a:xfrm>
              <a:off x="3413160" y="5041800"/>
              <a:ext cx="2994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500280" y="5143680"/>
              <a:ext cx="285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Evitamos tener un alto índice de reprobación estudiantil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9:21:35Z</dcterms:created>
  <dc:creator>PC</dc:creator>
  <dc:description/>
  <dc:language>en-US</dc:language>
  <cp:lastModifiedBy>PC</cp:lastModifiedBy>
  <dcterms:modified xsi:type="dcterms:W3CDTF">2008-07-22T19:33:54Z</dcterms:modified>
  <cp:revision>2</cp:revision>
  <dc:subject/>
  <dc:title>Diapositiva 1</dc:title>
</cp:coreProperties>
</file>