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EE4-5BF0-4398-89B4-B0F38340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D1E-6B33-4FCE-B20A-09C5AD3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78C-8C42-436E-B958-BDBF5777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AAF-2208-4E99-93B9-C4E96B85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B03-1708-40CA-B458-1E47002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D7F-7668-406F-B2D6-2B10F66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0D2-4CF1-4461-94C2-E379352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AF1-3DB0-4714-9896-DC5EF73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47B-6C9C-4B84-BDB8-6C0E4CA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390-3422-4F0D-B883-08184FA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971-2644-43DD-A22F-76799A6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D31-6186-401F-9B8E-9D4EB2B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A00-028F-421C-BE80-A7C2C0B93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70828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A  3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413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   1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060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2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789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13372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 2° 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47628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 I R C T O 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  4°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4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6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341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. 1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6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. 3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. 4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05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508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 6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516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9966"/>
                </a:solidFill>
                <a:latin typeface="Arial"/>
              </a:rPr>
              <a:t>PROFR. “EDUC- FISIC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551664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990099"/>
                </a:solidFill>
                <a:latin typeface="Arial"/>
              </a:rPr>
              <a:t>CONSE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528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0360" y="62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72360" y="620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4936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740360" y="58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26560" y="54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596360" y="148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2436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2436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596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59636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96360" y="472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36:52Z</dcterms:created>
  <dc:creator>ALEX</dc:creator>
  <dc:description/>
  <dc:language>en-US</dc:language>
  <cp:lastModifiedBy>ALEX</cp:lastModifiedBy>
  <dcterms:modified xsi:type="dcterms:W3CDTF">2008-07-23T05:58:11Z</dcterms:modified>
  <cp:revision>2</cp:revision>
  <dc:subject/>
  <dc:title>Diapositiva 1</dc:title>
</cp:coreProperties>
</file>