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DE3-F138-4351-8AEE-99867E62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52C-1148-4259-B67F-BD7C1004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7DA-06C2-4E68-AA1C-411CCDF9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F1A-4556-426D-AEE5-E1AE5B74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4B2-3EE4-40C9-BFE6-9050EC20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A23-E9F7-4C92-A47E-7522468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5B7-FE4C-4A86-81D8-22BF9E33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EE2-FFF0-4149-8416-64EF29BA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601-C474-4415-8437-46E980CC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D8B-6642-4888-85D2-6D9D145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EB2-2178-4B2C-9B40-D3CBAE6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7E5-B524-42AD-81CD-90BADD8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FFE8-3999-4423-8984-DC2D36F82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70828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33"/>
                </a:solidFill>
                <a:latin typeface="Arial"/>
              </a:rPr>
              <a:t>PROFRA  3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41300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ff"/>
                </a:solidFill>
                <a:latin typeface="Arial"/>
              </a:rPr>
              <a:t>PROFRA   1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06064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99"/>
                </a:solidFill>
                <a:latin typeface="Arial"/>
              </a:rPr>
              <a:t>PROFRA. 2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7893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ff"/>
                </a:solidFill>
                <a:latin typeface="Arial"/>
              </a:rPr>
              <a:t>PROFR. 5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13372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99"/>
                </a:solidFill>
                <a:latin typeface="Arial"/>
              </a:rPr>
              <a:t>PROFRA.  2°  ”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476280"/>
            <a:ext cx="2880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D I R C T O 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2385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RA  4° ”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43700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PROFRA 6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3413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ff"/>
                </a:solidFill>
                <a:latin typeface="Arial"/>
              </a:rPr>
              <a:t>PROFRA. 1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63700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33"/>
                </a:solidFill>
                <a:latin typeface="Arial"/>
              </a:rPr>
              <a:t>PROFR. 3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2385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RA. 4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053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ff"/>
                </a:solidFill>
                <a:latin typeface="Arial"/>
              </a:rPr>
              <a:t>PROFR. 5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50864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PROFRA  6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551664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9966"/>
                </a:solidFill>
                <a:latin typeface="Arial"/>
              </a:rPr>
              <a:t>PROFR. “EDUC- FISIC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5516640"/>
            <a:ext cx="2880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990099"/>
                </a:solidFill>
                <a:latin typeface="Arial"/>
              </a:rPr>
              <a:t>CONSER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5280" y="549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940360" y="62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72360" y="620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49360"/>
            <a:ext cx="0" cy="53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740360" y="58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26560" y="54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34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596360" y="1484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52436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52436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59636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596360" y="4076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96360" y="4724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5:36:52Z</dcterms:created>
  <dc:creator>ALEX</dc:creator>
  <dc:description/>
  <dc:language>en-US</dc:language>
  <cp:lastModifiedBy>ALEX</cp:lastModifiedBy>
  <dcterms:modified xsi:type="dcterms:W3CDTF">2008-07-23T05:58:11Z</dcterms:modified>
  <cp:revision>2</cp:revision>
  <dc:subject/>
  <dc:title>Diapositiva 1</dc:title>
</cp:coreProperties>
</file>