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0C2-C5F6-4466-B77E-F66A359E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6CD-1B0F-4375-82C4-0CECC5A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DF6-6E99-4D53-A900-D086EFCC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636-6573-4479-8E64-9408484E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E7F-7A43-4664-BD0C-2C27EF4E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5C4-BEE7-4216-9FB9-70E22A6A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583-58E7-47D0-A394-A80EADD7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A25-9397-40D8-B767-2FC359D7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21A-B5AB-446A-A832-58C7AA5F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2AE-CD5A-4980-9CA6-4077D77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B75-E68E-454D-9213-52D5FDB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0D0-D366-4E62-9A70-58CA38E4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382-DFB1-4A9A-9588-1D34B02F2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70828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33"/>
                </a:solidFill>
                <a:latin typeface="Arial"/>
              </a:rPr>
              <a:t>PROFRA  3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41300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ff"/>
                </a:solidFill>
                <a:latin typeface="Arial"/>
              </a:rPr>
              <a:t>PROFRA   1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06064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99"/>
                </a:solidFill>
                <a:latin typeface="Arial"/>
              </a:rPr>
              <a:t>PROFRA. 2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7893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ff"/>
                </a:solidFill>
                <a:latin typeface="Arial"/>
              </a:rPr>
              <a:t>PROFR. 5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13372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99"/>
                </a:solidFill>
                <a:latin typeface="Arial"/>
              </a:rPr>
              <a:t>PROFRA.  2°  ”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476280"/>
            <a:ext cx="2880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D I R C T O 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2385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RA  4° ”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43700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PROFRA 6°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3413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ff"/>
                </a:solidFill>
                <a:latin typeface="Arial"/>
              </a:rPr>
              <a:t>PROFRA. 1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63700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33"/>
                </a:solidFill>
                <a:latin typeface="Arial"/>
              </a:rPr>
              <a:t>PROFR. 3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2385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RA. 4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0536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ff"/>
                </a:solidFill>
                <a:latin typeface="Arial"/>
              </a:rPr>
              <a:t>PROFR. 5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50864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Arial"/>
              </a:rPr>
              <a:t>PROFRA  6°”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5516640"/>
            <a:ext cx="2879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9966"/>
                </a:solidFill>
                <a:latin typeface="Arial"/>
              </a:rPr>
              <a:t>PROFR. “EDUC- FISIC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5516640"/>
            <a:ext cx="2880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990099"/>
                </a:solidFill>
                <a:latin typeface="Arial"/>
              </a:rPr>
              <a:t>CONSER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5280" y="549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940360" y="62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72360" y="620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49360"/>
            <a:ext cx="0" cy="53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740360" y="58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26560" y="54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34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596360" y="1484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52436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52436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59636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596360" y="4076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96360" y="4724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5:36:52Z</dcterms:created>
  <dc:creator>ALEX</dc:creator>
  <dc:description/>
  <dc:language>en-US</dc:language>
  <cp:lastModifiedBy>ALEX</cp:lastModifiedBy>
  <dcterms:modified xsi:type="dcterms:W3CDTF">2008-07-23T05:58:11Z</dcterms:modified>
  <cp:revision>2</cp:revision>
  <dc:subject/>
  <dc:title>Diapositiva 1</dc:title>
</cp:coreProperties>
</file>