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62A8-3973-4789-99D0-41DD2A81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4C7C-E63E-4345-BF2E-637D23D6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4EBE-733F-4F9D-BC26-3EC4A638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425F-0746-452F-9DCF-77CC88D68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09DF-451B-4EFB-BCFA-BC856045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AC3F-1EB5-450F-BD3F-F2978A08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828D-1D7E-406B-B9AF-2A6E87CD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1DAF-8B5F-47C2-BBF6-3F793017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5B21-A898-466B-8D95-DEB46628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1427-E5FB-45F6-A67E-E2191042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2C7A-0F6B-4717-9EF0-B033DA61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97DC-7F3B-4CF1-8C10-D8102A03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4885-8074-42E1-A3C7-753A198A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B68D-AF61-41FA-926C-BA0B969C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5B4B-EA13-4FB9-B757-0AF939EA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532C-507C-444F-B8D0-53077A21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FA0D-0059-45B1-9CF6-889B7CB8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DFD62-6236-4E43-A7FE-6752C730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D5DA1-271F-4255-86E2-D8757310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77E7F-FEE0-4312-9D6D-BA8393B9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0F17E-D075-4D6A-9C86-DECF71EF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D0C11-6315-471A-BAFF-FD308DD6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BA7F-C21D-45A4-81DD-06779D37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6E19E-933F-4FE6-9A86-0A40699D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9D32B-FE56-4407-B2E7-F6E2552F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202B4-7993-4541-8D70-07E8AA82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D961A-3C28-4701-875B-019A6895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48570-5F5A-4C97-AF4C-FF687C3B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7924A-6C54-4F79-B38B-F9CC1EFA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E5043-C1E1-4273-9EF7-902152D6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84CFD-A4CA-44EB-92F1-8C7BC3A8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D4ABC-0153-4393-854B-8A80F3CD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A9770-85AA-45F1-99BF-253E65ED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3131-E23B-4C17-BC25-BDF2344F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CC359-7B45-45BA-83A4-7BA9E84A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3C9B1-2975-4A6C-920D-218FCD96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1CE01-9BB8-44AD-8242-A94EBF10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495D7-8346-4EEA-BC52-DC8C2198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A0288-5A2F-44A5-9DA0-A285D966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94BDA-EB6E-4ACD-86A6-3DDCC9D3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0A7D8-AD81-4EA7-93B0-8FF62318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0A902-FC74-4442-9386-8C2693E5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B4534-C0FD-4244-ADBD-496162C4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BC232-4058-4F5D-828A-F3DF3968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B72D-201B-446D-99B2-9A660B42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52DBE-0D3F-4AB6-A986-6592426A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6B3B1-A089-461D-B468-C0BC4FD8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46354-5DFE-4A93-9A23-7440A297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AB14D-54D6-47F8-B774-EBDD01DA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FFB0B-BFA1-404C-B8A2-1A7CF3FE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F55C7-827B-4E41-A82B-8E47BF01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35F03-DD3C-4763-9903-E699AABC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0705A-FF33-4DD0-89E0-CE487EF0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9FF22-A7DA-473D-BB89-F89266BE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5F7D6-A5E6-42C4-89EB-B71F2149A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FF7C-55FB-48B2-A370-CC4549D7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689D2-47F9-4693-857A-56263030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3F7B9-207A-4B97-AF52-2E1F7C29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B9936-E4BA-4165-A205-B1C8B7BB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ABEA4-FD02-4F23-AFE3-7AB87269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F23F8-627A-4F46-B42E-11ADFE6D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63EDD-6741-4C05-BFAE-4C92435E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F6011-E9A7-4F5C-9EC1-0C69BB85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61A18-70D2-441A-ACD4-78ED6AF5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5A55D-8E57-43E6-B01E-7CEC81AB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252D0-E2C7-4D51-937E-B8E44FE4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8472-BF6D-45AC-A2AD-89915F82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A2416-764F-4E33-BFBD-70AC9A70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E5CBA-42EE-4943-8DCE-CE686420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00DBC-8CB0-49C1-8391-C509A64C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676A0-21C9-4160-BDD7-569C0640C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FFBA2-5B43-4F99-8CC2-AB8AFE2D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97D83-70E5-45E2-92A2-49E0A3D8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A8EE2-1901-4D3B-8E49-977A429F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B8DE7-1AFE-4CD1-9A5B-E2A122AC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D689A-0351-4F3A-8537-5F582A38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4CD5B-4D50-457A-81B8-7861DC03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205E-5A71-4FFD-A07E-88D41AD6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C5756-C057-4F00-80CB-8818E49C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703BD-232D-49CC-9722-907536B0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1B72F-60B1-43F5-AE52-A230AFE0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765BE-3A9E-4A3D-8F1E-7080A534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B7EC9-42B8-4B14-9E9F-1D654F5F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45EC-D123-401B-903B-4EB0ED2D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C0D0-3FB2-44C4-94E6-5B0D1913D1DA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7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18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20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23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24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25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27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1931-627F-4B94-A6C4-EE523A2A361E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17 Forma libre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18 Forma libre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19 Forma libre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20 Forma libre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23 Forma libre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24 Forma libre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25 Forma libre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26 Forma libre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27 Forma libre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28 Forma libre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29 Forma libre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30 Forma libre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31 Forma libre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32 Forma libre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33 Forma libre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34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35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36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37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38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39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32D5-30D1-4F4A-8FD0-1C7573BCCFE8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8242-2DE6-47EB-9D85-1673F5C5ACBD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7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18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19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20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23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24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25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26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27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28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9AA2-F370-4837-A7B9-BEB8C73BBF5C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A446-2D15-4D67-8B73-AF5D2D4E3315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1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1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19 Grupo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20 Conector recto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23 Conector recto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24 Conector recto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25 Grupo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26 Conector recto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27 Conector recto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28 Conector recto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29 Grupo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30 Conector recto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31 Conector recto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32 Conector recto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D090-540A-41F6-B364-F3A702B721F5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yell.com/images/classifications/detectives.jpg&amp;imgrefurl=http://www.yell.com/find/DoFind/cl/Detective-Agencies&amp;h=290&amp;w=400&amp;sz=70&amp;hl=es&amp;start=284&amp;tbnid=7YNEZzTOYlP-eM:&amp;tbnh=90&amp;tbnw=124&amp;prev=/images%3Fq%3Ddetective%26start%3D270%26gbv%3D2%26ndsp%3D18%26hl%3Des%26sa%3DN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images.google.com.mx/imgres?imgurl=http://esferadecomunicacion.files.wordpress.com/2008/04/internet.jpg&amp;imgrefurl=http://machincuepa.com/?m=20080627&amp;jal_no_js=true&amp;poll_id=14&amp;h=300&amp;w=300&amp;sz=44&amp;hl=es&amp;start=42&amp;tbnid=6pc66IP5rVD_1M:&amp;tbnh=116&amp;tbnw=116&amp;prev=/images?q=internet&amp;start=36&amp;gbv=2&amp;ndsp=18&amp;hl=es&amp;sa=N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google.com.mx/imgres?imgurl=http://blog.pucp.edu.pe/media/1118/20080220-cantidad-calidad-blogs-estrategias.jpg&amp;imgrefurl=http://blog.pucp.edu.pe/archive/894/2008-2-20&amp;h=300&amp;w=300&amp;sz=17&amp;hl=es&amp;start=2&amp;tbnid=9SRjk4vqUV1NAM:&amp;tbnh=116&amp;tbnw=116&amp;prev=/images?q=estrategias&amp;gbv=2&amp;hl=es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images.google.com.mx/imgres?imgurl=http://bp2.blogger.com/_TTRnp9XK6c4/R_lb9he1vWI/AAAAAAAABi4/H_LN2O4qN6A/s400/EstrategiasEnse&#241;anzaAprendizaje.JPG&amp;imgrefurl=http://novedades-servicios-recursoeducativo.blogspot.com/2008/04/estrategias-de-enseanza-aprendizaje.html&amp;h=400&amp;w=399&amp;sz=47&amp;hl=es&amp;start=31&amp;tbnid=QauCAHUt2yZsoM:&amp;tbnh=124&amp;tbnw=124&amp;prev=/images?q=estrategias&amp;start=18&amp;gbv=2&amp;ndsp=18&amp;hl=es&amp;sa=N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images.google.com.mx/imgres?imgurl=http://www.iesalhadra.org/alhadra/centrotic/videoproyector.jpeg&amp;imgrefurl=http://www.iesalhadra.org/alhadra/centrotic/centrotic.htm&amp;h=481&amp;w=503&amp;sz=31&amp;hl=es&amp;start=10&amp;tbnid=bBrBm9ncPMxJkM:&amp;tbnh=124&amp;tbnw=130&amp;prev=/images?q=videoproyector&amp;gbv=2&amp;hl=es" TargetMode="External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learnthenet.com/spanish/gifs/content.gif&amp;imgrefurl=http://www.learnthenet.com/spanish/html/43idcont.htm&amp;h=279&amp;w=293&amp;sz=22&amp;hl=es&amp;start=205&amp;tbnid=4GGCD4gyCuDhvM:&amp;tbnh=110&amp;tbnw=115&amp;prev=/images?q=identificar&amp;start=198&amp;gbv=2&amp;ndsp=18&amp;hl=es&amp;sa=N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hyperlink" Target="http://images.google.com.mx/imgres?imgurl=http://www.empresasalmeria.com/imea/010.jpg&amp;imgrefurl=http://www.empresasalmeria.com/modules.php?name=5serviciosmarketing&amp;h=288&amp;w=400&amp;sz=36&amp;hl=es&amp;start=173&amp;tbnid=k_StHknZ7pKYoM:&amp;tbnh=89&amp;tbnw=124&amp;prev=/images?q=sistematizar&amp;start=162&amp;gbv=2&amp;ndsp=18&amp;hl=es&amp;sa=N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familialzheimer.org/media/prensa/imagenes/Comunicacion%20virtual.jpg&amp;imgrefurl=http://anabast.wordpress.com/2008/03/04/las-competencias-basicas-y-las-competencias-en-comunicacion-linguistica/&amp;h=640&amp;w=640&amp;sz=42&amp;hl=es&amp;start=7&amp;tbnid=Cy41ZZQ9B06sOM:&amp;tbnh=137&amp;tbnw=137&amp;prev=/images?q=competencias&amp;gbv=2&amp;hl=es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com.mx/imgres?imgurl=http://nuestraclase.blogia.com/upload/20080602202306-compe03.gif&amp;imgrefurl=http://nuestraclase.blogia.com/&amp;h=306&amp;w=362&amp;sz=8&amp;hl=es&amp;start=1&amp;tbnid=eMAL7QhGIP5alM:&amp;tbnh=102&amp;tbnw=121&amp;prev=/images?q=competencias&amp;gbv=2&amp;hl=es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1 Título" descr=""/>
          <p:cNvPicPr/>
          <p:nvPr/>
        </p:nvPicPr>
        <p:blipFill>
          <a:blip r:embed="rId1"/>
          <a:stretch/>
        </p:blipFill>
        <p:spPr>
          <a:xfrm>
            <a:off x="682560" y="743040"/>
            <a:ext cx="8991720" cy="60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10" descr="http://tbn0.google.com/images?q=tbn:7YNEZzTOYlP-eM:http://www.yell.com/images/classifications/detectiv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6840" y="115920"/>
            <a:ext cx="3444840" cy="1590480"/>
          </a:xfrm>
          <a:prstGeom prst="rect">
            <a:avLst/>
          </a:prstGeom>
          <a:ln w="0">
            <a:noFill/>
          </a:ln>
        </p:spPr>
      </p:pic>
      <p:pic>
        <p:nvPicPr>
          <p:cNvPr id="370" name="3 CuadroTexto" descr=""/>
          <p:cNvPicPr/>
          <p:nvPr/>
        </p:nvPicPr>
        <p:blipFill>
          <a:blip r:embed="rId3"/>
          <a:stretch/>
        </p:blipFill>
        <p:spPr>
          <a:xfrm>
            <a:off x="3565440" y="1292400"/>
            <a:ext cx="1871640" cy="4269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8" descr="http://tbn0.google.com/images?q=tbn:6pc66IP5rVD_1M:http://esferadecomunicacion.files.wordpress.com/2008/04/internet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26370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http://tbn0.google.com/images?q=tbn:9SRjk4vqUV1NAM:http://blog.pucp.edu.pe/media/1118/20080220-cantidad-calidad-blogs-estrategias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51280" y="17478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4" descr="http://tbn0.google.com/images?q=tbn:QauCAHUt2yZsoM:http://bp2.blogger.com/_TTRnp9XK6c4/R_lb9he1vWI/AAAAAAAABi4/H_LN2O4qN6A/s400/EstrategiasEnse%C3%B1anzaAprendizaje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003640" y="2565360"/>
            <a:ext cx="3921120" cy="39211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2" descr="http://tbn0.google.com/images?q=tbn:bBrBm9ncPMxJkM:http://www.iesalhadra.org/alhadra/centrotic/videoproyector.jpe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195640" y="3716280"/>
            <a:ext cx="1944720" cy="18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5"/>
          <p:cNvSpPr/>
          <p:nvPr/>
        </p:nvSpPr>
        <p:spPr>
          <a:xfrm>
            <a:off x="2050920" y="260280"/>
            <a:ext cx="504036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tizar y utilizar inform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2" descr="http://tbn0.google.com/images?q=tbn:4GGCD4gyCuDhvM:http://www.learnthenet.com/spanish/gifs/content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765000"/>
            <a:ext cx="1790640" cy="17132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0" descr="http://bp0.blogger.com/_UaOsJecNW8c/SAdUMcNCQuI/AAAAAAAAAGY/LU6uq0SzWps/s320/Imagen1.png"/>
          <p:cNvPicPr/>
          <p:nvPr/>
        </p:nvPicPr>
        <p:blipFill>
          <a:blip r:embed="rId3"/>
          <a:stretch/>
        </p:blipFill>
        <p:spPr>
          <a:xfrm>
            <a:off x="2556000" y="2133720"/>
            <a:ext cx="5352840" cy="414792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8"/>
          <p:cNvSpPr/>
          <p:nvPr/>
        </p:nvSpPr>
        <p:spPr>
          <a:xfrm>
            <a:off x="5796000" y="3860640"/>
            <a:ext cx="1871640" cy="10159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b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4284720" y="5373720"/>
            <a:ext cx="1871640" cy="862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2700360" y="3921120"/>
            <a:ext cx="1871640" cy="703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as de aprendiz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18" descr="http://tbn0.google.com/images?q=tbn:k_StHknZ7pKYoM:http://www.empresasalmeria.com/imea/01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1920" y="4075200"/>
            <a:ext cx="200808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8" descr="http://tbn0.google.com/images?q=tbn:Cy41ZZQ9B06sOM:http://www.familialzheimer.org/media/prensa/imagenes/Comunicacion%2520virtua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268280"/>
            <a:ext cx="1305000" cy="130500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3"/>
          <p:cNvSpPr/>
          <p:nvPr/>
        </p:nvSpPr>
        <p:spPr>
          <a:xfrm>
            <a:off x="1116000" y="260280"/>
            <a:ext cx="6696000" cy="581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encias Doc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826920" y="2637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6" descr="http://tbn0.google.com/images?q=tbn:eMAL7QhGIP5alM:http://nuestraclase.blogia.com/upload/20080602202306-compe03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3284640"/>
            <a:ext cx="3456000" cy="29131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6" descr="http://tbn0.google.com/images?q=tbn:0cHwGfLzruZ8zM:http://www.elpais.com/recorte/20071019elpepspag_12/LCO340/Ies/Tierra_llora.jpg"/>
          <p:cNvPicPr/>
          <p:nvPr/>
        </p:nvPicPr>
        <p:blipFill>
          <a:blip r:embed="rId5"/>
          <a:stretch/>
        </p:blipFill>
        <p:spPr>
          <a:xfrm>
            <a:off x="5364000" y="2205000"/>
            <a:ext cx="3542040" cy="3745080"/>
          </a:xfrm>
          <a:prstGeom prst="rect">
            <a:avLst/>
          </a:prstGeom>
          <a:ln w="0">
            <a:noFill/>
          </a:ln>
        </p:spPr>
      </p:pic>
      <p:sp>
        <p:nvSpPr>
          <p:cNvPr id="387" name="Line 11"/>
          <p:cNvSpPr/>
          <p:nvPr/>
        </p:nvSpPr>
        <p:spPr>
          <a:xfrm>
            <a:off x="3924360" y="4508640"/>
            <a:ext cx="11523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2771640" y="189000"/>
            <a:ext cx="3745080" cy="916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incul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18" descr="http://tbn0.google.com/images?q=tbn:ftQC3Cqj2YyOJM:http://www.pc-news.com/images/fotos/fotos2006/espmitigacionriego2-fig3.jpg"/>
          <p:cNvPicPr/>
          <p:nvPr/>
        </p:nvPicPr>
        <p:blipFill>
          <a:blip r:embed="rId1"/>
          <a:stretch/>
        </p:blipFill>
        <p:spPr>
          <a:xfrm>
            <a:off x="2124000" y="1125360"/>
            <a:ext cx="5473800" cy="49086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390" name="Oval 5"/>
          <p:cNvSpPr/>
          <p:nvPr/>
        </p:nvSpPr>
        <p:spPr>
          <a:xfrm>
            <a:off x="2266920" y="2349360"/>
            <a:ext cx="936720" cy="309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WordArt 4"/>
          <p:cNvSpPr txBox="1"/>
          <p:nvPr/>
        </p:nvSpPr>
        <p:spPr>
          <a:xfrm rot="16818600">
            <a:off x="2706480" y="2925360"/>
            <a:ext cx="1655640" cy="79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sempeñ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cen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2" name="Oval 6"/>
          <p:cNvSpPr/>
          <p:nvPr/>
        </p:nvSpPr>
        <p:spPr>
          <a:xfrm rot="645600">
            <a:off x="3708360" y="1341000"/>
            <a:ext cx="2233800" cy="1008000"/>
          </a:xfrm>
          <a:prstGeom prst="ellipse">
            <a:avLst/>
          </a:prstGeom>
          <a:solidFill>
            <a:srgbClr val="233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WordArt 7"/>
          <p:cNvSpPr txBox="1"/>
          <p:nvPr/>
        </p:nvSpPr>
        <p:spPr>
          <a:xfrm rot="563400">
            <a:off x="3708000" y="1916280"/>
            <a:ext cx="2521080" cy="79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periencias d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nseñanz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4" name="Oval 9"/>
          <p:cNvSpPr/>
          <p:nvPr/>
        </p:nvSpPr>
        <p:spPr>
          <a:xfrm>
            <a:off x="6227640" y="2709720"/>
            <a:ext cx="1224000" cy="2232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WordArt 8"/>
          <p:cNvSpPr txBox="1"/>
          <p:nvPr/>
        </p:nvSpPr>
        <p:spPr>
          <a:xfrm rot="5266200">
            <a:off x="5552640" y="3681360"/>
            <a:ext cx="194616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nfoq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eografí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6" name="AutoShape 12"/>
          <p:cNvSpPr/>
          <p:nvPr/>
        </p:nvSpPr>
        <p:spPr>
          <a:xfrm rot="11529600">
            <a:off x="2350800" y="3933360"/>
            <a:ext cx="4537080" cy="2806920"/>
          </a:xfrm>
          <a:prstGeom prst="pi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WordArt 13"/>
          <p:cNvSpPr txBox="1"/>
          <p:nvPr/>
        </p:nvSpPr>
        <p:spPr>
          <a:xfrm>
            <a:off x="3276720" y="5472000"/>
            <a:ext cx="30240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ropósitos del Pl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y Program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8" name="WordArt 14"/>
          <p:cNvSpPr txBox="1"/>
          <p:nvPr/>
        </p:nvSpPr>
        <p:spPr>
          <a:xfrm>
            <a:off x="4286160" y="3141720"/>
            <a:ext cx="1438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t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3T21:50:29Z</dcterms:created>
  <dc:creator>Oem</dc:creator>
  <dc:description/>
  <dc:language>en-US</dc:language>
  <cp:lastModifiedBy>Oem</cp:lastModifiedBy>
  <dcterms:modified xsi:type="dcterms:W3CDTF">2008-08-04T05:05:58Z</dcterms:modified>
  <cp:revision>18</cp:revision>
  <dc:subject/>
  <dc:title>Diapositiva 1</dc:title>
</cp:coreProperties>
</file>