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FC3-FB04-4DCD-9AA6-FADF8BEF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001-A13C-49DB-AC92-6A34F04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225-5757-44D9-8882-565C9980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A5C-B5D1-440D-887A-AE1DAAA1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CD5-46B4-48CF-8B67-20891A6C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DF38-418D-4716-BF89-D3C03D2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9FBE-85B3-43C5-ACBD-07776354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36A-809B-4589-93AE-779FD3E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8716-155C-4120-8B74-DBF065C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538-BB03-4729-9A98-A411371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162D-FE5C-4EDD-B9A4-8338973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9CE-778D-4354-B7D4-38971C1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421A-469A-41A2-ABAF-B59B6C8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9DF-290B-48D4-BF83-E383868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AE2A-A331-4A56-8BD1-5260523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911A-A396-474E-BB36-86861072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00C6-5E8F-47E1-9F8A-F8F221EB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066E-6675-4708-A973-21EEC615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C2B7-CEC0-44C6-A6AB-EFF37E2C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01AC-E760-47C7-B008-01DDF77C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7E76-3392-4F29-9680-3412272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CF72-FF57-4DFA-87F3-71EFAD6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E9F-E6EB-4843-9459-30120F7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6476-7A9B-49FD-9028-08BD0DD7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5B06-F6C2-4034-975E-937C623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BCD0-56E2-4789-9513-5E13C25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2555-1CC2-43B9-8704-E291CE7E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E36F-4FDA-4304-B010-AA5CFE6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EDEA-996C-4206-B551-B0D37AD7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9109-E2F1-40CD-95CC-C3202599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12A3-9F54-4D4A-B961-702A065E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D8EF-DF69-4811-8CF8-7195251B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7C80-1783-4ABD-B3A0-B8F1E16D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891-AB28-4424-BF79-979BB3EF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1836-4123-42F7-A454-7243959B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3454-889D-4D3D-994C-0DDBF96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9E32-4B29-401D-BECA-531F47FD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1692-2D70-43D3-BE7B-5D60CC6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8589-2BDC-4397-902D-D2A93F39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D884-3EC5-414E-97FD-537C53E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1266-43A3-4E54-8BCB-F5E66A0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57C2-3535-464C-BA65-A9DE7B90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CF0C-DF0C-4E67-99C6-479C7692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770C-B32F-42DA-ACBC-3827AE29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E8E-74C4-44A0-97C8-7197DBD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A6AD-1660-487B-BABF-7FA70084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0E06-3BAD-4172-BC98-889C9FB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BECB2-AD01-4FF8-82FA-7B472114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E781-83BF-418B-94FE-551D5950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75DD-E30D-4A33-A838-2E86762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ED94-0DEF-42AD-BFFD-849AD0F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32C3-0772-49E2-B8BC-0D74DF9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87AB-50F7-4C34-B73E-2EEAEC0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8C19-A8CC-4CE2-B927-0F0FE898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8D20-EEE9-4BAB-9A0D-65A09663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DA7-979A-4ED4-B57A-1E1960E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A656A-5B45-4501-9784-7792BF38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8345-E225-49DB-B4E3-330193C5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A570B-59DD-46FC-9497-18D39BB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436C6-ABAD-4B24-A6D9-4DD9B9EB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B5C5-B259-4CD0-82AE-DFA83FB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3CAC-D123-47AF-A088-5853839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A6AC-850C-4366-B9DA-43361105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2F993-C9EF-4187-A063-DC13BA1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EBD0-20BA-4655-800E-D38E6EDB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C394-C8D3-4683-B2B8-9D302C9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438-F7C8-454D-A08B-167E8EC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CCB0-A988-437E-BAFE-7FF3E86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17464-AEBB-4844-B0EF-E962509E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E136-CC03-4E1E-B8B0-E434DDA6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73650-4D1A-47A3-8A65-5705B709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FCE1-03F2-45E3-9FF0-0124305F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F1D80-ED41-420E-B2A8-7853845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96D2-4653-4942-A96F-FA17365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760E-CD73-4046-A1AF-95E3888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9AA0-4629-433A-8E39-8E9C42A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3F09-3B07-4D03-9A1E-11CFAD5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FC2-AED8-4542-B923-BCF3AC7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1D202-3FE8-4628-B129-3A586EEA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8594D-B316-4FF3-ADFF-2A1B66A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19D9-55FA-4128-BFD3-03EBB53D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C84C6-4173-4665-8B61-2FE82FC9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AC68-1E6A-4015-8D1F-87E22F27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FA9-A5C8-4029-BB7B-E73EBE2E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CAF-A418-4E45-B5F3-29C2E0CDE0AD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9A5-A02F-4B2E-AAB5-C7F69A09D373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6025-C2D6-4C02-8679-7AFBB472A5B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3D6-55A7-4845-AA1F-EF34FCEF2109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7B6-25C9-406C-84AD-D73D9F917224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E9CC-D2A7-4B6E-BD6F-28E8D2651493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BF87-D798-4573-8A43-AA762926740F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yell.com/images/classifications/detectives.jpg&amp;imgrefurl=http://www.yell.com/find/DoFind/cl/Detective-Agencies&amp;h=290&amp;w=400&amp;sz=70&amp;hl=es&amp;start=284&amp;tbnid=7YNEZzTOYlP-eM:&amp;tbnh=90&amp;tbnw=124&amp;prev=/images%3Fq%3Ddetective%26start%3D270%26gbv%3D2%26ndsp%3D18%26hl%3Des%26sa%3DN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.mx/imgres?imgurl=http://esferadecomunicacion.files.wordpress.com/2008/04/internet.jpg&amp;imgrefurl=http://machincuepa.com/?m=20080627&amp;jal_no_js=true&amp;poll_id=14&amp;h=300&amp;w=300&amp;sz=44&amp;hl=es&amp;start=42&amp;tbnid=6pc66IP5rVD_1M:&amp;tbnh=116&amp;tbnw=116&amp;prev=/images?q=internet&amp;start=36&amp;gbv=2&amp;ndsp=18&amp;hl=es&amp;sa=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.mx/imgres?imgurl=http://blog.pucp.edu.pe/media/1118/20080220-cantidad-calidad-blogs-estrategias.jpg&amp;imgrefurl=http://blog.pucp.edu.pe/archive/894/2008-2-20&amp;h=300&amp;w=300&amp;sz=17&amp;hl=es&amp;start=2&amp;tbnid=9SRjk4vqUV1NAM:&amp;tbnh=116&amp;tbnw=116&amp;prev=/images?q=estrategias&amp;gbv=2&amp;hl=es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.mx/imgres?imgurl=http://bp2.blogger.com/_TTRnp9XK6c4/R_lb9he1vWI/AAAAAAAABi4/H_LN2O4qN6A/s400/EstrategiasEnse&#241;anzaAprendizaje.JPG&amp;imgrefurl=http://novedades-servicios-recursoeducativo.blogspot.com/2008/04/estrategias-de-enseanza-aprendizaje.html&amp;h=400&amp;w=399&amp;sz=47&amp;hl=es&amp;start=31&amp;tbnid=QauCAHUt2yZsoM:&amp;tbnh=124&amp;tbnw=124&amp;prev=/images?q=estrategias&amp;start=18&amp;gbv=2&amp;ndsp=18&amp;hl=es&amp;sa=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.mx/imgres?imgurl=http://www.iesalhadra.org/alhadra/centrotic/videoproyector.jpeg&amp;imgrefurl=http://www.iesalhadra.org/alhadra/centrotic/centrotic.htm&amp;h=481&amp;w=503&amp;sz=31&amp;hl=es&amp;start=10&amp;tbnid=bBrBm9ncPMxJkM:&amp;tbnh=124&amp;tbnw=130&amp;prev=/images?q=videoproyector&amp;gbv=2&amp;hl=es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learnthenet.com/spanish/gifs/content.gif&amp;imgrefurl=http://www.learnthenet.com/spanish/html/43idcont.htm&amp;h=279&amp;w=293&amp;sz=22&amp;hl=es&amp;start=205&amp;tbnid=4GGCD4gyCuDhvM:&amp;tbnh=110&amp;tbnw=115&amp;prev=/images?q=identificar&amp;start=198&amp;gbv=2&amp;ndsp=18&amp;hl=es&amp;sa=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.mx/imgres?imgurl=http://www.empresasalmeria.com/imea/010.jpg&amp;imgrefurl=http://www.empresasalmeria.com/modules.php?name=5serviciosmarketing&amp;h=288&amp;w=400&amp;sz=36&amp;hl=es&amp;start=173&amp;tbnid=k_StHknZ7pKYoM:&amp;tbnh=89&amp;tbnw=124&amp;prev=/images?q=sistematizar&amp;start=162&amp;gbv=2&amp;ndsp=18&amp;hl=es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familialzheimer.org/media/prensa/imagenes/Comunicacion%20virtual.jpg&amp;imgrefurl=http://anabast.wordpress.com/2008/03/04/las-competencias-basicas-y-las-competencias-en-comunicacion-linguistica/&amp;h=640&amp;w=640&amp;sz=42&amp;hl=es&amp;start=7&amp;tbnid=Cy41ZZQ9B06sOM:&amp;tbnh=137&amp;tbnw=137&amp;prev=/images?q=competencias&amp;gbv=2&amp;hl=es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.mx/imgres?imgurl=http://nuestraclase.blogia.com/upload/20080602202306-compe03.gif&amp;imgrefurl=http://nuestraclase.blogia.com/&amp;h=306&amp;w=362&amp;sz=8&amp;hl=es&amp;start=1&amp;tbnid=eMAL7QhGIP5alM:&amp;tbnh=102&amp;tbnw=121&amp;prev=/images?q=competencias&amp;gbv=2&amp;hl=es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82560" y="743040"/>
            <a:ext cx="8991720" cy="60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0" descr="http://tbn0.google.com/images?q=tbn:7YNEZzTOYlP-eM:http://www.yell.com/images/classifications/detectiv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6840" y="115920"/>
            <a:ext cx="3444840" cy="1590480"/>
          </a:xfrm>
          <a:prstGeom prst="rect">
            <a:avLst/>
          </a:prstGeom>
          <a:ln w="0">
            <a:noFill/>
          </a:ln>
        </p:spPr>
      </p:pic>
      <p:pic>
        <p:nvPicPr>
          <p:cNvPr id="370" name="3 CuadroTexto" descr=""/>
          <p:cNvPicPr/>
          <p:nvPr/>
        </p:nvPicPr>
        <p:blipFill>
          <a:blip r:embed="rId3"/>
          <a:stretch/>
        </p:blipFill>
        <p:spPr>
          <a:xfrm>
            <a:off x="3565440" y="1292400"/>
            <a:ext cx="1871640" cy="426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8" descr="http://tbn0.google.com/images?q=tbn:6pc66IP5rVD_1M:http://esferadecomunicacion.files.wordpress.com/2008/04/internet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37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http://tbn0.google.com/images?q=tbn:9SRjk4vqUV1NAM:http://blog.pucp.edu.pe/media/1118/20080220-cantidad-calidad-blogs-estrategia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17478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http://tbn0.google.com/images?q=tbn:QauCAHUt2yZsoM:http://bp2.blogger.com/_TTRnp9XK6c4/R_lb9he1vWI/AAAAAAAABi4/H_LN2O4qN6A/s400/EstrategiasEnse%C3%B1anzaAprendizaj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003640" y="2565360"/>
            <a:ext cx="3921120" cy="3921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http://tbn0.google.com/images?q=tbn:bBrBm9ncPMxJkM:http://www.iesalhadra.org/alhadra/centrotic/videoproyector.jp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3716280"/>
            <a:ext cx="19447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5"/>
          <p:cNvSpPr/>
          <p:nvPr/>
        </p:nvSpPr>
        <p:spPr>
          <a:xfrm>
            <a:off x="2050920" y="260280"/>
            <a:ext cx="504036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r y utilizar i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http://tbn0.google.com/images?q=tbn:4GGCD4gyCuDhvM:http://www.learnthenet.com/spanish/gifs/cont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765000"/>
            <a:ext cx="1790640" cy="171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http://bp0.blogger.com/_UaOsJecNW8c/SAdUMcNCQuI/AAAAAAAAAGY/LU6uq0SzWps/s320/Imagen1.png"/>
          <p:cNvPicPr/>
          <p:nvPr/>
        </p:nvPicPr>
        <p:blipFill>
          <a:blip r:embed="rId3"/>
          <a:stretch/>
        </p:blipFill>
        <p:spPr>
          <a:xfrm>
            <a:off x="2556000" y="2133720"/>
            <a:ext cx="5352840" cy="4147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5796000" y="3860640"/>
            <a:ext cx="1871640" cy="1015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84720" y="5373720"/>
            <a:ext cx="1871640" cy="86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700360" y="3921120"/>
            <a:ext cx="1871640" cy="703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18" descr="http://tbn0.google.com/images?q=tbn:k_StHknZ7pKYoM:http://www.empresasalmeria.com/imea/0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4075200"/>
            <a:ext cx="2008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http://tbn0.google.com/images?q=tbn:Cy41ZZQ9B06sOM:http://www.familialzheimer.org/media/prensa/imagenes/Comunicacion%2520virtu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26828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1116000" y="260280"/>
            <a:ext cx="6696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ias Doc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26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6" descr="http://tbn0.google.com/images?q=tbn:eMAL7QhGIP5alM:http://nuestraclase.blogia.com/upload/20080602202306-compe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284640"/>
            <a:ext cx="345600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6" descr="http://tbn0.google.com/images?q=tbn:0cHwGfLzruZ8zM:http://www.elpais.com/recorte/20071019elpepspag_12/LCO340/Ies/Tierra_llora.jpg"/>
          <p:cNvPicPr/>
          <p:nvPr/>
        </p:nvPicPr>
        <p:blipFill>
          <a:blip r:embed="rId5"/>
          <a:stretch/>
        </p:blipFill>
        <p:spPr>
          <a:xfrm>
            <a:off x="5364000" y="2205000"/>
            <a:ext cx="35420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Line 11"/>
          <p:cNvSpPr/>
          <p:nvPr/>
        </p:nvSpPr>
        <p:spPr>
          <a:xfrm>
            <a:off x="3924360" y="450864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771640" y="189000"/>
            <a:ext cx="37450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nc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8" descr="http://tbn0.google.com/images?q=tbn:ftQC3Cqj2YyOJM:http://www.pc-news.com/images/fotos/fotos2006/espmitigacionriego2-fig3.jpg"/>
          <p:cNvPicPr/>
          <p:nvPr/>
        </p:nvPicPr>
        <p:blipFill>
          <a:blip r:embed="rId1"/>
          <a:stretch/>
        </p:blipFill>
        <p:spPr>
          <a:xfrm>
            <a:off x="2124000" y="1125360"/>
            <a:ext cx="5473800" cy="490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90" name="Oval 5"/>
          <p:cNvSpPr/>
          <p:nvPr/>
        </p:nvSpPr>
        <p:spPr>
          <a:xfrm>
            <a:off x="2266920" y="2349360"/>
            <a:ext cx="936720" cy="3095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 rot="16818600">
            <a:off x="2706480" y="2925360"/>
            <a:ext cx="1655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empeñ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Oval 6"/>
          <p:cNvSpPr/>
          <p:nvPr/>
        </p:nvSpPr>
        <p:spPr>
          <a:xfrm rot="645600">
            <a:off x="3708360" y="1341000"/>
            <a:ext cx="2233800" cy="1008000"/>
          </a:xfrm>
          <a:prstGeom prst="ellipse">
            <a:avLst/>
          </a:prstGeom>
          <a:solidFill>
            <a:srgbClr val="233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WordArt 7"/>
          <p:cNvSpPr txBox="1"/>
          <p:nvPr/>
        </p:nvSpPr>
        <p:spPr>
          <a:xfrm rot="563400">
            <a:off x="3708000" y="1916280"/>
            <a:ext cx="252108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iencias 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6227640" y="2709720"/>
            <a:ext cx="1224000" cy="2232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8"/>
          <p:cNvSpPr txBox="1"/>
          <p:nvPr/>
        </p:nvSpPr>
        <p:spPr>
          <a:xfrm rot="5266200">
            <a:off x="5552640" y="3681360"/>
            <a:ext cx="19461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fo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grafí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6" name="AutoShape 12"/>
          <p:cNvSpPr/>
          <p:nvPr/>
        </p:nvSpPr>
        <p:spPr>
          <a:xfrm rot="11529600">
            <a:off x="2350800" y="3933360"/>
            <a:ext cx="4537080" cy="2806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13"/>
          <p:cNvSpPr txBox="1"/>
          <p:nvPr/>
        </p:nvSpPr>
        <p:spPr>
          <a:xfrm>
            <a:off x="3276720" y="5472000"/>
            <a:ext cx="302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ropósitos del Pl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 Progr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14"/>
          <p:cNvSpPr txBox="1"/>
          <p:nvPr/>
        </p:nvSpPr>
        <p:spPr>
          <a:xfrm>
            <a:off x="4286160" y="3141720"/>
            <a:ext cx="143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50:29Z</dcterms:created>
  <dc:creator>Oem</dc:creator>
  <dc:description/>
  <dc:language>en-US</dc:language>
  <cp:lastModifiedBy>Oem</cp:lastModifiedBy>
  <dcterms:modified xsi:type="dcterms:W3CDTF">2008-08-04T05:05:58Z</dcterms:modified>
  <cp:revision>18</cp:revision>
  <dc:subject/>
  <dc:title>Diapositiva 1</dc:title>
</cp:coreProperties>
</file>