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D12-ECAF-4C83-BE4C-98C322C5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37B-991B-4227-96E4-7B1666E6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263-E0CA-405D-BB41-4A865DF7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C28-0AD0-4C2E-A7C9-2D6CEBAC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9116-3660-442B-BB79-E5B4DD0E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3223-1955-4005-A0EA-71AE0DF0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7733-C6E9-46E3-B212-1F92550D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33DA-FA87-4C6E-B775-207607D7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2704-8CB8-4381-89BF-E94259EB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41B0-1C39-4E8E-9E49-8DE40E06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314B-7CC9-403E-8E3C-31C5CFC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519-6D1F-4A26-86C4-E005EFC4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3535-E0DF-4197-8D39-0F3DA12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9FDB-C61B-45F9-AA8F-0F60A89C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3642-92C9-4AB1-BECB-0277A054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43E4-8DBE-4085-AEAE-C8E3DA23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1AD7-88AF-4937-9870-1735BD46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E648-1EBF-4589-9E52-92501B0C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7EA4-5D20-4B04-9DF2-FDD983CF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CF4E8-D9BA-4D7E-9D87-557E6B94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4254-B5AD-4E68-81CC-B579D043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3DDF-A3B9-4C52-8ABE-18E330B3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034-A36F-41C9-830D-39D307C1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1BFD-65BE-47C6-A870-1A1396C0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9A07-774A-4594-8305-1685F671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A321-AE1B-4DF6-A35A-614E7346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DD14-662E-4F23-A2D3-5BC398A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6639-DC2F-497C-8226-6EFC9DCA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B39A-FB09-41CC-9B7D-58511B77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432B-EF23-49D8-BEE5-E903B3EB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C584-F3C9-4717-9929-6569BA6C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4266-C4A0-487C-A566-69CA5B31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C7B4F-9151-492C-89C2-17BBEBDD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5F1-FF62-4641-AF83-8F19555F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7BF6-D614-4CA7-9727-05F462A2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F9AB-7577-4FBF-A23D-F3247938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AD58-65C0-4B77-B5F3-D8DE35E1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9378-E413-41FD-A9A7-E8B4D62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C29DA-E444-4FA0-8C90-960FE72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99774-B5FD-4357-B99A-55F8F2C5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4E0B-80E0-4BE7-9350-94D8D997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6313-A590-4B4B-89BB-51B01E8F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E5AB-00AF-472D-820E-97E8834B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6E5D7-2FB8-475C-B2E4-5ED61E94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F17-45CD-4355-853C-4FD29748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AF37-9154-4FDF-BDCE-89A50181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818A0-8F9A-4D32-A8DE-C14C5778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650B-3C57-47B5-8421-07AC49DE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EFFEA-0DDC-4DB8-B994-6B629D0A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AF37-8E1F-4322-81DB-95B1AD0A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347D-B648-4307-AD19-9F01B08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8F64-99D2-4139-A722-6EF16C70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503C2-E22B-4DFF-9C6B-3DED8022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730B-8693-4343-AEB3-662D1244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3CA15-02E5-41B8-A0EF-2FEBF034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CC1-144B-48C5-AF0B-44DFBFC7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A898D-E3F2-4299-87B0-DCB505CC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2F934-E35E-468D-B56A-1BB98981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D46D-F266-4CA9-A198-BB90DB0B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FB638-FB41-495E-BCF6-A145400A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60539-6AB6-4C3E-ABE3-3F7BD241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5D81E-1BC5-419C-B638-5D4054C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9CA6-C1D8-4F1F-B4F9-7C076374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7C18-95AB-488B-9527-12FAFC3D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352A1-FA94-46F0-A3F1-3533C7FC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95A45-A759-4525-8B4B-E4E5FE2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4EA-A6AB-4FC8-9923-A26B76F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B0855-3481-440E-A033-7F4EFB8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4A503-3CD2-49CF-9772-790EA2CF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2DFE-E945-48A8-82B3-C4C598C4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5409-A247-400A-AD7A-B361CB7D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5D700-0436-49E7-9F4F-67B15C89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AF559-96E7-4207-8DEA-639B4AEA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8FB83-2878-4671-AFEB-62385612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0A768-D913-410F-80A7-872853DB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4DE85-AAE6-4597-A51B-4FB88F1B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404CC-DE01-4579-B0F5-7F1EBCF9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344-0BFF-4577-ACFE-384424A2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5E0A7-CB6C-46B7-8A61-3F10518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0AF3-DD10-4177-B6FB-5BE13634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314EC-6ACC-496E-AD87-DC7FC0FB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24C46-5A87-489F-AB91-907CA844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48E2C-2579-4877-A304-0E6D4429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702-9C95-49B6-B21F-B18A855F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ED60-9192-47B5-BC7A-D81E75D1CD2E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A654-EDEE-467F-BCC3-471618F42A1F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C9A8-B6B7-49F7-8228-5B3F89D20A0E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D9CE-D2B3-4F86-BAE1-80B392A2F730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F3A3-B8AD-427F-AC13-76F754191DED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CD81-2A8C-4EAC-BB41-256E8C989A01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3E01-D0F1-487C-ACC5-DC33F9EBCD26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yell.com/images/classifications/detectives.jpg&amp;imgrefurl=http://www.yell.com/find/DoFind/cl/Detective-Agencies&amp;h=290&amp;w=400&amp;sz=70&amp;hl=es&amp;start=284&amp;tbnid=7YNEZzTOYlP-eM:&amp;tbnh=90&amp;tbnw=124&amp;prev=/images%3Fq%3Ddetective%26start%3D270%26gbv%3D2%26ndsp%3D18%26hl%3Des%26sa%3DN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.mx/imgres?imgurl=http://esferadecomunicacion.files.wordpress.com/2008/04/internet.jpg&amp;imgrefurl=http://machincuepa.com/?m=20080627&amp;jal_no_js=true&amp;poll_id=14&amp;h=300&amp;w=300&amp;sz=44&amp;hl=es&amp;start=42&amp;tbnid=6pc66IP5rVD_1M:&amp;tbnh=116&amp;tbnw=116&amp;prev=/images?q=internet&amp;start=36&amp;gbv=2&amp;ndsp=18&amp;hl=es&amp;sa=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.mx/imgres?imgurl=http://blog.pucp.edu.pe/media/1118/20080220-cantidad-calidad-blogs-estrategias.jpg&amp;imgrefurl=http://blog.pucp.edu.pe/archive/894/2008-2-20&amp;h=300&amp;w=300&amp;sz=17&amp;hl=es&amp;start=2&amp;tbnid=9SRjk4vqUV1NAM:&amp;tbnh=116&amp;tbnw=116&amp;prev=/images?q=estrategias&amp;gbv=2&amp;hl=es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.mx/imgres?imgurl=http://bp2.blogger.com/_TTRnp9XK6c4/R_lb9he1vWI/AAAAAAAABi4/H_LN2O4qN6A/s400/EstrategiasEnse&#241;anzaAprendizaje.JPG&amp;imgrefurl=http://novedades-servicios-recursoeducativo.blogspot.com/2008/04/estrategias-de-enseanza-aprendizaje.html&amp;h=400&amp;w=399&amp;sz=47&amp;hl=es&amp;start=31&amp;tbnid=QauCAHUt2yZsoM:&amp;tbnh=124&amp;tbnw=124&amp;prev=/images?q=estrategias&amp;start=18&amp;gbv=2&amp;ndsp=18&amp;hl=es&amp;sa=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.mx/imgres?imgurl=http://www.iesalhadra.org/alhadra/centrotic/videoproyector.jpeg&amp;imgrefurl=http://www.iesalhadra.org/alhadra/centrotic/centrotic.htm&amp;h=481&amp;w=503&amp;sz=31&amp;hl=es&amp;start=10&amp;tbnid=bBrBm9ncPMxJkM:&amp;tbnh=124&amp;tbnw=130&amp;prev=/images?q=videoproyector&amp;gbv=2&amp;hl=es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learnthenet.com/spanish/gifs/content.gif&amp;imgrefurl=http://www.learnthenet.com/spanish/html/43idcont.htm&amp;h=279&amp;w=293&amp;sz=22&amp;hl=es&amp;start=205&amp;tbnid=4GGCD4gyCuDhvM:&amp;tbnh=110&amp;tbnw=115&amp;prev=/images?q=identificar&amp;start=198&amp;gbv=2&amp;ndsp=18&amp;hl=es&amp;sa=N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.mx/imgres?imgurl=http://www.empresasalmeria.com/imea/010.jpg&amp;imgrefurl=http://www.empresasalmeria.com/modules.php?name=5serviciosmarketing&amp;h=288&amp;w=400&amp;sz=36&amp;hl=es&amp;start=173&amp;tbnid=k_StHknZ7pKYoM:&amp;tbnh=89&amp;tbnw=124&amp;prev=/images?q=sistematizar&amp;start=162&amp;gbv=2&amp;ndsp=18&amp;hl=es&amp;sa=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amilialzheimer.org/media/prensa/imagenes/Comunicacion%20virtual.jpg&amp;imgrefurl=http://anabast.wordpress.com/2008/03/04/las-competencias-basicas-y-las-competencias-en-comunicacion-linguistica/&amp;h=640&amp;w=640&amp;sz=42&amp;hl=es&amp;start=7&amp;tbnid=Cy41ZZQ9B06sOM:&amp;tbnh=137&amp;tbnw=137&amp;prev=/images?q=competencias&amp;gbv=2&amp;hl=es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.mx/imgres?imgurl=http://nuestraclase.blogia.com/upload/20080602202306-compe03.gif&amp;imgrefurl=http://nuestraclase.blogia.com/&amp;h=306&amp;w=362&amp;sz=8&amp;hl=es&amp;start=1&amp;tbnid=eMAL7QhGIP5alM:&amp;tbnh=102&amp;tbnw=121&amp;prev=/images?q=competencias&amp;gbv=2&amp;hl=es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991720" cy="60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0" descr="http://tbn0.google.com/images?q=tbn:7YNEZzTOYlP-eM:http://www.yell.com/images/classifications/detectiv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6840" y="115920"/>
            <a:ext cx="3444840" cy="1590480"/>
          </a:xfrm>
          <a:prstGeom prst="rect">
            <a:avLst/>
          </a:prstGeom>
          <a:ln w="0">
            <a:noFill/>
          </a:ln>
        </p:spPr>
      </p:pic>
      <p:pic>
        <p:nvPicPr>
          <p:cNvPr id="370" name="3 CuadroTexto" descr=""/>
          <p:cNvPicPr/>
          <p:nvPr/>
        </p:nvPicPr>
        <p:blipFill>
          <a:blip r:embed="rId3"/>
          <a:stretch/>
        </p:blipFill>
        <p:spPr>
          <a:xfrm>
            <a:off x="3565440" y="1292400"/>
            <a:ext cx="1871640" cy="426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8" descr="http://tbn0.google.com/images?q=tbn:6pc66IP5rVD_1M:http://esferadecomunicacion.files.wordpress.com/2008/04/interne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37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http://tbn0.google.com/images?q=tbn:9SRjk4vqUV1NAM:http://blog.pucp.edu.pe/media/1118/20080220-cantidad-calidad-blogs-estrategia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17478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http://tbn0.google.com/images?q=tbn:QauCAHUt2yZsoM:http://bp2.blogger.com/_TTRnp9XK6c4/R_lb9he1vWI/AAAAAAAABi4/H_LN2O4qN6A/s400/EstrategiasEnse%C3%B1anzaAprendizaj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03640" y="2565360"/>
            <a:ext cx="3921120" cy="3921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http://tbn0.google.com/images?q=tbn:bBrBm9ncPMxJkM:http://www.iesalhadra.org/alhadra/centrotic/videoproyector.jp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3716280"/>
            <a:ext cx="194472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2050920" y="260280"/>
            <a:ext cx="5040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tizar y utilizar in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http://tbn0.google.com/images?q=tbn:4GGCD4gyCuDhvM:http://www.learnthenet.com/spanish/gifs/cont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765000"/>
            <a:ext cx="1790640" cy="1713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0" descr="http://bp0.blogger.com/_UaOsJecNW8c/SAdUMcNCQuI/AAAAAAAAAGY/LU6uq0SzWps/s320/Imagen1.png"/>
          <p:cNvPicPr/>
          <p:nvPr/>
        </p:nvPicPr>
        <p:blipFill>
          <a:blip r:embed="rId3"/>
          <a:stretch/>
        </p:blipFill>
        <p:spPr>
          <a:xfrm>
            <a:off x="2556000" y="2133720"/>
            <a:ext cx="5352840" cy="41479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5796000" y="3860640"/>
            <a:ext cx="1871640" cy="1015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284720" y="5373720"/>
            <a:ext cx="1871640" cy="862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2700360" y="3921120"/>
            <a:ext cx="1871640" cy="703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18" descr="http://tbn0.google.com/images?q=tbn:k_StHknZ7pKYoM:http://www.empresasalmeria.com/imea/0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1920" y="4075200"/>
            <a:ext cx="200808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http://tbn0.google.com/images?q=tbn:Cy41ZZQ9B06sOM:http://www.familialzheimer.org/media/prensa/imagenes/Comunicacion%2520virtu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26828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1116000" y="260280"/>
            <a:ext cx="6696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ncias Doc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26920" y="26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6" descr="http://tbn0.google.com/images?q=tbn:eMAL7QhGIP5alM:http://nuestraclase.blogia.com/upload/20080602202306-compe03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284640"/>
            <a:ext cx="3456000" cy="291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6" descr="http://tbn0.google.com/images?q=tbn:0cHwGfLzruZ8zM:http://www.elpais.com/recorte/20071019elpepspag_12/LCO340/Ies/Tierra_llora.jpg"/>
          <p:cNvPicPr/>
          <p:nvPr/>
        </p:nvPicPr>
        <p:blipFill>
          <a:blip r:embed="rId5"/>
          <a:stretch/>
        </p:blipFill>
        <p:spPr>
          <a:xfrm>
            <a:off x="5364000" y="2205000"/>
            <a:ext cx="3542040" cy="3745080"/>
          </a:xfrm>
          <a:prstGeom prst="rect">
            <a:avLst/>
          </a:prstGeom>
          <a:ln w="0">
            <a:noFill/>
          </a:ln>
        </p:spPr>
      </p:pic>
      <p:sp>
        <p:nvSpPr>
          <p:cNvPr id="387" name="Line 11"/>
          <p:cNvSpPr/>
          <p:nvPr/>
        </p:nvSpPr>
        <p:spPr>
          <a:xfrm>
            <a:off x="3924360" y="4508640"/>
            <a:ext cx="115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771640" y="189000"/>
            <a:ext cx="37450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ncul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8" descr="http://tbn0.google.com/images?q=tbn:ftQC3Cqj2YyOJM:http://www.pc-news.com/images/fotos/fotos2006/espmitigacionriego2-fig3.jpg"/>
          <p:cNvPicPr/>
          <p:nvPr/>
        </p:nvPicPr>
        <p:blipFill>
          <a:blip r:embed="rId1"/>
          <a:stretch/>
        </p:blipFill>
        <p:spPr>
          <a:xfrm>
            <a:off x="2124000" y="1125360"/>
            <a:ext cx="5473800" cy="4908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90" name="Oval 5"/>
          <p:cNvSpPr/>
          <p:nvPr/>
        </p:nvSpPr>
        <p:spPr>
          <a:xfrm>
            <a:off x="2266920" y="2349360"/>
            <a:ext cx="936720" cy="309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 rot="16818600">
            <a:off x="2706480" y="2925360"/>
            <a:ext cx="165564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empeñ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Oval 6"/>
          <p:cNvSpPr/>
          <p:nvPr/>
        </p:nvSpPr>
        <p:spPr>
          <a:xfrm rot="645600">
            <a:off x="3708360" y="1341000"/>
            <a:ext cx="2233800" cy="1008000"/>
          </a:xfrm>
          <a:prstGeom prst="ellipse">
            <a:avLst/>
          </a:prstGeom>
          <a:solidFill>
            <a:srgbClr val="23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WordArt 7"/>
          <p:cNvSpPr txBox="1"/>
          <p:nvPr/>
        </p:nvSpPr>
        <p:spPr>
          <a:xfrm rot="563400">
            <a:off x="3708000" y="1916280"/>
            <a:ext cx="25210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iencias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señanz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6227640" y="2709720"/>
            <a:ext cx="1224000" cy="2232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WordArt 8"/>
          <p:cNvSpPr txBox="1"/>
          <p:nvPr/>
        </p:nvSpPr>
        <p:spPr>
          <a:xfrm rot="5266200">
            <a:off x="5552640" y="3681360"/>
            <a:ext cx="19461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fo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ografí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6" name="AutoShape 12"/>
          <p:cNvSpPr/>
          <p:nvPr/>
        </p:nvSpPr>
        <p:spPr>
          <a:xfrm rot="11529600">
            <a:off x="2350800" y="3933360"/>
            <a:ext cx="4537080" cy="280692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13"/>
          <p:cNvSpPr txBox="1"/>
          <p:nvPr/>
        </p:nvSpPr>
        <p:spPr>
          <a:xfrm>
            <a:off x="3276720" y="5472000"/>
            <a:ext cx="302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ropósitos del Pl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 Progra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WordArt 14"/>
          <p:cNvSpPr txBox="1"/>
          <p:nvPr/>
        </p:nvSpPr>
        <p:spPr>
          <a:xfrm>
            <a:off x="4286160" y="3141720"/>
            <a:ext cx="143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50:29Z</dcterms:created>
  <dc:creator>Oem</dc:creator>
  <dc:description/>
  <dc:language>en-US</dc:language>
  <cp:lastModifiedBy>Oem</cp:lastModifiedBy>
  <dcterms:modified xsi:type="dcterms:W3CDTF">2008-08-04T05:05:58Z</dcterms:modified>
  <cp:revision>18</cp:revision>
  <dc:subject/>
  <dc:title>Diapositiva 1</dc:title>
</cp:coreProperties>
</file>