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DE3A-C4C1-4D7E-AEB2-894178E2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989-09C2-4E1C-9A56-6CD82A59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01A-837A-48FC-A375-BC90C8EF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8C6-AAB5-4D9B-A857-72BCC85A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26A-3D90-4B4C-92BA-3798A395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C23F-AD6C-4DB7-BF56-79772A84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946-9314-4194-8A9B-ECDA4A7B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F99-DE5A-41DC-8D57-974200C5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1D67-2138-4328-960D-0436F4B4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82ED-A283-4AB2-80DC-1970B1AA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017-ABE8-46BD-85C8-0AFD3011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C6D-EB78-4965-BE78-25456B62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B885-404D-4457-A18E-B1890BEE42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shiatsucontacto.com/manos%20tierra.jpg&amp;imgrefurl=http://maticesdemipaleta.spaces.live.com/blog/cns!D5D70AF35BBC0F0F!5649.entry&amp;h=343&amp;w=480&amp;sz=67&amp;hl=es&amp;start=25&amp;tbnid=vwr3Wrv7vlRM_M:&amp;tbnh=92&amp;tbnw=129&amp;prev=/images?q=tierra&amp;start=18&amp;gbv=2&amp;ndsp=18&amp;hl=es&amp;sa=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bantaba.ehu.es/formarse/images/images/56390&amp;imgrefurl=http://www.ecobachillerato.com/blog1/2008/04/competencias-bsicaspublicaciones-y.html&amp;h=300&amp;w=397&amp;sz=30&amp;hl=es&amp;start=6&amp;tbnid=5reBnYiFlb97EM:&amp;tbnh=94&amp;tbnw=124&amp;prev=/images?q=competencias&amp;gbv=2&amp;hl=e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8" descr="http://tbn0.google.com/images?q=tbn:vwr3Wrv7vlRM_M:http://www.shiatsucontacto.com/manos%2520tierr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057400"/>
            <a:ext cx="4953240" cy="35352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209680" y="533520"/>
            <a:ext cx="4800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SULTA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http://tbn0.google.com/images?q=tbn:5reBnYiFlb97EM:http://www.bantaba.ehu.es/formarse/images/images/563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320840"/>
            <a:ext cx="5943600" cy="45054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600200" y="304920"/>
            <a:ext cx="6705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TILIZACION DE LAS T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752480" y="6000840"/>
            <a:ext cx="6705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TIVIDADES DENTRO Y FUERA DEL AU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tbn0.google.com/images?q=tbn:lyU2cOhmoOjo2M:http://elseisdoble.blogia.com/upload/20070526132954-coop-internacional.jpg"/>
          <p:cNvPicPr/>
          <p:nvPr/>
        </p:nvPicPr>
        <p:blipFill>
          <a:blip r:embed="rId1"/>
          <a:stretch/>
        </p:blipFill>
        <p:spPr>
          <a:xfrm>
            <a:off x="2573280" y="990720"/>
            <a:ext cx="4437000" cy="4670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1600200" y="304920"/>
            <a:ext cx="6705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STRUCCION PROCESOS FORM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1447920" y="5924520"/>
            <a:ext cx="6705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GRANDO INTERRELACIONAR LAS GEOESFE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3:38:24Z</dcterms:created>
  <dc:creator>Belen Martini</dc:creator>
  <dc:description/>
  <dc:language>en-US</dc:language>
  <cp:lastModifiedBy>Oem</cp:lastModifiedBy>
  <dcterms:modified xsi:type="dcterms:W3CDTF">2008-08-04T05:00:49Z</dcterms:modified>
  <cp:revision>3</cp:revision>
  <dc:subject/>
  <dc:title>Slide 1</dc:title>
</cp:coreProperties>
</file>