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2FC-C2AF-43F9-B3D2-3F69D2CA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D27-6D6A-4C79-A9F6-85816AA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A54-66BF-4CCF-A9CC-C6D60E89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CA3-768B-4DC1-BFB7-63269487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98D-F4FF-4203-87C7-2AAA7682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8E7-FE8D-4480-856C-808743C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9D4-52B1-422F-8B3B-735B4E65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22B-A5D8-40B2-9C35-EC472558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237-868C-44EC-8964-1D1E9C5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989-AB05-4BB9-8CAB-090004E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D93-6253-4B9D-B123-2417F99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E12-3429-4BCA-A83C-6D7BC29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1C52-71B5-4B05-8718-10815C05A0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shiatsucontacto.com/manos%20tierra.jpg&amp;imgrefurl=http://maticesdemipaleta.spaces.live.com/blog/cns!D5D70AF35BBC0F0F!5649.entry&amp;h=343&amp;w=480&amp;sz=67&amp;hl=es&amp;start=25&amp;tbnid=vwr3Wrv7vlRM_M:&amp;tbnh=92&amp;tbnw=129&amp;prev=/images?q=tierra&amp;start=18&amp;gbv=2&amp;ndsp=18&amp;hl=es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bantaba.ehu.es/formarse/images/images/56390&amp;imgrefurl=http://www.ecobachillerato.com/blog1/2008/04/competencias-bsicaspublicaciones-y.html&amp;h=300&amp;w=397&amp;sz=30&amp;hl=es&amp;start=6&amp;tbnid=5reBnYiFlb97EM:&amp;tbnh=94&amp;tbnw=124&amp;prev=/images?q=competencias&amp;gbv=2&amp;hl=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http://tbn0.google.com/images?q=tbn:vwr3Wrv7vlRM_M:http://www.shiatsucontacto.com/manos%2520tie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7400"/>
            <a:ext cx="4953240" cy="353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09680" y="5335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bn0.google.com/images?q=tbn:5reBnYiFlb97EM:http://www.bantaba.ehu.es/formarse/images/images/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20840"/>
            <a:ext cx="5943600" cy="4505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TILIZACION DE LAS 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600084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VIDADES DENTRO Y FUERA DEL A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lyU2cOhmoOjo2M:http://elseisdoble.blogia.com/upload/20070526132954-coop-internacional.jpg"/>
          <p:cNvPicPr/>
          <p:nvPr/>
        </p:nvPicPr>
        <p:blipFill>
          <a:blip r:embed="rId1"/>
          <a:stretch/>
        </p:blipFill>
        <p:spPr>
          <a:xfrm>
            <a:off x="2573280" y="990720"/>
            <a:ext cx="4437000" cy="4670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RUCCION 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47920" y="5924520"/>
            <a:ext cx="6705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RANDO INTERRELACIONAR LAS GEOESFE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8:24Z</dcterms:created>
  <dc:creator>Belen Martini</dc:creator>
  <dc:description/>
  <dc:language>en-US</dc:language>
  <cp:lastModifiedBy>Oem</cp:lastModifiedBy>
  <dcterms:modified xsi:type="dcterms:W3CDTF">2008-08-04T05:00:49Z</dcterms:modified>
  <cp:revision>3</cp:revision>
  <dc:subject/>
  <dc:title>Slide 1</dc:title>
</cp:coreProperties>
</file>