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5DD-66AD-441A-B69B-D34FD454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1B0-6941-45CD-AA39-F916907D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915-DD74-44FE-9F60-713DB519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90A-3902-4C30-9E9F-40686BED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E6E-9464-466F-8254-08C2A677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FAA-D528-4FFF-BD16-7AA07447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816-F2BD-4C6E-AD99-AEAA376D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788-DFAC-4B76-A8CE-C0586B36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697-4577-43F8-A39F-21ABD196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34F-06FF-454D-A5C9-17D3AD5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486-922E-4828-925F-3E9F565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15D-EC05-4A61-80FE-845C24B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637-6DDC-48DE-83B9-952A7B90EB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shiatsucontacto.com/manos%20tierra.jpg&amp;imgrefurl=http://maticesdemipaleta.spaces.live.com/blog/cns!D5D70AF35BBC0F0F!5649.entry&amp;h=343&amp;w=480&amp;sz=67&amp;hl=es&amp;start=25&amp;tbnid=vwr3Wrv7vlRM_M:&amp;tbnh=92&amp;tbnw=129&amp;prev=/images?q=tierra&amp;start=18&amp;gbv=2&amp;ndsp=18&amp;hl=es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bantaba.ehu.es/formarse/images/images/56390&amp;imgrefurl=http://www.ecobachillerato.com/blog1/2008/04/competencias-bsicaspublicaciones-y.html&amp;h=300&amp;w=397&amp;sz=30&amp;hl=es&amp;start=6&amp;tbnid=5reBnYiFlb97EM:&amp;tbnh=94&amp;tbnw=124&amp;prev=/images?q=competencias&amp;gbv=2&amp;hl=e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8" descr="http://tbn0.google.com/images?q=tbn:vwr3Wrv7vlRM_M:http://www.shiatsucontacto.com/manos%2520tierr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057400"/>
            <a:ext cx="4953240" cy="3535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09680" y="533520"/>
            <a:ext cx="480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SULT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bn0.google.com/images?q=tbn:5reBnYiFlb97EM:http://www.bantaba.ehu.es/formarse/images/images/563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320840"/>
            <a:ext cx="5943600" cy="45054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TILIZACION DE LAS 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52480" y="600084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VIDADES DENTRO Y FUERA DEL AU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bn0.google.com/images?q=tbn:lyU2cOhmoOjo2M:http://elseisdoble.blogia.com/upload/20070526132954-coop-internacional.jpg"/>
          <p:cNvPicPr/>
          <p:nvPr/>
        </p:nvPicPr>
        <p:blipFill>
          <a:blip r:embed="rId1"/>
          <a:stretch/>
        </p:blipFill>
        <p:spPr>
          <a:xfrm>
            <a:off x="2573280" y="990720"/>
            <a:ext cx="4437000" cy="4670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RUCCION 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47920" y="5924520"/>
            <a:ext cx="6705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RANDO INTERRELACIONAR LAS GEOESFE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8:24Z</dcterms:created>
  <dc:creator>Belen Martini</dc:creator>
  <dc:description/>
  <dc:language>en-US</dc:language>
  <cp:lastModifiedBy>Oem</cp:lastModifiedBy>
  <dcterms:modified xsi:type="dcterms:W3CDTF">2008-08-04T05:00:49Z</dcterms:modified>
  <cp:revision>3</cp:revision>
  <dc:subject/>
  <dc:title>Slide 1</dc:title>
</cp:coreProperties>
</file>