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F07-F6AC-484A-A7EF-EB9E66D8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1EE-5D8E-4C9E-BC01-3AE9AA8E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1AC-5A1D-4422-A35E-AEB81B05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739-138F-43F6-A1ED-DD554DAD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015-D5AE-4B9F-AAB9-C9BAB275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AE6-5680-4533-A5B3-A8DEF742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FF1-B3B5-41E0-9499-C22D0195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722-AEE2-4344-908F-71B123A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39A-787D-4496-883D-5C2ED99A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791-A040-4207-908D-48E1936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BA6-5551-4B1A-8D64-D2367C2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326-F1DB-4882-B241-1CFA537A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F89-09E1-4D36-9AD7-80509284D0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4191120" y="4191120"/>
            <a:ext cx="2743200" cy="1371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6"/>
          <p:cNvSpPr/>
          <p:nvPr/>
        </p:nvSpPr>
        <p:spPr>
          <a:xfrm>
            <a:off x="1295280" y="838080"/>
            <a:ext cx="6858000" cy="5486400"/>
          </a:xfrm>
          <a:prstGeom prst="ellipse">
            <a:avLst/>
          </a:prstGeom>
          <a:solidFill>
            <a:srgbClr val="9405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1905120" y="1447920"/>
            <a:ext cx="5562360" cy="457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514600" y="2133720"/>
            <a:ext cx="4495680" cy="3581280"/>
          </a:xfrm>
          <a:prstGeom prst="ellipse">
            <a:avLst/>
          </a:prstGeom>
          <a:solidFill>
            <a:srgbClr val="f8f0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3048120" y="2590920"/>
            <a:ext cx="3352680" cy="2743200"/>
          </a:xfrm>
          <a:prstGeom prst="ellipse">
            <a:avLst/>
          </a:prstGeom>
          <a:solidFill>
            <a:srgbClr val="3206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3809880" y="3276720"/>
            <a:ext cx="236232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038480" y="2819520"/>
            <a:ext cx="1371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3962520" y="2300400"/>
            <a:ext cx="175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R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038480" y="16765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038480" y="9907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onaie_biodiversidad_c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85776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1700280" y="45720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76520" y="521964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RELACIONAR Y VINCUL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http://tbn0.google.com/images?q=tbn:p80_qaQPCsQ3rM:http://avanzza4.com/sistematizar.gif"/>
          <p:cNvPicPr/>
          <p:nvPr/>
        </p:nvPicPr>
        <p:blipFill>
          <a:blip r:embed="rId1"/>
          <a:stretch/>
        </p:blipFill>
        <p:spPr>
          <a:xfrm>
            <a:off x="2209680" y="2478240"/>
            <a:ext cx="4572000" cy="407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700280" y="457200"/>
            <a:ext cx="574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RROLLAR UN PENS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STEM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9:07Z</dcterms:created>
  <dc:creator>Belen Martini</dc:creator>
  <dc:description/>
  <dc:language>en-US</dc:language>
  <cp:lastModifiedBy>Oem</cp:lastModifiedBy>
  <dcterms:modified xsi:type="dcterms:W3CDTF">2008-08-04T05:00:21Z</dcterms:modified>
  <cp:revision>5</cp:revision>
  <dc:subject/>
  <dc:title>Slide 1</dc:title>
</cp:coreProperties>
</file>