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42EF-816D-41E3-9466-62ECFF632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C122-C278-478B-9E26-8669EB06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51BF-B475-40CF-962D-74C75D2FB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408D-7918-4F23-9FA7-2E07C13B0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5C0A-595A-4DB2-B8DD-C0E6C3E9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BEA6-571C-4462-9233-A62F06EC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18A8-3101-4AC5-A042-E3CA4497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253E-D143-48E1-B6BE-FBF17514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764E-A07B-49DC-BB01-06592164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306D-B6AE-40C9-8220-63B42989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DD8F-41D1-432E-9ACA-5A003B26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935B-F200-42BD-BF03-1583DC84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888B-9297-4A5C-9DD9-95B68C0960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.mx/imgres?imgurl=http://www.fotomaf.com/albums/Variado/NocheDeLosLibros.jpg&amp;imgrefurl=http://ordenadoresenelaula.blogspot.com/2007/12/sobre-los-libros-impresos-y-los.html&amp;h=721&amp;w=800&amp;sz=186&amp;hl=es&amp;start=11&amp;tbnid=Hw1nPR4FulndbM:&amp;tbnh=129&amp;tbnw=143&amp;prev=/images?q=libros&amp;gbv=2&amp;hl=es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0" descr="http://tbn0.google.com/images?q=tbn:Hw1nPR4FulndbM:http://www.fotomaf.com/albums/Variado/NocheDeLosLibro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3657600"/>
            <a:ext cx="2962440" cy="2671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6" descr="http://www.dypre.com.mx/i/img_d16.jpg"/>
          <p:cNvPicPr/>
          <p:nvPr/>
        </p:nvPicPr>
        <p:blipFill>
          <a:blip r:embed="rId3"/>
          <a:stretch/>
        </p:blipFill>
        <p:spPr>
          <a:xfrm>
            <a:off x="3809880" y="685800"/>
            <a:ext cx="4151520" cy="2879640"/>
          </a:xfrm>
          <a:prstGeom prst="rect">
            <a:avLst/>
          </a:prstGeom>
          <a:ln w="0">
            <a:noFill/>
          </a:ln>
        </p:spPr>
      </p:pic>
      <p:sp>
        <p:nvSpPr>
          <p:cNvPr id="43" name="WordArt 7"/>
          <p:cNvSpPr txBox="1"/>
          <p:nvPr/>
        </p:nvSpPr>
        <p:spPr>
          <a:xfrm>
            <a:off x="3581280" y="3962520"/>
            <a:ext cx="556272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IS RET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5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http://tbn0.google.com/images?q=tbn:054lByjA1-YIvM:http://www.uptc.edu.co/export/sites/default/direccion_investigaciones/imagenes/TCT_i/IMG_VINCULACION_CON_SECTOR_PRODUCTIVO.jpg"/>
          <p:cNvPicPr/>
          <p:nvPr/>
        </p:nvPicPr>
        <p:blipFill>
          <a:blip r:embed="rId1"/>
          <a:stretch/>
        </p:blipFill>
        <p:spPr>
          <a:xfrm>
            <a:off x="380880" y="372960"/>
            <a:ext cx="8534520" cy="58546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3657600" y="1371600"/>
            <a:ext cx="1676520" cy="554400"/>
          </a:xfrm>
          <a:prstGeom prst="rect">
            <a:avLst/>
          </a:prstGeom>
          <a:solidFill>
            <a:srgbClr val="f0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 ENVEJEC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DACTICAMEN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648320" y="4114800"/>
            <a:ext cx="2438280" cy="785520"/>
          </a:xfrm>
          <a:prstGeom prst="rect">
            <a:avLst/>
          </a:prstGeom>
          <a:solidFill>
            <a:srgbClr val="7e4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TOEVALUAC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TA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2057400" y="2819520"/>
            <a:ext cx="1676520" cy="1006560"/>
          </a:xfrm>
          <a:prstGeom prst="rect">
            <a:avLst/>
          </a:prstGeom>
          <a:solidFill>
            <a:srgbClr val="dda8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UNCA OLVIDAR QUE SOY FORMADORA DE LOS FUTUROS CIUDADAN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2" descr="http://www.innovum.cl/UserFiles/P0001/Image/modelo_competencias_explora.gif"/>
          <p:cNvPicPr/>
          <p:nvPr/>
        </p:nvPicPr>
        <p:blipFill>
          <a:blip r:embed="rId1"/>
          <a:stretch/>
        </p:blipFill>
        <p:spPr>
          <a:xfrm>
            <a:off x="1600200" y="449280"/>
            <a:ext cx="6477120" cy="615168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3981600" y="3162240"/>
            <a:ext cx="1733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T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5000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03:58:53Z</dcterms:created>
  <dc:creator>Belen Martini</dc:creator>
  <dc:description/>
  <dc:language>en-US</dc:language>
  <cp:lastModifiedBy>Oem</cp:lastModifiedBy>
  <dcterms:modified xsi:type="dcterms:W3CDTF">2008-08-04T05:01:10Z</dcterms:modified>
  <cp:revision>3</cp:revision>
  <dc:subject/>
  <dc:title>Slide 1</dc:title>
</cp:coreProperties>
</file>