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880-409C-4CB8-A0E1-FE63A20D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C22-E339-4EA6-849F-FC3F7491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82C-4D2D-45C8-814E-9A5A28E5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C4C-587B-4B82-8529-81F02FF7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945-18A6-4304-BF98-9D6D565D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1C8-7023-4418-AC5B-37607E34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AF7-34CB-41F9-9C2D-5E558543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A9B-E11C-4CCD-BEE0-93D92BBF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B97-A599-4F56-B391-B89329E2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9FD-751E-4945-AC30-4F3B7039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C26-27E6-4C46-8C18-3B0EBE4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091-25C5-43B6-93E5-A22A3229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0306-0F1D-4D01-B29B-9C8E2EC507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otomaf.com/albums/Variado/NocheDeLosLibros.jpg&amp;imgrefurl=http://ordenadoresenelaula.blogspot.com/2007/12/sobre-los-libros-impresos-y-los.html&amp;h=721&amp;w=800&amp;sz=186&amp;hl=es&amp;start=11&amp;tbnid=Hw1nPR4FulndbM:&amp;tbnh=129&amp;tbnw=143&amp;prev=/images?q=libros&amp;gbv=2&amp;hl=es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0" descr="http://tbn0.google.com/images?q=tbn:Hw1nPR4FulndbM:http://www.fotomaf.com/albums/Variado/NocheDeLosLibr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657600"/>
            <a:ext cx="2962440" cy="267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http://www.dypre.com.mx/i/img_d16.jpg"/>
          <p:cNvPicPr/>
          <p:nvPr/>
        </p:nvPicPr>
        <p:blipFill>
          <a:blip r:embed="rId3"/>
          <a:stretch/>
        </p:blipFill>
        <p:spPr>
          <a:xfrm>
            <a:off x="3809880" y="685800"/>
            <a:ext cx="415152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581280" y="3962520"/>
            <a:ext cx="55627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S 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http://tbn0.google.com/images?q=tbn:054lByjA1-YIvM:http://www.uptc.edu.co/export/sites/default/direccion_investigaciones/imagenes/TCT_i/IMG_VINCULACION_CON_SECTOR_PRODUCTIVO.jpg"/>
          <p:cNvPicPr/>
          <p:nvPr/>
        </p:nvPicPr>
        <p:blipFill>
          <a:blip r:embed="rId1"/>
          <a:stretch/>
        </p:blipFill>
        <p:spPr>
          <a:xfrm>
            <a:off x="380880" y="372960"/>
            <a:ext cx="8534520" cy="5854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657600" y="1371600"/>
            <a:ext cx="1676520" cy="554400"/>
          </a:xfrm>
          <a:prstGeom prst="rect">
            <a:avLst/>
          </a:prstGeom>
          <a:solidFill>
            <a:srgbClr val="f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ENVEJEC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DACTICAM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48320" y="4114800"/>
            <a:ext cx="2438280" cy="785520"/>
          </a:xfrm>
          <a:prstGeom prst="rect">
            <a:avLst/>
          </a:prstGeom>
          <a:solidFill>
            <a:srgbClr val="7e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057400" y="2819520"/>
            <a:ext cx="1676520" cy="1006560"/>
          </a:xfrm>
          <a:prstGeom prst="rect">
            <a:avLst/>
          </a:prstGeom>
          <a:solidFill>
            <a:srgbClr val="dda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UNCA OLVIDAR QUE SOY FORMADORA DE LOS FUTUROS CIUDAD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http://www.innovum.cl/UserFiles/P0001/Image/modelo_competencias_explora.gif"/>
          <p:cNvPicPr/>
          <p:nvPr/>
        </p:nvPicPr>
        <p:blipFill>
          <a:blip r:embed="rId1"/>
          <a:stretch/>
        </p:blipFill>
        <p:spPr>
          <a:xfrm>
            <a:off x="1600200" y="449280"/>
            <a:ext cx="6477120" cy="6151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3981600" y="3162240"/>
            <a:ext cx="173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58:53Z</dcterms:created>
  <dc:creator>Belen Martini</dc:creator>
  <dc:description/>
  <dc:language>en-US</dc:language>
  <cp:lastModifiedBy>Oem</cp:lastModifiedBy>
  <dcterms:modified xsi:type="dcterms:W3CDTF">2008-08-04T05:01:10Z</dcterms:modified>
  <cp:revision>3</cp:revision>
  <dc:subject/>
  <dc:title>Slide 1</dc:title>
</cp:coreProperties>
</file>