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2E3-9F23-452B-9FD2-9D8A6496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67F-9B82-498F-B244-BAE40CB6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955-596D-46A9-A299-8E642EB3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07F-4098-4A7F-8691-88A532D2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44B9-9B44-4825-9CEA-81DAA5E4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C8A9-A9DA-4005-A5B0-D7531D0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FA80-5741-4E6A-9062-1B15C5FD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7E46-97E9-444E-8631-2A188D27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4F8E-0AED-4EB6-A900-00A33220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9076-7CAB-4472-81D6-35A43048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2365-77EE-4B41-948D-192EC81E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4AD-6FCB-4661-B174-F753AED7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4948-1C40-4F23-95F7-B4CE1170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A4E9-B507-463F-96F5-9B215617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A809-CC11-4A44-BA6C-56D6B8A1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E9C4-9483-4299-9887-450ACEB1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E4DB-3163-478F-B9EE-13DB4DCD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635-ABA7-4A31-BAF4-A7F86A0E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B41-D18E-4966-90F8-14DA1047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1DE-58E8-4E00-B110-94ED0BB8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335-3902-427F-828F-48EA43F4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50E-4DFE-42B2-8545-6800DA0C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E3F-12EB-4E18-98D7-1747CB7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120-960C-4C69-B2DD-BEA45ED6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DFB9-14E4-47E5-8618-0BD39782E9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6393-AFF3-4E3C-8310-125776C867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fotos 105 pte"/>
          <p:cNvPicPr/>
          <p:nvPr/>
        </p:nvPicPr>
        <p:blipFill>
          <a:blip r:embed="rId1"/>
          <a:stretch/>
        </p:blipFill>
        <p:spPr>
          <a:xfrm>
            <a:off x="1371600" y="835200"/>
            <a:ext cx="7010280" cy="52308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fotos tec43 001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fotos 105 pte"/>
          <p:cNvPicPr/>
          <p:nvPr/>
        </p:nvPicPr>
        <p:blipFill>
          <a:blip r:embed="rId1"/>
          <a:stretch/>
        </p:blipFill>
        <p:spPr>
          <a:xfrm>
            <a:off x="1219320" y="684360"/>
            <a:ext cx="7086600" cy="5286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fotos 105 pte"/>
          <p:cNvPicPr/>
          <p:nvPr/>
        </p:nvPicPr>
        <p:blipFill>
          <a:blip r:embed="rId1"/>
          <a:stretch/>
        </p:blipFill>
        <p:spPr>
          <a:xfrm>
            <a:off x="1143000" y="684360"/>
            <a:ext cx="7086600" cy="5286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2:45:08Z</dcterms:created>
  <dc:creator>Belen Martini</dc:creator>
  <dc:description/>
  <dc:language>en-US</dc:language>
  <cp:lastModifiedBy>Oem</cp:lastModifiedBy>
  <dcterms:modified xsi:type="dcterms:W3CDTF">2008-08-04T02:53:09Z</dcterms:modified>
  <cp:revision>1</cp:revision>
  <dc:subject/>
  <dc:title>Slide 1</dc:title>
</cp:coreProperties>
</file>