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8B6-BF0A-4B7B-B679-7E8DC20B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311-2C63-45A3-BEB7-69BDF009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0DD-350A-4360-9806-3D654F91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40E-BDAA-469C-9B53-A718221E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9BED-BC6C-4E7D-8AA7-13521F75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9B17-AAF0-4250-B2CF-DBF19C7B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269C-1E79-480C-BEC2-7A6595F3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BA1E-F3F8-4ECB-A21E-C927655F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BF06-1CF9-4240-9D4A-443B5998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E36-4263-4738-83C9-F7D6F508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53CB-6351-4D1E-90F8-040F7578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53E-1FF3-4FC2-B3B6-29833139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B8A9-0E6B-441B-B91D-4A5E8B1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B7B0-5123-460E-870B-CF92EA4E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0F1D-EF66-470F-9B7E-E26DFB4E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F131-BEB2-451B-AF3C-E8FA321E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5870-B24E-4977-B4D2-5F5CCA04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53B-1DA5-4C7D-8A05-1B7C6958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186-4305-4474-A150-13213D96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5EA-94F5-471B-8853-7DEAF53F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F0B-3F6B-4B77-8B30-82C4067C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F51-5CD0-4D42-A5E8-88CD494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5DB-4880-4364-AF91-0E39B170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3F8-69E6-4320-95CF-3DDCE746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4CEC-2625-4F53-8881-9EEEF13C02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B10E-2E33-4B1A-927C-62B238D6B4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fotos 105 pte"/>
          <p:cNvPicPr/>
          <p:nvPr/>
        </p:nvPicPr>
        <p:blipFill>
          <a:blip r:embed="rId1"/>
          <a:stretch/>
        </p:blipFill>
        <p:spPr>
          <a:xfrm>
            <a:off x="1371600" y="835200"/>
            <a:ext cx="7010280" cy="52308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fotos tec43 001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fotos 105 pte"/>
          <p:cNvPicPr/>
          <p:nvPr/>
        </p:nvPicPr>
        <p:blipFill>
          <a:blip r:embed="rId1"/>
          <a:stretch/>
        </p:blipFill>
        <p:spPr>
          <a:xfrm>
            <a:off x="121932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fotos 105 pte"/>
          <p:cNvPicPr/>
          <p:nvPr/>
        </p:nvPicPr>
        <p:blipFill>
          <a:blip r:embed="rId1"/>
          <a:stretch/>
        </p:blipFill>
        <p:spPr>
          <a:xfrm>
            <a:off x="1143000" y="684360"/>
            <a:ext cx="7086600" cy="5286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2:45:08Z</dcterms:created>
  <dc:creator>Belen Martini</dc:creator>
  <dc:description/>
  <dc:language>en-US</dc:language>
  <cp:lastModifiedBy>Oem</cp:lastModifiedBy>
  <dcterms:modified xsi:type="dcterms:W3CDTF">2008-08-04T02:53:09Z</dcterms:modified>
  <cp:revision>1</cp:revision>
  <dc:subject/>
  <dc:title>Slide 1</dc:title>
</cp:coreProperties>
</file>