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D57-9468-4EF4-A0AF-E1FFEC37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7BF-99FA-494E-A9C8-131A5C1D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576-37B5-4C27-A2B5-EC4CED59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40E-2CE1-4C10-8269-9AB4679B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0D1D-D0B9-46F5-814A-13D157E7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F2BD-1460-417A-AE0B-303993F4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595D-7395-4513-8825-9DC6F018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8EB0-C241-4A69-8F2D-2D16042A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EC5C-CD0E-4558-8676-26B75CBB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881F-5A99-418C-8F54-170B415A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062F-9F3B-4867-AC14-73F659A5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D7C-807E-4FA8-98AD-085DEC5F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2ED8-80E3-4144-AA4A-0506F071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59ED-7ECC-43E0-AAB9-EB2A3FF5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714F-7AFB-4C9C-BF83-1B4EA9E2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541E-0420-44DA-9A99-ACB459E1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FA40-98EC-47E2-8271-F03A3087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C22-7FB0-4B9A-9A31-B790C43A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BE7-B9C3-4A0E-BEAD-8F4536B6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189-3533-4622-A450-9B315D86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AE3-F6DF-49E6-B173-2E4EEC00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1AD-CB96-4F92-9E74-C8B72C8B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F2A-B986-4F26-A465-5B582086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220-34EB-45BE-919A-D6B40EF5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4F75-9B19-47FE-9F61-BDCEFAD402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B410-3177-44C3-998D-6D8B9EF151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fotos 105 pte"/>
          <p:cNvPicPr/>
          <p:nvPr/>
        </p:nvPicPr>
        <p:blipFill>
          <a:blip r:embed="rId1"/>
          <a:stretch/>
        </p:blipFill>
        <p:spPr>
          <a:xfrm>
            <a:off x="1371600" y="835200"/>
            <a:ext cx="7010280" cy="52308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fotos tec43 001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fotos 105 pte"/>
          <p:cNvPicPr/>
          <p:nvPr/>
        </p:nvPicPr>
        <p:blipFill>
          <a:blip r:embed="rId1"/>
          <a:stretch/>
        </p:blipFill>
        <p:spPr>
          <a:xfrm>
            <a:off x="121932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fotos 105 pte"/>
          <p:cNvPicPr/>
          <p:nvPr/>
        </p:nvPicPr>
        <p:blipFill>
          <a:blip r:embed="rId1"/>
          <a:stretch/>
        </p:blipFill>
        <p:spPr>
          <a:xfrm>
            <a:off x="114300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2:45:08Z</dcterms:created>
  <dc:creator>Belen Martini</dc:creator>
  <dc:description/>
  <dc:language>en-US</dc:language>
  <cp:lastModifiedBy>Oem</cp:lastModifiedBy>
  <dcterms:modified xsi:type="dcterms:W3CDTF">2008-08-04T02:53:09Z</dcterms:modified>
  <cp:revision>1</cp:revision>
  <dc:subject/>
  <dc:title>Slide 1</dc:title>
</cp:coreProperties>
</file>