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1EA-227C-4D41-8057-C59DF90C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BC5-5C24-497A-91C5-B7DA037B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E31-3770-41B6-885E-E7B6F6C3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DE1-9791-475B-8424-C31816A3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E54-C3F5-48CA-AE1C-79E25A2E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4A5-5345-437F-BF03-5D3E18DA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351-AF10-4324-9631-B8B2DF47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35A-0F1D-48FB-A5BD-39376FB8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EED-C1C0-4937-B0D3-F389AE72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DEE-61CC-4A85-BEEF-6FD5248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0AA-CA06-4DB6-8CA6-59F37BA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739-6157-42DB-8A5B-F3687972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E6A4-4E70-4315-A550-D18CF2464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7502" t="14998" r="16876" b="21191"/>
          <a:stretch/>
        </p:blipFill>
        <p:spPr>
          <a:xfrm>
            <a:off x="457200" y="152280"/>
            <a:ext cx="853452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19305000">
            <a:off x="2286000" y="1523880"/>
            <a:ext cx="4495680" cy="36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DIFIC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Y/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DAPT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21:44Z</dcterms:created>
  <dc:creator>Belen Martini</dc:creator>
  <dc:description/>
  <dc:language>en-US</dc:language>
  <cp:lastModifiedBy>Oem</cp:lastModifiedBy>
  <dcterms:modified xsi:type="dcterms:W3CDTF">2008-08-04T03:25:52Z</dcterms:modified>
  <cp:revision>1</cp:revision>
  <dc:subject/>
  <dc:title>Slide 1</dc:title>
</cp:coreProperties>
</file>