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F397-8BCC-4D75-8453-D807BED36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7738-B8C2-47AE-AB2E-D35702AAC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ABA1-A692-4B26-A3C8-30189EBDA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5056-8CF8-4064-A6AC-C52A7F0AF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69D3-4966-4E82-B456-47E0D847E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99C4-16F7-4541-8638-714BB4FD3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F0F4-A20A-49C7-A9A6-B996182A9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50E3-9E28-42ED-87FA-FED05460B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808D-97D6-4DA2-AB96-BBEB0C846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1B72-5AC8-4AF0-9332-CFA18F9B6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A3F7-F865-4E44-9508-FBA5F78DB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992C-ED1A-4D71-B927-15540B2D5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7BBE2-767E-4043-A000-41D6A7BC3F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7502" t="14998" r="16876" b="21191"/>
          <a:stretch/>
        </p:blipFill>
        <p:spPr>
          <a:xfrm>
            <a:off x="457200" y="152280"/>
            <a:ext cx="8534520" cy="670572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 rot="19305000">
            <a:off x="2286000" y="1523880"/>
            <a:ext cx="4495680" cy="363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MODIFICACION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Y/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ADAPTACION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03:21:44Z</dcterms:created>
  <dc:creator>Belen Martini</dc:creator>
  <dc:description/>
  <dc:language>en-US</dc:language>
  <cp:lastModifiedBy>Oem</cp:lastModifiedBy>
  <dcterms:modified xsi:type="dcterms:W3CDTF">2008-08-04T03:25:52Z</dcterms:modified>
  <cp:revision>1</cp:revision>
  <dc:subject/>
  <dc:title>Slide 1</dc:title>
</cp:coreProperties>
</file>