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6F3C1-110B-4EAD-95A2-ED03EF6E68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7EA17-4ED7-41D1-BAC3-EC4442C23B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3565-8182-4A9D-BB0D-7807C118A3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1ADAB-85DE-4EEF-B23B-AD05F2D922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7441-9CFB-4158-8C42-82EB54400E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2C48-DB47-4088-87B0-10679D0E36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DB3C2-B339-4D4E-A455-0EB18B44A5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20D1-621C-48D8-8F15-A65F7E57C2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BFA6-F782-46D1-A505-C8715B92C3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609-95E5-4B0A-987B-A5DDA6F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C7A-57BF-4DBE-B836-1DF771A9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1C1-592F-49B5-80C3-1744C7D4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A09-DB0D-446C-9C80-379B5267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529-426D-41C9-AEE4-A63D0242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E41-21F7-4154-998A-07520CA9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FC4-48AE-40F7-97D7-0FEC3E29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BE8-5B8F-4325-8249-0EA344ED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B3F-5EDF-45E5-A63D-5B30906D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98E-A978-406F-A960-3864DA3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53C-4A2D-47FB-B2EF-97ABD80A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9BB-EDEF-4520-A1FD-D2EE9C2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5DD2A2-C225-4FC1-813F-BFE3119948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4480"/>
            <a:ext cx="10080720" cy="200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67320" rIns="67320" tIns="67320" bIns="673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OTTOGRUPPO 1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Interlingua e analisi dell'err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545840"/>
            <a:ext cx="10080720" cy="608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 COMINCIARE.......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terlingua : una lingua che sta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“nel mezzo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CORSO DI FORMAZIONE PER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REA LINGUISTIC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OTIV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RESENTE PERCORSO DI FORMAZIONE NASCE DALL'ESIGENZA DI SENSIBILIZZARE I DOCENTI ALLE TEMATICHE DELL'INTERLINGU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OCENTI DI SCUOLA SECONDARIA DI PRIMO E SECONDO GRADO DELL'AREA LINGU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3366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iffondere una maggiore sensibilità verso l'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strumenti teorici e pratici per approfondire il concetto di 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oprire i principali meccanismi di acquisizione di una seconda 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 conoscenze e competenze per gestire le problematiche della classe plurili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ntribuire alla creazione di risorse didattiche che tengano conto dei bisogni degli stud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10080720" cy="16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72000" rIns="72000" tIns="72000" bIns="72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410840"/>
            <a:ext cx="10080720" cy="785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HE COS'E' 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DESCRIVERE E RICOSTRUIRE IL SISTEMA DI INTERLINGUA ATTRAVERSO TESTI SCRITTI E/O ORALI PRODOTTI DAGLI APPRENDE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ELLE FA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ALI SONO GLI STADI E LE SEQUENZE DELL'ACQUISIZIONE DI UNA SECONDA 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CONFRONTARE LE FASI, GLI STADI E LE SEQUENZE DEGLI APPRENDENTI IN UNA CLASSE PLURILIN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IFFERENZE DI ACQUISIZIONE TRA UN APPRENDENTE ITALOFONO DI UNA LS E UN APPRENDENTE NON ITALOFONO DI ITALIANO L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40000" y="63000"/>
            <a:ext cx="1062036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ETODI/STRU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44880" y="1260000"/>
            <a:ext cx="10620360" cy="876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formativo prevede una metodologia che abbia un carattere teorico/ pratico ed esperenziale. Gli incontri attraverso focus group, work-shop...., saranno condotti in modo da creare situazioni di simulazione del contesto classe con l'obiettivo di favorire nei docenti un apprendimento efficace e diretto delle attività che andranno via via sperimen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A TAL FINE SI UTILIZZERANNO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hede in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estio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Griglie di osservazione e di rile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EMPI DI RE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VERRA' REALIZZATO NELL'ARCO DI..........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E SCANDITO IN N°........... INCON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87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VERIFICA /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862280"/>
            <a:ext cx="10080720" cy="582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TTRAVERSO QUESTIONARI ( INIZIALE, INTERMEDIO, FINALE) I DOCENTI SARANNO INVITATI AD ESPRIMERE E A CONFRONTARE IL RAGGIUNGIMENTO DEGLI OBIETTIVI DEL PERCO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OLTRE L'ELABORAZIONE DI UNA SERIE DI INDICATORI PERMETTERA' DI VERIFICARE E VALUTARE L'EFFICIENZA E L'EFFICACIA FORM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 di Alice</dc:creator>
  <dc:description/>
  <dc:language>en-US</dc:language>
  <cp:lastModifiedBy>Rosanna Mercairo</cp:lastModifiedBy>
  <dcterms:modified xsi:type="dcterms:W3CDTF">2009-01-22T14:31:40Z</dcterms:modified>
  <cp:revision>1</cp:revision>
  <dc:subject/>
  <dc:title> SOTTOGRUPPO 1 Interlingua e analisi dell'errore</dc:title>
</cp:coreProperties>
</file>