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7E87C-AA75-4D04-B78D-74C0BA059E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50391-CFFB-452A-B92B-03BE1AB6EB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DA40A-535C-4F25-8E6F-59769A7B20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15ECC-DC4C-4CF4-BCE0-573E50B42F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A21DB-E451-492F-B457-21D2C43A5C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E9F64-D2F8-4064-B8C8-0C47397918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4923A-38FE-4DD2-8565-C4E151FC0F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AC250-CFDD-4244-A869-70EA00D4D8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C52D3-3406-4713-861E-9721B835C9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4F3-82EA-4665-A0D4-557E4960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5E7-4EDF-4532-BB8E-170F1BCD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EAC-C476-4A2B-A435-D6A9E927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CB8-07E8-4310-A531-C033B632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E6C-557C-48E5-818C-6120B076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830-EB69-49F0-958E-104E15DF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26E-4D3D-420B-BB3C-099D142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4CF-7058-4364-9955-F0E42B9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CF3-C592-42DA-BB6A-9D243421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7B3-CC7D-4D9E-AB46-0CBB54B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11D-87F8-43BD-8D31-16FBBCD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0E7-F723-47D5-927B-123D760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B3ADD6-6C84-4810-A879-748D79B821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84480"/>
            <a:ext cx="10080720" cy="200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44000">
            <a:solidFill>
              <a:srgbClr val="000080"/>
            </a:solidFill>
            <a:round/>
          </a:ln>
        </p:spPr>
        <p:txBody>
          <a:bodyPr lIns="67320" rIns="67320" tIns="67320" bIns="673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SOTTOGRUPPO 1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Interlingua e analisi dell'err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545840"/>
            <a:ext cx="10080720" cy="608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 COMINCIARE.......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terlingua : una lingua che sta 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“nel mezzo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CORSO DI FORMAZIONE PER DO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AREA LINGUISTIC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MOTIV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RESENTE PERCORSO DI FORMAZIONE NASCE DALL'ESIGENZA DI SENSIBILIZZARE I DOCENTI ALLE TEMATICHE DELL'INTERLINGU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DOCENTI DI SCUOLA SECONDARIA DI PRIMO E SECONDO GRADO DELL'AREA LINGUI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3366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Diffondere una maggiore sensibilità verso l'inter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Fornire strumenti teorici e pratici per approfondire il concetto di inter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Scoprire i principali meccanismi di acquisizione di una seconda li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Fornire  conoscenze e competenze per gestire le problematiche della classe plurili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ntribuire alla creazione di risorse didattiche che tengano conto dei bisogni degli stud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10080720" cy="16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44000">
            <a:solidFill>
              <a:srgbClr val="000080"/>
            </a:solidFill>
            <a:round/>
          </a:ln>
        </p:spPr>
        <p:txBody>
          <a:bodyPr lIns="72000" rIns="72000" tIns="72000" bIns="72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CONTENU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410840"/>
            <a:ext cx="10080720" cy="785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HE COS'E' 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ME DESCRIVERE E RICOSTRUIRE IL SISTEMA DI INTERLINGUA ATTRAVERSO TESTI SCRITTI E/O ORALI PRODOTTI DAGLI APPRENDE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SISTONO DELLE FASI DELL'INTER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ALI SONO GLI STADI E LE SEQUENZE DELL'ACQUISIZIONE DI UNA SECONDA LIN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ME CONFRONTARE LE FASI, GLI STADI E LE SEQUENZE DEGLI APPRENDENTI IN UNA CLASSE PLURILIN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SISTONO DIFFERENZE DI ACQUISIZIONE TRA UN APPRENDENTE ITALOFONO DI UNA LS E UN APPRENDENTE NON ITALOFONO DI ITALIANO L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540000" y="63000"/>
            <a:ext cx="1062036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METODI/STRU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44880" y="1260000"/>
            <a:ext cx="10620360" cy="876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ercorso formativo prevede una metodologia che abbia un carattere teorico/ pratico ed esperenziale. Gli incontri attraverso focus group, work-shop...., saranno condotti in modo da creare situazioni di simulazione del contesto classe con l'obiettivo di favorire nei docenti un apprendimento efficace e diretto delle attività che andranno via via sperimen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A TAL FINE SI UTILIZZERANNO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Schede in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estion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Griglie di osservazione e di rilev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6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EMPI DI RE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618920"/>
            <a:ext cx="10080720" cy="606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L PERCORSO VERRA' REALIZZATO NELL'ARCO DI..........M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E SCANDITO IN N°........... INCON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3080"/>
            <a:ext cx="10080720" cy="187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2720" rIns="72720" tIns="72720" bIns="72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VERIFICA /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1862280"/>
            <a:ext cx="10080720" cy="582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154800">
            <a:solidFill>
              <a:srgbClr val="000080"/>
            </a:solidFill>
            <a:round/>
          </a:ln>
        </p:spPr>
        <p:txBody>
          <a:bodyPr lIns="77400" rIns="77400" tIns="77400" bIns="77400" anchor="ctr">
            <a:noAutofit/>
          </a:bodyPr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ATTRAVERSO QUESTIONARI ( INIZIALE, INTERMEDIO, FINALE) I DOCENTI SARANNO INVITATI AD ESPRIMERE E A CONFRONTARE IL RAGGIUNGIMENTO DEGLI OBIETTIVI DEL PERCO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3000"/>
              </a:lnSpc>
              <a:buNone/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OLTRE L'ELABORAZIONE DI UNA SERIE DI INDICATORI PERMETTERA' DI VERIFICARE E VALUTARE L'EFFICIENZA E L'EFFICACIA FORM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 di Alice</dc:creator>
  <dc:description/>
  <dc:language>en-US</dc:language>
  <cp:lastModifiedBy>Rosanna Mercairo</cp:lastModifiedBy>
  <dcterms:modified xsi:type="dcterms:W3CDTF">2009-01-22T14:31:40Z</dcterms:modified>
  <cp:revision>1</cp:revision>
  <dc:subject/>
  <dc:title> SOTTOGRUPPO 1 Interlingua e analisi dell'errore</dc:title>
</cp:coreProperties>
</file>