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524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79C6F-939D-4FA1-9540-BA74EA2EFA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53A80-64C2-43F1-B149-AD5EBC8EE7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CD8F8-DA78-497B-8D03-5F6930DE7D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29D7-19E4-44E0-A804-E37F0FF7D2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7F72B-E7F5-4E09-B197-9EF8A6F8026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CE376-0C7E-4B18-BF66-C6B6F86EEA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482EC-8BF6-4B4A-B75F-F853B233BB4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32AD4-188B-4358-9B19-82A5725019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D6658-930A-44EE-B900-1C00021655E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C44-A283-4C23-AD0D-B9DAD246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A6D-0CAF-493F-975F-E827445C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64E4-4DC9-473C-B97B-63EF5207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6609-6B4A-4B3E-9EC1-36014375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D4E-0186-4207-B7A2-434E537F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D99-F8FF-47CF-B3AE-6C72FF3C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31F-BDA6-4AF6-8287-0810A8B1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24A-0521-45FB-89A5-8B6BB6B7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507-BB6F-486F-98F3-A838A128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293-0266-49B5-AD9B-30017D8B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FFD-D7D1-4096-8FCE-CEAC88CE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86E-B9F7-44F2-88CB-1CA30945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208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ABFEC9-C03D-454A-A2BB-DCA4072353C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84480"/>
            <a:ext cx="10080720" cy="200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44000">
            <a:solidFill>
              <a:srgbClr val="000080"/>
            </a:solidFill>
            <a:round/>
          </a:ln>
        </p:spPr>
        <p:txBody>
          <a:bodyPr lIns="67320" rIns="67320" tIns="67320" bIns="673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SOTTOGRUPPO 1</a:t>
            </a:r>
            <a:br>
              <a:rPr sz="4400"/>
            </a:b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Interlingua e analisi dell'err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545840"/>
            <a:ext cx="10080720" cy="608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  <a:ea typeface="Lucida Sans Unicode"/>
              </a:rPr>
              <a:t>PER COMINCIARE.......</a:t>
            </a:r>
            <a:br>
              <a:rPr sz="4400"/>
            </a:br>
            <a:r>
              <a:rPr b="1" lang="it-IT" sz="4400" spc="-1" strike="noStrike">
                <a:solidFill>
                  <a:srgbClr val="ff0000"/>
                </a:solidFill>
                <a:latin typeface="Arial"/>
                <a:ea typeface="Lucida Sans Unicode"/>
              </a:rPr>
              <a:t>Interlingua : una lingua che sta </a:t>
            </a:r>
            <a:br>
              <a:rPr sz="4400"/>
            </a:br>
            <a:r>
              <a:rPr b="1" lang="it-IT" sz="4400" spc="-1" strike="noStrike">
                <a:solidFill>
                  <a:srgbClr val="ff0000"/>
                </a:solidFill>
                <a:latin typeface="Arial"/>
                <a:ea typeface="Lucida Sans Unicode"/>
              </a:rPr>
              <a:t>“nel mezzo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PERCORSO DI FORMAZIONE PER DOC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AREA LINGUISTIC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73080"/>
            <a:ext cx="10080720" cy="166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MOTIV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1618920"/>
            <a:ext cx="10080720" cy="606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7400" rIns="77400" tIns="77400" bIns="77400" anchor="ctr">
            <a:noAutofit/>
          </a:bodyPr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IL PRESENTE PERCORSO DI FORMAZIONE NASCE DALL'ESIGENZA DI SENSIBILIZZARE I DOCENTI ALLE TEMATICHE DELL'INTERLINGU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73080"/>
            <a:ext cx="10080720" cy="166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TAR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1618920"/>
            <a:ext cx="10080720" cy="606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77400" rIns="77400" tIns="77400" bIns="77400" anchor="ctr">
            <a:noAutofit/>
          </a:bodyPr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DOCENTI DI SCUOLA SECONDARIA DI PRIMO E SECONDO GRADO DELL'AREA LINGUI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73080"/>
            <a:ext cx="10080720" cy="166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ff3366"/>
                </a:solidFill>
                <a:latin typeface="Arial"/>
              </a:rPr>
              <a:t>OBIET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1618920"/>
            <a:ext cx="10080720" cy="606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7400" rIns="77400" tIns="77400" bIns="77400" anchor="ctr">
            <a:noAutofit/>
          </a:bodyPr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Diffondere una maggiore sensibilità verso l'interlin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Fornire strumenti teorici e pratici per approfondire il concetto di interlin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Scoprire i principali meccanismi di acquisizione di una seconda lin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Fornire  conoscenze e competenze per gestire le problematiche della classe plurilin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ntribuire alla creazione di risorse didattiche che tengano conto dei bisogni degli stud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71640"/>
            <a:ext cx="10080720" cy="16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44000">
            <a:solidFill>
              <a:srgbClr val="000080"/>
            </a:solidFill>
            <a:round/>
          </a:ln>
        </p:spPr>
        <p:txBody>
          <a:bodyPr lIns="72000" rIns="72000" tIns="72000" bIns="72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CONTENU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410840"/>
            <a:ext cx="10080720" cy="785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7400" rIns="77400" tIns="77400" bIns="77400" anchor="ctr">
            <a:noAutofit/>
          </a:bodyPr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HE COS'E' L'INTERLINGU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ME DESCRIVERE E RICOSTRUIRE IL SISTEMA DI INTERLINGUA ATTRAVERSO TESTI SCRITTI E/O ORALI PRODOTTI DAGLI APPRENDEN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ESISTONO DELLE FASI DELL'INTERLINGU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QUALI SONO GLI STADI E LE SEQUENZE DELL'ACQUISIZIONE DI UNA SECONDA LINGU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ME CONFRONTARE LE FASI, GLI STADI E LE SEQUENZE DEGLI APPRENDENTI IN UNA CLASSE PLURILIN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ESISTONO DIFFERENZE DI ACQUISIZIONE TRA UN APPRENDENTE ITALOFONO DI UNA LS E UN APPRENDENTE NON ITALOFONO DI ITALIANO L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540000" y="63000"/>
            <a:ext cx="10620360" cy="10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METODI/STRU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-344880" y="1260000"/>
            <a:ext cx="10620360" cy="876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7400" rIns="77400" tIns="77400" bIns="77400" anchor="ctr">
            <a:noAutofit/>
          </a:bodyPr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Il percorso formativo prevede una metodologia che abbia un carattere teorico/ pratico ed esperenziale. Gli incontri attraverso focus group, work-shop...., saranno condotti in modo da creare situazioni di simulazione del contesto classe con l'obiettivo di favorire nei docenti un apprendimento efficace e diretto delle attività che andranno via via sperimen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3200" spc="-1" strike="noStrike" u="sng">
                <a:solidFill>
                  <a:srgbClr val="ff0000"/>
                </a:solidFill>
                <a:uFillTx/>
                <a:latin typeface="Arial"/>
                <a:ea typeface="Lucida Sans Unicode"/>
              </a:rPr>
              <a:t>A TAL FINE SI UTILIZZERANNO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Schede inform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Question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Griglie di osservazione e di rilev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73080"/>
            <a:ext cx="10080720" cy="166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TEMPI DI RE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618920"/>
            <a:ext cx="10080720" cy="606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7400" rIns="77400" tIns="77400" bIns="77400" anchor="ctr">
            <a:noAutofit/>
          </a:bodyPr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IL PERCORSO VERRA' REALIZZATO NELL'ARCO DI..........M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E SCANDITO IN N°........... INCON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3080"/>
            <a:ext cx="10080720" cy="187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VERIFICA / 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1862280"/>
            <a:ext cx="10080720" cy="582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7400" rIns="77400" tIns="77400" bIns="77400" anchor="ctr">
            <a:noAutofit/>
          </a:bodyPr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ATTRAVERSO QUESTIONARI ( INIZIALE, INTERMEDIO, FINALE) I DOCENTI SARANNO INVITATI AD ESPRIMERE E A CONFRONTARE IL RAGGIUNGIMENTO DEGLI OBIETTIVI DEL PERCOR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INOLTRE L'ELABORAZIONE DI UNA SERIE DI INDICATORI PERMETTERA' DI VERIFICARE E VALUTARE L'EFFICIENZA E L'EFFICACIA FORM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C di Alice</dc:creator>
  <dc:description/>
  <dc:language>en-US</dc:language>
  <cp:lastModifiedBy>Rosanna Mercairo</cp:lastModifiedBy>
  <dcterms:modified xsi:type="dcterms:W3CDTF">2009-01-22T14:31:40Z</dcterms:modified>
  <cp:revision>1</cp:revision>
  <dc:subject/>
  <dc:title> SOTTOGRUPPO 1 Interlingua e analisi dell'errore</dc:title>
</cp:coreProperties>
</file>