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31860-D4B8-4B3F-9576-BE6824A3F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C1D95-892A-472E-BF6E-29361D1B3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8A926-75FC-4D00-9BFA-CBDD98E7D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7BB5E-7CE5-40D2-A597-055A41597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490BE-978A-460D-920E-F1DF6F31E7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06745-5A68-4956-9BEE-1AA95FB06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C4ABC-9571-4838-8B82-6631E662D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7D308-E178-466C-B61A-8FAF86382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9EF10-CE0F-4FC9-B9FF-FE0ACDEE4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7EDDE-D422-408C-B0CD-8F2FB9C66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32474-FB0D-40AF-A526-8F0B97BF4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79359-D6D9-43DC-A135-1593517DD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841C1-94C1-4158-BEA1-2A6793F32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76876-7F5B-4C58-8F7C-DBEA6E0DC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4BA11-786D-4EE9-B306-2E90EEE6D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449AFE-00B4-4F6C-81CB-DD1CB5E4F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F5798-4F80-4A30-8141-D5EDFD7028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F477B-2EB1-464E-BD48-64D635D79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6B39F-51EE-4BCF-A964-AE577A20D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EB5E4-7874-40D5-9059-968F6F009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5F355-AB01-4151-A3BB-03EDB222B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BDA39-0015-4A26-9919-8B127CBFE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07F40-DBA5-463F-86A0-A8E66798F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91E83-AE5C-42E1-903D-8217FD7E3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ECF2-758C-40DB-9970-90DDECCB1DD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E07D-3DEE-4702-A5B1-9ED3E955268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1280"/>
            <a:ext cx="6440400" cy="378936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0" lang="en-US" sz="4400" spc="-1" strike="noStrike">
                <a:solidFill>
                  <a:srgbClr val="000000"/>
                </a:solidFill>
                <a:latin typeface="MS PMincho"/>
                <a:ea typeface="MS PMincho"/>
              </a:rPr>
              <a:t> </a:t>
            </a:r>
            <a:br>
              <a:rPr sz="4400"/>
            </a:br>
            <a:br>
              <a:rPr sz="4400"/>
            </a:br>
            <a:br>
              <a:rPr sz="4400"/>
            </a:br>
            <a:br>
              <a:rPr sz="4400"/>
            </a:br>
            <a:br>
              <a:rPr sz="4400"/>
            </a:br>
            <a:br>
              <a:rPr sz="4400"/>
            </a:br>
            <a:r>
              <a:rPr b="0" lang="en-US" sz="4400" spc="-1" strike="noStrike">
                <a:solidFill>
                  <a:srgbClr val="000000"/>
                </a:solidFill>
                <a:latin typeface="MS PMincho"/>
                <a:ea typeface="MS PMincho"/>
              </a:rPr>
              <a:t>Interlingua e analisi degli errori</a:t>
            </a:r>
            <a:br>
              <a:rPr sz="4400"/>
            </a:br>
            <a:r>
              <a:rPr b="0" lang="en-US" sz="4400" spc="-1" strike="noStrike">
                <a:solidFill>
                  <a:srgbClr val="000000"/>
                </a:solidFill>
                <a:latin typeface="MS PMincho"/>
                <a:ea typeface="MS PMincho"/>
              </a:rPr>
              <a:t>Esempi Italiano L1</a:t>
            </a:r>
            <a:br>
              <a:rPr sz="3200"/>
            </a:br>
            <a:br>
              <a:rPr sz="3200"/>
            </a:br>
            <a:br>
              <a:rPr sz="3200"/>
            </a:b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 produzione scritta di un testo argomentativo</a:t>
            </a:r>
            <a:endParaRPr b="0" lang="en-US" sz="3200" spc="-1" strike="noStrike">
              <a:solidFill>
                <a:srgbClr val="000000"/>
              </a:solidFill>
              <a:latin typeface="Comic Sans MS"/>
            </a:endParaRPr>
          </a:p>
        </p:txBody>
      </p:sp>
      <p:sp>
        <p:nvSpPr>
          <p:cNvPr id="153" name=""/>
          <p:cNvSpPr/>
          <p:nvPr/>
        </p:nvSpPr>
        <p:spPr>
          <a:xfrm>
            <a:off x="5435640" y="6237360"/>
            <a:ext cx="51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istina Bott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vello C1</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DRONANZA ORTOGRAFICA</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aginazione, strutturazione in paragrafi e punteggiatura sono coerenti e funzionali. L’ortografia è corretta, a parte qualche sbaglio occasiona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47520"/>
            <a:ext cx="914400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STO 1- COME RISOLVERE IL PROBLEMA STA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orrei discutere della violenza negli stadi. Perché in Italia è cosi tanto in aumento? Ve lo dico io il motivo; in Italia allo stadio non vanno solo le persone innamorate del calcio, purtroppo è pieno di gente che io non definisco tifosi, perché si recano allo stadio solo per creare scompiglio, e fanno vittime ovunque ed è per colpa di questi teppisti che si sta perdendo la passione di andare a vedere la tua squadra da vici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e si potrebbe fare per cercare di risolvere questo proble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a domenica un mucchio di forze dell’ordine vengono impiegate negli stadi, ma non servono a nulla, i teppisti sono sempre troppi. L’unico modo è quello di non fare entrare questi, anche se non è facile, ma in Inghilterra ce l’hanno fatta, come mai?! Forse perché  i nostri politici non accendono il cervello! Prima di entrare nello stadio dovrebbero ritirare tutto quello che una persona possiede, poi si dovrebbe monitorare tutti i posti, in questo modo se succedesse qualcosa si troverebbe subito il colpevole, e le pene dovrebbero essere più pesanti (vengono trattenuti massimo un’ora in questura). In Inghilterra tutto questo avviene già e dovrebbe succedere anche in Italia, spero che prima o poi ce la faremo! Il problema sono i soldi, come sempre, perché le spese per tutto il materiale occorrente sono attribuite alle società calcistiche che, logicamente, non se lo possono permettere o non vogliono spendere, a questo punto, o si fa una legge che rende obbligatorie le telecamere e tutto il resto o si continua ad andare avanti co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trimenti in un terzo caso lo Stato potrebbe tirare fuori dei soldi, e tutto sarebbe a pos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riamo che duri ancora per poco questo caos, qualcuno prima o poi farà qualc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ali e quanti errori?</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Valutazione</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globale</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Contenuto</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Organizzazione</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Stile</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Grammatica</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Lessico</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Ortografia</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fficoltà della lingua scritta</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 studente sprovveduto </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nde a trasferire la lingua parlata nella lingua scritta</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ica la scrittura invece di semplificarla</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n è attento al lettore</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rogetta quanto scrive</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rilegge</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organizza gli enunciati in un testo strutturat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 esempio di complicazione di scrittura</a:t>
            </a:r>
            <a:endParaRPr b="0" lang="en-US" sz="4000" spc="-1" strike="noStrike">
              <a:solidFill>
                <a:srgbClr val="000000"/>
              </a:solidFill>
              <a:latin typeface="Comic Sans MS"/>
            </a:endParaRPr>
          </a:p>
        </p:txBody>
      </p:sp>
      <p:sp>
        <p:nvSpPr>
          <p:cNvPr id="178" name="PlaceHolder 2"/>
          <p:cNvSpPr>
            <a:spLocks noGrp="1"/>
          </p:cNvSpPr>
          <p:nvPr>
            <p:ph/>
          </p:nvPr>
        </p:nvSpPr>
        <p:spPr>
          <a:xfrm>
            <a:off x="685440" y="1828800"/>
            <a:ext cx="8062920" cy="41925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ianeta in pericolo: la mancanza dell'acqua sulla Terra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molti anni si cerca di far nascere accordi per ridurre la non coesistenza dello sviluppo economico, che emana nell'atmosfera anidride carbonica e altri numerosi gas nocivi che contribuiscono all'alterazione del clima e non solo, con il sistema ecologico che al contrario tenta di conservare la salute del nostro pianeta. Una rappresentazione negativa e a mio parere molto significativa che queste attività di sviluppo portano  è una nube tossica di spessore 3 chilometri e una vastità di 16 milioni di chilometri quadrati che sovrasta l'Asia. Un altro problema è la scarsità dell'acqua sul nostro pianeta .La Terra è composta per il 70 per cento di acqua, ma purtroppo il 97,5 per cento di essa è dissalabile solo a costi altis­simi, i rimanenti 2,5 per cento sono composti di acqua dolce di cui l'uomo ha accesso solo all' l per cento di essa. Nonostante l'acqua scarseggi, in molti paesi sottosviluppati la popolazione continua ad aumentare, citando un dato: l'Africa in cinquant'anni ha quadruplicato la sua popolazione nonostante la mancanza di cibo, sanità e di acqua potabile.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4000" y="6202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Quali possibili cause del fenomeno di involuzione di scrittura?</a:t>
            </a:r>
            <a:endParaRPr b="0" lang="en-US" sz="4000" spc="-1" strike="noStrike">
              <a:solidFill>
                <a:srgbClr val="000000"/>
              </a:solidFill>
              <a:latin typeface="Comic Sans MS"/>
            </a:endParaRPr>
          </a:p>
        </p:txBody>
      </p:sp>
      <p:sp>
        <p:nvSpPr>
          <p:cNvPr id="180" name="PlaceHolder 2"/>
          <p:cNvSpPr>
            <a:spLocks noGrp="1"/>
          </p:cNvSpPr>
          <p:nvPr>
            <p:ph/>
          </p:nvPr>
        </p:nvSpPr>
        <p:spPr>
          <a:xfrm>
            <a:off x="684360" y="191628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modelli di riferimento rappresentati dai testi stimolo (cfr. documenti in allegato) hanno condizionato in negativo il testo prodotto</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emulazione si è prodotta una sintassi ricca di costrutti subordinativi complessi,  privi di coerenza</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essi concetti espressi in uno stile paratattico sarebbero stati più chiari</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e fare?</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re scopi reali al processo di scrittura (perc.3)</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viluppare la sensibilità allo stile e al registro appropriati alle diverse situazioni (perc.3)</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MS PMincho"/>
              </a:rPr>
              <a:t>Far passare gli alunni dalla scrittura 'orale' (narrazione sequenziale di tutto ciò che viene in mente) alla strutturazione del testo come prodotto coerente: da </a:t>
            </a:r>
            <a:r>
              <a:rPr b="0" i="1" lang="it-IT" sz="2400" spc="-1" strike="noStrike">
                <a:solidFill>
                  <a:srgbClr val="000000"/>
                </a:solidFill>
                <a:latin typeface="Comic Sans MS"/>
                <a:ea typeface="MS PMincho"/>
              </a:rPr>
              <a:t>raccontare ciò che si sa</a:t>
            </a:r>
            <a:r>
              <a:rPr b="0" lang="it-IT" sz="2400" spc="-1" strike="noStrike">
                <a:solidFill>
                  <a:srgbClr val="000000"/>
                </a:solidFill>
                <a:latin typeface="Comic Sans MS"/>
                <a:ea typeface="MS PMincho"/>
              </a:rPr>
              <a:t> ad </a:t>
            </a:r>
            <a:r>
              <a:rPr b="0" i="1" lang="it-IT" sz="2400" spc="-1" strike="noStrike">
                <a:solidFill>
                  <a:srgbClr val="000000"/>
                </a:solidFill>
                <a:latin typeface="Comic Sans MS"/>
                <a:ea typeface="MS PMincho"/>
              </a:rPr>
              <a:t>organizzare ciò che si sa (</a:t>
            </a:r>
            <a:r>
              <a:rPr b="0" lang="it-IT" sz="2400" spc="-1" strike="noStrike">
                <a:solidFill>
                  <a:srgbClr val="000000"/>
                </a:solidFill>
                <a:latin typeface="Comic Sans MS"/>
              </a:rPr>
              <a:t>perc.3)</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MS PMincho"/>
              </a:rPr>
              <a:t>Presentare modelli concreti di scrittura</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MS PMincho"/>
              </a:rPr>
              <a:t>Utilizzare i vantaggi della videoscrittura</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MS PMincho"/>
              </a:rPr>
              <a:t>(vedi Fase 3 </a:t>
            </a:r>
            <a:r>
              <a:rPr b="0" i="1" lang="it-IT" sz="2400" spc="-1" strike="noStrike">
                <a:solidFill>
                  <a:srgbClr val="000000"/>
                </a:solidFill>
                <a:latin typeface="Comic Sans MS"/>
                <a:ea typeface="MS PMincho"/>
              </a:rPr>
              <a:t>Come intervenire?)</a:t>
            </a:r>
            <a:endParaRPr b="0" lang="en-US" sz="2400" spc="-1" strike="noStrike">
              <a:solidFill>
                <a:srgbClr val="000000"/>
              </a:solidFill>
              <a:latin typeface="Comic Sans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S PMincho"/>
              </a:rPr>
              <a:t>Esercitazione</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S PMincho"/>
              </a:rPr>
              <a:t>Prova: </a:t>
            </a:r>
            <a:r>
              <a:rPr b="0" lang="en-US" sz="1800" spc="-1" strike="noStrike">
                <a:solidFill>
                  <a:srgbClr val="000000"/>
                </a:solidFill>
                <a:latin typeface="MS PMincho"/>
              </a:rPr>
              <a:t>Composizione argomentativo-persuasiva</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S PMincho"/>
              </a:rPr>
              <a:t>Studenti</a:t>
            </a:r>
            <a:r>
              <a:rPr b="0" lang="en-US" sz="1800" spc="-1" strike="noStrike">
                <a:solidFill>
                  <a:srgbClr val="000000"/>
                </a:solidFill>
                <a:latin typeface="MS PMincho"/>
              </a:rPr>
              <a:t>: seconda classe biennio superiore</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S PMincho"/>
              </a:rPr>
              <a:t>Istruzioni per lo studente:</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S PMincho"/>
              </a:rPr>
              <a:t>	</a:t>
            </a:r>
            <a:r>
              <a:rPr b="0" lang="en-US" sz="1800" spc="-1" strike="noStrike">
                <a:solidFill>
                  <a:srgbClr val="000000"/>
                </a:solidFill>
                <a:latin typeface="MS PMincho"/>
              </a:rPr>
              <a:t>Pensa a qualcosa di cui sei proprio convinto. L’argomento può riferirsi a qualche aspetto del tuo ambiente familiare, della tua scuola, della tua comunità o della società nel suo complesso.</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PMincho"/>
              </a:rPr>
              <a:t>	</a:t>
            </a:r>
            <a:r>
              <a:rPr b="0" lang="en-US" sz="1800" spc="-1" strike="noStrike">
                <a:solidFill>
                  <a:srgbClr val="000000"/>
                </a:solidFill>
                <a:latin typeface="MS PMincho"/>
              </a:rPr>
              <a:t>Scrivi per convincere qualcuno, che non è d’accordo con il tuo punto di vista, a cambiare idea e vedere le cose come le vedi tu. E’ importante ciò che hai da dire sull’argomento, come organizzi e presenti il tuo punto di vista, la chiarezza e l’efficacia con cui ti esprimi.</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e vuoi correggere o cambiare posizione a qualcosa utilizza le funzioni della video scrittura (es. taglia-incolla).</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PMincho"/>
              </a:rPr>
              <a:t>	</a:t>
            </a:r>
            <a:r>
              <a:rPr b="0" lang="en-US" sz="1800" spc="-1" strike="noStrike">
                <a:solidFill>
                  <a:srgbClr val="000000"/>
                </a:solidFill>
                <a:latin typeface="MS PMincho"/>
              </a:rPr>
              <a:t>	</a:t>
            </a:r>
            <a:r>
              <a:rPr b="0" lang="en-US" sz="1800" spc="-1" strike="noStrike">
                <a:solidFill>
                  <a:srgbClr val="000000"/>
                </a:solidFill>
                <a:latin typeface="MS PMincho"/>
              </a:rPr>
              <a:t>Hai sessanta minuti di tempo per eseguire la prova.</a:t>
            </a:r>
            <a:endParaRPr b="0" lang="en-US" sz="1800" spc="-1" strike="noStrike">
              <a:solidFill>
                <a:srgbClr val="000000"/>
              </a:solidFill>
              <a:latin typeface="Comic Sans MS"/>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STO  2</a:t>
            </a:r>
            <a:br>
              <a:rPr sz="4400"/>
            </a:b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Argomento scelto:Vivere in città per un ragazzo della mia età!</a:t>
            </a:r>
            <a:br>
              <a:rPr sz="3200"/>
            </a:b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Destinatari: i miei genitori.</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Titolo: I privilegi della metropoli!</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0"/>
            <a:ext cx="9144000" cy="69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 molte persone piace vivere in campagna e non nelle città cosi caotiche come ad esempio S….In se S…..non è una città molto stressante. Ma alcune persone credono che lo stress derivi proprio dalla città in generale. Alla mia età vivere in campagna mi fa sentire “scomunicato” rispetto a tutti i miei compagni</a:t>
            </a:r>
            <a:r>
              <a:rPr b="1" i="1" lang="it-IT" sz="1800" spc="-1" strike="noStrike">
                <a:solidFill>
                  <a:srgbClr val="000000"/>
                </a:solidFill>
                <a:latin typeface="Arial"/>
              </a:rPr>
              <a:t>!</a:t>
            </a:r>
            <a:r>
              <a:rPr b="0" i="1" lang="it-IT" sz="1800" spc="-1" strike="noStrike">
                <a:solidFill>
                  <a:srgbClr val="000000"/>
                </a:solidFill>
                <a:latin typeface="Arial"/>
              </a:rPr>
              <a:t> Molte volte sono costretto la sera a stare in casa quando i miei coetanei se la spassano fino a tarda ora. Io ho solo 15 anni ma tante volte mi sento ancora più piccolo rispetto ad altri miei ami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Ho abbastanza autonomia ma ne vorrei molta altra. Quando arrivo a casa al pomeriggio non ho nient’altro da fare che studiare e giocare al computer. Vorrei che la mia vita fosse diversa in quanto vorrei essere anch’io un ragazzo normale che vive in una normalissima città anche dalle piccole dimensioni. Un esempio della liberta che potrei avere, quello di poter andare ad un piccolo bar a prendere una bibita ghiacciata. Dove vivo io non c’è nulla tranne il municip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Vorrei poter tornare a casa in estate con le mie gambe all’ora di cena senza dover prendere la macchina. Invece sono costretto ad aspettare mia madre all’ora che vuole lei e tornare a casa. Altre volte sono costretto a rimanere dai miei amici, anche se vorrei tornare a casa magari a riposarmi. Insomma vorrei molta più autonomia!!! Vorrei vivere anche io in città. Dove basta un piccolo gesto e si può aver tu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Poter invitare gli amici a casa mia e potermi vantare di vivere vicino al mio migliore ami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Non dovrei vergognarmi di dire dove vivo ai nuovi amici incontrati per paura che loro mi reputino uno sfig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Vorrei tanto poter convincere i miei genitori a trasferirsi un ultima volta. Mi piacerebbe poter dire a loro che il modo migliore di poter farmi crescere e vivere una vita già da subito in piena autonomia per potermi abituare a come sarà la mia vita da adulto. Insomma dove sta la mia liberta?!?!?! (Gabriele, classe 2 ^ biennio superiore)</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 i nostri studenti italiani sanno scrivere in italiano?</a:t>
            </a:r>
            <a:endParaRPr b="0" lang="en-US" sz="40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ESEMPIO (Biennio scuola superior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Tuttavia al giorno d'oggi si avverte una mancanza di volontà da parte dei genitori nell'educare i propri figli che a loro volta contribuiscono con la loro innata ribellione verso tutto ciò che, nonostante sia giusto, gli viene insegnato, o meglio, si cerca di venir loro insegnato a volte con troppa severità e spesso con troppa leggerezza, superficialità e soprattutto tolleranza.</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TESTO 3</a:t>
            </a:r>
            <a:br>
              <a:rPr sz="4400"/>
            </a:b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Argomento scelto: non vorrei mai trasferirmi in grandi città come Milano</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Titolo: </a:t>
            </a:r>
            <a:r>
              <a:rPr b="0" i="1" lang="en-US" sz="3200" spc="-1" strike="noStrike">
                <a:solidFill>
                  <a:srgbClr val="000000"/>
                </a:solidFill>
                <a:latin typeface="Comic Sans MS"/>
              </a:rPr>
              <a:t>un NO alla città</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364320"/>
            <a:ext cx="91440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lte persone vorrebbero vivere in città, io 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rché? Quando penso alla città mi vengono subito in mente le parole smog e ca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n preferireste vivere in un luogo calmo, dove quasi non esiste la vita frenetica che c’è in città? Io sì, lo preferisco. Ho sempre vissuto in un paesino di campagna, lì è tutto più tranquillo.</a:t>
            </a:r>
            <a:r>
              <a:rPr b="1"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opo la scuola o dopo il lavoro molte persone hanno bisogno di staccarsi un po’ dalle persone, di uscire da quel mondo così frenetico, ma non si può perché le persone in città ce le avrai attorno sempre e comunque. Sì, è vero che per uscire dalla città bisogna muovere la macchina, però almeno la muovi per un buon f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cuni ragazzi cercano di convincermi che se andassi a vivere a Milano avrei tutti i divertimenti sotto casa, che i miei genitori mi farebbero uscire la sera perché sarei già in centro. Ma loro non sanno che non tutti i genitori non fanno uscire i ragazzi la sera per quello, ma perché hanno paura di ciò che succede in città; hanno paura che i ragazzi assumano delle droghe, dell’alcol e abbiano a che fare con brutta gente, non solo perché non possono o vogliono portarci avanti e indietro da casa e citt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oglio dei vicini anche se pochi di cui ci si può fidare, perché in paese ci si conosce tutti e si può contare sulle persone, mentre in città molto m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o immagino la città come un luogo triste, caotico e cupo, anzi è proprio cos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città, anche se c’è un bellissimo sole in cielo, è sempre grigia e piena di traffi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o voglio colori e silenzi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re o montagna non importa, basta che ci sia uno dei due. Non voglio vivere nel nul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Erika, classe 2 ^ biennio superi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1920"/>
            <a:ext cx="6981840" cy="684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S PMincho"/>
              </a:rPr>
              <a:t>Griglia</a:t>
            </a:r>
            <a:endParaRPr b="0" lang="en-US" sz="4000" spc="-1" strike="noStrike">
              <a:solidFill>
                <a:srgbClr val="000000"/>
              </a:solidFill>
              <a:latin typeface="Comic Sans MS"/>
            </a:endParaRPr>
          </a:p>
        </p:txBody>
      </p:sp>
      <p:graphicFrame>
        <p:nvGraphicFramePr>
          <p:cNvPr id="192" name=""/>
          <p:cNvGraphicFramePr/>
          <p:nvPr/>
        </p:nvGraphicFramePr>
        <p:xfrm>
          <a:off x="468360" y="907920"/>
          <a:ext cx="8229600" cy="4569120"/>
        </p:xfrm>
        <a:graphic>
          <a:graphicData uri="http://schemas.openxmlformats.org/drawingml/2006/table">
            <a:tbl>
              <a:tblPr/>
              <a:tblGrid>
                <a:gridCol w="2566800"/>
                <a:gridCol w="5662800"/>
              </a:tblGrid>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Valutazion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loba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Contenu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3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ganizzazio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Sti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3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rammatic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Lessic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tografi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segna di lavoro per il gruppo</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ddividersi in sottogruppi di due o tre docenti</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ggere i tre testi presentati</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zzarne gli errori utilizzando la griglia fornita</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lutare con una votazione in decimi i tre elaborati</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entare al gruppo i risultati del proprio lavoro per il confronto collettivo</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uida al confronto collettivo</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e elaborato ha avuto la votazione più bassa (o più alta) e per quale motiv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to peso hanno avuto nella valutazion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numero degli errori</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gravità degli errori</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valutazione globale?</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segna per la fase successiva</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accogliere nelle proprie classi gli esempi più significativi, in positivo e in negativo, di testi prodotti attraverso l’esercitazione sul testo argomentativo</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lutarli con l’apposita griglia</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sentarli  alla riflessione comu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aliano standard</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Italia nessuno (se non notabili eccezioni del tutto speciali) possiede l'italiano standard come lingua materna: la varietà standard non è appresa da nessun parlante come lingua nativa, non esistono parlanti standard nativi"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 varianti regionali hanno sempre meno peso?</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440"/>
            <a:ext cx="7773840" cy="4264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omic Sans MS"/>
              </a:rPr>
              <a:t>L’arrisbigliò una tuppiata forte e insistente alla porta di casa, tuppiavano alla dispirata, con le mani e con i pedi, ma curiosamente non sonavano il campanello. (</a:t>
            </a:r>
            <a:r>
              <a:rPr b="0" lang="it-IT" sz="3200" spc="-1" strike="noStrike">
                <a:solidFill>
                  <a:srgbClr val="000000"/>
                </a:solidFill>
                <a:latin typeface="Comic Sans MS"/>
              </a:rPr>
              <a:t>A. Camilleri</a:t>
            </a:r>
            <a:r>
              <a:rPr b="0" i="1" lang="it-IT" sz="3200" spc="-1" strike="noStrike">
                <a:solidFill>
                  <a:srgbClr val="000000"/>
                </a:solidFill>
                <a:latin typeface="Comic Sans MS"/>
              </a:rPr>
              <a:t>, Il campo del vasaio)</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esempio colto di “interlingua” intenzional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nterlingua nell’italiano L1</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che i nostri studenti di madrelingua italiana attraversano fasi diverse di apprendimento della lingua che necessitano di specifico addestramento per realizzare un significativo sviluppo verso la lingua d’arrivo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a qual è questa lingua di arrivo?</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Qual è il modello di lingua verso il quale dirigiamo i nostri allievi?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Quale meta  intendiamo raggiungere per l’Italiano L1?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adro Comune Europeo di Riferimento</a:t>
            </a:r>
            <a:endParaRPr b="0" lang="en-US" sz="4400" spc="-1" strike="noStrike">
              <a:solidFill>
                <a:srgbClr val="000000"/>
              </a:solidFill>
              <a:latin typeface="Comic Sans MS"/>
            </a:endParaRPr>
          </a:p>
        </p:txBody>
      </p:sp>
      <p:sp>
        <p:nvSpPr>
          <p:cNvPr id="165" name="PlaceHolder 2"/>
          <p:cNvSpPr>
            <a:spLocks noGrp="1"/>
          </p:cNvSpPr>
          <p:nvPr>
            <p:ph/>
          </p:nvPr>
        </p:nvSpPr>
        <p:spPr>
          <a:xfrm>
            <a:off x="685440" y="1828800"/>
            <a:ext cx="8062920" cy="39765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ESCRIZIONE DELLA COMPETENZA DI SCRITTURA</a:t>
            </a:r>
            <a:endParaRPr b="0" lang="en-US" sz="2000" spc="-1" strike="noStrike">
              <a:solidFill>
                <a:srgbClr val="000000"/>
              </a:solidFill>
              <a:latin typeface="Comic Sans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LIVELLO C1</a:t>
            </a:r>
            <a:endParaRPr b="0" lang="en-US" sz="2000" spc="-1" strike="noStrike">
              <a:solidFill>
                <a:srgbClr val="000000"/>
              </a:solidFill>
              <a:latin typeface="Comic Sans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PRODUZIONE SCRITTA GENERALE- </a:t>
            </a:r>
            <a:r>
              <a:rPr b="1" lang="it-IT" sz="2400" spc="-1" strike="noStrike">
                <a:solidFill>
                  <a:srgbClr val="000000"/>
                </a:solidFill>
                <a:latin typeface="Comic Sans MS"/>
              </a:rPr>
              <a:t>E’ in grado di scrivere testi chiari e ben strutturati su argomenti complessi, sottolineando le questioni salienti, sviluppando i punti di vista in modo abbastanza esteso, sostenendoli con dati supplementari, con motivazioni ed esempi pertinenti e concludendo il tutto in modo appropriato.</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vello C1</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MPIEZZA DEL LESSIC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a una buona padronanza di un vasto repertorio lessicale che permette di superare prontamente le lacune usando circonduzioni; la ricerca di espressioni e le strategie di esitamento sono poco evidenti. Buona padronanza di espressioni idiomatiche e colloquiali.</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vello C1</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RRETTEZZA GRAMMATICALE</a:t>
            </a:r>
            <a:endParaRPr b="0" lang="en-US" sz="2800" spc="-1" strike="noStrike">
              <a:solidFill>
                <a:srgbClr val="000000"/>
              </a:solidFill>
              <a:latin typeface="Comic Sans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Mantiene costantemente un livello elevato di correttezza grammaticale, gli errori sono rari e poco evidenti. Ha una buona padronanza grammaticale; nella struttura delle frasi possono ancora verificarsi sbagli occasionali, errori non sistematici e difetti minori, che sono però rari e vengono perlopiù corretti a posteriori.</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17:47:41Z</dcterms:created>
  <dc:creator>Bottino Cristina</dc:creator>
  <dc:description/>
  <dc:language>en-US</dc:language>
  <cp:lastModifiedBy>Bottino Cristina</cp:lastModifiedBy>
  <dcterms:modified xsi:type="dcterms:W3CDTF">2009-01-22T20:42:03Z</dcterms:modified>
  <cp:revision>14</cp:revision>
  <dc:subject/>
  <dc:title>Interlingua e analisi degli errori  Esempi sull’Italiano L1   </dc:title>
</cp:coreProperties>
</file>