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D18A50-395E-4133-8935-F5A2924B09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3CD516-4540-4893-961F-35FA213D00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ADE3D4-8910-4CEE-BA4B-3E12FF1B29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582F20-BA87-4DF6-B897-04F187B01B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92A2CC-FC34-4A3F-B994-1F18F80163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246283-C28B-4BB8-84E8-8B974C725D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CEED79-E8AB-4961-97A3-F17F9861EB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973D3B-2719-4851-9087-EE0B690614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45B969-1898-4D27-9A44-1E79516CD2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8225F6-D3CB-453A-8806-615C37E5BB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721FA5-A6FE-4FAE-9D2D-0C1EF9B168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61AC5D-74F3-4007-A8BF-616E4FA6FF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BA7AD5-052F-4992-9949-70547CDA24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37AC74-9C32-421A-9E36-5B710A3C02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282895-E557-4B64-8304-5B0BAC8929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FE1CB7-0C4F-4368-8632-926DBDC25A1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90F070-F631-4B5B-BAB0-A0A13CE03CB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9AD121-A299-44D7-B13B-CA7A03299B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095815-434C-4E2B-A37C-55F626C25D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AC606B-FF5C-4E43-B432-18BDB20408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235E99-EE27-4DB0-B152-E8B652DD2B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5D3529-841D-4F37-A87F-A92A5E20E5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10AA80-9843-4D83-B8E5-7D4AA7B475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0C593E-28A4-4A70-907B-94E3D12AA2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D765A-3417-4757-9845-2FA75D37D826}"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33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339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339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339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339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33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33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0" name=""/>
            <p:cNvSpPr/>
            <p:nvPr/>
          </p:nvSpPr>
          <p:spPr>
            <a:xfrm>
              <a:off x="7731000" y="133200"/>
              <a:ext cx="66960" cy="152640"/>
            </a:xfrm>
            <a:prstGeom prst="line">
              <a:avLst/>
            </a:prstGeom>
            <a:ln w="381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3399ff"/>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350E3-0F77-410D-A4FE-9ED65F71D237}"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339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33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339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3366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3399ff"/>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Interlingua e analisi degli errori</a:t>
            </a:r>
            <a:br>
              <a:rPr sz="4000"/>
            </a:br>
            <a:r>
              <a:rPr b="0" lang="en-US" sz="4000" spc="-1" strike="noStrike">
                <a:solidFill>
                  <a:srgbClr val="000000"/>
                </a:solidFill>
                <a:latin typeface="Comic Sans MS"/>
              </a:rPr>
              <a:t>Esempi Italiano L2</a:t>
            </a:r>
            <a:endParaRPr b="0" lang="en-US" sz="4000" spc="-1" strike="noStrike">
              <a:solidFill>
                <a:srgbClr val="000000"/>
              </a:solidFill>
              <a:latin typeface="Comic Sans MS"/>
            </a:endParaRPr>
          </a:p>
        </p:txBody>
      </p:sp>
      <p:sp>
        <p:nvSpPr>
          <p:cNvPr id="152" name="PlaceHolder 2"/>
          <p:cNvSpPr>
            <a:spLocks noGrp="1"/>
          </p:cNvSpPr>
          <p:nvPr>
            <p:ph type="subTitle"/>
          </p:nvPr>
        </p:nvSpPr>
        <p:spPr>
          <a:xfrm>
            <a:off x="1549080" y="4051080"/>
            <a:ext cx="6032520" cy="10033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a produzione scritta di un testo argomentativo</a:t>
            </a:r>
            <a:endParaRPr b="0" lang="en-US" sz="2800" spc="-1" strike="noStrike">
              <a:solidFill>
                <a:srgbClr val="000000"/>
              </a:solidFill>
              <a:latin typeface="Comic Sans MS"/>
            </a:endParaRPr>
          </a:p>
        </p:txBody>
      </p:sp>
      <p:sp>
        <p:nvSpPr>
          <p:cNvPr id="153" name=""/>
          <p:cNvSpPr/>
          <p:nvPr/>
        </p:nvSpPr>
        <p:spPr>
          <a:xfrm>
            <a:off x="5410080" y="6172200"/>
            <a:ext cx="3429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stina Bottin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E gli studenti stranieri?</a:t>
            </a:r>
            <a:endParaRPr b="0" lang="en-US" sz="4400" spc="-1" strike="noStrike">
              <a:solidFill>
                <a:srgbClr val="000000"/>
              </a:solidFill>
              <a:latin typeface="Comic Sans MS"/>
            </a:endParaRPr>
          </a:p>
        </p:txBody>
      </p:sp>
      <p:sp>
        <p:nvSpPr>
          <p:cNvPr id="155"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4000"/>
          </a:bodyPr>
          <a:p>
            <a:pPr marL="322200" indent="-3222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are concretezza agli scopi di scrittura offre i giusti stimoli anche agli studenti stranieri di recente immigrazione</a:t>
            </a:r>
            <a:endParaRPr b="0" lang="en-US" sz="3200" spc="-1" strike="noStrike">
              <a:solidFill>
                <a:srgbClr val="000000"/>
              </a:solidFill>
              <a:latin typeface="Comic Sans MS"/>
            </a:endParaRPr>
          </a:p>
          <a:p>
            <a:pPr marL="322200" indent="-3222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 stata loro proposta la stessa esercitazione di produzione di un testo argomentativo presentata in Italiano L1</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151920"/>
            <a:ext cx="6934320" cy="838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Primo esempio</a:t>
            </a:r>
            <a:endParaRPr b="0" lang="en-US" sz="4400" spc="-1" strike="noStrike">
              <a:solidFill>
                <a:srgbClr val="000000"/>
              </a:solidFill>
              <a:latin typeface="Comic Sans MS"/>
            </a:endParaRPr>
          </a:p>
        </p:txBody>
      </p:sp>
      <p:sp>
        <p:nvSpPr>
          <p:cNvPr id="157" name="PlaceHolder 2"/>
          <p:cNvSpPr>
            <a:spLocks noGrp="1"/>
          </p:cNvSpPr>
          <p:nvPr>
            <p:ph/>
          </p:nvPr>
        </p:nvSpPr>
        <p:spPr>
          <a:xfrm>
            <a:off x="1143000" y="1219320"/>
            <a:ext cx="7696080" cy="3657600"/>
          </a:xfrm>
          <a:prstGeom prst="rect">
            <a:avLst/>
          </a:prstGeom>
          <a:noFill/>
          <a:ln w="0">
            <a:noFill/>
          </a:ln>
        </p:spPr>
        <p:txBody>
          <a:bodyPr lIns="90000" rIns="90000" tIns="46800" bIns="46800" anchor="t">
            <a:normAutofit fontScale="81000"/>
          </a:bodyPr>
          <a:p>
            <a:pPr marL="277560" indent="-27756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Sabit, studente di nazionalità albanese, in Italia da 12 mesi, al momento dell’esercitazione </a:t>
            </a:r>
            <a:endParaRPr b="0" lang="en-US" sz="3200" spc="-1" strike="noStrike">
              <a:solidFill>
                <a:srgbClr val="000000"/>
              </a:solidFill>
              <a:latin typeface="Comic Sans MS"/>
            </a:endParaRPr>
          </a:p>
          <a:p>
            <a:pPr marL="277560" indent="-27756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Trasferitosi da altra città italiana, è da tre mesi nella nostra scuola </a:t>
            </a:r>
            <a:endParaRPr b="0" lang="en-US" sz="3200" spc="-1" strike="noStrike">
              <a:solidFill>
                <a:srgbClr val="000000"/>
              </a:solidFill>
              <a:latin typeface="Comic Sans MS"/>
            </a:endParaRPr>
          </a:p>
          <a:p>
            <a:pPr marL="277560" indent="-27756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Frequenta la seconda classe superiore</a:t>
            </a:r>
            <a:endParaRPr b="0" lang="en-US" sz="3200" spc="-1" strike="noStrike">
              <a:solidFill>
                <a:srgbClr val="000000"/>
              </a:solidFill>
              <a:latin typeface="Comic Sans MS"/>
            </a:endParaRPr>
          </a:p>
          <a:p>
            <a:pPr marL="277560" indent="-27756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Ha superato solo in parte le prove del livello linguistico A2 </a:t>
            </a:r>
            <a:endParaRPr b="0" lang="en-US" sz="3200" spc="-1" strike="noStrike">
              <a:solidFill>
                <a:srgbClr val="000000"/>
              </a:solidFill>
              <a:latin typeface="Comic Sans MS"/>
            </a:endParaRPr>
          </a:p>
          <a:p>
            <a:pPr marL="277560" indent="-27756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Nella produzione scritta risulta a livello A1</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0" y="906840"/>
            <a:ext cx="9144000" cy="5306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Argomento scelto: fare un tour di Europ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Destinatario: i miei genitori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i piacerebbe andare con i miei amici in un tour di Europa, ma i miei genitori non vogliono perché loro pensano che devo avere una età maggiorenne. Sono stato molte volte con i miei amici in tour ma non sono stato mai fuori di Italia e sono un po' arrabbiati perché, l'ultima volta sono andato a Milano, a restare un giorno e sono tornato due giorni dopo e per questa ci vuole un po’ di fatica di convincere. Il mio fratello e già  maggiorenne e così  con il suo aiuto forse riuscirò a convincere i miei o forse vado a Toscana, a vedere il mio migliore amico che in gennaio ha il suo completano e forse questo sarà il motivo di andare anche in tour di Europa, perché tutti sono maggiorenni frane me e cosi con il loro aiuto forse vado anche io in quel tour. Sto “manipolando” i amici per convincere i miei genitori di andare con loro, perché loro (i genitori) non hanno più molto fiducia in me dall'ultima volta che sono andato in gita, comunque io forse riuscirò a convincere i miei  di andare con il pretesto che sono cosi  grande di ragionare e che loro non</a:t>
            </a:r>
            <a:r>
              <a:rPr b="0" i="1" lang="en-US" sz="1800" spc="-1" strike="noStrike" u="sng">
                <a:solidFill>
                  <a:srgbClr val="000000"/>
                </a:solidFill>
                <a:uFillTx/>
                <a:latin typeface="Arial"/>
              </a:rPr>
              <a:t> </a:t>
            </a:r>
            <a:r>
              <a:rPr b="0" i="1" lang="en-US" sz="1800" spc="-1" strike="noStrike">
                <a:solidFill>
                  <a:srgbClr val="000000"/>
                </a:solidFill>
                <a:latin typeface="Arial"/>
              </a:rPr>
              <a:t>hanno perché  avere paura che a me sempre mi deve succedere qualcosa, ma la mia madre dice sempre che: sarai anche tu un giorno genitore e vedrai cosa significa un figlio,  ma a me piace conoscere le colture degli altri posti a sapere alte lingue e questo  e un motivo forte. O tempo fino a gennaio  convincere i miei e spero di riuscire.</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440" y="-30528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Secondo esempio</a:t>
            </a:r>
            <a:endParaRPr b="0" lang="en-US" sz="4400" spc="-1" strike="noStrike">
              <a:solidFill>
                <a:srgbClr val="000000"/>
              </a:solidFill>
              <a:latin typeface="Comic Sans MS"/>
            </a:endParaRPr>
          </a:p>
        </p:txBody>
      </p:sp>
      <p:sp>
        <p:nvSpPr>
          <p:cNvPr id="160" name="PlaceHolder 2"/>
          <p:cNvSpPr>
            <a:spLocks noGrp="1"/>
          </p:cNvSpPr>
          <p:nvPr>
            <p:ph/>
          </p:nvPr>
        </p:nvSpPr>
        <p:spPr>
          <a:xfrm>
            <a:off x="685800" y="1523880"/>
            <a:ext cx="7696080" cy="3657600"/>
          </a:xfrm>
          <a:prstGeom prst="rect">
            <a:avLst/>
          </a:prstGeom>
          <a:noFill/>
          <a:ln w="0">
            <a:noFill/>
          </a:ln>
        </p:spPr>
        <p:txBody>
          <a:bodyPr lIns="90000" rIns="90000" tIns="46800" bIns="46800" anchor="t">
            <a:normAutofit fontScale="97000"/>
          </a:bodyPr>
          <a:p>
            <a:pPr marL="332640" indent="-33264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lena, di nazionalità rumena, al momento dell’esercitazione in Italia da 18 mesi</a:t>
            </a:r>
            <a:endParaRPr b="0" lang="en-US" sz="3200" spc="-1" strike="noStrike">
              <a:solidFill>
                <a:srgbClr val="000000"/>
              </a:solidFill>
              <a:latin typeface="Comic Sans MS"/>
            </a:endParaRPr>
          </a:p>
          <a:p>
            <a:pPr marL="332640" indent="-33264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requenta la seconda classe superiore</a:t>
            </a:r>
            <a:endParaRPr b="0" lang="en-US" sz="3200" spc="-1" strike="noStrike">
              <a:solidFill>
                <a:srgbClr val="000000"/>
              </a:solidFill>
              <a:latin typeface="Comic Sans MS"/>
            </a:endParaRPr>
          </a:p>
          <a:p>
            <a:pPr marL="332640" indent="-33264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lla fine dello scorso anno scolastico ha superato le prove del livello linguistico B2</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0" y="391320"/>
            <a:ext cx="9144000" cy="5854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Arial"/>
              </a:rPr>
              <a:t>Argomento scelto: Voglio il mio cane!!! Per il mio padre e mia madre</a:t>
            </a:r>
            <a:r>
              <a:rPr b="0" i="1" lang="it-IT"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Arial"/>
              </a:rPr>
              <a:t>Si dice che i genitori sono le persone più in grado di soddisfare i desideri dei figli. Ma i miei non capiscono questo. Il fatto che ho tutte le cose di cui ho bisogno, che mi servono ogni giorno a me non basta. Voglio soltanto un'altra cosa, voglio un cane! Ma loro non mi fanno caso quando glielo dico: il cane è l'amico che sogno da piccola di ave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Arial"/>
              </a:rPr>
              <a:t>So benissimo quali sarebbero i miei incarichi se avrei un cane. Dovrei andare a spasso con lui almeno tre volte al giorno e di tempo ne ho per farlo, devo andar con lui dal dottore per fargli il controllo e c’è la  farò, so che aver un cane significa aver un altro membro in famiglia ed a me farebbe un grande piacere di  più adesso che non ho più mio fratello vicino. Lui potrà essere il mio miglior amico, il essere che mi potrà star vicino e mi potrà difendere se esco fuori di sera. Ma infatti, i miei genitori non mi lasciano proprio uscire di sera perche dicono che è pericoloso ma neanche il cane non mi vogliono comprare. Un altro motivo per il quale voglio il mio cagnolino è quello di non stare da sola tutto il giorno in casa perche i miei genitori non ci sono e sinceramente sono già stufa di girare per la casa da sola  e annoiandomi. Anche se tra un po' sarò grande ma comunque è passato un bel po' di tempo da quando non sopporto più le coccole dei genitori, ho bisogno di un cane, che adorerò, per divertirmi, per giocare con lui. Perche non pensano al mio cane come a un cane abbandonato che ha bisogno di una casa e di un padrone che si prenda cura di lui? Gli ho trovato anche un nome: Dutzy! Tanto di tempo ne ho avuto per farlo!</a:t>
            </a:r>
            <a:r>
              <a:rPr b="0" lang="it-IT"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onsegna per i docenti suddivisi in gruppi di lavoro</a:t>
            </a:r>
            <a:endParaRPr b="0" lang="en-US" sz="4000" spc="-1" strike="noStrike">
              <a:solidFill>
                <a:srgbClr val="000000"/>
              </a:solidFill>
              <a:latin typeface="Comic Sans MS"/>
            </a:endParaRPr>
          </a:p>
        </p:txBody>
      </p:sp>
      <p:sp>
        <p:nvSpPr>
          <p:cNvPr id="163" name="PlaceHolder 2"/>
          <p:cNvSpPr>
            <a:spLocks noGrp="1"/>
          </p:cNvSpPr>
          <p:nvPr>
            <p:ph/>
          </p:nvPr>
        </p:nvSpPr>
        <p:spPr>
          <a:xfrm>
            <a:off x="685440" y="1828800"/>
            <a:ext cx="8458200" cy="3733920"/>
          </a:xfrm>
          <a:prstGeom prst="rect">
            <a:avLst/>
          </a:prstGeom>
          <a:noFill/>
          <a:ln w="0">
            <a:noFill/>
          </a:ln>
        </p:spPr>
        <p:txBody>
          <a:bodyPr lIns="90000" rIns="90000" tIns="46800" bIns="46800" anchor="t">
            <a:normAutofit fontScale="84000"/>
          </a:bodyPr>
          <a:p>
            <a:pPr marL="288000" indent="-28800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dividuare gli errori nei due testi</a:t>
            </a:r>
            <a:endParaRPr b="0" lang="en-US" sz="2400" spc="-1" strike="noStrike">
              <a:solidFill>
                <a:srgbClr val="000000"/>
              </a:solidFill>
              <a:latin typeface="Comic Sans MS"/>
            </a:endParaRPr>
          </a:p>
          <a:p>
            <a:pPr marL="288000" indent="-28800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assificarli e compilare una griglia di valutazione per ciascun testo (griglia 1)</a:t>
            </a:r>
            <a:endParaRPr b="0" lang="en-US" sz="2400" spc="-1" strike="noStrike">
              <a:solidFill>
                <a:srgbClr val="000000"/>
              </a:solidFill>
              <a:latin typeface="Comic Sans MS"/>
            </a:endParaRPr>
          </a:p>
          <a:p>
            <a:pPr marL="288000" indent="-28800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frontare il risultato di questi due studenti con quelli ottenuti dai compagni madrelingua (griglia 2)</a:t>
            </a:r>
            <a:endParaRPr b="0" lang="en-US" sz="2400" spc="-1" strike="noStrike">
              <a:solidFill>
                <a:srgbClr val="000000"/>
              </a:solidFill>
              <a:latin typeface="Comic Sans MS"/>
            </a:endParaRPr>
          </a:p>
          <a:p>
            <a:pPr marL="288000" indent="-28800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Quali sono le aeree critiche per entrambi i gruppi?</a:t>
            </a:r>
            <a:endParaRPr b="0" lang="en-US" sz="2400" spc="-1" strike="noStrike">
              <a:solidFill>
                <a:srgbClr val="000000"/>
              </a:solidFill>
              <a:latin typeface="Comic Sans MS"/>
            </a:endParaRPr>
          </a:p>
          <a:p>
            <a:pPr marL="288000" indent="-28800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Quali interessano specificatamente gli studenti di Italiano L2 ?(N.B. gli esempi presentati ovviamente comportano problematiche minori e diverse rispetto a studenti di madrelingua araba o cinese)</a:t>
            </a:r>
            <a:endParaRPr b="0" lang="en-US" sz="2400" spc="-1" strike="noStrike">
              <a:solidFill>
                <a:srgbClr val="000000"/>
              </a:solidFill>
              <a:latin typeface="Comic Sans MS"/>
            </a:endParaRPr>
          </a:p>
          <a:p>
            <a:pPr marL="288000" indent="-28800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esentare al gruppo i risultati del proprio lavoro per il confronto collettivo</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Griglia di valutazione 1</a:t>
            </a:r>
            <a:endParaRPr b="0" lang="en-US" sz="4400" spc="-1" strike="noStrike">
              <a:solidFill>
                <a:srgbClr val="000000"/>
              </a:solidFill>
              <a:latin typeface="Comic Sans MS"/>
            </a:endParaRPr>
          </a:p>
        </p:txBody>
      </p:sp>
      <p:graphicFrame>
        <p:nvGraphicFramePr>
          <p:cNvPr id="165" name=""/>
          <p:cNvGraphicFramePr/>
          <p:nvPr/>
        </p:nvGraphicFramePr>
        <p:xfrm>
          <a:off x="457200" y="1600200"/>
          <a:ext cx="8229600" cy="4533840"/>
        </p:xfrm>
        <a:graphic>
          <a:graphicData uri="http://schemas.openxmlformats.org/drawingml/2006/table">
            <a:tbl>
              <a:tblPr/>
              <a:tblGrid>
                <a:gridCol w="2567160"/>
                <a:gridCol w="5662440"/>
              </a:tblGrid>
              <a:tr h="825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S PMincho"/>
                          <a:ea typeface="Times New Roman"/>
                        </a:rPr>
                        <a:t>Valutazione</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S PMincho"/>
                          <a:ea typeface="Times New Roman"/>
                        </a:rPr>
                        <a:t>global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18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S PMincho"/>
                          <a:ea typeface="Times New Roman"/>
                        </a:rPr>
                        <a:t>Contenuto</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181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S PMincho"/>
                          <a:ea typeface="Times New Roman"/>
                        </a:rPr>
                        <a:t>Organizzazion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18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S PMincho"/>
                          <a:ea typeface="Times New Roman"/>
                        </a:rPr>
                        <a:t>Stil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170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S PMincho"/>
                          <a:ea typeface="Times New Roman"/>
                        </a:rPr>
                        <a:t>Grammatica</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199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S PMincho"/>
                          <a:ea typeface="Times New Roman"/>
                        </a:rPr>
                        <a:t>Lessico</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163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S PMincho"/>
                          <a:ea typeface="Times New Roman"/>
                        </a:rPr>
                        <a:t>Ortografia</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4560" y="-360"/>
            <a:ext cx="75438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onfronto con i testi prodotti da studenti madrelingua</a:t>
            </a:r>
            <a:endParaRPr b="0" lang="en-US" sz="4000" spc="-1" strike="noStrike">
              <a:solidFill>
                <a:srgbClr val="000000"/>
              </a:solidFill>
              <a:latin typeface="Comic Sans MS"/>
            </a:endParaRPr>
          </a:p>
        </p:txBody>
      </p:sp>
      <p:graphicFrame>
        <p:nvGraphicFramePr>
          <p:cNvPr id="167" name=""/>
          <p:cNvGraphicFramePr/>
          <p:nvPr/>
        </p:nvGraphicFramePr>
        <p:xfrm>
          <a:off x="533520" y="1600200"/>
          <a:ext cx="8458200" cy="5219640"/>
        </p:xfrm>
        <a:graphic>
          <a:graphicData uri="http://schemas.openxmlformats.org/drawingml/2006/table">
            <a:tbl>
              <a:tblPr/>
              <a:tblGrid>
                <a:gridCol w="2361960"/>
                <a:gridCol w="3124440"/>
                <a:gridCol w="2971800"/>
              </a:tblGrid>
              <a:tr h="6476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S PMincho"/>
                          <a:ea typeface="Times New Roman"/>
                        </a:rPr>
                        <a:t>GRIGLIA 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esti Italiano L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esti Italiano L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S PMincho"/>
                          <a:ea typeface="Times New Roman"/>
                        </a:rPr>
                        <a:t>Valutazione</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S PMincho"/>
                          <a:ea typeface="Times New Roman"/>
                        </a:rPr>
                        <a:t>global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46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S PMincho"/>
                          <a:ea typeface="Times New Roman"/>
                        </a:rPr>
                        <a:t>Contenuto</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S PMincho"/>
                          <a:ea typeface="Times New Roman"/>
                        </a:rPr>
                        <a:t>Organizzazion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46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S PMincho"/>
                          <a:ea typeface="Times New Roman"/>
                        </a:rPr>
                        <a:t>Stil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35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S PMincho"/>
                          <a:ea typeface="Times New Roman"/>
                        </a:rPr>
                        <a:t>Grammatica</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6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S PMincho"/>
                          <a:ea typeface="Times New Roman"/>
                        </a:rPr>
                        <a:t>Lessico</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21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S PMincho"/>
                          <a:ea typeface="Times New Roman"/>
                        </a:rPr>
                        <a:t>Ortografia</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Bottino Cristina</cp:lastModifiedBy>
  <dcterms:modified xsi:type="dcterms:W3CDTF">2009-01-22T17:04:49Z</dcterms:modified>
  <cp:revision>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