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3681-83F9-4D72-8554-2F0C9D77CD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F1DBD-283C-47E5-B5C1-4DC9378A9E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19FF4-990F-4ECC-8272-A7FBF6C358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BE8F9-7A39-4602-959B-1EF49BF25E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5E850-E845-4BB7-941E-F0FA5FD220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232-A41C-49F2-996C-79EAB83C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FF8-CD04-4EF4-900D-0CB35E32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F0C-A93F-473A-873D-E51F72C5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D65-1E54-4ACB-B04D-0D44A625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DF6-87BA-4F5B-8FBD-20537DFB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F4E-B14B-4D35-B8DD-CEE382F7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93B-3BD2-4780-886A-736CADDF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D16-0392-4140-8116-A15B98F6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4F8-1D5C-4CDC-B100-A35573A1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191-73E1-48DB-8ADD-1823D0E5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47D-74A1-4469-94BE-A2A53433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A08-3772-4930-92D8-BEB79A50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6D2DF6-1C4E-4261-BD65-958D6693CA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360360" y="539640"/>
            <a:ext cx="9360000" cy="648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LABORATORIO ITALIANO L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COME OSSERVARE L'INTERLIN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2300dc"/>
                </a:solidFill>
                <a:latin typeface="DejaVu Serif Condensed"/>
              </a:rPr>
              <a:t>CREAZIONE DI STRUMENTI PER L'OSSERVAZIONE E L'ANALI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MARIA SILVIA SPIG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OBIETTIVI DEL LABOR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ffrire ai docenti in formazione gli strumenti per elaborare griglie per un inquadramento dell'allievo negli stadi dell'interlin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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ffrire ai docenti in formazione gli strumenti per osservare, analizzare e valutare le competenze linguistiche degli apprendenti, prendendo in considerazione il testo scrit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CONTEN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LABORATORIO 1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dividuazione di descrittori per l'inquadramento degli apprendenti nei vari stadi dell'interlingu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pplicazione dei descrittori ai testi degli apprende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LABORATORI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levazione delle competenze degli apprendenti attraverso il Quadro Comune Europeo di Riferimento per le li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PROCEDURE DEL LAVO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chiami ai concetti teorici  appre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ormulazione di domande stimo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ormazione di gruppi di lavo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stribuzione di materiale propedeutico ed esemplific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dividuazione di descrittor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struzione e compilazione di griglie di osservazione e anali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nalisi di testi prop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30:09Z</dcterms:created>
  <dc:creator>PC di Rosanna</dc:creator>
  <dc:description/>
  <dc:language>en-US</dc:language>
  <cp:lastModifiedBy>Rosanna Mercairo</cp:lastModifiedBy>
  <dcterms:modified xsi:type="dcterms:W3CDTF">2009-01-30T21:36:27Z</dcterms:modified>
  <cp:revision>2</cp:revision>
  <dc:subject/>
  <dc:title>Diapositiva 1</dc:title>
</cp:coreProperties>
</file>