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8E539-65D2-48A1-B24F-F066FDC910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8754C-4B0C-48AA-BA9C-CD32BA1820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E5FB5-B31F-499D-819C-C12B3B3B1E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DEAC2-F57B-415C-A0FB-6DBBFA2CEB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E0AD1-841F-4880-802E-C42FBB7068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49B-1F0B-4467-9DAF-4ADA38AF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838-2744-4662-AA38-644D2FA4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279-78A1-4AA2-BD3D-5AAB5ED4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A8A-4C2A-47D3-A76D-CC0A986F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258-C252-4AF3-AD08-12BBDC75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834-8F22-4647-91D4-E716DB55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152-560A-4BD8-9CFD-6886C013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DE8-D4E6-48B9-B043-77883A30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49F-F9F6-4F05-9B96-AA51AE1B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504-9F64-415F-91EB-89B8BE60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7CA-19AA-45BC-9E80-77D2E2C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AD7-9062-418C-A1D4-6EF56319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F0EA11-9092-4EFD-A007-D388847530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360360" y="539640"/>
            <a:ext cx="9360000" cy="648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LABORATORIO ITALIANO L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COME OSSERVARE L'INTERLIN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2300dc"/>
                </a:solidFill>
                <a:latin typeface="DejaVu Serif Condensed"/>
              </a:rPr>
              <a:t>CREAZIONE DI STRUMENTI PER L'OSSERVAZIONE E L'ANALI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MARIA SILVIA SPIG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DejaVu Serif Condensed"/>
              </a:rPr>
              <a:t>OBIETTIVI DEL LABOR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ffrire ai docenti in formazione gli strumenti per elaborare griglie per un inquadramento dell'allievo negli stadi dell'interlin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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ffrire ai docenti in formazione gli strumenti per osservare, analizzare e valutare le competenze linguistiche degli apprendenti, prendendo in considerazione il testo scrit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CONTENU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LABORATORIO 1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dividuazione di descrittori per l'inquadramento degli apprendenti nei vari stadi dell'interlingu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pplicazione dei descrittori ai testi degli apprende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LABORATORIO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levazione delle competenze degli apprendenti attraverso il Quadro Comune Europeo di Riferimento per le li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PROCEDURE DEL LAVO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chiami ai concetti teorici  appre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ormulazione di domande stimo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ormazione di gruppi di lavo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stribuzione di materiale propedeutico ed esemplifica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dividuazione di descrittor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struzione e compilazione di griglie di osservazione e anali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Wingdings"/>
                <a:ea typeface="Wingdings"/>
              </a:rPr>
              <a:t>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nalisi di testi prop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30:09Z</dcterms:created>
  <dc:creator>PC di Rosanna</dc:creator>
  <dc:description/>
  <dc:language>en-US</dc:language>
  <cp:lastModifiedBy>Rosanna Mercairo</cp:lastModifiedBy>
  <dcterms:modified xsi:type="dcterms:W3CDTF">2009-01-30T21:36:27Z</dcterms:modified>
  <cp:revision>2</cp:revision>
  <dc:subject/>
  <dc:title>Diapositiva 1</dc:title>
</cp:coreProperties>
</file>