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AB7D4-C6CE-4636-B210-1FA127F60D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0EE5E-8EA2-4483-9011-BD9BBDE607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F5684-BE85-4ADC-AD8D-67A401BE12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E9F3D-1246-4ADC-B289-7C064DCD08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E9379-8015-4549-BA6F-08350E8C64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21B-8554-4C22-AE6C-00B5DFBD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394-24D8-4E74-A062-55F8D92B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A6E-D838-4B1E-9D3C-A9BDD989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EC4-B34F-438D-B32F-CCD757C1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E78-82D7-4D9A-B52B-37E7FD57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898-B22B-49B8-8957-9F14928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CFB-4487-4F88-B0BE-EEE28588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B5D-18D7-4346-84AF-2EE7481D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1BD-3934-417F-ACE3-74732182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E95-104F-41BF-96EC-D37E77D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54C-2BC2-4168-9452-FDEC9E3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1D5-5A85-4D45-A947-1C090482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86A6F8-AF87-4591-AE82-0854C0F4F6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360360" y="539640"/>
            <a:ext cx="9360000" cy="648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LABORATORIO ITALIANO L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COME OSSERVARE L'INTERLIN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300dc"/>
                </a:solidFill>
                <a:latin typeface="DejaVu Serif Condensed"/>
              </a:rPr>
              <a:t>CREAZIONE DI STRUMENTI PER L'OSSERVAZIONE E L'ANALI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MARIA SILVIA SPIG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OBIETTIVI DEL LABO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ffrire ai docenti in formazione gli strumenti per elaborare griglie per un inquadramento dell'allievo negli stadi dell'interlin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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ffrire ai docenti in formazione gli strumenti per osservare, analizzare e valutare le competenze linguistiche degli apprendenti, prendendo in considerazione il testo scrit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CONTEN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LABORATORIO 1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dividuazione di descrittori per l'inquadramento degli apprendenti nei vari stadi dell'interlingu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pplicazione dei descrittori ai testi degli apprende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LABORATORI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levazione delle competenze degli apprendenti attraverso il Quadro Comune Europeo di Riferimento per le li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PROCEDURE DEL LAVO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chiami ai concetti teorici  appr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ormulazione di domande stimo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ormazione di gruppi di lavo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stribuzione di materiale propedeutico ed esemplific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dividuazione di descritto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struzione e compilazione di griglie di osservazione e anali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nalisi di testi prop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30:09Z</dcterms:created>
  <dc:creator>PC di Rosanna</dc:creator>
  <dc:description/>
  <dc:language>en-US</dc:language>
  <cp:lastModifiedBy>Rosanna Mercairo</cp:lastModifiedBy>
  <dcterms:modified xsi:type="dcterms:W3CDTF">2009-01-30T21:36:27Z</dcterms:modified>
  <cp:revision>2</cp:revision>
  <dc:subject/>
  <dc:title>Diapositiva 1</dc:title>
</cp:coreProperties>
</file>