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758D-D49B-45E2-BC94-D0FA52FD1D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1DA-A929-472A-A4E0-9E2C2C9A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B17-14B8-468C-9EF2-1B9BFB40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E7D-D581-4560-844A-B109789C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A44-AA51-4AC8-B1BB-8720D333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56D-8EB9-4A18-9F25-744CF4D4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747-F6F7-4DE7-8898-0C0EFC1E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8A9-5CCF-4530-B595-F45272E4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5D1-72D8-4AE9-85B4-EE4C7A79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EB6-A4A7-4420-9645-1B9734B9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CFF-129F-4C7D-B863-8ED1FF3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99D-66F3-43D3-8932-DD7FFBF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8A2-0CB9-4A8C-8030-D098CAB3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5C1B-7687-4C49-ACF9-A95D5992B1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10584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QUADRO COMUNE EUROPEO DI RIFERIMENTO DELL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NALITA' DEL Q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1800360"/>
            <a:ext cx="2519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flettere su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etenze lingu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1800360"/>
            <a:ext cx="287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ividuare gli obiettivi dell'acquisizione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9280" y="4140360"/>
            <a:ext cx="318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compren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4859280"/>
            <a:ext cx="341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opi dell'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altr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00720" y="5040360"/>
            <a:ext cx="30607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e avviene l'apprendi mento lingui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57480" y="1260360"/>
            <a:ext cx="1085760" cy="720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440000"/>
            <a:ext cx="539640" cy="36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76040" y="4500720"/>
            <a:ext cx="19861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4500720"/>
            <a:ext cx="21607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L QUADRO COMUNE EUROPEO DI RIFERIMENTO</a:t>
            </a:r>
            <a:br>
              <a:rPr sz="2800"/>
            </a:b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PER L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6120" y="2847960"/>
            <a:ext cx="2560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3333"/>
                </a:solidFill>
                <a:latin typeface="Arial"/>
              </a:rPr>
              <a:t>PROMU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24560" y="270828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3333"/>
                </a:solidFill>
                <a:latin typeface="Arial"/>
              </a:rPr>
              <a:t>PERMETTE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3730680"/>
            <a:ext cx="3060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mogene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pprendimento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seg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sservazione delle compete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3745080"/>
            <a:ext cx="234000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lezionar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eto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ateri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laborare curric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57120" y="2340000"/>
            <a:ext cx="14461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340000"/>
            <a:ext cx="1618920" cy="36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3240000"/>
            <a:ext cx="1440" cy="54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3060720"/>
            <a:ext cx="1800" cy="720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I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9280" y="2879640"/>
            <a:ext cx="216036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NTA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2736720"/>
            <a:ext cx="335448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OPRAVVIVE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2160" y="4208400"/>
            <a:ext cx="270036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OGRE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15080" y="4235400"/>
            <a:ext cx="287964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FFICA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0360" y="5759280"/>
            <a:ext cx="2700360" cy="827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 1  - C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ADRON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797120" y="1979640"/>
            <a:ext cx="2706480" cy="144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0360" y="1979640"/>
            <a:ext cx="1440" cy="90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59280" y="1979640"/>
            <a:ext cx="1800360" cy="144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9640" y="1979640"/>
            <a:ext cx="180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76400" y="2160720"/>
            <a:ext cx="2167200" cy="197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0360" y="2160720"/>
            <a:ext cx="1260360" cy="197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40360" y="2160720"/>
            <a:ext cx="1440" cy="360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 DESCRITTORI</a:t>
            </a:r>
            <a:br>
              <a:rPr sz="2800"/>
            </a:b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SONO FORMULAT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POSI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CHIA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CONCRET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BREVITA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INDIPEN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000" y="1619280"/>
            <a:ext cx="2185920" cy="1079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less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ingui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68440" y="3014640"/>
            <a:ext cx="3232080" cy="16002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Tipologia testua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arr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escr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rgomen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62640" y="1619280"/>
            <a:ext cx="2276640" cy="233676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truttu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el discor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erenz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esion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hiarezz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rrett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8960" y="5208480"/>
            <a:ext cx="1932120" cy="5526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ungh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4348080"/>
            <a:ext cx="2376720" cy="12319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teres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'apprend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15680" y="900000"/>
            <a:ext cx="3606840" cy="180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900000"/>
            <a:ext cx="3419640" cy="180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900000"/>
            <a:ext cx="1440" cy="4680000"/>
          </a:xfrm>
          <a:prstGeom prst="line">
            <a:avLst/>
          </a:prstGeom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2160720"/>
            <a:ext cx="720720" cy="144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3959280"/>
            <a:ext cx="720720" cy="144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580000"/>
            <a:ext cx="720720" cy="180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636040" y="2160720"/>
            <a:ext cx="727200" cy="1440"/>
          </a:xfrm>
          <a:prstGeom prst="line">
            <a:avLst/>
          </a:prstGeom>
          <a:ln w="936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60000" y="900000"/>
            <a:ext cx="1440" cy="450072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636040" y="5400720"/>
            <a:ext cx="7272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7:43:45Z</dcterms:created>
  <dc:creator/>
  <dc:description/>
  <dc:language>en-US</dc:language>
  <cp:lastModifiedBy/>
  <cp:revision>1</cp:revision>
  <dc:subject/>
  <dc:title/>
</cp:coreProperties>
</file>