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23BF3-5395-403E-9D0D-80866D2BD2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20D-9D4C-406C-9369-EFDF163F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9A6-0F1E-4400-ACB1-D7BDDB1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4A7-AD96-4AA9-89D0-59E697A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1A4-47A8-42CD-BC12-76A42AE7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42-082D-4072-88ED-49AADFFC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6D6-3E4F-4190-8380-66A6E23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41D-9C53-4072-83F8-84ECBDA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2CD-BCB8-464A-A3EF-F3BA323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E40-175D-497F-8964-48B656E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EAC-6281-42B3-A132-8271C78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E49-6B82-49C4-9DB2-B876CCC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444-ABFB-46B0-8CD6-EBCA605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2B103-3F00-4A63-B1F7-4FABE03353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QUADRO COMUNE EUROPEO DI RIFERIMENTO DEL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NALITA' DEL Q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1800360"/>
            <a:ext cx="251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flettere s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enze lingu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1800360"/>
            <a:ext cx="287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re gli obiettivi dell'acquisizione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9280" y="4140360"/>
            <a:ext cx="318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compren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859280"/>
            <a:ext cx="341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i dell'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altr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5040360"/>
            <a:ext cx="3060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e avviene l'apprendi mento lingu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57480" y="1260360"/>
            <a:ext cx="108576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40000"/>
            <a:ext cx="53964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76040" y="4500720"/>
            <a:ext cx="198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4500720"/>
            <a:ext cx="21607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QUADRO COMUNE EUROPEO DI RIFERIMENTO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ER 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6120" y="2847960"/>
            <a:ext cx="2560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ROMU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4560" y="270828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ERMETTE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730680"/>
            <a:ext cx="3060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mogene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pprendimento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sservazione delle compet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3745080"/>
            <a:ext cx="234000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lezionar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laborare curric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57120" y="2340000"/>
            <a:ext cx="144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340000"/>
            <a:ext cx="161892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3240000"/>
            <a:ext cx="1440" cy="54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3060720"/>
            <a:ext cx="180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I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9280" y="2879640"/>
            <a:ext cx="216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NTA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736720"/>
            <a:ext cx="335448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OPRAVVIV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2160" y="4208400"/>
            <a:ext cx="270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OGR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15080" y="4235400"/>
            <a:ext cx="287964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FFICA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0360" y="5759280"/>
            <a:ext cx="2700360" cy="82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 1  - C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ADRON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97120" y="1979640"/>
            <a:ext cx="270648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0360" y="1979640"/>
            <a:ext cx="1440" cy="90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59280" y="1979640"/>
            <a:ext cx="180036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9640" y="197964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76400" y="2160720"/>
            <a:ext cx="216720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0360" y="2160720"/>
            <a:ext cx="126036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40360" y="2160720"/>
            <a:ext cx="1440" cy="360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 DESCRITTORI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SONO FORMULAT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POSI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HIA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ONCRE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BREVITA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IN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1619280"/>
            <a:ext cx="2185920" cy="1079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less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ingui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68440" y="3014640"/>
            <a:ext cx="3232080" cy="1600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ipologia testua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arr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scr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rgom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62640" y="1619280"/>
            <a:ext cx="2276640" cy="233676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trutt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l discor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ren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sion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hiarez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rrett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8960" y="5208480"/>
            <a:ext cx="1932120" cy="5526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ungh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4348080"/>
            <a:ext cx="2376720" cy="12319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teres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'appren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15680" y="900000"/>
            <a:ext cx="36068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900000"/>
            <a:ext cx="34196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900000"/>
            <a:ext cx="1440" cy="4680000"/>
          </a:xfrm>
          <a:prstGeom prst="line">
            <a:avLst/>
          </a:prstGeom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216072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395928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580000"/>
            <a:ext cx="720720" cy="180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636040" y="2160720"/>
            <a:ext cx="727200" cy="1440"/>
          </a:xfrm>
          <a:prstGeom prst="line">
            <a:avLst/>
          </a:prstGeom>
          <a:ln w="936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60000" y="900000"/>
            <a:ext cx="1440" cy="450072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636040" y="540072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43:45Z</dcterms:created>
  <dc:creator/>
  <dc:description/>
  <dc:language>en-US</dc:language>
  <cp:lastModifiedBy/>
  <cp:revision>1</cp:revision>
  <dc:subject/>
  <dc:title/>
</cp:coreProperties>
</file>