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06280" y="812520"/>
            <a:ext cx="5338440" cy="40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6161A8-5D42-4705-8E31-59B4D4B7477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15BA-E96A-49C7-B50E-B3A03270D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772E-C8AB-4224-9CCA-4C8EAD1EE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2983-1A9E-4334-B951-726B79D2E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60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264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60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264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E4F1-0075-49B4-9BAA-CD39A47EA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0524-36A5-4FCE-BFF3-687431DA4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06FE-6107-4541-9F49-B6FCE3628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2D99-63D2-4829-8116-C89D0EC6C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67E5-8C20-4D5F-90B2-6E6022164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9012-FB19-4840-A7DA-56B9FCA32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739A-A02E-48D3-88EB-5C00BFFA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41BF-F3D6-4D76-9EB2-DCFE8C69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101E-9F09-45D9-8601-EBA675A3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CBE428-2F45-44CD-9ABD-94FD6580BE7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e6e6ff"/>
              </a:gs>
            </a:gsLst>
            <a:path path="rect">
              <a:fillToRect l="50000" t="50000" r="50000" b="50000"/>
            </a:path>
          </a:gradFill>
          <a:ln w="72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126000" tIns="105840" bIns="81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ff00ff"/>
                </a:solidFill>
                <a:latin typeface="Arial"/>
              </a:rPr>
              <a:t>QUADRO COMUNE EUROPEO DI RIFERIMENTO DELLE LIN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ff00ff"/>
                </a:solidFill>
                <a:latin typeface="Arial"/>
              </a:rPr>
              <a:t>MARIA SILVIA SPIG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e6e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FINALITA' DEL Q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20720" y="1800360"/>
            <a:ext cx="251928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iflettere su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ompetenze linguisti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19640" y="1800360"/>
            <a:ext cx="28796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ndividuare gli obiettivi dell'acquisizione linguis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9280" y="4140360"/>
            <a:ext cx="31892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er comprend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60360" y="4859280"/>
            <a:ext cx="34196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copi dell'apprend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i altre lin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00720" y="5040360"/>
            <a:ext cx="306072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ome avviene l'apprendi mento linguis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157480" y="1260360"/>
            <a:ext cx="1085760" cy="72072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659640" y="1440000"/>
            <a:ext cx="539640" cy="36036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876040" y="4500720"/>
            <a:ext cx="1986120" cy="53964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59280" y="4500720"/>
            <a:ext cx="2160720" cy="53964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e6e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dc2300"/>
                </a:solidFill>
                <a:latin typeface="Arial"/>
              </a:rPr>
              <a:t>IL QUADRO COMUNE EUROPEO DI RIFERIMENTO</a:t>
            </a:r>
            <a:br>
              <a:rPr sz="2800"/>
            </a:br>
            <a:r>
              <a:rPr b="1" lang="it-IT" sz="2800" spc="-1" strike="noStrike">
                <a:solidFill>
                  <a:srgbClr val="dc2300"/>
                </a:solidFill>
                <a:latin typeface="Arial"/>
              </a:rPr>
              <a:t>PER LE LIN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16120" y="2847960"/>
            <a:ext cx="256068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ff3333"/>
                </a:solidFill>
                <a:latin typeface="Arial"/>
              </a:rPr>
              <a:t>PROMU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24560" y="2708280"/>
            <a:ext cx="264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ff3333"/>
                </a:solidFill>
                <a:latin typeface="Arial"/>
              </a:rPr>
              <a:t>PERMETTE 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40000" y="3730680"/>
            <a:ext cx="3060720" cy="26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Omogeneit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Apprendimento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Insegnam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Osservazione delle competen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Valutazi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80000" y="3745080"/>
            <a:ext cx="2340000" cy="25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Selezionare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obiettiv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metod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material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Elaborare curricu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3057120" y="2340000"/>
            <a:ext cx="1446120" cy="53964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340000"/>
            <a:ext cx="1618920" cy="36036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700360" y="3240000"/>
            <a:ext cx="1440" cy="54000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480000" y="3060720"/>
            <a:ext cx="1800" cy="72072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e6e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dc2300"/>
                </a:solidFill>
                <a:latin typeface="Arial"/>
              </a:rPr>
              <a:t>LIVE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19280" y="2879640"/>
            <a:ext cx="2160360" cy="863640"/>
          </a:xfrm>
          <a:prstGeom prst="rect">
            <a:avLst/>
          </a:prstGeom>
          <a:noFill/>
          <a:ln w="36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A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CONTAT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0360" y="2736720"/>
            <a:ext cx="3354480" cy="863640"/>
          </a:xfrm>
          <a:prstGeom prst="rect">
            <a:avLst/>
          </a:prstGeom>
          <a:noFill/>
          <a:ln w="36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A 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SOPRAVVIVEN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92160" y="4208400"/>
            <a:ext cx="2700360" cy="863640"/>
          </a:xfrm>
          <a:prstGeom prst="rect">
            <a:avLst/>
          </a:prstGeom>
          <a:noFill/>
          <a:ln w="36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B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PROGRES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815080" y="4235400"/>
            <a:ext cx="2879640" cy="863640"/>
          </a:xfrm>
          <a:prstGeom prst="rect">
            <a:avLst/>
          </a:prstGeom>
          <a:noFill/>
          <a:ln w="36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B 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EFFICA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00360" y="5759280"/>
            <a:ext cx="2700360" cy="82728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C 1  - C 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PADRONAN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797120" y="1979640"/>
            <a:ext cx="2706480" cy="1440"/>
          </a:xfrm>
          <a:prstGeom prst="line">
            <a:avLst/>
          </a:prstGeom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00360" y="1979640"/>
            <a:ext cx="1440" cy="90000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59280" y="1979640"/>
            <a:ext cx="1800360" cy="1440"/>
          </a:xfrm>
          <a:prstGeom prst="line">
            <a:avLst/>
          </a:prstGeom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559640" y="1979640"/>
            <a:ext cx="1800" cy="7207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2876400" y="2160720"/>
            <a:ext cx="2167200" cy="197964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40360" y="2160720"/>
            <a:ext cx="1260360" cy="197964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40360" y="2160720"/>
            <a:ext cx="1440" cy="360036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e6e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dc2300"/>
                </a:solidFill>
                <a:latin typeface="Arial"/>
              </a:rPr>
              <a:t>I DESCRITTORI</a:t>
            </a:r>
            <a:br>
              <a:rPr sz="2800"/>
            </a:br>
            <a:r>
              <a:rPr b="1" lang="it-IT" sz="2800" spc="-1" strike="noStrike">
                <a:solidFill>
                  <a:srgbClr val="dc2300"/>
                </a:solidFill>
                <a:latin typeface="Arial"/>
              </a:rPr>
              <a:t>SONO FORMULATI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dc2300"/>
                </a:solidFill>
                <a:latin typeface="Webdings"/>
                <a:ea typeface="Webdings"/>
              </a:rPr>
              <a:t></a:t>
            </a:r>
            <a:r>
              <a:rPr b="1" lang="it-IT" sz="3200" spc="-1" strike="noStrike">
                <a:solidFill>
                  <a:srgbClr val="dc2300"/>
                </a:solidFill>
                <a:latin typeface="Arial"/>
                <a:ea typeface="Webdings"/>
              </a:rPr>
              <a:t>POSITIVA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dc2300"/>
                </a:solidFill>
                <a:latin typeface="Webdings"/>
                <a:ea typeface="Webdings"/>
              </a:rPr>
              <a:t></a:t>
            </a:r>
            <a:r>
              <a:rPr b="1" lang="it-IT" sz="3200" spc="-1" strike="noStrike">
                <a:solidFill>
                  <a:srgbClr val="dc2300"/>
                </a:solidFill>
                <a:latin typeface="Arial"/>
                <a:ea typeface="Webdings"/>
              </a:rPr>
              <a:t>CON CHIAREZ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dc2300"/>
                </a:solidFill>
                <a:latin typeface="Webdings"/>
                <a:ea typeface="Webdings"/>
              </a:rPr>
              <a:t></a:t>
            </a:r>
            <a:r>
              <a:rPr b="1" lang="it-IT" sz="3200" spc="-1" strike="noStrike">
                <a:solidFill>
                  <a:srgbClr val="dc2300"/>
                </a:solidFill>
                <a:latin typeface="Arial"/>
                <a:ea typeface="Webdings"/>
              </a:rPr>
              <a:t>CON CONCRETEZ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dc2300"/>
                </a:solidFill>
                <a:latin typeface="Webdings"/>
                <a:ea typeface="Webdings"/>
              </a:rPr>
              <a:t></a:t>
            </a:r>
            <a:r>
              <a:rPr b="1" lang="it-IT" sz="3200" spc="-1" strike="noStrike">
                <a:solidFill>
                  <a:srgbClr val="dc2300"/>
                </a:solidFill>
                <a:latin typeface="Arial"/>
                <a:ea typeface="Webdings"/>
              </a:rPr>
              <a:t>CON BREVITA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dc2300"/>
                </a:solidFill>
                <a:latin typeface="Webdings"/>
                <a:ea typeface="Webdings"/>
              </a:rPr>
              <a:t></a:t>
            </a:r>
            <a:r>
              <a:rPr b="1" lang="it-IT" sz="3200" spc="-1" strike="noStrike">
                <a:solidFill>
                  <a:srgbClr val="dc2300"/>
                </a:solidFill>
                <a:latin typeface="Arial"/>
                <a:ea typeface="Webdings"/>
              </a:rPr>
              <a:t>CON INDIPENDEN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e6e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dc2300"/>
                </a:solidFill>
                <a:latin typeface="Arial"/>
              </a:rPr>
              <a:t>IL TE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40000" y="1619280"/>
            <a:ext cx="2185920" cy="1079640"/>
          </a:xfrm>
          <a:prstGeom prst="rect">
            <a:avLst/>
          </a:prstGeom>
          <a:noFill/>
          <a:ln w="36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Complessit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linguist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468440" y="3014640"/>
            <a:ext cx="3232080" cy="1600200"/>
          </a:xfrm>
          <a:prstGeom prst="rect">
            <a:avLst/>
          </a:prstGeom>
          <a:noFill/>
          <a:ln w="36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Tipologia testuale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narrazi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descrizi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argomentazi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62640" y="1619280"/>
            <a:ext cx="2276640" cy="2336760"/>
          </a:xfrm>
          <a:prstGeom prst="rect">
            <a:avLst/>
          </a:prstGeom>
          <a:noFill/>
          <a:ln w="36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Struttur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del discors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coerenza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coesione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chiarezza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correttez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88960" y="5208480"/>
            <a:ext cx="1932120" cy="552600"/>
          </a:xfrm>
          <a:prstGeom prst="rect">
            <a:avLst/>
          </a:prstGeom>
          <a:noFill/>
          <a:ln w="36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Lunghez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00720" y="4348080"/>
            <a:ext cx="2376720" cy="1231920"/>
          </a:xfrm>
          <a:prstGeom prst="rect">
            <a:avLst/>
          </a:prstGeom>
          <a:noFill/>
          <a:ln w="36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Interess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p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l'apprende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715680" y="900000"/>
            <a:ext cx="3606840" cy="1800"/>
          </a:xfrm>
          <a:prstGeom prst="line">
            <a:avLst/>
          </a:prstGeom>
          <a:ln w="36000">
            <a:solidFill>
              <a:srgbClr val="dc2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40360" y="900000"/>
            <a:ext cx="3419640" cy="1800"/>
          </a:xfrm>
          <a:prstGeom prst="line">
            <a:avLst/>
          </a:prstGeom>
          <a:ln w="36000">
            <a:solidFill>
              <a:srgbClr val="dc2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20720" y="900000"/>
            <a:ext cx="1440" cy="4680000"/>
          </a:xfrm>
          <a:prstGeom prst="line">
            <a:avLst/>
          </a:prstGeom>
          <a:ln w="9360">
            <a:solidFill>
              <a:srgbClr val="dc2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20720" y="2160720"/>
            <a:ext cx="720720" cy="1440"/>
          </a:xfrm>
          <a:prstGeom prst="line">
            <a:avLst/>
          </a:prstGeom>
          <a:ln w="36000">
            <a:solidFill>
              <a:srgbClr val="dc2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20720" y="3959280"/>
            <a:ext cx="720720" cy="1440"/>
          </a:xfrm>
          <a:prstGeom prst="line">
            <a:avLst/>
          </a:prstGeom>
          <a:ln w="36000">
            <a:solidFill>
              <a:srgbClr val="dc2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20720" y="5580000"/>
            <a:ext cx="720720" cy="1800"/>
          </a:xfrm>
          <a:prstGeom prst="line">
            <a:avLst/>
          </a:prstGeom>
          <a:ln w="36000">
            <a:solidFill>
              <a:srgbClr val="dc2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8636040" y="2160720"/>
            <a:ext cx="727200" cy="1440"/>
          </a:xfrm>
          <a:prstGeom prst="line">
            <a:avLst/>
          </a:prstGeom>
          <a:ln w="9360">
            <a:solidFill>
              <a:srgbClr val="dc2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360000" y="900000"/>
            <a:ext cx="1440" cy="4500720"/>
          </a:xfrm>
          <a:prstGeom prst="line">
            <a:avLst/>
          </a:prstGeom>
          <a:ln w="36000">
            <a:solidFill>
              <a:srgbClr val="dc2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8636040" y="5400720"/>
            <a:ext cx="727200" cy="1440"/>
          </a:xfrm>
          <a:prstGeom prst="line">
            <a:avLst/>
          </a:prstGeom>
          <a:ln w="36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9T17:43:45Z</dcterms:created>
  <dc:creator/>
  <dc:description/>
  <dc:language>en-US</dc:language>
  <cp:lastModifiedBy/>
  <cp:revision>1</cp:revision>
  <dc:subject/>
  <dc:title/>
</cp:coreProperties>
</file>