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79BC6-34B2-4C58-8955-6CB31F292A9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16C8-A77C-45AC-B78D-B7449D68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EDC9-74B7-44F7-8F79-71B3AA25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E8BE-2763-47F0-8E76-75A8F8431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0566-CE11-4411-AD8D-164FF5D5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97CE-B06E-4261-8B6E-A12DE2E8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02F8-1415-4115-AFAE-0D689BC0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D4A7-1A64-4338-86AC-31D98D8B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0B59-7205-4500-9742-E37D2004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C9D3-66C8-4739-AA51-3F3F214B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63C8-CC96-4B5C-904E-0BC179D5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0D2A-EE65-4C3A-B7DE-CEE7EA5F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3524-ADD2-4591-A1E9-30EB4B27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98944-EE84-491F-97BB-DAD1D7D61B5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94006b"/>
                </a:solidFill>
                <a:latin typeface="Arial"/>
              </a:rPr>
              <a:t>COME OSSERVARE E ANALIZZARE UN'INTERLIN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94006b"/>
                </a:solidFill>
                <a:latin typeface="Arial"/>
              </a:rPr>
              <a:t>LABORATORIO ITALIANO L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94006b"/>
                </a:solidFill>
                <a:latin typeface="Arial"/>
              </a:rPr>
              <a:t>MARIA SILVIA SPIG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720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26000" tIns="105840" bIns="81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QUALI ASPETTI CONSIDERARE NELL'OSSERVAZIONE E NELL'ANALISI DI UN' INTERLINGU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ER LA COMPETENZA COMUNIC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LUENZA                                         EFFICA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apacità di espressione             Capacità di trasmett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correvole                                    in modo pertinente 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roprie id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336400" y="1979640"/>
            <a:ext cx="1986120" cy="126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19640" y="1979640"/>
            <a:ext cx="2340000" cy="126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995040" cy="7559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MPETENZA LINGUI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3280" y="345960"/>
            <a:ext cx="9070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Quali aspetti considerare nell'osservazione e nel'analisi dell'interlingu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2700360"/>
            <a:ext cx="3780000" cy="900000"/>
          </a:xfrm>
          <a:prstGeom prst="rect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87840" bIns="63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ISTE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NOM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19640" y="2700360"/>
            <a:ext cx="3600360" cy="531720"/>
          </a:xfrm>
          <a:prstGeom prst="rect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878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ISTEMA VERB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1920" y="4548240"/>
            <a:ext cx="3600360" cy="531720"/>
          </a:xfrm>
          <a:prstGeom prst="rect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87840" bIns="63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INTA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9640" y="4500720"/>
            <a:ext cx="3240360" cy="495000"/>
          </a:xfrm>
          <a:prstGeom prst="rect">
            <a:avLst/>
          </a:prstGeom>
          <a:noFill/>
          <a:ln w="36000">
            <a:solidFill>
              <a:srgbClr val="ff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87840" bIns="63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ES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57120" y="1079640"/>
            <a:ext cx="23464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0360" y="1079640"/>
            <a:ext cx="1440" cy="3419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79640" y="1079640"/>
            <a:ext cx="1440" cy="1619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80360" y="1079640"/>
            <a:ext cx="19796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360000" y="1079640"/>
            <a:ext cx="1440" cy="3240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920000" y="1079640"/>
            <a:ext cx="1800" cy="1619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Arial"/>
              </a:rPr>
              <a:t>COME SCOMPORRE OGNI ELEMENTO RIFERITO ALLA COMPETENZA LINGUIST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 docenti divisi in gruppi individueranno, attraverso domande, dei descrittori riferiti ad ogni ele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21:29:44Z</dcterms:created>
  <dc:creator/>
  <dc:description/>
  <dc:language>en-US</dc:language>
  <cp:lastModifiedBy/>
  <cp:revision>1</cp:revision>
  <dc:subject/>
  <dc:title/>
</cp:coreProperties>
</file>