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7EB48-9AE3-4318-B5F6-285000E5CD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4FB-7F35-4803-B397-215186BC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AF2-EE1E-4D43-AF01-53FE442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5FF-231C-47F5-B1F3-CA475A55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F32-0963-4288-8FB0-B89CEE49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94E-D2A5-4DEB-9851-BB635AA3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F18-2A80-4085-8995-266D5728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E80-1B2D-4656-AA61-5862064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FA7-B232-4204-9C7A-CC98C1D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68A-DC61-476F-9F5F-1C9E1817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26E-BB31-4B3B-8A32-377A753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805-3016-416E-9C5A-CA84E9B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D97-5502-4E2A-9558-9A3E726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51AE9-BDDC-4D7F-A94F-869474B3D7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COME OSSERVARE E ANALIZZARE UN'INTER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LABORATORIO 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94006b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L'ANALISI DI UN' 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LA COMPETENZA COMUNIC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LUENZA                                        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pacità di espressione             Capacità di trasm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revole                                    in modo pertinente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prie id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36400" y="1979640"/>
            <a:ext cx="198612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640" y="1979640"/>
            <a:ext cx="234000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99504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ETENZA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345960"/>
            <a:ext cx="907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 considerare nell'osservazione e nel'anali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700360"/>
            <a:ext cx="3780000" cy="9000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M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270036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VER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1920" y="4548240"/>
            <a:ext cx="3600360" cy="5317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NT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9640" y="4500720"/>
            <a:ext cx="3240360" cy="495000"/>
          </a:xfrm>
          <a:prstGeom prst="rect">
            <a:avLst/>
          </a:prstGeom>
          <a:noFill/>
          <a:ln w="36000">
            <a:solidFill>
              <a:srgbClr val="ff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8784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7120" y="107964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1079640"/>
            <a:ext cx="1440" cy="34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107964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107964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60000" y="1079640"/>
            <a:ext cx="1440" cy="32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0000" y="107964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COME SCOMPORRE OGNI ELEMENTO RIFERITO ALLA COMPETENZA LINGUIS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docenti divisi in gruppi individueranno, attraverso domande, dei descrittori riferiti ad ogni ele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29:44Z</dcterms:created>
  <dc:creator/>
  <dc:description/>
  <dc:language>en-US</dc:language>
  <cp:lastModifiedBy/>
  <cp:revision>1</cp:revision>
  <dc:subject/>
  <dc:title/>
</cp:coreProperties>
</file>