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14622-6994-4322-A0A2-5BCB40F977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13E-DDC4-4A8E-A454-BEC672B8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AEA-F062-49A0-B3F2-59C529A5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7FC-F13E-4465-AAE9-809AF8A6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E8E-70B2-4788-BA45-656EF447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0DD-03DE-47CF-860F-A390EC0D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195-2C44-46CD-99E9-713F92E0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3EB5-6AD1-4E74-A3DC-B11AF0ED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0E5-06B0-4AD2-9947-0F9D1A0C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F27-9CE3-4B03-8039-5AF18776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009-06C9-446E-AE3B-ABCF386E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FC4-DF71-4E69-B7A9-6F38673F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FE2-38E3-4E4F-AD18-78C533C2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6C2E8-9FA6-4D74-A2C6-B6BB1738DA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94006b"/>
                </a:solidFill>
                <a:latin typeface="Arial"/>
              </a:rPr>
              <a:t>COME OSSERVARE E ANALIZZARE UN'INTERLIN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94006b"/>
                </a:solidFill>
                <a:latin typeface="Arial"/>
              </a:rPr>
              <a:t>LABORATORIO ITALIANO 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94006b"/>
                </a:solidFill>
                <a:latin typeface="Arial"/>
              </a:rPr>
              <a:t>MARIA SILVIA SPIG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105840" bIns="81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UALI ASPETTI CONSIDERARE NELL'OSSERVAZIONE E NELL'ANALISI DI UN' INTERLIN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ER LA COMPETENZA COMUNIC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LUENZA                                         EFFIC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pacità di espressione             Capacità di trasmett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orrevole                                    in modo pertinente 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prie id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336400" y="1979640"/>
            <a:ext cx="1986120" cy="12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19640" y="1979640"/>
            <a:ext cx="2340000" cy="12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995040" cy="7559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PETENZA LINGU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3280" y="345960"/>
            <a:ext cx="907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uali aspetti considerare nell'osservazione e nel'analisi dell'interlin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2700360"/>
            <a:ext cx="3780000" cy="90000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784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ST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OM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2700360"/>
            <a:ext cx="3600360" cy="53172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7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STEMA VERB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1920" y="4548240"/>
            <a:ext cx="3600360" cy="53172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784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NTA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9640" y="4500720"/>
            <a:ext cx="3240360" cy="495000"/>
          </a:xfrm>
          <a:prstGeom prst="rect">
            <a:avLst/>
          </a:prstGeom>
          <a:noFill/>
          <a:ln w="36000">
            <a:solidFill>
              <a:srgbClr val="ff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784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S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57120" y="1079640"/>
            <a:ext cx="23464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" y="1079640"/>
            <a:ext cx="1440" cy="34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1079640"/>
            <a:ext cx="1440" cy="16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1079640"/>
            <a:ext cx="1979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360000" y="1079640"/>
            <a:ext cx="1440" cy="324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20000" y="1079640"/>
            <a:ext cx="1800" cy="16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COME SCOMPORRE OGNI ELEMENTO RIFERITO ALLA COMPETENZA LINGUIST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 docenti divisi in gruppi individueranno, attraverso domande, dei descrittori riferiti ad ogni ele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1:29:44Z</dcterms:created>
  <dc:creator/>
  <dc:description/>
  <dc:language>en-US</dc:language>
  <cp:lastModifiedBy/>
  <cp:revision>1</cp:revision>
  <dc:subject/>
  <dc:title/>
</cp:coreProperties>
</file>