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D4F8-42E6-4F74-9E18-755983B8D5F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9A10-5225-40F8-AAD4-C40B8A6555F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4071-DBDE-4614-AF04-802C11B593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8AD2-11D0-43FA-9A74-2053CF4E9E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0A1B-0860-4DDE-AED3-772072505E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968B-1941-4D33-8FBB-F0C6BCD662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EC77-0EDE-4F43-A0A4-2833AEAC9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4089-DD85-4CB7-862E-5FFD357EB7D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1518-12CC-4DE6-9E9F-3BC07F67536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1026-2C2A-4760-8C23-D446AC54E9F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FDDB-571E-4F5E-9171-CF2A6B2C5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D074-B8E5-44E0-BCF1-E4313F9B0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C963-988D-46AD-B1CA-8186B21438F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283-CA20-4676-BCAB-4B0DD430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A49-9A7B-41CC-887C-235B7CA2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D9B-CBEF-471D-B853-8D467BD5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D47-CB33-4385-A75F-81A1AB97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DA7-B25A-49BA-B280-42C3624A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A07-5464-427C-A10B-A5E11306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CDD-6F62-456B-BC5A-39C5D710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43B-B160-4660-83BA-91E36644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7CF-0281-4817-B469-66568A06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234-7081-43D2-8E00-6DE573C2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58A-1340-49DE-AFB7-91C9684C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949-FD25-4A6E-B29B-CF2EC1A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F42C-1E4B-471C-8D9B-14D95793AD2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miur_logo"/>
          <p:cNvPicPr/>
          <p:nvPr/>
        </p:nvPicPr>
        <p:blipFill>
          <a:blip r:embed="rId1"/>
          <a:stretch/>
        </p:blipFill>
        <p:spPr>
          <a:xfrm>
            <a:off x="4000680" y="500040"/>
            <a:ext cx="1223640" cy="108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214200" y="2214720"/>
            <a:ext cx="87156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PIANO DI FORMAZIONE POSE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L’INDAGINE O.C.S.E.-P.I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LA LITERACY IN LETTURA NELLE PROVE O.C.S.E.-P.I.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2286000" y="4857840"/>
            <a:ext cx="600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nna Pia Per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febbraio 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miur_logo"/>
          <p:cNvPicPr/>
          <p:nvPr/>
        </p:nvPicPr>
        <p:blipFill>
          <a:blip r:embed="rId2"/>
          <a:stretch/>
        </p:blipFill>
        <p:spPr>
          <a:xfrm>
            <a:off x="4000680" y="500040"/>
            <a:ext cx="1223640" cy="108108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428760" y="2357280"/>
            <a:ext cx="8462880" cy="38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rens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’utilizzazione di testi scrit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 riflessione su di es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e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ggiungere i propr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viluppare le proprie conoscenze e potenzialit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volgere un ruolo attivo nella socie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971640" y="476280"/>
            <a:ext cx="698508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ITERACY IN LET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iteracy non indica semplicemente un’abilità che si acquisisce unicamente nell’infanzia, durante i primi anni di scuola, ma piuttosto un insieme di conoscenze, abilità e strategie in continua evoluzione che gli individui sviluppano nel corso della vi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4572000" y="2816280"/>
            <a:ext cx="1655640" cy="12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re dimensioni dietro le prov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74760" y="1763640"/>
            <a:ext cx="35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ituazion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spetto della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651640" y="1357200"/>
            <a:ext cx="328752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Priv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Educativa/scola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Lavo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Pub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5"/>
          <p:cNvSpPr/>
          <p:nvPr/>
        </p:nvSpPr>
        <p:spPr>
          <a:xfrm>
            <a:off x="4714920" y="192888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ff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re dimensioni dietro le prov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74760" y="1763640"/>
            <a:ext cx="35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tuazion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Formato de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spetto della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643720" y="3143160"/>
            <a:ext cx="278424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Testi contin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Testi non contin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4214880" y="342900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ff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16"/>
          <p:cNvSpPr/>
          <p:nvPr/>
        </p:nvSpPr>
        <p:spPr>
          <a:xfrm rot="3778800">
            <a:off x="6839640" y="4086360"/>
            <a:ext cx="792360" cy="353880"/>
          </a:xfrm>
          <a:prstGeom prst="rightArrow">
            <a:avLst>
              <a:gd name="adj1" fmla="val 50000"/>
              <a:gd name="adj2" fmla="val 55977"/>
            </a:avLst>
          </a:prstGeom>
          <a:solidFill>
            <a:srgbClr val="ffffd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5"/>
          <p:cNvSpPr/>
          <p:nvPr/>
        </p:nvSpPr>
        <p:spPr>
          <a:xfrm flipV="1" rot="7085400">
            <a:off x="5208480" y="4204080"/>
            <a:ext cx="1166760" cy="360360"/>
          </a:xfrm>
          <a:prstGeom prst="rightArrow">
            <a:avLst>
              <a:gd name="adj1" fmla="val 50000"/>
              <a:gd name="adj2" fmla="val 80944"/>
            </a:avLst>
          </a:prstGeom>
          <a:solidFill>
            <a:srgbClr val="ffffd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re dimensioni dietro le prov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74760" y="1763640"/>
            <a:ext cx="35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tuazion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Formato de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spetto della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643720" y="3143160"/>
            <a:ext cx="2784240" cy="703800"/>
          </a:xfrm>
          <a:prstGeom prst="rect">
            <a:avLst/>
          </a:prstGeom>
          <a:solidFill>
            <a:srgbClr val="ffffd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Testi contin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Testi non contin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4214880" y="342900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ff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427640" y="4581360"/>
            <a:ext cx="201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Narra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Es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Descrit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Argomentativi e</a:t>
            </a:r>
            <a:br>
              <a:rPr sz="1600"/>
            </a:b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         persuas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Cona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6910560" y="4581360"/>
            <a:ext cx="223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Graf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Tab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Fig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Map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Modu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Verdana"/>
              </a:rPr>
              <a:t>Annunci pubb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r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dimensioni dietro le prove di let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74760" y="1763640"/>
            <a:ext cx="35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tuazione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Aspetto della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4356000" y="4437000"/>
            <a:ext cx="928800" cy="285840"/>
          </a:xfrm>
          <a:prstGeom prst="rightArrow">
            <a:avLst>
              <a:gd name="adj1" fmla="val 50000"/>
              <a:gd name="adj2" fmla="val 106477"/>
            </a:avLst>
          </a:prstGeom>
          <a:solidFill>
            <a:srgbClr val="ff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364000" y="3860640"/>
            <a:ext cx="342900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Verdana"/>
              </a:rPr>
              <a:t>Individuare inform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Verdana"/>
              </a:rPr>
              <a:t>Sviluppare un’interpre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Verdana"/>
              </a:rPr>
              <a:t>Riflettere e valu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22200" y="981000"/>
            <a:ext cx="8497800" cy="26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opo de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042920" y="30621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071720" y="2000160"/>
            <a:ext cx="6811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o Descrittivo: che co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o Narrativo: quando? In quale ord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o Informativo: 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o Argomentativo: perch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o Conativo: indicazioni  sul 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pert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395280" y="692280"/>
            <a:ext cx="792180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SCALA DI COMPETENZA DI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 CINQUE LIVELLI DI DIFFICO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50920" y="2852640"/>
            <a:ext cx="6840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la lettura sono state costruite una scala generale di competenza di lettura e – nel 2000 – cinque scale specifiche (relative ai tre aspetti della lettura e ai due formati dei te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lle scale di lettura si sono individuati cinque livelli di difficoltà dei quesiti corrispondenti ad altrettanti livelli di capacità da parte degli stu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395280" y="54936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TTERISTICHE DEI QUESITI DI LIVEL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826920" y="1773360"/>
            <a:ext cx="77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33336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971800" y="2819520"/>
            <a:ext cx="211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90440" y="1844640"/>
          <a:ext cx="8763120" cy="4033800"/>
        </p:xfrm>
        <a:graphic>
          <a:graphicData uri="http://schemas.openxmlformats.org/drawingml/2006/table">
            <a:tbl>
              <a:tblPr/>
              <a:tblGrid>
                <a:gridCol w="2946600"/>
                <a:gridCol w="3122640"/>
                <a:gridCol w="2693880"/>
              </a:tblGrid>
              <a:tr h="885960"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re informazion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re un’interpretazio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flettere e valuta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14784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21"/>
          <p:cNvSpPr/>
          <p:nvPr/>
        </p:nvSpPr>
        <p:spPr>
          <a:xfrm>
            <a:off x="324000" y="2997360"/>
            <a:ext cx="280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lizzare, sulla base di un singolo criterio, una o p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ù informazioni indipendenti formulate in modo esplicito nel t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3348000" y="2997360"/>
            <a:ext cx="280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iconoscere l’argomento principale o lo scopo dell’autore in un testo che riguarda un tema familiare e in cui  l’informazione richiesta è messa in rilie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6300720" y="2997360"/>
            <a:ext cx="259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 una semplice connessione tra informazioni contenute nel testo e conoscenze di senso co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395280" y="404640"/>
            <a:ext cx="756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TTERISTICHE DEI QUESITI DI LIVELLO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826920" y="1773360"/>
            <a:ext cx="77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33336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971800" y="2819520"/>
            <a:ext cx="211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0" y="30492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971800" y="2819520"/>
            <a:ext cx="211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0440" y="1446120"/>
          <a:ext cx="8763120" cy="479124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870280"/>
              </a:tblGrid>
              <a:tr h="733680"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re informazion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re un’interpretazio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flettere e valutar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05756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44"/>
          <p:cNvSpPr/>
          <p:nvPr/>
        </p:nvSpPr>
        <p:spPr>
          <a:xfrm>
            <a:off x="468360" y="2421000"/>
            <a:ext cx="2808360" cy="26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Localizzare, o riconoscere, la relazione tra singole informazioni ciascuna delle quali può dovere soddisfare più criteri. Gestire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distrattor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5"/>
          <p:cNvSpPr/>
          <p:nvPr/>
        </p:nvSpPr>
        <p:spPr>
          <a:xfrm>
            <a:off x="3274920" y="2421000"/>
            <a:ext cx="25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Integrare diverse parti di un testo per identificarne l’idea principale, comprendere una relazione o ricostruire il significato di un termine o di una frase. Confrontare, contrapporre o classificare. Gestire distrat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6"/>
          <p:cNvSpPr/>
          <p:nvPr/>
        </p:nvSpPr>
        <p:spPr>
          <a:xfrm>
            <a:off x="6372360" y="2421000"/>
            <a:ext cx="252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Stabilire connessioni o paragoni, fornire spiegazioni su una aspetto di un testo o valutarlo. Dimostrare una comprensione dettagliata di un testo mettendolo in relazione a nozioni familiari o meno comu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00">
            <a:alpha val="5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395280" y="333360"/>
            <a:ext cx="777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CARATTERISTICHE DEI QUESITI DI LIVELLO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826920" y="1773360"/>
            <a:ext cx="77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33336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971800" y="2819520"/>
            <a:ext cx="211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30492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71800" y="2819520"/>
            <a:ext cx="211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1"/>
          <p:cNvSpPr/>
          <p:nvPr/>
        </p:nvSpPr>
        <p:spPr>
          <a:xfrm>
            <a:off x="0" y="30492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2971800" y="2819520"/>
            <a:ext cx="211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1628640"/>
          <a:ext cx="8763120" cy="439596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870280"/>
              </a:tblGrid>
              <a:tr h="825480"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re informazio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are un’interpretazi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flettere e valut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  <a:tr h="3570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33cccc"/>
                      </a:solidFill>
                    </a:lnL>
                    <a:lnR w="5760">
                      <a:solidFill>
                        <a:srgbClr val="33cccc"/>
                      </a:solidFill>
                    </a:lnR>
                    <a:lnT w="5760">
                      <a:solidFill>
                        <a:srgbClr val="33cccc"/>
                      </a:solidFill>
                    </a:lnT>
                    <a:lnB w="5760">
                      <a:solidFill>
                        <a:srgbClr val="33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 Box 47"/>
          <p:cNvSpPr/>
          <p:nvPr/>
        </p:nvSpPr>
        <p:spPr>
          <a:xfrm>
            <a:off x="349200" y="264636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Localizzare ed eventualmente ordinare o integrare più informazioni presenti nel testo. Inferire quale informazione del testo sia pertinente rispetto al compito e discriminare tra più informazioni plausibi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8"/>
          <p:cNvSpPr/>
          <p:nvPr/>
        </p:nvSpPr>
        <p:spPr>
          <a:xfrm>
            <a:off x="3276720" y="2637000"/>
            <a:ext cx="280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Dimostrare di afferrare  il significato di sfumature del linguaggio o dimostrare una piena e dettagliata comprensione di un 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6242040" y="2614680"/>
            <a:ext cx="2736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Dare una valutazione critica o fare ipotesi basandosi su conoscenze specialistiche. Trattare con concetti contrari alle aspettative e basarsi sulla comprensione di testi lunghi e comples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1280" y="1413000"/>
            <a:ext cx="8461440" cy="28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getto sviluppato da: Organizzazione per la Cooperazione e lo Sviluppo Economico 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(O.C.S.E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.I.S.A. -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Programme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</a:rPr>
              <a:t>for  International Student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agine internazionale promossa per rilevare le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mpetenz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i quindicenni scolarizzati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svolge con periodicità triennale (prima indagine 2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14200" y="4365720"/>
            <a:ext cx="871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l’obiettiv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generale di verificare se, e in che misura, i giovani che escono dalla scuola dell’obbligo abbiano acquisito alcune competenze giudicate essenziali per svolgere un ruolo consapevole e attivo nella società e per continuare ad apprendere per tutta la v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4360" y="642960"/>
            <a:ext cx="80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 COS’E’ L’ INDAGINE O.C.S.E.- P.I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549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907920"/>
            <a:ext cx="75103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82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nde a scelta multip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8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539640" y="263700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cosa intende dimostrare l’autore del tes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la qualità di molte scarpe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è meglio non giocare a calcio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i giovani subiscono sempre più danni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)   Che è molto importante per i giovani atleti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11280" y="2565360"/>
            <a:ext cx="674676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684360" y="5013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lassico “scegli una risposta” tra una serie di risposte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it-IT" sz="39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79280" y="549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907920"/>
            <a:ext cx="75103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82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nde a scelta multipla compl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8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539640" y="2852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rie di affermazioni per ciascuna delle quali è richiesto di dare una risposta del tipo vero/falso oppure sì/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it-IT" sz="39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907920"/>
            <a:ext cx="75103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nde aperte a risposta univo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332000" y="249228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13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3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che anno, all’incirca, inizia il grafico della figura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3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3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1187280" y="2421000"/>
            <a:ext cx="724248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42920" y="142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1403280" y="4724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hiede una breve risposta,  verbale o numerica e ammette una sola risposta corret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it-IT" sz="39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0" y="907920"/>
            <a:ext cx="75103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nde aperte a risposta bre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42920" y="142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971640" y="33577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hiede una breve risposta, verbale o numerica, ma ammette diverse possibili risposte corret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00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it-IT" sz="39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42920" y="142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685800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it-IT" sz="39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 rot="16200000">
            <a:off x="2471760" y="2503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31112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24000" y="476280"/>
            <a:ext cx="75103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nde aperte a risposta artico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50920" y="206100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una lettera possiamo riconoscere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tenu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le cose che dice) e l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il modo in cui sono scrit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pendentemente da quella con cui sei d’accordo, secondo te quale lettera è migliore? Giustifica la tua risposta facendo riferi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lo sti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cui è scritta una delle due lettere, o entram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……………………………………………………………………….………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……………………………………………………………………….………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30720"/>
                <a:tab algn="l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179280" y="1844640"/>
            <a:ext cx="8604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142920" y="142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versi tipi di ques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1116000" y="5661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hiede una lunga risposta scritta o di spiegare i passaggi che si compiono per risolvere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1214280" y="0"/>
            <a:ext cx="66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4357800" y="2357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85840" y="28584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reading literacy di PIS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la capacità di interagire con l’informazione scritta per continuare ad apprendere e per esercitare una cittadinanza a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la lettura PISA valu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a capacità di ricostruire il significato di un testo, di espanderlo e di comunicare le proprie riflessioni su di 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strumento di valut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la lettura include un’ampia gamma di testi e i quesiti sono incentrati su diversi aspetti della lettura in relazione a un preciso modello concet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prov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ono costituite da quesiti sia “chiusi” sia “aperti” di diversi gradi di difficol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428760" y="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 sinte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1" descr=""/>
          <p:cNvPicPr/>
          <p:nvPr/>
        </p:nvPicPr>
        <p:blipFill>
          <a:blip r:embed="rId1"/>
          <a:stretch/>
        </p:blipFill>
        <p:spPr>
          <a:xfrm>
            <a:off x="-6480" y="1779480"/>
            <a:ext cx="9856800" cy="158616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5794200" y="21420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714240" y="1865160"/>
            <a:ext cx="7886880" cy="4745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500040" y="142920"/>
            <a:ext cx="8215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aesi aderenti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getto PI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794200" y="19836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714240" y="1865160"/>
            <a:ext cx="7886880" cy="4745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714240" y="1865160"/>
            <a:ext cx="7886880" cy="4745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5"/>
          <a:stretch/>
        </p:blipFill>
        <p:spPr>
          <a:xfrm>
            <a:off x="714240" y="1865160"/>
            <a:ext cx="7886880" cy="4745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6"/>
          <a:stretch/>
        </p:blipFill>
        <p:spPr>
          <a:xfrm>
            <a:off x="714240" y="1865160"/>
            <a:ext cx="7886880" cy="4745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7"/>
          <a:stretch/>
        </p:blipFill>
        <p:spPr>
          <a:xfrm>
            <a:off x="714240" y="1857240"/>
            <a:ext cx="7886880" cy="474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1"/>
          <p:cNvSpPr/>
          <p:nvPr/>
        </p:nvSpPr>
        <p:spPr>
          <a:xfrm>
            <a:off x="5786280" y="21420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786280" y="19836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5786280" y="21420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5786280" y="214200"/>
            <a:ext cx="1785960" cy="952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714240" y="1874880"/>
            <a:ext cx="184320" cy="36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787320" y="6224760"/>
            <a:ext cx="184320" cy="36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8269200" y="6249960"/>
            <a:ext cx="184320" cy="3700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8342280" y="1857240"/>
            <a:ext cx="184320" cy="46224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428760" y="1000080"/>
            <a:ext cx="8067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quivalenti all’        d     dell’economia mond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2571840" y="1285920"/>
            <a:ext cx="1000080" cy="306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8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4643280" y="214200"/>
            <a:ext cx="1428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260360" indent="-12603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26920" y="476280"/>
            <a:ext cx="72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ISA: le caratteristiche inno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0920" y="1557360"/>
            <a:ext cx="849780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motiv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progetto parte per iniziativa dei governi e, pertanto, i risultati fanno riferimento agli interessi che questi hanno in materia di politica edu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regolar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rire, con cadenza triennale, più ambiti di indagine consente ai Paesi partecipanti di monitorare ciclicamente i propri progressi nel conseguimento di obiettivi strategici di apprendimen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b00"/>
            </a:gs>
            <a:gs pos="100000">
              <a:srgbClr val="ffa800">
                <a:alpha val="35294"/>
              </a:srgbClr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539640" y="549360"/>
            <a:ext cx="8353440" cy="19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PROGETTO O.C.S.E – P.I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utto di una collaborazione tra tutti i Paesi membri ed alt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es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rzi consoci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835280" y="458136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4764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547640" y="2781360"/>
            <a:ext cx="61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nde 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isurar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conoscenze, le abilità e gli atteggiamenti acquisiti in quasi dieci anni di scu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971640" y="1341360"/>
            <a:ext cx="936360" cy="2808360"/>
            <a:chOff x="971640" y="1341360"/>
            <a:chExt cx="936360" cy="2808360"/>
          </a:xfrm>
        </p:grpSpPr>
        <p:sp>
          <p:nvSpPr>
            <p:cNvPr id="82" name="Line 9"/>
            <p:cNvSpPr/>
            <p:nvPr/>
          </p:nvSpPr>
          <p:spPr>
            <a:xfrm>
              <a:off x="971640" y="1341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>
              <a:off x="971640" y="198900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971640" y="2133720"/>
              <a:ext cx="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971640" y="29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>
              <a:off x="1476360" y="41497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1476360" y="29242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Text Box 15"/>
          <p:cNvGrpSpPr/>
          <p:nvPr/>
        </p:nvGrpSpPr>
        <p:grpSpPr>
          <a:xfrm>
            <a:off x="1974960" y="3786120"/>
            <a:ext cx="6778440" cy="1932120"/>
            <a:chOff x="1974960" y="3786120"/>
            <a:chExt cx="6778440" cy="1932120"/>
          </a:xfrm>
        </p:grpSpPr>
        <p:pic>
          <p:nvPicPr>
            <p:cNvPr id="89" name="Text Box 15" descr=""/>
            <p:cNvPicPr/>
            <p:nvPr/>
          </p:nvPicPr>
          <p:blipFill>
            <a:blip r:embed="rId1"/>
            <a:stretch/>
          </p:blipFill>
          <p:spPr>
            <a:xfrm>
              <a:off x="1974960" y="3786120"/>
              <a:ext cx="677844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79640" y="3789360"/>
              <a:ext cx="676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upera l’ambito prettamente scolastico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e si concentra sulle conoscenze e sulle abilità comunque acquisite che mettano i ragazzi nelle condizioni di affrontare i problemi della vita quotidia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684360" y="620640"/>
            <a:ext cx="439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’OCSE : obiet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2987640" y="1197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50920" y="1557360"/>
            <a:ext cx="88930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litiche mirate a  realizz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assima espansione possibile dell’economia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’occu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innalzamento del tenore di vita dei Paesi Mem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litiche mirate a contribui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una sana espansione econom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i Paesi Membri e non Membri in via di svil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SA 200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07 Scuole  oltre 11.000 stud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SA 2006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850 Scuole circa 28.000 studenti che rappresentano circa mezzo mil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quindicenni scolarizz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livello geo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ampione è rappresentativo di 5 macroaree e 12 Regioni/Prov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n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livello del Sistema dell’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ampione è rappresentativo di due livelli scolastici (scuol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uola secondaria superiore) e di tre indirizzi di studio (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tituti Professionali e Licei) più i Centri di formazione professionale n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gioni in cui sono atti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900000" y="40464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ISA: IL CAMPIONE DI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 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13880" y="928440"/>
            <a:ext cx="79297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ve cognitive organizzate in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13 fascicol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 120 minuti ciascuno, assegnati agli studenti secondo uno schema di rot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v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costituite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o stimolo comune (testo, diagramma o grafico, immagi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certo numero di quesiti di difficoltà di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dicazioni per la correzione di ciascun quesi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mand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sono ess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iuse a scelta multipla semplice o comples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erte a risposta univoca o a risposta brev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erte a risposta articol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476360" y="476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ISA : LE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4890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684360" y="1341360"/>
            <a:ext cx="7704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viduare le caratteristiche dei sistemi scolastici dei Paesi che hanno ottenuto i risultati migliori, in termini di livello medio delle prestazioni e di dispersione dei punteggi, in modo da trarre indicazioni relative all'efficacia delle politiche scolastiche naziona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rnire con regolarità dati sui risultati dei sistemi di istruzione, in modo da consentire il loro monitoraggio e la costruzione di serie storiche di dati utilizzabili per orientare le politiche scolast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71640" y="40464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900000" y="47628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ISA 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BIETTIVO  PRI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9:12:48Z</dcterms:created>
  <dc:creator>Utente</dc:creator>
  <dc:description/>
  <dc:language>en-US</dc:language>
  <cp:lastModifiedBy>giuseppe candela</cp:lastModifiedBy>
  <dcterms:modified xsi:type="dcterms:W3CDTF">2009-02-08T19:09:34Z</dcterms:modified>
  <cp:revision>146</cp:revision>
  <dc:subject/>
  <dc:title>Diapositiva 1</dc:title>
</cp:coreProperties>
</file>