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19.jpeg" ContentType="image/jpe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BE4CA-E20B-4D70-A7B6-5B27CB26B9E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430FA-5CC6-4CDE-AABD-683973023A4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85A5B-4B6F-4F59-8BC7-D1431BAE8D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7F41A-1F4C-4BED-BB93-F0596EEC6F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AC844-65D9-4D94-8C8A-778557BD2A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82314-F166-42EF-BE74-4FABBBCF20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B6714-34C7-4F24-ACDD-0EEE99AB5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79749-62CC-4ED6-A4DB-F10C28966F0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97E5C-8DB3-467D-846E-3CCA3541D00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C1C59-E3D7-4E44-9CB7-E7E4D05A537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7F9F7-0701-4D52-953E-E332EAB68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3CE11-F564-471B-B0C7-51C3382E7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0DC9B-F1AA-4515-BE03-F7E6B4ECD1C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1CBA-25F0-4F89-B592-FB2B094DD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C140-B0AF-41FD-B487-5F4DF5B39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4159-D66C-4126-908D-0685F4F6D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AD4C-31BD-4B0B-B235-AAA596D72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03A9-D653-4725-95A5-6ECA1C1C9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72CB-889D-4AB8-9CB1-698AE513F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3D8A-3118-4AC3-917F-BA1E3DC94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297C-D152-4661-854C-71EB2D4C3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7E74-6878-4BB2-80CD-3E9410C9A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E1B2-A1D0-47FD-929F-4873DD76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71AD-C044-487D-88E2-3DEA354A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7F0E-3439-4183-BEFF-5D2926A5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653E8-EC4E-4180-B687-F3561E53B84B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1" descr="miur_logo"/>
          <p:cNvPicPr/>
          <p:nvPr/>
        </p:nvPicPr>
        <p:blipFill>
          <a:blip r:embed="rId1"/>
          <a:stretch/>
        </p:blipFill>
        <p:spPr>
          <a:xfrm>
            <a:off x="4000680" y="500040"/>
            <a:ext cx="1223640" cy="10810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3"/>
          <p:cNvSpPr/>
          <p:nvPr/>
        </p:nvSpPr>
        <p:spPr>
          <a:xfrm>
            <a:off x="214200" y="2214720"/>
            <a:ext cx="871560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PIANO DI FORMAZIONE POSEI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i="1" lang="it-IT" sz="2800" spc="-1" strike="noStrike">
                <a:solidFill>
                  <a:srgbClr val="000000"/>
                </a:solidFill>
                <a:latin typeface="Verdana"/>
              </a:rPr>
              <a:t>L’INDAGINE O.C.S.E.-P.I.S.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Verdana"/>
              </a:rPr>
              <a:t>                                </a:t>
            </a:r>
            <a:r>
              <a:rPr b="1" i="1" lang="it-IT" sz="28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Verdana"/>
              </a:rPr>
              <a:t>LA LITERACY IN LETTURA NELLE PROVE O.C.S.E.-P.I.S.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4"/>
          <p:cNvSpPr/>
          <p:nvPr/>
        </p:nvSpPr>
        <p:spPr>
          <a:xfrm>
            <a:off x="2286000" y="4857840"/>
            <a:ext cx="6000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Anna Pia Perr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r>
              <a:rPr b="1" i="1" lang="it-IT" sz="2000" spc="-1" strike="noStrike">
                <a:solidFill>
                  <a:srgbClr val="000000"/>
                </a:solidFill>
                <a:latin typeface="Verdana"/>
              </a:rPr>
              <a:t>febbraio 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1" descr="miur_logo"/>
          <p:cNvPicPr/>
          <p:nvPr/>
        </p:nvPicPr>
        <p:blipFill>
          <a:blip r:embed="rId2"/>
          <a:stretch/>
        </p:blipFill>
        <p:spPr>
          <a:xfrm>
            <a:off x="4000680" y="500040"/>
            <a:ext cx="1223640" cy="1081080"/>
          </a:xfrm>
          <a:prstGeom prst="rect">
            <a:avLst/>
          </a:prstGeom>
          <a:ln w="0">
            <a:noFill/>
          </a:ln>
        </p:spPr>
      </p:pic>
    </p:spTree>
  </p:cSld>
  <p:transition advTm="9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3"/>
          <p:cNvSpPr/>
          <p:nvPr/>
        </p:nvSpPr>
        <p:spPr>
          <a:xfrm>
            <a:off x="428760" y="2357280"/>
            <a:ext cx="8462880" cy="38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3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 comprensi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3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’utilizzazione di testi scrit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3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  riflessione su di ess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3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l fine d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3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3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aggiungere i propri obietti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3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viluppare le proprie conoscenze e potenzialit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3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volgere un ruolo attivo nella società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3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971640" y="476280"/>
            <a:ext cx="6985080" cy="35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ITERACY IN LET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iteracy non indica semplicemente un’abilità che si acquisisce unicamente nell’infanzia, durante i primi anni di scuola, ma piuttosto un insieme di conoscenze, abilità e strategie in continua evoluzione che gli individui sviluppano nel corso della vi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6"/>
          <p:cNvSpPr/>
          <p:nvPr/>
        </p:nvSpPr>
        <p:spPr>
          <a:xfrm>
            <a:off x="4572000" y="2816280"/>
            <a:ext cx="1655640" cy="1225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0" y="6858000"/>
            <a:ext cx="9144000" cy="20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it-IT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Tre dimensioni dietro le prove di let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374760" y="1763640"/>
            <a:ext cx="3565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Situazione di let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Formato del te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Aspetto della let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 rot="16200000">
            <a:off x="2471760" y="2503440"/>
            <a:ext cx="549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1311120" y="2655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5651640" y="1357200"/>
            <a:ext cx="3287520" cy="13136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Verdana"/>
              </a:rPr>
              <a:t>Priv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Verdana"/>
              </a:rPr>
              <a:t>Educativa/scolas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Verdana"/>
              </a:rPr>
              <a:t>Lavor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Verdana"/>
              </a:rPr>
              <a:t>Pubb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5"/>
          <p:cNvSpPr/>
          <p:nvPr/>
        </p:nvSpPr>
        <p:spPr>
          <a:xfrm>
            <a:off x="4714920" y="1928880"/>
            <a:ext cx="863640" cy="287280"/>
          </a:xfrm>
          <a:prstGeom prst="rightArrow">
            <a:avLst>
              <a:gd name="adj1" fmla="val 50000"/>
              <a:gd name="adj2" fmla="val 75157"/>
            </a:avLst>
          </a:prstGeom>
          <a:solidFill>
            <a:srgbClr val="ff66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0" y="6858000"/>
            <a:ext cx="9144000" cy="20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it-IT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Tre dimensioni dietro le prove di let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374760" y="1763640"/>
            <a:ext cx="3565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ituazione di let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Verdana"/>
              </a:rPr>
              <a:t>Formato del te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Aspetto della let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 rot="16200000">
            <a:off x="2471760" y="2503440"/>
            <a:ext cx="549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311120" y="2655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5643720" y="3143160"/>
            <a:ext cx="2784240" cy="703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Verdana"/>
              </a:rPr>
              <a:t>Testi contin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Verdana"/>
              </a:rPr>
              <a:t>Testi non contin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8"/>
          <p:cNvSpPr/>
          <p:nvPr/>
        </p:nvSpPr>
        <p:spPr>
          <a:xfrm>
            <a:off x="4214880" y="3429000"/>
            <a:ext cx="1224000" cy="287280"/>
          </a:xfrm>
          <a:prstGeom prst="rightArrow">
            <a:avLst>
              <a:gd name="adj1" fmla="val 50000"/>
              <a:gd name="adj2" fmla="val 106516"/>
            </a:avLst>
          </a:prstGeom>
          <a:solidFill>
            <a:srgbClr val="ff66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utoShape 16"/>
          <p:cNvSpPr/>
          <p:nvPr/>
        </p:nvSpPr>
        <p:spPr>
          <a:xfrm rot="3778800">
            <a:off x="6839640" y="4086360"/>
            <a:ext cx="792360" cy="353880"/>
          </a:xfrm>
          <a:prstGeom prst="rightArrow">
            <a:avLst>
              <a:gd name="adj1" fmla="val 50000"/>
              <a:gd name="adj2" fmla="val 55977"/>
            </a:avLst>
          </a:prstGeom>
          <a:solidFill>
            <a:srgbClr val="ffffd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5"/>
          <p:cNvSpPr/>
          <p:nvPr/>
        </p:nvSpPr>
        <p:spPr>
          <a:xfrm flipV="1" rot="7085400">
            <a:off x="5208480" y="4204080"/>
            <a:ext cx="1166760" cy="360360"/>
          </a:xfrm>
          <a:prstGeom prst="rightArrow">
            <a:avLst>
              <a:gd name="adj1" fmla="val 50000"/>
              <a:gd name="adj2" fmla="val 80944"/>
            </a:avLst>
          </a:prstGeom>
          <a:solidFill>
            <a:srgbClr val="ffffd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0" y="6858000"/>
            <a:ext cx="9144000" cy="20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it-IT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Tre dimensioni dietro le prove di let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74760" y="1763640"/>
            <a:ext cx="3565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ituazione di let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Verdana"/>
              </a:rPr>
              <a:t>Formato del te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Aspetto della let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 rot="16200000">
            <a:off x="2471760" y="2503440"/>
            <a:ext cx="549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311120" y="2655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5643720" y="3143160"/>
            <a:ext cx="2784240" cy="703800"/>
          </a:xfrm>
          <a:prstGeom prst="rect">
            <a:avLst/>
          </a:prstGeom>
          <a:solidFill>
            <a:srgbClr val="ffffd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Verdana"/>
              </a:rPr>
              <a:t>Testi contin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Verdana"/>
              </a:rPr>
              <a:t>Testi non contin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8"/>
          <p:cNvSpPr/>
          <p:nvPr/>
        </p:nvSpPr>
        <p:spPr>
          <a:xfrm>
            <a:off x="4214880" y="3429000"/>
            <a:ext cx="1224000" cy="287280"/>
          </a:xfrm>
          <a:prstGeom prst="rightArrow">
            <a:avLst>
              <a:gd name="adj1" fmla="val 50000"/>
              <a:gd name="adj2" fmla="val 106516"/>
            </a:avLst>
          </a:prstGeom>
          <a:solidFill>
            <a:srgbClr val="ff66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3"/>
          <p:cNvSpPr/>
          <p:nvPr/>
        </p:nvSpPr>
        <p:spPr>
          <a:xfrm>
            <a:off x="4427640" y="4581360"/>
            <a:ext cx="2016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Verdana"/>
              </a:rPr>
              <a:t>Narrativ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Verdana"/>
              </a:rPr>
              <a:t>Espositiv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Verdana"/>
              </a:rPr>
              <a:t>Descrittiv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Verdana"/>
              </a:rPr>
              <a:t>Argomentativi e</a:t>
            </a:r>
            <a:br>
              <a:rPr sz="1600"/>
            </a:br>
            <a:r>
              <a:rPr b="0" lang="de-DE" sz="1600" spc="-1" strike="noStrike">
                <a:solidFill>
                  <a:srgbClr val="ff3300"/>
                </a:solidFill>
                <a:latin typeface="Verdana"/>
              </a:rPr>
              <a:t>         persuasiv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Verdana"/>
              </a:rPr>
              <a:t>Conativ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4"/>
          <p:cNvSpPr/>
          <p:nvPr/>
        </p:nvSpPr>
        <p:spPr>
          <a:xfrm>
            <a:off x="6910560" y="4581360"/>
            <a:ext cx="2233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Verdana"/>
              </a:rPr>
              <a:t>Grafi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Verdana"/>
              </a:rPr>
              <a:t>Tab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Verdana"/>
              </a:rPr>
              <a:t>Fig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Verdana"/>
              </a:rPr>
              <a:t>Map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Verdana"/>
              </a:rPr>
              <a:t>Modu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Verdana"/>
              </a:rPr>
              <a:t>Annunci pubbl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0" y="6858000"/>
            <a:ext cx="9144000" cy="20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it-IT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Tre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dimensioni dietro le prove di let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374760" y="1763640"/>
            <a:ext cx="3565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ituazione di let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Formato del te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Verdana"/>
              </a:rPr>
              <a:t>Aspetto della let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 rot="16200000">
            <a:off x="2471760" y="2503440"/>
            <a:ext cx="549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1311120" y="2655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8"/>
          <p:cNvSpPr/>
          <p:nvPr/>
        </p:nvSpPr>
        <p:spPr>
          <a:xfrm>
            <a:off x="4356000" y="4437000"/>
            <a:ext cx="928800" cy="285840"/>
          </a:xfrm>
          <a:prstGeom prst="rightArrow">
            <a:avLst>
              <a:gd name="adj1" fmla="val 50000"/>
              <a:gd name="adj2" fmla="val 106477"/>
            </a:avLst>
          </a:prstGeom>
          <a:solidFill>
            <a:srgbClr val="ff66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5364000" y="3860640"/>
            <a:ext cx="3429000" cy="13136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3300"/>
                </a:solidFill>
                <a:latin typeface="Verdana"/>
              </a:rPr>
              <a:t>Individuare informaz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3300"/>
                </a:solidFill>
                <a:latin typeface="Verdana"/>
              </a:rPr>
              <a:t>Sviluppare un’interpret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3300"/>
                </a:solidFill>
                <a:latin typeface="Verdana"/>
              </a:rPr>
              <a:t>Riflettere e valut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3"/>
          <p:cNvSpPr/>
          <p:nvPr/>
        </p:nvSpPr>
        <p:spPr>
          <a:xfrm>
            <a:off x="322200" y="981000"/>
            <a:ext cx="8497800" cy="26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copo del Te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ff33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1042920" y="3062160"/>
            <a:ext cx="70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1071720" y="2000160"/>
            <a:ext cx="68119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esto Descrittivo: che cos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esto Narrativo: quando? In quale ordi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esto Informativo: co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esto Argomentativo: perché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esto Conativo: indicazioni  sul f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perte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96ab94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3"/>
          <p:cNvSpPr/>
          <p:nvPr/>
        </p:nvSpPr>
        <p:spPr>
          <a:xfrm>
            <a:off x="395280" y="692280"/>
            <a:ext cx="7921800" cy="22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LA SCALA DI COMPETENZA DI LET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 CINQUE LIVELLI DI DIFFICOL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50920" y="2852640"/>
            <a:ext cx="684072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 la lettura sono state costruite una scala generale di competenza di lettura e – nel 2000 – cinque scale specifiche (relative ai tre aspetti della lettura e ai due formati dei tes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ulle scale di lettura si sono individuati cinque livelli di difficoltà dei quesiti corrispondenti ad altrettanti livelli di capacità da parte degli stud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3"/>
          <p:cNvSpPr/>
          <p:nvPr/>
        </p:nvSpPr>
        <p:spPr>
          <a:xfrm>
            <a:off x="395280" y="549360"/>
            <a:ext cx="777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ATTERISTICHE DEI QUESITI DI LIVEL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826920" y="1773360"/>
            <a:ext cx="777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0" y="333360"/>
            <a:ext cx="9144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2971800" y="2819520"/>
            <a:ext cx="21128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90440" y="1844640"/>
          <a:ext cx="8763120" cy="4033800"/>
        </p:xfrm>
        <a:graphic>
          <a:graphicData uri="http://schemas.openxmlformats.org/drawingml/2006/table">
            <a:tbl>
              <a:tblPr/>
              <a:tblGrid>
                <a:gridCol w="2946600"/>
                <a:gridCol w="3122640"/>
                <a:gridCol w="2693880"/>
              </a:tblGrid>
              <a:tr h="885960"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viduare informazioni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viluppare un’interpretazion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flettere e valutar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14784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Text Box 21"/>
          <p:cNvSpPr/>
          <p:nvPr/>
        </p:nvSpPr>
        <p:spPr>
          <a:xfrm>
            <a:off x="324000" y="2997360"/>
            <a:ext cx="2808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calizzare, sulla base di un singolo criterio, una o p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ù informazioni indipendenti formulate in modo esplicito nel tes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2"/>
          <p:cNvSpPr/>
          <p:nvPr/>
        </p:nvSpPr>
        <p:spPr>
          <a:xfrm>
            <a:off x="3348000" y="2997360"/>
            <a:ext cx="2808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Riconoscere l’argomento principale o lo scopo dell’autore in un testo che riguarda un tema familiare e in cui  l’informazione richiesta è messa in rilie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3"/>
          <p:cNvSpPr/>
          <p:nvPr/>
        </p:nvSpPr>
        <p:spPr>
          <a:xfrm>
            <a:off x="6300720" y="2997360"/>
            <a:ext cx="2592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Stabilire una semplice connessione tra informazioni contenute nel testo e conoscenze di senso comu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3"/>
          <p:cNvSpPr/>
          <p:nvPr/>
        </p:nvSpPr>
        <p:spPr>
          <a:xfrm>
            <a:off x="395280" y="404640"/>
            <a:ext cx="7561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ATTERISTICHE DEI QUESITI DI LIVELLO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826920" y="1773360"/>
            <a:ext cx="777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0" y="333360"/>
            <a:ext cx="9144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2971800" y="2819520"/>
            <a:ext cx="21128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0" y="304920"/>
            <a:ext cx="9144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5"/>
          <p:cNvSpPr/>
          <p:nvPr/>
        </p:nvSpPr>
        <p:spPr>
          <a:xfrm>
            <a:off x="2971800" y="2819520"/>
            <a:ext cx="21128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90440" y="1446120"/>
          <a:ext cx="8763120" cy="4791240"/>
        </p:xfrm>
        <a:graphic>
          <a:graphicData uri="http://schemas.openxmlformats.org/drawingml/2006/table">
            <a:tbl>
              <a:tblPr/>
              <a:tblGrid>
                <a:gridCol w="2946600"/>
                <a:gridCol w="2946240"/>
                <a:gridCol w="2870280"/>
              </a:tblGrid>
              <a:tr h="733680"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viduare informazioni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viluppare un’interpretazion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flettere e valutar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405756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Text Box 44"/>
          <p:cNvSpPr/>
          <p:nvPr/>
        </p:nvSpPr>
        <p:spPr>
          <a:xfrm>
            <a:off x="468360" y="2421000"/>
            <a:ext cx="2808360" cy="26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Localizzare, o riconoscere, la relazione tra singole informazioni ciascuna delle quali può dovere soddisfare più criteri. Gestire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  <a:ea typeface="Arial"/>
              </a:rPr>
              <a:t>distrattor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5"/>
          <p:cNvSpPr/>
          <p:nvPr/>
        </p:nvSpPr>
        <p:spPr>
          <a:xfrm>
            <a:off x="3274920" y="2421000"/>
            <a:ext cx="2592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  <a:ea typeface="Arial"/>
              </a:rPr>
              <a:t>Integrare diverse parti di un testo per identificarne l’idea principale, comprendere una relazione o ricostruire il significato di un termine o di una frase. Confrontare, contrapporre o classificare. Gestire distratt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6"/>
          <p:cNvSpPr/>
          <p:nvPr/>
        </p:nvSpPr>
        <p:spPr>
          <a:xfrm>
            <a:off x="6372360" y="2421000"/>
            <a:ext cx="2520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  <a:ea typeface="Arial"/>
              </a:rPr>
              <a:t>Stabilire connessioni o paragoni, fornire spiegazioni su una aspetto di un testo o valutarlo. Dimostrare una comprensione dettagliata di un testo mettendolo in relazione a nozioni familiari o meno comu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c00">
            <a:alpha val="5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3"/>
          <p:cNvSpPr/>
          <p:nvPr/>
        </p:nvSpPr>
        <p:spPr>
          <a:xfrm>
            <a:off x="395280" y="333360"/>
            <a:ext cx="7777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cc"/>
                </a:solidFill>
                <a:latin typeface="Arial"/>
              </a:rPr>
              <a:t>CARATTERISTICHE DEI QUESITI DI LIVELLO 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826920" y="1773360"/>
            <a:ext cx="777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0" y="333360"/>
            <a:ext cx="9144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2971800" y="2819520"/>
            <a:ext cx="21128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0" y="304920"/>
            <a:ext cx="9144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2971800" y="2819520"/>
            <a:ext cx="21128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1"/>
          <p:cNvSpPr/>
          <p:nvPr/>
        </p:nvSpPr>
        <p:spPr>
          <a:xfrm>
            <a:off x="0" y="304920"/>
            <a:ext cx="9144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2"/>
          <p:cNvSpPr/>
          <p:nvPr/>
        </p:nvSpPr>
        <p:spPr>
          <a:xfrm>
            <a:off x="2971800" y="2819520"/>
            <a:ext cx="21128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79280" y="1628640"/>
          <a:ext cx="8763120" cy="4395960"/>
        </p:xfrm>
        <a:graphic>
          <a:graphicData uri="http://schemas.openxmlformats.org/drawingml/2006/table">
            <a:tbl>
              <a:tblPr/>
              <a:tblGrid>
                <a:gridCol w="2946600"/>
                <a:gridCol w="2946240"/>
                <a:gridCol w="2870280"/>
              </a:tblGrid>
              <a:tr h="825480"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viduare informazion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viluppare un’interpretazi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flettere e valuta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</a:tr>
              <a:tr h="357048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Text Box 47"/>
          <p:cNvSpPr/>
          <p:nvPr/>
        </p:nvSpPr>
        <p:spPr>
          <a:xfrm>
            <a:off x="349200" y="2646360"/>
            <a:ext cx="2808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  <a:ea typeface="Arial"/>
              </a:rPr>
              <a:t>Localizzare ed eventualmente ordinare o integrare più informazioni presenti nel testo. Inferire quale informazione del testo sia pertinente rispetto al compito e discriminare tra più informazioni plausibil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8"/>
          <p:cNvSpPr/>
          <p:nvPr/>
        </p:nvSpPr>
        <p:spPr>
          <a:xfrm>
            <a:off x="3276720" y="2637000"/>
            <a:ext cx="280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  <a:ea typeface="Arial"/>
              </a:rPr>
              <a:t>Dimostrare di afferrare  il significato di sfumature del linguaggio o dimostrare una piena e dettagliata comprensione di un 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9"/>
          <p:cNvSpPr/>
          <p:nvPr/>
        </p:nvSpPr>
        <p:spPr>
          <a:xfrm>
            <a:off x="6242040" y="2614680"/>
            <a:ext cx="2736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  <a:ea typeface="Arial"/>
              </a:rPr>
              <a:t>Dare una valutazione critica o fare ipotesi basandosi su conoscenze specialistiche. Trattare con concetti contrari alle aspettative e basarsi sulla comprensione di testi lunghi e compless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41280" y="1413000"/>
            <a:ext cx="8461440" cy="28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ogetto sviluppato da: Organizzazione per la Cooperazione e lo Sviluppo Economico 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(O.C.S.E.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P.I.S.A. - </a:t>
            </a:r>
            <a:r>
              <a:rPr b="1" i="1" lang="it-IT" sz="2000" spc="-1" strike="noStrike">
                <a:solidFill>
                  <a:srgbClr val="ff3300"/>
                </a:solidFill>
                <a:latin typeface="Arial"/>
              </a:rPr>
              <a:t>Programme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i="1" lang="it-IT" sz="2000" spc="-1" strike="noStrike">
                <a:solidFill>
                  <a:srgbClr val="ff3300"/>
                </a:solidFill>
                <a:latin typeface="Arial"/>
              </a:rPr>
              <a:t>for  International Student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dagine internazionale promossa per rilevare le </a:t>
            </a: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competenze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i quindicenni scolarizzati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i svolge con periodicità triennale (prima indagine 200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214200" y="4365720"/>
            <a:ext cx="8713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Ha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l’obiettiv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generale di verificare se, e in che misura, i giovani che escono dalla scuola dell’obbligo abbiano acquisito alcune competenze giudicate essenziali per svolgere un ruolo consapevole e attivo nella società e per continuare ad apprendere per tutta la vi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684360" y="642960"/>
            <a:ext cx="803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E COS’E’ L’ INDAGINE O.C.S.E.- P.I.S.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0" y="6858000"/>
            <a:ext cx="9144000" cy="20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 rot="16200000">
            <a:off x="2471760" y="2503440"/>
            <a:ext cx="549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1311120" y="2655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179280" y="54936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Diversi tipi di quesi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0" y="907920"/>
            <a:ext cx="7510320" cy="16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982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ande a scelta multip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98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539640" y="2637000"/>
            <a:ext cx="813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he cosa intende dimostrare l’autore del tes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 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he la qualità di molte scarpe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 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he è meglio non giocare a calcio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 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he i giovani subiscono sempre più danni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)   Che è molto importante per i giovani atleti.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611280" y="2565360"/>
            <a:ext cx="6746760" cy="20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0"/>
          <p:cNvSpPr/>
          <p:nvPr/>
        </p:nvSpPr>
        <p:spPr>
          <a:xfrm>
            <a:off x="684360" y="501336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classico “scegli una risposta” tra una serie di risposte d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0" y="6858000"/>
            <a:ext cx="9144000" cy="20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975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0" lang="it-IT" sz="39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24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US" sz="25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 rot="16200000">
            <a:off x="2471760" y="2503440"/>
            <a:ext cx="549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1311120" y="2655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179280" y="54936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Diversi tipi di quesi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0" y="907920"/>
            <a:ext cx="7510320" cy="16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982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ande a scelta multipla comples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98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539640" y="285264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rie di affermazioni per ciascuna delle quali è richiesto di dare una risposta del tipo vero/falso oppure sì/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96ab9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0" y="6858000"/>
            <a:ext cx="9144000" cy="20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975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0" lang="it-IT" sz="39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24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US" sz="25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 rot="16200000">
            <a:off x="2471760" y="2503440"/>
            <a:ext cx="549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311120" y="2655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0" y="907920"/>
            <a:ext cx="751032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ande aperte a risposta univo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9"/>
          <p:cNvSpPr/>
          <p:nvPr/>
        </p:nvSpPr>
        <p:spPr>
          <a:xfrm>
            <a:off x="1332000" y="2492280"/>
            <a:ext cx="73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13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3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 che anno, all’incirca, inizia il grafico della figura 1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3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3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1187280" y="2421000"/>
            <a:ext cx="7242480" cy="14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142920" y="14292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Diversi tipi di quesi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1403280" y="4724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ichiede una breve risposta,  verbale o numerica e ammette una sola risposta corret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0" y="6858000"/>
            <a:ext cx="9144000" cy="20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975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0" lang="it-IT" sz="39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24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US" sz="25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"/>
          <p:cNvSpPr/>
          <p:nvPr/>
        </p:nvSpPr>
        <p:spPr>
          <a:xfrm rot="16200000">
            <a:off x="2471760" y="2503440"/>
            <a:ext cx="549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1311120" y="2655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6"/>
          <p:cNvSpPr/>
          <p:nvPr/>
        </p:nvSpPr>
        <p:spPr>
          <a:xfrm>
            <a:off x="0" y="907920"/>
            <a:ext cx="751032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ande aperte a risposta bre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142920" y="14292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Diversi tipi di quesi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971640" y="335772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ichiede una breve risposta, verbale o numerica, ma ammette diverse possibili risposte corret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00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0" y="6858000"/>
            <a:ext cx="9144000" cy="20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975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0" lang="it-IT" sz="39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24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US" sz="25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 rot="16200000">
            <a:off x="2471760" y="2503440"/>
            <a:ext cx="549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1311120" y="2655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142920" y="14292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Diversi tipi di quesi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0" y="6858000"/>
            <a:ext cx="9144000" cy="20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975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0" lang="it-IT" sz="39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24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US" sz="25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 rot="16200000">
            <a:off x="2471760" y="2503440"/>
            <a:ext cx="549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1311120" y="2655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324000" y="476280"/>
            <a:ext cx="751032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ande aperte a risposta articol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50920" y="2061000"/>
            <a:ext cx="8353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130720"/>
                <a:tab algn="l" pos="5221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 una lettera possiamo riconoscere il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ntenu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(le cose che dice) e l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til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(il modo in cui sono scritt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30720"/>
                <a:tab algn="l" pos="5221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30720"/>
                <a:tab algn="l" pos="5221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dipendentemente da quella con cui sei d’accordo, secondo te quale lettera è migliore? Giustifica la tua risposta facendo riferiment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llo stil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 cui è scritta una delle due lettere, o entramb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130720"/>
                <a:tab algn="l" pos="5221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..……………………………………………………………………….………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130720"/>
                <a:tab algn="l" pos="5221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130720"/>
                <a:tab algn="l" pos="5221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..……………………………………………………………………….………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130720"/>
                <a:tab algn="l" pos="5221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1"/>
          <p:cNvSpPr/>
          <p:nvPr/>
        </p:nvSpPr>
        <p:spPr>
          <a:xfrm>
            <a:off x="179280" y="1844640"/>
            <a:ext cx="8604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142920" y="14292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Diversi tipi di quesi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6"/>
          <p:cNvSpPr/>
          <p:nvPr/>
        </p:nvSpPr>
        <p:spPr>
          <a:xfrm>
            <a:off x="1116000" y="566100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ichiede una lunga risposta scritta o di spiegare i passaggi che si compiono per risolvere proble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3"/>
          <p:cNvSpPr/>
          <p:nvPr/>
        </p:nvSpPr>
        <p:spPr>
          <a:xfrm>
            <a:off x="1214280" y="0"/>
            <a:ext cx="6643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4"/>
          <p:cNvSpPr/>
          <p:nvPr/>
        </p:nvSpPr>
        <p:spPr>
          <a:xfrm>
            <a:off x="4357800" y="2357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285840" y="285840"/>
            <a:ext cx="86439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reading literacy di PIS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è la capacità di interagire con l’informazione scritta per continuare ad apprendere e per esercitare una cittadinanza at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la lettura PISA valut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la capacità di ricostruire il significato di un testo, di espanderlo e di comunicare le proprie riflessioni su di e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o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strumento di valutazion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della lettura include un’ampia gamma di testi e i quesiti sono incentrati su diversi aspetti della lettura in relazione a un preciso modello concettu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prov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sono costituite da quesiti sia “chiusi” sia “aperti” di diversi gradi di difficol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"/>
          <p:cNvSpPr/>
          <p:nvPr/>
        </p:nvSpPr>
        <p:spPr>
          <a:xfrm>
            <a:off x="428760" y="0"/>
            <a:ext cx="777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In sintes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590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Rectangle 1" descr=""/>
          <p:cNvPicPr/>
          <p:nvPr/>
        </p:nvPicPr>
        <p:blipFill>
          <a:blip r:embed="rId1"/>
          <a:stretch/>
        </p:blipFill>
        <p:spPr>
          <a:xfrm>
            <a:off x="-6480" y="1779480"/>
            <a:ext cx="9856800" cy="1586160"/>
          </a:xfrm>
          <a:prstGeom prst="rect">
            <a:avLst/>
          </a:prstGeom>
          <a:ln w="0">
            <a:noFill/>
          </a:ln>
        </p:spPr>
      </p:pic>
    </p:spTree>
  </p:cSld>
  <p:transition advTm="9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5794200" y="214200"/>
            <a:ext cx="1785960" cy="95256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1260360" indent="-12603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199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714240" y="1865160"/>
            <a:ext cx="7886880" cy="4745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4"/>
          <p:cNvSpPr/>
          <p:nvPr/>
        </p:nvSpPr>
        <p:spPr>
          <a:xfrm>
            <a:off x="500040" y="142920"/>
            <a:ext cx="82152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1260360" indent="-12603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Paesi aderenti 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260360" indent="-12603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Progetto PIS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5794200" y="198360"/>
            <a:ext cx="1785960" cy="95256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1260360" indent="-12603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"/>
          <p:cNvPicPr/>
          <p:nvPr/>
        </p:nvPicPr>
        <p:blipFill>
          <a:blip r:embed="rId3"/>
          <a:stretch/>
        </p:blipFill>
        <p:spPr>
          <a:xfrm>
            <a:off x="714240" y="1865160"/>
            <a:ext cx="7886880" cy="4745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"/>
          <p:cNvPicPr/>
          <p:nvPr/>
        </p:nvPicPr>
        <p:blipFill>
          <a:blip r:embed="rId4"/>
          <a:stretch/>
        </p:blipFill>
        <p:spPr>
          <a:xfrm>
            <a:off x="714240" y="1865160"/>
            <a:ext cx="7886880" cy="4745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"/>
          <p:cNvPicPr/>
          <p:nvPr/>
        </p:nvPicPr>
        <p:blipFill>
          <a:blip r:embed="rId5"/>
          <a:stretch/>
        </p:blipFill>
        <p:spPr>
          <a:xfrm>
            <a:off x="714240" y="1865160"/>
            <a:ext cx="7886880" cy="4745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"/>
          <p:cNvPicPr/>
          <p:nvPr/>
        </p:nvPicPr>
        <p:blipFill>
          <a:blip r:embed="rId6"/>
          <a:stretch/>
        </p:blipFill>
        <p:spPr>
          <a:xfrm>
            <a:off x="714240" y="1865160"/>
            <a:ext cx="7886880" cy="4745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"/>
          <p:cNvPicPr/>
          <p:nvPr/>
        </p:nvPicPr>
        <p:blipFill>
          <a:blip r:embed="rId7"/>
          <a:stretch/>
        </p:blipFill>
        <p:spPr>
          <a:xfrm>
            <a:off x="714240" y="1857240"/>
            <a:ext cx="7886880" cy="47451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1"/>
          <p:cNvSpPr/>
          <p:nvPr/>
        </p:nvSpPr>
        <p:spPr>
          <a:xfrm>
            <a:off x="5786280" y="214200"/>
            <a:ext cx="1785960" cy="95256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1260360" indent="-12603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20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2"/>
          <p:cNvSpPr/>
          <p:nvPr/>
        </p:nvSpPr>
        <p:spPr>
          <a:xfrm>
            <a:off x="5786280" y="198360"/>
            <a:ext cx="1785960" cy="95256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1260360" indent="-12603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20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3"/>
          <p:cNvSpPr/>
          <p:nvPr/>
        </p:nvSpPr>
        <p:spPr>
          <a:xfrm>
            <a:off x="5786280" y="214200"/>
            <a:ext cx="1785960" cy="95256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1260360" indent="-12603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200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4"/>
          <p:cNvSpPr/>
          <p:nvPr/>
        </p:nvSpPr>
        <p:spPr>
          <a:xfrm>
            <a:off x="5786280" y="214200"/>
            <a:ext cx="1785960" cy="95256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1260360" indent="-12603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200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5"/>
          <p:cNvSpPr/>
          <p:nvPr/>
        </p:nvSpPr>
        <p:spPr>
          <a:xfrm>
            <a:off x="714240" y="1874880"/>
            <a:ext cx="184320" cy="36972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6"/>
          <p:cNvSpPr/>
          <p:nvPr/>
        </p:nvSpPr>
        <p:spPr>
          <a:xfrm>
            <a:off x="787320" y="6224760"/>
            <a:ext cx="184320" cy="36972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7"/>
          <p:cNvSpPr/>
          <p:nvPr/>
        </p:nvSpPr>
        <p:spPr>
          <a:xfrm>
            <a:off x="8269200" y="6249960"/>
            <a:ext cx="184320" cy="37008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8"/>
          <p:cNvSpPr/>
          <p:nvPr/>
        </p:nvSpPr>
        <p:spPr>
          <a:xfrm>
            <a:off x="8342280" y="1857240"/>
            <a:ext cx="184320" cy="46224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9"/>
          <p:cNvSpPr/>
          <p:nvPr/>
        </p:nvSpPr>
        <p:spPr>
          <a:xfrm>
            <a:off x="428760" y="1000080"/>
            <a:ext cx="80676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1260360" indent="-12603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quivalenti all’        d     dell’economia mond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5"/>
          <p:cNvSpPr/>
          <p:nvPr/>
        </p:nvSpPr>
        <p:spPr>
          <a:xfrm>
            <a:off x="2571840" y="1285920"/>
            <a:ext cx="1000080" cy="30636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1260360" indent="-12603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8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4643280" y="214200"/>
            <a:ext cx="142884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1260360" indent="-12603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826920" y="476280"/>
            <a:ext cx="720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PISA: le caratteristiche innov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250920" y="1557360"/>
            <a:ext cx="8497800" cy="42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Le motivaz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progetto parte per iniziativa dei governi e, pertanto, i risultati fanno riferimento agli interessi che questi hanno in materia di politica educ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La regolari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prire, con cadenza triennale, più ambiti di indagine consente ai Paesi partecipanti di monitorare ciclicamente i propri progressi nel conseguimento di obiettivi strategici di apprendimento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b00"/>
            </a:gs>
            <a:gs pos="100000">
              <a:srgbClr val="ffa800">
                <a:alpha val="35294"/>
              </a:srgbClr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3"/>
          <p:cNvSpPr/>
          <p:nvPr/>
        </p:nvSpPr>
        <p:spPr>
          <a:xfrm>
            <a:off x="539640" y="549360"/>
            <a:ext cx="8353440" cy="19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627120"/>
                <a:tab algn="l" pos="1254240"/>
                <a:tab algn="l" pos="1881360"/>
                <a:tab algn="l" pos="2508120"/>
                <a:tab algn="l" pos="3135240"/>
                <a:tab algn="l" pos="3762360"/>
                <a:tab algn="l" pos="4389480"/>
                <a:tab algn="l" pos="5016600"/>
                <a:tab algn="l" pos="5643720"/>
                <a:tab algn="l" pos="6270480"/>
                <a:tab algn="l" pos="6897600"/>
                <a:tab algn="l" pos="7524720"/>
                <a:tab algn="l" pos="8151840"/>
                <a:tab algn="l" pos="8778960"/>
                <a:tab algn="l" pos="9406080"/>
                <a:tab algn="l" pos="10032840"/>
                <a:tab algn="l" pos="106599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L PROGETTO O.C.S.E – P.I.S.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627120"/>
                <a:tab algn="l" pos="1254240"/>
                <a:tab algn="l" pos="1881360"/>
                <a:tab algn="l" pos="2508120"/>
                <a:tab algn="l" pos="3135240"/>
                <a:tab algn="l" pos="3762360"/>
                <a:tab algn="l" pos="4389480"/>
                <a:tab algn="l" pos="5016600"/>
                <a:tab algn="l" pos="5643720"/>
                <a:tab algn="l" pos="6270480"/>
                <a:tab algn="l" pos="6897600"/>
                <a:tab algn="l" pos="7524720"/>
                <a:tab algn="l" pos="8151840"/>
                <a:tab algn="l" pos="8778960"/>
                <a:tab algn="l" pos="9406080"/>
                <a:tab algn="l" pos="10032840"/>
                <a:tab algn="l" pos="106599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627120"/>
                <a:tab algn="l" pos="1254240"/>
                <a:tab algn="l" pos="1881360"/>
                <a:tab algn="l" pos="2508120"/>
                <a:tab algn="l" pos="3135240"/>
                <a:tab algn="l" pos="3762360"/>
                <a:tab algn="l" pos="4389480"/>
                <a:tab algn="l" pos="5016600"/>
                <a:tab algn="l" pos="5643720"/>
                <a:tab algn="l" pos="6270480"/>
                <a:tab algn="l" pos="6897600"/>
                <a:tab algn="l" pos="7524720"/>
                <a:tab algn="l" pos="8151840"/>
                <a:tab algn="l" pos="8778960"/>
                <a:tab algn="l" pos="9406080"/>
                <a:tab algn="l" pos="10032840"/>
                <a:tab algn="l" pos="106599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rutto di una collaborazione tra tutti i Paesi membri ed altr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7120"/>
                <a:tab algn="l" pos="1254240"/>
                <a:tab algn="l" pos="1881360"/>
                <a:tab algn="l" pos="2508120"/>
                <a:tab algn="l" pos="3135240"/>
                <a:tab algn="l" pos="3762360"/>
                <a:tab algn="l" pos="4389480"/>
                <a:tab algn="l" pos="5016600"/>
                <a:tab algn="l" pos="5643720"/>
                <a:tab algn="l" pos="6270480"/>
                <a:tab algn="l" pos="6897600"/>
                <a:tab algn="l" pos="7524720"/>
                <a:tab algn="l" pos="8151840"/>
                <a:tab algn="l" pos="8778960"/>
                <a:tab algn="l" pos="9406080"/>
                <a:tab algn="l" pos="10032840"/>
                <a:tab algn="l" pos="106599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aesi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rzi consoci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1835280" y="458136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"/>
          <p:cNvSpPr/>
          <p:nvPr/>
        </p:nvSpPr>
        <p:spPr>
          <a:xfrm>
            <a:off x="1547640" y="4941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1547640" y="2781360"/>
            <a:ext cx="61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nde a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misurare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e conoscenze, le abilità e gli atteggiamenti acquisiti in quasi dieci anni di scuo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8"/>
          <p:cNvGrpSpPr/>
          <p:nvPr/>
        </p:nvGrpSpPr>
        <p:grpSpPr>
          <a:xfrm>
            <a:off x="971640" y="1341360"/>
            <a:ext cx="936360" cy="2808360"/>
            <a:chOff x="971640" y="1341360"/>
            <a:chExt cx="936360" cy="2808360"/>
          </a:xfrm>
        </p:grpSpPr>
        <p:sp>
          <p:nvSpPr>
            <p:cNvPr id="82" name="Line 9"/>
            <p:cNvSpPr/>
            <p:nvPr/>
          </p:nvSpPr>
          <p:spPr>
            <a:xfrm>
              <a:off x="971640" y="134136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0"/>
            <p:cNvSpPr/>
            <p:nvPr/>
          </p:nvSpPr>
          <p:spPr>
            <a:xfrm>
              <a:off x="971640" y="1989000"/>
              <a:ext cx="57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11"/>
            <p:cNvSpPr/>
            <p:nvPr/>
          </p:nvSpPr>
          <p:spPr>
            <a:xfrm>
              <a:off x="971640" y="2133720"/>
              <a:ext cx="0" cy="79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2"/>
            <p:cNvSpPr/>
            <p:nvPr/>
          </p:nvSpPr>
          <p:spPr>
            <a:xfrm>
              <a:off x="971640" y="2924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13"/>
            <p:cNvSpPr/>
            <p:nvPr/>
          </p:nvSpPr>
          <p:spPr>
            <a:xfrm>
              <a:off x="1476360" y="414972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14"/>
            <p:cNvSpPr/>
            <p:nvPr/>
          </p:nvSpPr>
          <p:spPr>
            <a:xfrm>
              <a:off x="1476360" y="2924280"/>
              <a:ext cx="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Text Box 15"/>
          <p:cNvGrpSpPr/>
          <p:nvPr/>
        </p:nvGrpSpPr>
        <p:grpSpPr>
          <a:xfrm>
            <a:off x="1974960" y="3786120"/>
            <a:ext cx="6778440" cy="1932120"/>
            <a:chOff x="1974960" y="3786120"/>
            <a:chExt cx="6778440" cy="1932120"/>
          </a:xfrm>
        </p:grpSpPr>
        <p:pic>
          <p:nvPicPr>
            <p:cNvPr id="89" name="Text Box 15" descr=""/>
            <p:cNvPicPr/>
            <p:nvPr/>
          </p:nvPicPr>
          <p:blipFill>
            <a:blip r:embed="rId1"/>
            <a:stretch/>
          </p:blipFill>
          <p:spPr>
            <a:xfrm>
              <a:off x="1974960" y="3786120"/>
              <a:ext cx="6778440" cy="193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79640" y="3789360"/>
              <a:ext cx="67690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supera l’ambito prettamente scolastico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 e si concentra sulle conoscenze e sulle abilità comunque acquisite che mettano i ragazzi nelle condizioni di affrontare i problemi della vita quotidia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9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684360" y="620640"/>
            <a:ext cx="4392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L’OCSE : obietti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4"/>
          <p:cNvSpPr/>
          <p:nvPr/>
        </p:nvSpPr>
        <p:spPr>
          <a:xfrm>
            <a:off x="2987640" y="1197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50920" y="1557360"/>
            <a:ext cx="8893080" cy="53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olitiche mirate a  realizza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massima espansione possibile dell’economia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ell’occup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n innalzamento del tenore di vita dei Paesi Memb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olitiche mirate a contribui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 una sana espansione econom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ei Paesi Membri e non Membri in via di svilup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7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755640" y="1700280"/>
            <a:ext cx="7632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ISA 2003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407 Scuole  oltre 11.000 stud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ISA 2006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850 Scuole circa 28.000 studenti che rappresentano circa mezzo mil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 quindicenni scolarizza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 livello geogra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campione è rappresentativo di 5 macroaree e 12 Regioni/Provi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utono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 livello del Sistema dell’Istru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campione è rappresentativo di due livelli scolastici (scuola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cuola secondaria superiore) e di tre indirizzi di studio (Istituti Tec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stituti Professionali e Licei) più i Centri di formazione professionale nel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gioni in cui sono attiv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900000" y="404640"/>
            <a:ext cx="698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PISA: IL CAMPIONE DI RIFER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n IT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713880" y="928440"/>
            <a:ext cx="792972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ove cognitive organizzate in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13 fascicoli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i 120 minuti ciascuno, assegnati agli studenti secondo uno schema di rotazi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rove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ono costituite d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no stimolo comune (testo, diagramma o grafico, immagin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n certo numero di quesiti di difficoltà diver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dicazioni per la correzione di ciascun quesi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domande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ossono esse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iuse a scelta multipla semplice o compless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perte a risposta univoca o a risposta brev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perte a risposta articol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1476360" y="47628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PISA : LE 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4890"/>
            </a:gs>
            <a:gs pos="100000">
              <a:srgbClr val="156b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3"/>
          <p:cNvSpPr/>
          <p:nvPr/>
        </p:nvSpPr>
        <p:spPr>
          <a:xfrm>
            <a:off x="684360" y="1341360"/>
            <a:ext cx="770400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1199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dividuare le caratteristiche dei sistemi scolastici dei Paesi che hanno ottenuto i risultati migliori, in termini di livello medio delle prestazioni e di dispersione dei punteggi, in modo da trarre indicazioni relative all'efficacia delle politiche scolastiche nazional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1199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ornire con regolarità dati sui risultati dei sistemi di istruzione, in modo da consentire il loro monitoraggio e la costruzione di serie storiche di dati utilizzabili per orientare le politiche scolasti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971640" y="40464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900000" y="476280"/>
            <a:ext cx="47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PISA :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OBIETTIVO  PRIM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9T09:12:48Z</dcterms:created>
  <dc:creator>Utente</dc:creator>
  <dc:description/>
  <dc:language>en-US</dc:language>
  <cp:lastModifiedBy>giuseppe candela</cp:lastModifiedBy>
  <dcterms:modified xsi:type="dcterms:W3CDTF">2009-02-08T19:09:34Z</dcterms:modified>
  <cp:revision>146</cp:revision>
  <dc:subject/>
  <dc:title>Diapositiva 1</dc:title>
</cp:coreProperties>
</file>