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30.jpeg" ContentType="image/jpeg"/>
  <Override PartName="/ppt/media/image8.wmf" ContentType="image/x-wmf"/>
  <Override PartName="/ppt/media/image33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34.wmf" ContentType="image/x-wmf"/>
  <Override PartName="/ppt/media/image12.jpeg" ContentType="image/jpeg"/>
  <Override PartName="/ppt/media/image4.png" ContentType="image/png"/>
  <Override PartName="/ppt/media/image2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3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181-67F9-4B6F-85E4-1EF6DDC8C7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C73B-89D9-4214-BD68-AFDAAC531D5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damento dal Nord al S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erma di precedenti cicli PISA e di altre indagini internaziona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970-1F1E-4DC4-BE53-20FE58DE538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vello 5: Australia 10,6; Belgio 11,3; Canada 14,5; Corea 21,7; Finlandia 16,7; Irlanda 11,7; Nuova Zelanda 15,9; Polonia 11,6; Svizzera 10,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600-7D0D-46E0-824D-C010B30036A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AB9-951B-47F7-84A3-B2D1BCD4520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CF6-B3EE-444A-B428-3F7D4FAFE27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fferenza statisticamente significativa anche per le me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487 (OCSE 500) a 469 (OCSE  49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ED0-93A2-4780-8F7D-6AF5ECD9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F4F-3B4D-47E8-A7D2-D7231B32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02E-8C5A-401E-83D2-2F01E0C8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E77-18DB-4189-8D85-ACDBF076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685-CE56-4949-BD23-F37F60D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856-A40D-45CD-BD80-E48B334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1D0-5577-44B2-901D-BDB8833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ADB-A4C6-40F8-B34F-0AA98206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478-6EF3-463C-9300-C9241F9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87F-FE9E-4810-81FC-ECB85F8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5AC-9226-490E-91AF-15B860C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0D2-BFEC-4D9D-86AB-56AFD40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D061-44D8-4255-8E14-615C528C6AB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403600" y="50720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nna Pia Pe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3"/>
          <p:cNvGrpSpPr/>
          <p:nvPr/>
        </p:nvGrpSpPr>
        <p:grpSpPr>
          <a:xfrm>
            <a:off x="420840" y="706320"/>
            <a:ext cx="8229600" cy="5116320"/>
            <a:chOff x="420840" y="706320"/>
            <a:chExt cx="8229600" cy="5116320"/>
          </a:xfrm>
        </p:grpSpPr>
        <p:pic>
          <p:nvPicPr>
            <p:cNvPr id="50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2960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714240"/>
              <a:ext cx="8215200" cy="51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Stencil"/>
                </a:rPr>
                <a:t>PIANO DI FORMAZIONE POSEID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L’analisi dell’errore nelle Prove O.C.S.E.-P.I.S.A.    </a:t>
              </a:r>
              <a:br>
                <a:rPr sz="2400"/>
              </a:b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                                      rilasci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La READING LITERACY IN LINGUA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Qualche dato stati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8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476280"/>
            <a:ext cx="720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mprendere il significato complessivo del testo: riconoscere lo scopo del t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661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466560" y="2349360"/>
          <a:ext cx="82090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49360"/>
                    <a:ext cx="82090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71640" y="404640"/>
            <a:ext cx="72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ferire una relazione implicita – lo scop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445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4360" y="2492280"/>
          <a:ext cx="78483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8483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34920" y="47628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motivare il proprio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661080" y="630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574560" y="2421000"/>
          <a:ext cx="7993080" cy="38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560" y="2421000"/>
                    <a:ext cx="7993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7"/>
          <p:cNvSpPr/>
          <p:nvPr/>
        </p:nvSpPr>
        <p:spPr>
          <a:xfrm>
            <a:off x="550872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63640" y="476280"/>
            <a:ext cx="741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valutare la qualità delle due let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684360" y="2349360"/>
          <a:ext cx="7848360" cy="37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349360"/>
                    <a:ext cx="784836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5580000" y="184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24360" y="6093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539640" y="1844640"/>
          <a:ext cx="806472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7"/>
          <p:cNvSpPr/>
          <p:nvPr/>
        </p:nvSpPr>
        <p:spPr>
          <a:xfrm>
            <a:off x="7164360" y="580536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 rot="17489400">
            <a:off x="3886920" y="4113360"/>
            <a:ext cx="1368360" cy="287280"/>
          </a:xfrm>
          <a:custGeom>
            <a:avLst/>
            <a:gdLst>
              <a:gd name="textAreaLeft" fmla="*/ 305640 w 1368360"/>
              <a:gd name="textAreaRight" fmla="*/ 925560 w 1368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137600" y="476280"/>
            <a:ext cx="60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SEMPIO DI POSIZIONAMENTO DEL SUD I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67280" y="4941720"/>
            <a:ext cx="1368360" cy="35892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8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98560" y="33336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rendere il significato complessivo del testo: riconoscere il principio organizzativo fondamentale delle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500040" y="2286000"/>
          <a:ext cx="79218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86000"/>
                    <a:ext cx="7921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34920" y="40464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tegrare due informazioni( le migliaia e il numero nella casel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539640" y="2421000"/>
          <a:ext cx="8136000" cy="35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21000"/>
                    <a:ext cx="8136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63640" y="47628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applicare un insieme di criteri forniti in un testo ad altre cas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2000" y="602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32400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98560" y="40464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comprensione dello stato degli elementi in un diagram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826920" y="2492280"/>
          <a:ext cx="76327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6327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7"/>
          <p:cNvSpPr/>
          <p:nvPr/>
        </p:nvSpPr>
        <p:spPr>
          <a:xfrm>
            <a:off x="5961240" y="19843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68360" y="1673280"/>
          <a:ext cx="7704000" cy="35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73280"/>
                    <a:ext cx="77040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AutoShape 6"/>
          <p:cNvSpPr/>
          <p:nvPr/>
        </p:nvSpPr>
        <p:spPr>
          <a:xfrm rot="17489400">
            <a:off x="4356000" y="3499560"/>
            <a:ext cx="1871640" cy="576360"/>
          </a:xfrm>
          <a:custGeom>
            <a:avLst/>
            <a:gdLst>
              <a:gd name="textAreaLeft" fmla="*/ 418320 w 1871640"/>
              <a:gd name="textAreaRight" fmla="*/ 1266120 w 1871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85840" y="78588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DEL SUD ISOLE SULLA 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0" y="4653000"/>
            <a:ext cx="1368360" cy="35856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0"/>
          <p:cNvSpPr/>
          <p:nvPr/>
        </p:nvSpPr>
        <p:spPr>
          <a:xfrm>
            <a:off x="395280" y="907920"/>
            <a:ext cx="856944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1"/>
          <p:cNvSpPr/>
          <p:nvPr/>
        </p:nvSpPr>
        <p:spPr>
          <a:xfrm>
            <a:off x="250920" y="33336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ADING LITERACY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LITERACY IN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2"/>
          <p:cNvSpPr/>
          <p:nvPr/>
        </p:nvSpPr>
        <p:spPr>
          <a:xfrm flipV="1">
            <a:off x="2195640" y="69192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3"/>
          <p:cNvSpPr/>
          <p:nvPr/>
        </p:nvSpPr>
        <p:spPr>
          <a:xfrm>
            <a:off x="611280" y="148428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dagine OCSE-PISA non misura quanto i quindicenni leggano fluentemente o quanto siano competenti nel riconoscere il significato e/o l’ortografia delle pa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postazione di PISA riflette la convinzione o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usa secondo cui gli studenti che escono dalla scuola dell’obbligo dovrebbero essere in grado di costruire, applicare ed elaborare il significato di una vasta gamma di testi - continui e non continui - con cui entrano in contatto nelle situazioni più svariate, sia dentro sia fuori delle aule scolas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11280" y="242100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63640" y="54936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 selezionare informazioni esplicite n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87600" y="6093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682560" y="2349360"/>
          <a:ext cx="777708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349360"/>
                    <a:ext cx="77770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7"/>
          <p:cNvSpPr/>
          <p:nvPr/>
        </p:nvSpPr>
        <p:spPr>
          <a:xfrm>
            <a:off x="5580000" y="1700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55640" y="404640"/>
            <a:ext cx="705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riconoscere la relazione tra due frasi, senza una segnalazione esplicita (connett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539640" y="2492280"/>
          <a:ext cx="8209080" cy="33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8209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550872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1457280" y="1989000"/>
          <a:ext cx="6229440" cy="350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7280" y="1989000"/>
                    <a:ext cx="622944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6"/>
          <p:cNvSpPr/>
          <p:nvPr/>
        </p:nvSpPr>
        <p:spPr>
          <a:xfrm>
            <a:off x="1487520" y="9810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 DEL SUD I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55640" y="620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: riconoscere l’ambientazione di un rac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611280" y="2565360"/>
          <a:ext cx="8064360" cy="34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65360"/>
                    <a:ext cx="80643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7"/>
          <p:cNvSpPr/>
          <p:nvPr/>
        </p:nvSpPr>
        <p:spPr>
          <a:xfrm>
            <a:off x="572436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dentificare i motivi o le inten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492280"/>
          <a:ext cx="820728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072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55640" y="620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: riconoscere le funzioni di una particolare caratteristica del t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50328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565164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abbinamento lette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611280" y="227664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7664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7"/>
          <p:cNvSpPr/>
          <p:nvPr/>
        </p:nvSpPr>
        <p:spPr>
          <a:xfrm>
            <a:off x="5651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98560" y="62064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 : individuare le sfumature linguistiche che connotano i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611280" y="2421000"/>
          <a:ext cx="792000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7920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nferire le motiva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611280" y="2292480"/>
          <a:ext cx="7921440" cy="38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92480"/>
                    <a:ext cx="79214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7"/>
          <p:cNvSpPr/>
          <p:nvPr/>
        </p:nvSpPr>
        <p:spPr>
          <a:xfrm>
            <a:off x="5580000" y="1773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42884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i liceo conseguono risultati migliori, seguiti dagli studenti degli istituti tecnici e da quelli degli istituti professionali. Il punteggio medio degli studenti dei licei (518) è più alto di quello degli studenti degli istituti professionali (414) di  oltre una deviazione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i licei conseguono mediamente risultati superiori alla media OCSE, quelli degli altri indirizzi di studio risultati inf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rd-Ovest 501, Nord-Est 520, Centro 486, Sud 448, Sud Isole 4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tipologia di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1928520"/>
            <a:ext cx="83059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3: 50,9% degli studenti (media OCSE 42,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5,2% degli studenti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Percentuale di studenti italiani    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sotto o sopra le soglie critich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-828720" y="476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5840" y="1000080"/>
            <a:ext cx="85327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Domande particolarmente problematiche per gli       studenti italiani sono qu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i livelli più alti della scala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perte</a:t>
            </a: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basate su compiti di riflessione/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Stencil"/>
              </a:rPr>
              <a:t>Le risposte omesse sono più elevate per gli studenti italiani e lo scarto aumenta quanto meno la risposta è univo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Per migliorare i risult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bituare studenti non solo a lavorare su compiti che richiedono di individuare “la” risposta corretta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... ma anche a ragionare su testi di diverso tipo e a formulare i propri ragionamenti in modo pertinente e conciso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romuovere attenzione e impegno nei confronti di una pro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l Nord-Est si collocano al di sopra della media OCSE, quelli del  Nord-Ovest al livello della media OCSE, quelli del Centro leggermente al di sotto di questa media, quelli del Sud e del Sud Isole si collocano nettamente al di sotto della media OC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di sopra della media OCSE si collocano gli studenti dei licei del Nord-Ovest, del Nord-Est e del Centro; gli studenti degli istituti tecnici del Nord-Ovest e del Nord-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macroregione di apparten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2060280"/>
            <a:ext cx="83059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entuale degli studenti a ciascun livello della scala complessiva di lettura,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1: 11,4% (media OCSE 7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1: 15,0% (media OCSE 1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2: 24,5% (media OCSE 2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3: 26,4% (media OCSE 27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4: 17,5% (media OCSE 2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 5,2%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nteggio in lettura per livel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5489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centuale studenti a ciascun livello della scala complessiva di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in lettura in PISA 2000 e PIS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000080" y="2214720"/>
          <a:ext cx="6999480" cy="52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214720"/>
                    <a:ext cx="69994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66320" y="157320"/>
            <a:ext cx="8334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di PISA 2006  – Linee di ten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ext Box 3"/>
          <p:cNvGrpSpPr/>
          <p:nvPr/>
        </p:nvGrpSpPr>
        <p:grpSpPr>
          <a:xfrm>
            <a:off x="85680" y="109440"/>
            <a:ext cx="8972640" cy="2103480"/>
            <a:chOff x="85680" y="109440"/>
            <a:chExt cx="8972640" cy="2103480"/>
          </a:xfrm>
        </p:grpSpPr>
        <p:pic>
          <p:nvPicPr>
            <p:cNvPr id="67" name="Text Box 3" descr=""/>
            <p:cNvPicPr/>
            <p:nvPr/>
          </p:nvPicPr>
          <p:blipFill>
            <a:blip r:embed="rId2"/>
            <a:stretch/>
          </p:blipFill>
          <p:spPr>
            <a:xfrm>
              <a:off x="85680" y="109440"/>
              <a:ext cx="8972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4000" y="345960"/>
              <a:ext cx="849600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Domand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Tipo di compi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Sviluppare una interpretazione: integrare le informazioni del testo e del gra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Formato del tes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Non continuo        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Livello di difficoltà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" name="Object 4"/>
          <p:cNvGraphicFramePr/>
          <p:nvPr/>
        </p:nvGraphicFramePr>
        <p:xfrm>
          <a:off x="395280" y="2133720"/>
          <a:ext cx="8353440" cy="378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83534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5"/>
          <p:cNvSpPr/>
          <p:nvPr/>
        </p:nvSpPr>
        <p:spPr>
          <a:xfrm>
            <a:off x="6523560" y="6165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24000" y="345960"/>
            <a:ext cx="8496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omanda 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individuare inform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11280" y="1943280"/>
          <a:ext cx="7921440" cy="422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43280"/>
                    <a:ext cx="7921440" cy="42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3"/>
          <p:cNvGraphicFramePr/>
          <p:nvPr/>
        </p:nvGraphicFramePr>
        <p:xfrm>
          <a:off x="395280" y="1916280"/>
          <a:ext cx="8280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280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4"/>
          <p:cNvSpPr/>
          <p:nvPr/>
        </p:nvSpPr>
        <p:spPr>
          <a:xfrm>
            <a:off x="324000" y="345960"/>
            <a:ext cx="84960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dedurre la motivazione di una decisione dell’a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14:33Z</dcterms:created>
  <dc:creator>UTENTE</dc:creator>
  <dc:description/>
  <dc:language>en-US</dc:language>
  <cp:lastModifiedBy>giuseppe candela</cp:lastModifiedBy>
  <dcterms:modified xsi:type="dcterms:W3CDTF">2009-02-08T19:10:42Z</dcterms:modified>
  <cp:revision>59</cp:revision>
  <dc:subject/>
  <dc:title>Diapositiva 1</dc:title>
</cp:coreProperties>
</file>