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wmf" ContentType="image/x-wmf"/>
  <Override PartName="/ppt/media/image20.wmf" ContentType="image/x-wmf"/>
  <Override PartName="/ppt/media/image32.jpeg" ContentType="image/jpeg"/>
  <Override PartName="/ppt/media/image21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26.png" ContentType="image/png"/>
  <Override PartName="/ppt/media/image7.wmf" ContentType="image/x-wmf"/>
  <Override PartName="/ppt/media/image30.jpeg" ContentType="image/jpeg"/>
  <Override PartName="/ppt/media/image8.wmf" ContentType="image/x-wmf"/>
  <Override PartName="/ppt/media/image33.wmf" ContentType="image/x-wmf"/>
  <Override PartName="/ppt/media/image13.wmf" ContentType="image/x-wmf"/>
  <Override PartName="/ppt/media/image10.jpeg" ContentType="image/jpeg"/>
  <Override PartName="/ppt/media/image9.wmf" ContentType="image/x-wmf"/>
  <Override PartName="/ppt/media/image34.wmf" ContentType="image/x-wmf"/>
  <Override PartName="/ppt/media/image12.jpeg" ContentType="image/jpeg"/>
  <Override PartName="/ppt/media/image4.png" ContentType="image/png"/>
  <Override PartName="/ppt/media/image2.wmf" ContentType="image/x-wmf"/>
  <Override PartName="/ppt/media/image25.wmf" ContentType="image/x-wmf"/>
  <Override PartName="/ppt/media/image3.jpeg" ContentType="image/jpeg"/>
  <Override PartName="/ppt/media/image28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22.jpeg" ContentType="image/jpeg"/>
  <Override PartName="/ppt/media/image35.wmf" ContentType="image/x-wmf"/>
  <Override PartName="/ppt/media/image5.wmf" ContentType="image/x-wmf"/>
  <Override PartName="/ppt/media/image16.jpeg" ContentType="image/jpeg"/>
  <Override PartName="/ppt/media/image17.wmf" ContentType="image/x-wmf"/>
  <Override PartName="/ppt/media/image18.jpeg" ContentType="image/jpeg"/>
  <Override PartName="/ppt/media/image19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F519-AD8D-442B-B020-6F0D32D1B7B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C803-A664-48F3-8D11-78EA3221401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ndamento dal Nord al S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nferma di precedenti cicli PISA e di altre indagini internazional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7AE4-691C-42BC-9CC3-2F32179165D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ivello 5: Australia 10,6; Belgio 11,3; Canada 14,5; Corea 21,7; Finlandia 16,7; Irlanda 11,7; Nuova Zelanda 15,9; Polonia 11,6; Svizzera 10,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DD58-5A48-4CF6-8E05-7D7041DBF81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E4C1-2438-4E75-9AC9-4804EEAD6C4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6363-71A4-48AC-BD31-7E2DE416418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ifferenza statisticamente significativa anche per le med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a 487 (OCSE 500) a 469 (OCSE  49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425D-2E5B-47C6-9F80-61626BA3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011-254C-4179-BD68-54767EA2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159-DE3A-49A9-A72C-74D2374E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B99-5DC2-4ADA-A617-9BF199A4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2D7-27DB-42F8-BC03-7676FB12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DD10-9A93-49A9-BDEB-FBB1F0F8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D68-F5C9-4784-95A1-2976FD3D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2F5-CAEA-4250-9106-A39EBF08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2C94-7345-4EB5-9345-3668655D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7818-3C4A-44D7-AE1C-372B7266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7CA6-D33F-42DE-BFF3-9023B4B9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A8D-DE22-4B21-989F-BAFFE339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578B-8D67-4FDE-B434-CDD112FDEBB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5403600" y="507204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Anna Pia Per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ebbraio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3"/>
          <p:cNvGrpSpPr/>
          <p:nvPr/>
        </p:nvGrpSpPr>
        <p:grpSpPr>
          <a:xfrm>
            <a:off x="420840" y="706320"/>
            <a:ext cx="8229600" cy="5116320"/>
            <a:chOff x="420840" y="706320"/>
            <a:chExt cx="8229600" cy="5116320"/>
          </a:xfrm>
        </p:grpSpPr>
        <p:pic>
          <p:nvPicPr>
            <p:cNvPr id="50" name="Rectangle 3" descr=""/>
            <p:cNvPicPr/>
            <p:nvPr/>
          </p:nvPicPr>
          <p:blipFill>
            <a:blip r:embed="rId1"/>
            <a:stretch/>
          </p:blipFill>
          <p:spPr>
            <a:xfrm>
              <a:off x="420840" y="706320"/>
              <a:ext cx="8229600" cy="450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28760" y="714240"/>
              <a:ext cx="8215200" cy="51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000" spc="-1" strike="noStrike">
                  <a:solidFill>
                    <a:srgbClr val="000000"/>
                  </a:solidFill>
                  <a:latin typeface="Stencil"/>
                </a:rPr>
                <a:t>PIANO DI FORMAZIONE POSEID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mic"/>
                </a:rPr>
                <a:t>L’analisi dell’errore nelle Prove O.C.S.E.-P.I.S.A.    </a:t>
              </a:r>
              <a:br>
                <a:rPr sz="2400"/>
              </a:br>
              <a:r>
                <a:rPr b="1" lang="it-IT" sz="2400" spc="-1" strike="noStrike">
                  <a:solidFill>
                    <a:srgbClr val="000000"/>
                  </a:solidFill>
                  <a:latin typeface="comic"/>
                </a:rPr>
                <a:t>                                      rilasci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Stencil"/>
                </a:rPr>
                <a:t>              </a:t>
              </a:r>
              <a:r>
                <a:rPr b="1" lang="it-IT" sz="2400" spc="-1" strike="noStrike">
                  <a:solidFill>
                    <a:srgbClr val="000000"/>
                  </a:solidFill>
                  <a:latin typeface="Stencil"/>
                </a:rPr>
                <a:t>La READING LITERACY IN LINGUA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Stencil"/>
                </a:rPr>
                <a:t>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Stencil"/>
                </a:rPr>
                <a:t>                   </a:t>
              </a:r>
              <a:r>
                <a:rPr b="1" lang="it-IT" sz="2400" spc="-1" strike="noStrike">
                  <a:solidFill>
                    <a:srgbClr val="000000"/>
                  </a:solidFill>
                  <a:latin typeface="Stencil"/>
                </a:rPr>
                <a:t>Qualche dato statis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8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d1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55640" y="476280"/>
            <a:ext cx="7201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omprendere il significato complessivo del testo: riconoscere lo scopo del t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6661080" y="61657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ff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6"/>
          <p:cNvGraphicFramePr/>
          <p:nvPr/>
        </p:nvGraphicFramePr>
        <p:xfrm>
          <a:off x="466560" y="2349360"/>
          <a:ext cx="8209080" cy="37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349360"/>
                    <a:ext cx="820908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7"/>
          <p:cNvSpPr/>
          <p:nvPr/>
        </p:nvSpPr>
        <p:spPr>
          <a:xfrm>
            <a:off x="5580000" y="191628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971640" y="404640"/>
            <a:ext cx="7200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terpretare il testo: inferire una relazione implicita – lo scopo del 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445080" y="61657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ff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580000" y="191628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684360" y="2492280"/>
          <a:ext cx="7848360" cy="36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84836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8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934920" y="476280"/>
            <a:ext cx="7272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6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flettere sul contenuto del testo: motivare il proprio punto di 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6661080" y="63086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ff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6"/>
          <p:cNvGraphicFramePr/>
          <p:nvPr/>
        </p:nvGraphicFramePr>
        <p:xfrm>
          <a:off x="574560" y="2421000"/>
          <a:ext cx="7993080" cy="381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4560" y="2421000"/>
                    <a:ext cx="799308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7"/>
          <p:cNvSpPr/>
          <p:nvPr/>
        </p:nvSpPr>
        <p:spPr>
          <a:xfrm>
            <a:off x="5508720" y="198900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863640" y="476280"/>
            <a:ext cx="7416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6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flettere sulla forma del testo: valutare la qualità delle due lett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ff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6"/>
          <p:cNvGraphicFramePr/>
          <p:nvPr/>
        </p:nvGraphicFramePr>
        <p:xfrm>
          <a:off x="684360" y="2349360"/>
          <a:ext cx="7848360" cy="3743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349360"/>
                    <a:ext cx="7848360" cy="37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7"/>
          <p:cNvSpPr/>
          <p:nvPr/>
        </p:nvSpPr>
        <p:spPr>
          <a:xfrm>
            <a:off x="5580000" y="1844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55640" y="620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724360" y="609300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6"/>
          <p:cNvGraphicFramePr/>
          <p:nvPr/>
        </p:nvGraphicFramePr>
        <p:xfrm>
          <a:off x="539640" y="1844640"/>
          <a:ext cx="8064720" cy="366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44640"/>
                    <a:ext cx="806472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7"/>
          <p:cNvSpPr/>
          <p:nvPr/>
        </p:nvSpPr>
        <p:spPr>
          <a:xfrm>
            <a:off x="7164360" y="5805360"/>
            <a:ext cx="10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ff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 rot="17489400">
            <a:off x="3886920" y="4113360"/>
            <a:ext cx="1368360" cy="287280"/>
          </a:xfrm>
          <a:custGeom>
            <a:avLst/>
            <a:gdLst>
              <a:gd name="textAreaLeft" fmla="*/ 305640 w 1368360"/>
              <a:gd name="textAreaRight" fmla="*/ 925560 w 136836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-3099610"/>
                <a:lnTo>
                  <a:pt x="21048" y="7200"/>
                </a:lnTo>
                <a:lnTo>
                  <a:pt x="19376" y="0"/>
                </a:lnTo>
                <a:lnTo>
                  <a:pt x="16600" y="7200"/>
                </a:lnTo>
                <a:lnTo>
                  <a:pt x="18760" y="7200"/>
                </a:lnTo>
                <a:arcTo wR="9656" hR="21600" stAng="2300390" swAng="3089424"/>
                <a:lnTo>
                  <a:pt x="9720" y="21600"/>
                </a:lnTo>
                <a:arcTo wR="9656" hR="21600" stAng="5410186" swAng="5389814"/>
                <a:close/>
              </a:path>
              <a:path fill="darkenLess"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10186"/>
                <a:lnTo>
                  <a:pt x="9720" y="21600"/>
                </a:lnTo>
                <a:arcTo wR="9656" hR="21600" stAng="5410186" swAng="5389814"/>
                <a:close/>
              </a:path>
            </a:pathLst>
          </a:cu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137600" y="476280"/>
            <a:ext cx="60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ESEMPIO DI POSIZIONAMENTO DEL SUD IS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ULLA SCALA DI LIV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4067280" y="4941720"/>
            <a:ext cx="1368360" cy="358920"/>
          </a:xfrm>
          <a:prstGeom prst="rect">
            <a:avLst/>
          </a:prstGeom>
          <a:noFill/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pull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8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898560" y="333360"/>
            <a:ext cx="7345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omand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prendere il significato complessivo del testo: riconoscere il principio organizzativo fondamentale delle inform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non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6"/>
          <p:cNvGraphicFramePr/>
          <p:nvPr/>
        </p:nvGraphicFramePr>
        <p:xfrm>
          <a:off x="500040" y="2286000"/>
          <a:ext cx="7921800" cy="36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286000"/>
                    <a:ext cx="79218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7"/>
          <p:cNvSpPr/>
          <p:nvPr/>
        </p:nvSpPr>
        <p:spPr>
          <a:xfrm>
            <a:off x="5580000" y="191628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934920" y="404640"/>
            <a:ext cx="7272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terpretare il testo: integrare due informazioni( le migliaia e il numero nella casell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non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539640" y="2421000"/>
          <a:ext cx="8136000" cy="3529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421000"/>
                    <a:ext cx="813600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7"/>
          <p:cNvSpPr/>
          <p:nvPr/>
        </p:nvSpPr>
        <p:spPr>
          <a:xfrm>
            <a:off x="5580000" y="198900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63640" y="476280"/>
            <a:ext cx="741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flettere sul contenuto del testo: applicare un insieme di criteri forniti in un testo ad altre casis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non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12000" y="602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6"/>
          <p:cNvGraphicFramePr/>
          <p:nvPr/>
        </p:nvGraphicFramePr>
        <p:xfrm>
          <a:off x="324000" y="2421000"/>
          <a:ext cx="8137440" cy="360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421000"/>
                    <a:ext cx="81374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7"/>
          <p:cNvSpPr/>
          <p:nvPr/>
        </p:nvSpPr>
        <p:spPr>
          <a:xfrm>
            <a:off x="5580000" y="198900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898560" y="404640"/>
            <a:ext cx="7345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flettere sul contenuto del testo: comprensione dello stato degli elementi in un diagram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non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6"/>
          <p:cNvGraphicFramePr/>
          <p:nvPr/>
        </p:nvGraphicFramePr>
        <p:xfrm>
          <a:off x="826920" y="2492280"/>
          <a:ext cx="7632720" cy="348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492280"/>
                    <a:ext cx="7632720" cy="34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7"/>
          <p:cNvSpPr/>
          <p:nvPr/>
        </p:nvSpPr>
        <p:spPr>
          <a:xfrm>
            <a:off x="5961240" y="198432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5"/>
          <p:cNvGraphicFramePr/>
          <p:nvPr/>
        </p:nvGraphicFramePr>
        <p:xfrm>
          <a:off x="468360" y="1673280"/>
          <a:ext cx="7704000" cy="351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73280"/>
                    <a:ext cx="770400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AutoShape 6"/>
          <p:cNvSpPr/>
          <p:nvPr/>
        </p:nvSpPr>
        <p:spPr>
          <a:xfrm rot="17489400">
            <a:off x="4356000" y="3499560"/>
            <a:ext cx="1871640" cy="576360"/>
          </a:xfrm>
          <a:custGeom>
            <a:avLst/>
            <a:gdLst>
              <a:gd name="textAreaLeft" fmla="*/ 418320 w 1871640"/>
              <a:gd name="textAreaRight" fmla="*/ 1266120 w 187164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-3099610"/>
                <a:lnTo>
                  <a:pt x="21048" y="7200"/>
                </a:lnTo>
                <a:lnTo>
                  <a:pt x="19376" y="0"/>
                </a:lnTo>
                <a:lnTo>
                  <a:pt x="16600" y="7200"/>
                </a:lnTo>
                <a:lnTo>
                  <a:pt x="18760" y="7200"/>
                </a:lnTo>
                <a:arcTo wR="9656" hR="21600" stAng="2300390" swAng="3089424"/>
                <a:lnTo>
                  <a:pt x="9720" y="21600"/>
                </a:lnTo>
                <a:arcTo wR="9656" hR="21600" stAng="5410186" swAng="5389814"/>
                <a:close/>
              </a:path>
              <a:path fill="darkenLess"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10186"/>
                <a:lnTo>
                  <a:pt x="9720" y="21600"/>
                </a:lnTo>
                <a:arcTo wR="9656" hR="21600" stAng="5410186" swAng="5389814"/>
                <a:close/>
              </a:path>
            </a:pathLst>
          </a:cu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85840" y="785880"/>
            <a:ext cx="85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ESEMPIO DI POSIZIONAMENTO DEL SUD ISOLE SULLA 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I LIV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572000" y="4653000"/>
            <a:ext cx="1368360" cy="358560"/>
          </a:xfrm>
          <a:prstGeom prst="rect">
            <a:avLst/>
          </a:prstGeom>
          <a:noFill/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50"/>
          <p:cNvSpPr/>
          <p:nvPr/>
        </p:nvSpPr>
        <p:spPr>
          <a:xfrm>
            <a:off x="395280" y="907920"/>
            <a:ext cx="8569440" cy="47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1"/>
          <p:cNvSpPr/>
          <p:nvPr/>
        </p:nvSpPr>
        <p:spPr>
          <a:xfrm>
            <a:off x="250920" y="33336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EADING LITERACY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LITERACY IN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2"/>
          <p:cNvSpPr/>
          <p:nvPr/>
        </p:nvSpPr>
        <p:spPr>
          <a:xfrm flipV="1">
            <a:off x="2195640" y="69192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3"/>
          <p:cNvSpPr/>
          <p:nvPr/>
        </p:nvSpPr>
        <p:spPr>
          <a:xfrm>
            <a:off x="611280" y="1484280"/>
            <a:ext cx="7200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indagine OCSE-PISA non misura quanto i quindicenni leggano fluentemente o quanto siano competenti nel riconoscere il significato e/o l’ortografia delle par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impostazione di PISA riflette la convinzione og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ffusa secondo cui gli studenti che escono dalla scuola dell’obbligo dovrebbero essere in grado di costruire, applicare ed elaborare il significato di una vasta gamma di testi - continui e non continui - con cui entrano in contatto nelle situazioni più svariate, sia dentro sia fuori delle aule scolasti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55640" y="620640"/>
            <a:ext cx="741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mprendere il significato complessivo del 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arpe spor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6"/>
          <p:cNvGraphicFramePr/>
          <p:nvPr/>
        </p:nvGraphicFramePr>
        <p:xfrm>
          <a:off x="611280" y="2421000"/>
          <a:ext cx="7993080" cy="360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421000"/>
                    <a:ext cx="799308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7"/>
          <p:cNvSpPr/>
          <p:nvPr/>
        </p:nvSpPr>
        <p:spPr>
          <a:xfrm>
            <a:off x="5580000" y="191628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863640" y="549360"/>
            <a:ext cx="741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individuare informazioni: selezionare informazioni esplicite nel 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087600" y="609300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arpe spor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6"/>
          <p:cNvGraphicFramePr/>
          <p:nvPr/>
        </p:nvGraphicFramePr>
        <p:xfrm>
          <a:off x="682560" y="2349360"/>
          <a:ext cx="7777080" cy="373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349360"/>
                    <a:ext cx="77770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7"/>
          <p:cNvSpPr/>
          <p:nvPr/>
        </p:nvSpPr>
        <p:spPr>
          <a:xfrm>
            <a:off x="5580000" y="170028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pull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755640" y="404640"/>
            <a:ext cx="7056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terpretare il testo: riconoscere la relazione tra due frasi, senza una segnalazione esplicita (connetto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5943240" y="6165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arpe spor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539640" y="2492280"/>
          <a:ext cx="8209080" cy="334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492280"/>
                    <a:ext cx="8209080" cy="33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7"/>
          <p:cNvSpPr/>
          <p:nvPr/>
        </p:nvSpPr>
        <p:spPr>
          <a:xfrm>
            <a:off x="5508720" y="1916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5943240" y="6165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arpe spor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1457280" y="1989000"/>
          <a:ext cx="6229440" cy="350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7280" y="1989000"/>
                    <a:ext cx="6229440" cy="35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Rectangle 6"/>
          <p:cNvSpPr/>
          <p:nvPr/>
        </p:nvSpPr>
        <p:spPr>
          <a:xfrm>
            <a:off x="1487520" y="981000"/>
            <a:ext cx="54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ESEMPIO DI POSIZIONAMENTO  DEL SUD I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ULLA SCALA DI LIV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55640" y="620640"/>
            <a:ext cx="72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mprendere il significato complessivo del testo: riconoscere l’ambientazione di un racc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D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6"/>
          <p:cNvGraphicFramePr/>
          <p:nvPr/>
        </p:nvGraphicFramePr>
        <p:xfrm>
          <a:off x="611280" y="2565360"/>
          <a:ext cx="8064360" cy="340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565360"/>
                    <a:ext cx="8064360" cy="34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 Box 7"/>
          <p:cNvSpPr/>
          <p:nvPr/>
        </p:nvSpPr>
        <p:spPr>
          <a:xfrm>
            <a:off x="5724360" y="198900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55640" y="620640"/>
            <a:ext cx="720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interpretare il testo: identificare i motivi o le intenzioni di un person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6"/>
          <p:cNvGraphicFramePr/>
          <p:nvPr/>
        </p:nvGraphicFramePr>
        <p:xfrm>
          <a:off x="468360" y="2492280"/>
          <a:ext cx="8207280" cy="36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92280"/>
                    <a:ext cx="820728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7"/>
          <p:cNvSpPr/>
          <p:nvPr/>
        </p:nvSpPr>
        <p:spPr>
          <a:xfrm>
            <a:off x="5580000" y="191628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755640" y="620640"/>
            <a:ext cx="705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riflettere sulla forma del testo: riconoscere le funzioni di una particolare caratteristica del te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6"/>
          <p:cNvGraphicFramePr/>
          <p:nvPr/>
        </p:nvGraphicFramePr>
        <p:xfrm>
          <a:off x="503280" y="2421000"/>
          <a:ext cx="8137440" cy="360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3280" y="2421000"/>
                    <a:ext cx="81374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7"/>
          <p:cNvSpPr/>
          <p:nvPr/>
        </p:nvSpPr>
        <p:spPr>
          <a:xfrm>
            <a:off x="5651640" y="198900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755640" y="620640"/>
            <a:ext cx="741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individuare informazioni:abbinamento letter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6"/>
          <p:cNvGraphicFramePr/>
          <p:nvPr/>
        </p:nvGraphicFramePr>
        <p:xfrm>
          <a:off x="611280" y="2276640"/>
          <a:ext cx="7993080" cy="360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276640"/>
                    <a:ext cx="799308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7"/>
          <p:cNvSpPr/>
          <p:nvPr/>
        </p:nvSpPr>
        <p:spPr>
          <a:xfrm>
            <a:off x="5651640" y="1773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98560" y="620640"/>
            <a:ext cx="7345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riflettere sulla forma del testo : individuare le sfumature linguistiche che connotano il 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6"/>
          <p:cNvGraphicFramePr/>
          <p:nvPr/>
        </p:nvGraphicFramePr>
        <p:xfrm>
          <a:off x="611280" y="2421000"/>
          <a:ext cx="7920000" cy="366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421000"/>
                    <a:ext cx="792000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 Box 7"/>
          <p:cNvSpPr/>
          <p:nvPr/>
        </p:nvSpPr>
        <p:spPr>
          <a:xfrm>
            <a:off x="5580000" y="191628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755640" y="620640"/>
            <a:ext cx="720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interpretare il testo: inferire le motivazioni di un person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6"/>
          <p:cNvGraphicFramePr/>
          <p:nvPr/>
        </p:nvGraphicFramePr>
        <p:xfrm>
          <a:off x="611280" y="2292480"/>
          <a:ext cx="7921440" cy="38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92480"/>
                    <a:ext cx="79214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 Box 7"/>
          <p:cNvSpPr/>
          <p:nvPr/>
        </p:nvSpPr>
        <p:spPr>
          <a:xfrm>
            <a:off x="5580000" y="177336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142884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studenti di liceo conseguono risultati migliori, seguiti dagli studenti degli istituti tecnici e da quelli degli istituti professionali. Il punteggio medio degli studenti dei licei (518) è più alto di quello degli studenti degli istituti professionali (414) di  oltre una deviazione 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studenti dei licei conseguono mediamente risultati superiori alla media OCSE, quelli degli altri indirizzi di studio risultati inferi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rd-Ovest 501, Nord-Est 520, Centro 486, Sud 448, Sud Isole 43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fferenze interne al sistema Italia: per tipologia di scu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1928520"/>
            <a:ext cx="83059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tto il livello 3: 50,9% degli studenti (media OCSE 42,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vello 5: 5,2% degli studenti (media OCSE 8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Aharoni"/>
                <a:ea typeface="Aharoni"/>
              </a:rPr>
              <a:t>Percentuale di studenti italiani     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Aharoni"/>
                <a:ea typeface="Aharoni"/>
              </a:rPr>
              <a:t>sotto o sopra le soglie critich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trips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-828720" y="47628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85840" y="1000080"/>
            <a:ext cx="853272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Verdana"/>
              </a:rPr>
              <a:t>Domande particolarmente problematiche per gli       studenti italiani sono quel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Snap ITC"/>
              </a:rPr>
              <a:t>ai livelli più alti della scala di let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Snap ITC"/>
              </a:rPr>
              <a:t>aperte</a:t>
            </a:r>
            <a:r>
              <a:rPr b="1" lang="fr-FR" sz="24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Snap ITC"/>
              </a:rPr>
              <a:t>basate su compiti di riflessione/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Stencil"/>
              </a:rPr>
              <a:t>Le risposte omesse sono più elevate per gli studenti italiani e lo scarto aumenta quanto meno la risposta è univo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Verdana"/>
              </a:rPr>
              <a:t>Per migliorare i risultat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abituare studenti non solo a lavorare su compiti che richiedono di individuare “la” risposta corretta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... ma anche a ragionare su testi di diverso tipo e a formulare i propri ragionamenti in modo pertinente e conciso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promuovere attenzione e impegno nei confronti di una pro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plit dir="out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studenti del Nord-Est si collocano al di sopra della media OCSE, quelli del  Nord-Ovest al livello della media OCSE, quelli del Centro leggermente al di sotto di questa media, quelli del Sud e del Sud Isole si collocano nettamente al di sotto della media OC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 di sopra della media OCSE si collocano gli studenti dei licei del Nord-Ovest, del Nord-Est e del Centro; gli studenti degli istituti tecnici del Nord-Ovest e del Nord-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fferenze interne al sistema Italia: per macroregione di apparten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38080" y="2060280"/>
            <a:ext cx="83059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centuale degli studenti a ciascun livello della scala complessiva di lettura, in It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tto il livello 1: 11,4% (media OCSE 7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vello 1: 15,0% (media OCSE 12,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vello 2: 24,5% (media OCSE 22,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vello 3: 26,4% (media OCSE 27,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vello 4: 17,5% (media OCSE 20,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vello 5:  5,2% (media OCSE 8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unteggio in lettura per livel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840" y="1428840"/>
            <a:ext cx="854892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rcentuale studenti a ciascun livello della scala complessiva di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literacy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in lettura in PISA 2000 e PISA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2"/>
          <p:cNvGraphicFramePr/>
          <p:nvPr/>
        </p:nvGraphicFramePr>
        <p:xfrm>
          <a:off x="1000080" y="2214720"/>
          <a:ext cx="6999480" cy="52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2214720"/>
                    <a:ext cx="6999480" cy="52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66320" y="157320"/>
            <a:ext cx="83343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di PISA 2006  – Linee di ten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Text Box 3"/>
          <p:cNvGrpSpPr/>
          <p:nvPr/>
        </p:nvGrpSpPr>
        <p:grpSpPr>
          <a:xfrm>
            <a:off x="85680" y="109440"/>
            <a:ext cx="8972640" cy="2103480"/>
            <a:chOff x="85680" y="109440"/>
            <a:chExt cx="8972640" cy="2103480"/>
          </a:xfrm>
        </p:grpSpPr>
        <p:pic>
          <p:nvPicPr>
            <p:cNvPr id="67" name="Text Box 3" descr=""/>
            <p:cNvPicPr/>
            <p:nvPr/>
          </p:nvPicPr>
          <p:blipFill>
            <a:blip r:embed="rId2"/>
            <a:stretch/>
          </p:blipFill>
          <p:spPr>
            <a:xfrm>
              <a:off x="85680" y="109440"/>
              <a:ext cx="897264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24000" y="345960"/>
              <a:ext cx="849600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Domanda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Verdana"/>
                </a:rPr>
                <a:t>Tipo di compito</a:t>
              </a: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Sviluppare una interpretazione: integrare le informazioni del testo e del graf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Verdana"/>
                </a:rPr>
                <a:t>Formato del testo</a:t>
              </a: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: Non continuo            </a:t>
              </a:r>
              <a:r>
                <a:rPr b="1" lang="it-IT" sz="1800" spc="-1" strike="noStrike">
                  <a:solidFill>
                    <a:srgbClr val="000000"/>
                  </a:solidFill>
                  <a:latin typeface="Verdana"/>
                </a:rPr>
                <a:t>Livello di difficoltà</a:t>
              </a: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: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9" name="Object 4"/>
          <p:cNvGraphicFramePr/>
          <p:nvPr/>
        </p:nvGraphicFramePr>
        <p:xfrm>
          <a:off x="395280" y="2133720"/>
          <a:ext cx="8353440" cy="3784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133720"/>
                    <a:ext cx="8353440" cy="37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5"/>
          <p:cNvSpPr/>
          <p:nvPr/>
        </p:nvSpPr>
        <p:spPr>
          <a:xfrm>
            <a:off x="6523560" y="61657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go Ci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324000" y="345960"/>
            <a:ext cx="8496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Domanda 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individuare informazio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Non continuo            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611280" y="1943280"/>
          <a:ext cx="7921440" cy="422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43280"/>
                    <a:ext cx="7921440" cy="42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5"/>
          <p:cNvSpPr/>
          <p:nvPr/>
        </p:nvSpPr>
        <p:spPr>
          <a:xfrm>
            <a:off x="6517800" y="61657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go Ci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3"/>
          <p:cNvGraphicFramePr/>
          <p:nvPr/>
        </p:nvGraphicFramePr>
        <p:xfrm>
          <a:off x="395280" y="1916280"/>
          <a:ext cx="828036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828036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4"/>
          <p:cNvSpPr/>
          <p:nvPr/>
        </p:nvSpPr>
        <p:spPr>
          <a:xfrm>
            <a:off x="324000" y="345960"/>
            <a:ext cx="849600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3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flettere sulla forma del testo: dedurre la motivazione di una decisione dell’au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Non continuo         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6517800" y="61657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go Ci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1:14:33Z</dcterms:created>
  <dc:creator>UTENTE</dc:creator>
  <dc:description/>
  <dc:language>en-US</dc:language>
  <cp:lastModifiedBy>giuseppe candela</cp:lastModifiedBy>
  <dcterms:modified xsi:type="dcterms:W3CDTF">2009-02-08T19:10:42Z</dcterms:modified>
  <cp:revision>59</cp:revision>
  <dc:subject/>
  <dc:title>Diapositiva 1</dc:title>
</cp:coreProperties>
</file>