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1976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17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32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2080"/>
            <a:ext cx="85932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4400" y="21016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20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4400" y="45820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6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6440" y="2101680"/>
            <a:ext cx="2766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2000" y="2101680"/>
            <a:ext cx="2766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2080"/>
            <a:ext cx="2766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6440" y="4582080"/>
            <a:ext cx="2766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2000" y="4582080"/>
            <a:ext cx="2766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5932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32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32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4400" y="2101680"/>
            <a:ext cx="41932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5932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4400" y="2101680"/>
            <a:ext cx="41932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20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32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4400" y="21016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0" y="45820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0" y="21016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2080"/>
            <a:ext cx="85932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5932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8607600" cy="181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8080"/>
                </a:solidFill>
                <a:latin typeface="Arial"/>
              </a:rPr>
              <a:t>PIANO NAZIONALE POSEIDON</a:t>
            </a:r>
            <a:br>
              <a:rPr sz="2800"/>
            </a:br>
            <a:r>
              <a:rPr b="1" lang="it-IT" sz="2800" spc="-1" strike="noStrike">
                <a:solidFill>
                  <a:srgbClr val="008080"/>
                </a:solidFill>
                <a:latin typeface="Arial"/>
              </a:rPr>
              <a:t>INTERLINGUA E ANALISI DEGLI ERRORI</a:t>
            </a:r>
            <a:br>
              <a:rPr sz="2800"/>
            </a:br>
            <a:r>
              <a:rPr b="1" lang="it-IT" sz="2800" spc="-1" strike="noStrike">
                <a:solidFill>
                  <a:srgbClr val="008080"/>
                </a:solidFill>
                <a:latin typeface="Arial"/>
              </a:rPr>
              <a:t>PROGETTAZIONE CONDIVISADEL PERCORSO FORMATIVO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89000" y="1979640"/>
            <a:ext cx="8810640" cy="56484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Times New Roman"/>
              </a:rPr>
              <a:t>INTERLINGUA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Times New Roman"/>
              </a:rPr>
              <a:t>UNA LINGUA CHE STA NEL MEZZ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Times New Roman"/>
              </a:rPr>
              <a:t>Moderatrici</a:t>
            </a:r>
            <a:r>
              <a:rPr b="0" lang="it-IT" sz="3200" spc="-1" strike="noStrike">
                <a:solidFill>
                  <a:srgbClr val="008000"/>
                </a:solidFill>
                <a:latin typeface="Times New Roman"/>
              </a:rPr>
              <a:t> : Olimpia Ba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8000"/>
                </a:solidFill>
                <a:latin typeface="Times New Roman"/>
              </a:rPr>
              <a:t>                   </a:t>
            </a:r>
            <a:r>
              <a:rPr b="0" lang="it-IT" sz="3200" spc="-1" strike="noStrike">
                <a:solidFill>
                  <a:srgbClr val="008000"/>
                </a:solidFill>
                <a:latin typeface="Times New Roman"/>
              </a:rPr>
              <a:t>Anna Le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Times New Roman"/>
              </a:rPr>
              <a:t>Sottogruppo 1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8000"/>
                </a:solidFill>
                <a:latin typeface="Times New Roman"/>
              </a:rPr>
              <a:t>Cristina Bottino, Rosanna Merciar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8000"/>
                </a:solidFill>
                <a:latin typeface="Times New Roman"/>
              </a:rPr>
              <a:t>Nicola Papaianni, Spighi Maria Silvia, Rosa Torr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900000" y="1800360"/>
            <a:ext cx="8999640" cy="1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360360"/>
            <a:ext cx="8607600" cy="1457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STRUMENT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9000" y="1979640"/>
            <a:ext cx="847728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 Materiali di studio per l'approfondimento e la rifles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 Classi vir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 Laboratori a dist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720720" y="1801800"/>
            <a:ext cx="9360000" cy="1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360360"/>
            <a:ext cx="8607600" cy="1457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TEMPI DI REALIZZAZION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9000" y="1979640"/>
            <a:ext cx="847728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Prima fase : n° 15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Seconda fase : n°25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Terza fase : n° 15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720720" y="1801800"/>
            <a:ext cx="9360000" cy="1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360360"/>
            <a:ext cx="8607600" cy="1457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RISULTATI ATTES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9000" y="1979640"/>
            <a:ext cx="8477280" cy="805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I risultati attesi vanno ricondotti all'elenco delle finalità e degli obiettivi esplicitati nella presente progettazione del percorso formativo e precisamen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-  Sensibilizzazione dei docenti verso i concetti di interlingua e analisi dell'err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- Capacità di descrizione delle principali caratteristiche dell'interlin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-  Individuazione dei fattori che intervengono nell'apprendimento di : L1 – L2 – LS e lingua straniera per l'apprendene stran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-  Creazione di risorse utili alle attività didat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-  Trasferibilità delle esperienze fo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720720" y="1801800"/>
            <a:ext cx="9360000" cy="1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360360"/>
            <a:ext cx="8607600" cy="1457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VERIFICA / VALUTAZION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9000" y="1979640"/>
            <a:ext cx="847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Tenuto conto delle modalità di realizzazione del percorso formativo, l'utilizza  continuo del confronto e  della condivisione, permetterà una costante verifica/valutazione delle attività e, se necessario, una loro adeguata riformulaz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20720" y="1801800"/>
            <a:ext cx="9360000" cy="1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360360"/>
            <a:ext cx="8607600" cy="126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TARGE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00000" y="1673280"/>
            <a:ext cx="8460000" cy="127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2340000"/>
            <a:ext cx="93600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DOCENTI DI SCUOLA SECONDARIA DI PRIMO E DI SECONDO G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360360"/>
            <a:ext cx="8607600" cy="1457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FINALITA'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2339640"/>
            <a:ext cx="8656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Acquisire le competenze necessarie per la crescita formati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Svolgere con maggiore efficacia le attività didattiche e saperle adeguare alle problematiche di una classe plurilingue e multicultur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720720" y="1830240"/>
            <a:ext cx="8640720" cy="2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360360"/>
            <a:ext cx="8607600" cy="1457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OBIETTIV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627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- Diffondere una maggiore sensibilità  verso l'interlin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-  Fornire strumenti teorici e pratici per approfondire il concetto di interlin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-  Scoprire i principali meccanismi di acquisizione di una seconda lin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-  Fornire conoscenze e competenze per la gestione delle problematiche di una classe plurili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-  Contribuire alla creazione di risorse didattiche che tengano conto dei bisogni degli stud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720720" y="1755720"/>
            <a:ext cx="8640720" cy="2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347760"/>
            <a:ext cx="8607600" cy="128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FASI DEL PERCORSO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2223720"/>
            <a:ext cx="90266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722160" y="1801800"/>
            <a:ext cx="8460000" cy="1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539640" y="2160720"/>
            <a:ext cx="918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FASE 1 : teorica e di rifless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FASE 2 : laboratori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FASE 3 : laboratoriale/esperenzi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900000" y="1506600"/>
            <a:ext cx="8640720" cy="2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304920"/>
            <a:ext cx="8607600" cy="1568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CONTENUTI</a:t>
            </a:r>
            <a:br>
              <a:rPr sz="4400"/>
            </a:br>
            <a:br>
              <a:rPr sz="3200"/>
            </a:b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FASE TEORICA E DI RIFLESSIONE 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803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20720" y="1801800"/>
            <a:ext cx="8639280" cy="177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900000" y="2160720"/>
            <a:ext cx="882036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 Rilevazione dei bisogni formati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 Che cos'è l'interlin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 A che cosa 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Stadi e fasi dell'interlingua :esempi di italiano L1 – L2 ( riflessioni sul testo argomentativ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Riflessioni sugli stadi e sulle fasi dell'interlingua italiano L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La lingua straniera come L3 per lo strani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Un percorso in lingua ingles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360360"/>
            <a:ext cx="8607600" cy="1457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CONTENUTI</a:t>
            </a:r>
            <a:br>
              <a:rPr sz="4400"/>
            </a:b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FASE OPERATIVA - LABORATORIALE :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9000" y="1979640"/>
            <a:ext cx="847728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 Come analizzare le interli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 Il laboratorio italiano L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Esempi di italiano L1 - 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L'analisi dell'errore: classificazione e rilevazione attraverso grafici ( LS : spagno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L'interlingua del parlante non nativo : l'apprendente italofono e non italofono dello spagno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720720" y="1801800"/>
            <a:ext cx="9360000" cy="1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360360"/>
            <a:ext cx="8607600" cy="1457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CONTENUTI</a:t>
            </a:r>
            <a:br>
              <a:rPr sz="4400"/>
            </a:b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FASE LABORATORIALE/ ESPERENZIALE</a:t>
            </a:r>
            <a:r>
              <a:rPr b="1" lang="it-IT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9000" y="1979640"/>
            <a:ext cx="847728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Laboratori italiano L2 per l'osservazione e l'analisi dei testi scritti degli apprend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Valutazione e prospettive delle attività laborator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-   Sperimentazione di un percorso di videoscrit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720720" y="1801800"/>
            <a:ext cx="9360000" cy="1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360360"/>
            <a:ext cx="8607600" cy="1457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METODOLOGIA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9000" y="1979640"/>
            <a:ext cx="847728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Il percorso formativo prevede una metodologia con caratteristiche teorico/pratiche ed esperenzi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Andranno così a costituirsi gruppi virtuali di lavoro che successivamente si confronteranno in seduta plenaria e  condivideranno le attività propo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720720" y="1801800"/>
            <a:ext cx="9360000" cy="17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7:11:29Z</dcterms:created>
  <dc:creator>PC di Rosanna</dc:creator>
  <dc:description>Presentazione di sviluppo e alternative, consiglio di una o più strategie</dc:description>
  <dc:language>en-US</dc:language>
  <cp:lastModifiedBy>Rosanna Mercairo</cp:lastModifiedBy>
  <dcterms:modified xsi:type="dcterms:W3CDTF">2009-02-09T17:39:46Z</dcterms:modified>
  <cp:revision>2</cp:revision>
  <dc:subject/>
  <dc:title>Consiglio di strategia</dc:title>
</cp:coreProperties>
</file>