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9FED0-1842-4617-B15D-B6A0E35640E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BCCC-E15E-4A48-9B8D-E8BD626B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FB50-49E7-4ABA-9453-CC99F589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A583-4DA9-48DA-8141-ACAA5982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D7B2-A6C9-4360-A155-FE77B77C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2D41-0844-451E-A3FC-DD26FA21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DE7A-8002-4D37-8787-D977C657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F4F1-5607-46BC-A298-9A2EB472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9598-FD16-41BA-8C3A-E0108173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10F6-65CF-4CA8-84DB-3623AFAF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43AC-E3B6-42E0-99D0-5C49A185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91D1-B544-4244-AA35-4F13CFD8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3692-688B-4ADB-ACC3-CD8DC898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DC81F-97E1-4604-A903-8DD7198E351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03280" y="372960"/>
            <a:ext cx="9070920" cy="160668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E FASI E GLI STADI “ IL”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TALIANO L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ARIA SILVIA SPIG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903320"/>
            <a:ext cx="9070920" cy="497232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 l'acquisizione di una seconda lingua l'apprendente deve percorrere un passaggio chiamato “interlingu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 tale passaggio, costituito da fasi, determinanti s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otivazione     gli imput      la vicinanza 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arlanti italof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4680000"/>
            <a:ext cx="1800" cy="53964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333160" y="4680000"/>
            <a:ext cx="2173320" cy="72072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80000" y="4680000"/>
            <a:ext cx="1800360" cy="53964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SI DELL'INTERLINGUA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SA PREBA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2920" y="183996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Preferenza per l'ascol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Utilizzo della comunicazione non verbale per completare il   senso del discor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Utilizzo di parole chi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Utilizzo di frasi nomin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Morfologia assente o molto semplific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Sintassi molto essenzi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SE BA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2920" y="188604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Acquisizione graduale dei mezzi morfologici per esprimere la temporalità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ollocazione degli eventi in successione tempora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Utilizzo del participio passato per esprimere il passato e l'infinito per esprimere il pres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omparsa delle prime forme di subordin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Inizio dello sviluppo morfolog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Utilizzo di una regola appresa anche in contesti non sempre appropriat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SE POSTBA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2920" y="188604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'apprendente si avvicina sempre più alla lingua obiettiv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ccordo fra soggetto e participio pass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trutturazione verbale quasi comp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nquiste in evoluzione a livello lessicale e morfolo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TADI “ IL”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RIMO ST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83996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TEMPORALITA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tilizzo dei verbi al presente ( 2^- 3^ persona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tilizzo dell'infinito per esprimere abitualit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tilizzo di avverbi per indicare il passa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RFOLOG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tilizzo dei nomi senza variabilità e senza accordo con il resto della fr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Omissione degli articol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omparsa dei primi pronomi (lui- lei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8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DALITA' DI ESPRESS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9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È molto rudimentale e si avvale di supporti comunicativi non verbal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ECONDO ST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02920" y="188604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TEMPORALITA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omparsa del participio passato e dell'imperfetto con funzione dura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Omissione dell'ausili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RFOLOG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ccordo  degli articoli : il; i – la;le, col nome sia nel genere, che nel nume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so degli articoli determinativi “lo” - “gli” e degli articoli indeterminativi ( avviene più tardi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DALITA' DI ESPRESS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2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tilizzo dei verbi “dovere” - “ poter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rima comparsa dell'uso dei verbi “ credere” - “pensar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ERZO ST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02920" y="188604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TEMPORALITA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resenza dell'imperfetto per esprimere il passa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rime forme copulative ( era -ero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so dell'imperfetto dei verbi “potere” - “voler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RFOLOG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nizio dell'accordo fra aggettivi e nomi sia nel genere, che nel num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ncerto l'accordo tra soggetto e aggettivo predicativo ( la tavola è largo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DALTA' DI ESPRESS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8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mpliamento dell'uso dei verbi “potere” e “dovere” ( il libro deve essere qui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28320"/>
            <a:ext cx="9069480" cy="120636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LTRI STA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02920" y="1839960"/>
            <a:ext cx="9069480" cy="4935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uccessivamente l'apprendente, con gradualità, giunge ad una strutturazione della frase i cui elementi si concordano tra loro in modo corret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nche le coniugazioni dei verbi si perfezionano progressivam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 La presentazione è una rielaborazione sulla base dei materiali di studio e di G.Favaro “ Insegnare l'italiano agli alunni stranieri” 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