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C7A33-2840-4B9F-86AF-1DA43F41F3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4F7-999B-4DEF-BBF3-5995E1C3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E33-5E5F-48E8-9BBF-CF6822AE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EDE-992C-44AA-AD95-7AABFB6B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428-EF55-4B42-AE02-A3199BAA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38B-4BF0-48E6-BF28-0A293CD9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DD1-5E8D-45FF-B27B-4438D16B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DD8-9C6A-44CC-B111-3FEBCF48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266-AA8C-4E05-A38E-6D38BA6F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803-F704-46EC-BA7A-1D1215A4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F3A-CE81-4399-B27D-185EA8B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8DF-38EB-418E-B003-66219ECC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E81-E2DC-417D-A245-D517B15B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E5398-20B2-48CE-AA2D-299344AFD4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372960"/>
            <a:ext cx="9070920" cy="160668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FASI E GLI 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TALIANO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RIA SILVIA SPI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903320"/>
            <a:ext cx="9070920" cy="497232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l'acquisizione di una seconda lingua l'apprendente deve percorrere un passaggio chiamato “interlingu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tale passaggio, costituito da fasi, determinanti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otivazione     gli imput      la vicinanza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lanti italof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680000"/>
            <a:ext cx="180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33160" y="4680000"/>
            <a:ext cx="2173320" cy="72072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4680000"/>
            <a:ext cx="180036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I DELL'INTERLINGU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A PRE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referenza per l'asco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la comunicazione non verbale per completare il   senso del disco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parole chi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frasi nomi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orfologia assente o molto semplific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intassi molto essenz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cquisizione graduale dei mezzi morfologici per esprimere la temporalità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llocazione degli eventi in successione tempor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 participio passato per esprimere il passato e l'infinito per esprimere il pres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mparsa delle prime forme di subordin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izio dello sviluppo morfolo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una regola appresa anche in contesti non sempre appropria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POST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'apprendente si avvicina sempre più alla lingua obiettiv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cordo fra soggetto e participio pass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rutturazione verbale quasi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quiste in evoluzione a livello lessicale e morf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M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al presente ( 2^- 3^ persona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ll'infinito per esprimere abitua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i avverbi per indica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nomi senza variabilità e senza accordo con il resto della f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gli artico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i primi pronomi (lui- le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È molto rudimentale e si avvale di supporti comunicativi non verba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COND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l participio passato e dell'imperfetto con funzione du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ll'ausili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ccordo  degli articoli : il; i – la;le, col nome sia nel genere, che nel num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gli articoli determinativi “lo” - “gli” e degli articoli indeterminativi ( avviene più tard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2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“dovere” - “ pot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a comparsa dell'uso dei verbi “ credere” - “pensa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RZ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esenza dell'imperfetto per esprime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e forme copulative ( era -er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ll'imperfetto dei verbi “potere” - “vol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izio dell'accordo fra aggettivi e nomi sia nel genere, che nel nu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certo l'accordo tra soggetto e aggettivo predicativo ( la tavola è larg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mpliamento dell'uso dei verbi “potere” e “dovere” ( il libro deve essere qu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28320"/>
            <a:ext cx="9069480" cy="12063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TRI ST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69480" cy="4935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uccessivamente l'apprendente, con gradualità, giunge ad una strutturazione della frase i cui elementi si concordano tra loro in modo corret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nche le coniugazioni dei verbi si perfezionano progressiv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 La presentazione è una rielaborazione sulla base dei materiali di studio e di G.Favaro “ Insegnare l'italiano agli alunni stranieri” 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