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098E-D93E-48E3-BB1B-24F7F4F1BA5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o straniero è avvantaggiato nello studio di altre lingue strani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41E3-4A69-400F-940A-FE086929898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’è il profilo biling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E05-6026-48A3-80C7-BD914D34262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Bilinguismo funzion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4FA1-DC7B-412F-99AE-3A34921824A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D1CE-B05E-4D7F-9A63-E3A20C422C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bbiamo casi di questo tipo in clas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49F7-6013-41FD-A060-B9FFF88245E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a sfida per tu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A15-04B0-46C7-8E81-C1F07D24CD5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 cosa serve una lingua straniera diversa dall’italiano per uno strani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5602-CF16-4322-8108-2ED283D902A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ncora volontà e impeg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A89C-BFFA-48DC-9708-1F14A2E86F4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cosa di più concre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FCC6-ABEB-4115-B346-9E278BBE5A6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 patto formati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0893-B0F8-4FCA-B954-EB6E4754E70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 po’ di psicolingui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952C-56F9-47DB-8F0A-16B636CE072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sistema di interlingue si crea attraverso la lingua acquisita o la lingua d’orig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A81F-4BC7-45BD-BF76-E8C80F5B613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e altre interlin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8BD6-4E28-47B4-9051-46CFC970BDB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 da produr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3EC5-4FAF-49B1-8584-ABB7E6B8A12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ccessibilità della lingua d’orig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A8C5-501B-4432-94F5-A87B4BF949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ndo la lingua non è comparabile con la nostra lingua mad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F412-A877-4BE3-89B9-40D646078EA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otivazio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0227-685C-4F3E-87EE-C6B1D301709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attori che intervengono nello studio di altre lingue strani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E4C4-E59A-4AC5-B445-17479C79E8D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taliano standard o varietà linguist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E9AF-B1C1-4258-86D0-E4B5706FD6E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i lingue studia uno strani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FFB6-A77B-4F81-80C4-BF006C2F40D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i motivi che lo spingono a studiare le ling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0CAF-E11A-439F-9F6C-F287E9B6477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0FB-A048-4B09-A221-00ED1497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282-A7A6-4DBA-B7BD-65665DA3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A0D-3749-4B81-88B4-0EBF9210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F47-749F-4B2C-91A4-FB99DEED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7E31-1798-46ED-AA00-009E998E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AEAB-404F-49BC-9F4F-0B7E2341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C223-52DC-4868-AF73-813121ED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6186-042F-4C67-8EC8-B529ED60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FAE-1756-4BB9-A576-91B13719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F43B-9290-421F-B639-2774977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B25D-749A-4F58-8313-254F17F3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DAA-B469-47FE-8360-73F6A485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97E0-000B-4002-99DD-DA455C1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29D4-E293-42E2-B9BD-70AE2F9A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B36C-E409-48C7-B768-5C2FC720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0CBC-59F6-425E-82FC-FBC0A093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1EB4-4EC2-4F95-9988-10D9A28F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B72A-DA3F-4ECF-8A29-004F28D5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474B-AD77-4B9B-A95E-E85EB1CD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78BC-08E7-40DA-951E-D1801B80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4B52-F124-4F36-8121-842F62F9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3F07-F842-41C1-8990-8B27A8A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CE1-4D32-41CD-A9FD-E0FA7AF3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3B90-9ED7-4A7D-A582-DF6D0F44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3BB2-84AE-428F-8BF8-ED21E79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8BF0-39B5-4DD4-8820-29FF1C6E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BC9F-6446-49C1-8BC2-F82551C1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3679-C0E9-4EFF-88AF-CA31673E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BF3E-24D2-4AEF-A410-B55A67DC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FA98-9DAA-45E7-BE69-3EE45F68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F4DD-E0CE-4270-9ED0-1A96B8E7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24EC-D287-4B89-BF3B-4930BFFB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3F35-9777-440F-B7A0-F4029B9A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CED-25C5-4F14-81A2-303388D7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291EB-4FCD-47DA-AC23-8BE76563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ECAB-3F71-4D3D-A7B2-7E05B920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8723-4411-4B87-BA76-8B59252F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EA1F-7CF1-4A42-A746-D1CE03EA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BFAC-C899-4CA9-9191-E634AA5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B382-C8E9-4F0A-98F4-500D7A3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2E728-1393-4D38-9AF2-4883B4D8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BDC5-552D-4ACF-AC47-73BEED2C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EAB5-BC5E-473A-9780-611F8335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296-B4FB-4CAB-819E-4877E825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ADE-D324-436B-A0F1-00F6971E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292-E8D1-4EAE-BF6C-051FD0D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7C3-CC0D-4AAD-AE12-C971107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7E4-399E-4967-A37E-7262303B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A569-74CD-4DD9-AF93-E36022EA53BA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F08-A6C2-418C-B26D-DFDA0112D03D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C0C2-A523-452A-B582-6B2531EDE505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90D-9B3C-47E2-9C96-D02B7345D884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o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La lingua straniera come L3 per uno stranie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APPUNTI DI ROSA TORRIN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Calibri"/>
              </a:rPr>
              <a:t>COME AIUTARE L’ALUNNO STRANIERO A FAR COESISTERE DIVERSE INTERLINGUE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alunno straniero in questione, che conosce ed usa più di un sistema linguistico, ha un profilo bilingue o multilingue specif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Questo profilo è dato non solo dal livello di competenza nelle diverse abilità e attività linguistiche, ma anche dall’uso concreto che fa delle lingue che conos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questo significato si può parlare di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bilinguismo funziona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SA SI INTENDE PER BILINGUISMO FUNZIONALE? (COLIN BAKER, 1993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Occorre analizzare nel nostro discente l’uso delle due o più lingue con riferimento ai seguenti fattor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i è che parl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i è che ascolt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a situazion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’argomento della conversazion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o scop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 vedere quali lingue vengono utilizzate nelle diverse situazio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USO DELLE DIVERSE LING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935000"/>
          <a:ext cx="8229600" cy="428004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arlante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 che asco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lante italiano          Parlante indiano          Parlante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tu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scuola     A scuola, al bar, per strada   Ogni tipo di  situazione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elta lingu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taliano                        Italiano                    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cxnSp>
        <p:nvCxnSpPr>
          <p:cNvPr id="226" name="Connettore 2 18"/>
          <p:cNvCxnSpPr/>
          <p:nvPr/>
        </p:nvCxnSpPr>
        <p:spPr>
          <a:xfrm flipH="1">
            <a:off x="3357360" y="2284920"/>
            <a:ext cx="13579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7" name="Connettore 2 22"/>
          <p:cNvCxnSpPr/>
          <p:nvPr/>
        </p:nvCxnSpPr>
        <p:spPr>
          <a:xfrm flipH="1">
            <a:off x="2928240" y="3357720"/>
            <a:ext cx="57204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8" name="Connettore 2 24"/>
          <p:cNvCxnSpPr/>
          <p:nvPr/>
        </p:nvCxnSpPr>
        <p:spPr>
          <a:xfrm flipH="1">
            <a:off x="2714040" y="4428720"/>
            <a:ext cx="2149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Connettore 2 26"/>
          <p:cNvCxnSpPr/>
          <p:nvPr/>
        </p:nvCxnSpPr>
        <p:spPr>
          <a:xfrm flipH="1">
            <a:off x="5428440" y="2214720"/>
            <a:ext cx="252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Connettore 2 28"/>
          <p:cNvCxnSpPr/>
          <p:nvPr/>
        </p:nvCxnSpPr>
        <p:spPr>
          <a:xfrm flipH="1">
            <a:off x="4785480" y="4430880"/>
            <a:ext cx="252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Connettore 2 30"/>
          <p:cNvCxnSpPr/>
          <p:nvPr/>
        </p:nvCxnSpPr>
        <p:spPr>
          <a:xfrm flipH="1">
            <a:off x="5285520" y="3429000"/>
            <a:ext cx="7236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Connettore 2 32"/>
          <p:cNvCxnSpPr/>
          <p:nvPr/>
        </p:nvCxnSpPr>
        <p:spPr>
          <a:xfrm>
            <a:off x="6214680" y="2214360"/>
            <a:ext cx="1072440" cy="857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Connettore 2 34"/>
          <p:cNvCxnSpPr/>
          <p:nvPr/>
        </p:nvCxnSpPr>
        <p:spPr>
          <a:xfrm>
            <a:off x="7786800" y="3357720"/>
            <a:ext cx="7200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Connettore 2 36"/>
          <p:cNvCxnSpPr/>
          <p:nvPr/>
        </p:nvCxnSpPr>
        <p:spPr>
          <a:xfrm flipH="1">
            <a:off x="6928560" y="4357440"/>
            <a:ext cx="429480" cy="857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ESTO CASO CI RIGUARD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esto potrebbe essere il caso di un alunno di madrelingua spagnola che, molto piccolo, viene a vivere in Italia e assume atteggiamenti del paese in cui vive e  ne impara  la ling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questo caso l’interlingua dell’italiano tende a sovrapporsi alle conoscenze dello spagnolo che, all’opposto di quanto studiato finora diventa interlingua dello spagnolo, ossia l’italiano diventa la lingua forte e lo spagnolo, normalmente parlato in casa e nella propria comunità, tende, con il tempo, ad essere meno aggiornato, talvolta meno corretto rispetto  all’italiano stes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INTERLINGUA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Diverso invece il caso di un giovane straniero in Italia che conosca ovviamente la propria lingua madre e che sviluppi una propria interlingua per comunicare con gli altr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SE, IN QUESTO CASO, L’INSEGNANTE DI ITALIANO RACCOGLIE LA SFIDA E SI APPRESTA AD INSEGNARE L’ITALIANO AL NUOVO STUDENTE COME L2, COSA POSSONO FARE GLI INSEGNANTI DI L3 E L4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POSSIBILI FUNZIONI DELLA LINGUA STRANIERA PER UNO STRANI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rischio potrebbe essere quello di considerare una seconda lingua straniera (ad esempio il francese) come una lingua classica, ovvero una lingua che nella nostra società non è lingua di comunicazione, ma sviluppa “buone competenze ricettive e una consapevolezza metalinguistica che nasce dallo studio approfondito della sua grammatica” (Pallotti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migliore dei casi è lingua di riferimento, ovvero possibilità per il discente di trovare o meno una conferma alle proprie ipotesi nello studio dell’italiano come L2; ciò presuppone comunque un interesse ed un’applicazione difficilmente rilevabili nella nostra realtà scolastica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E ALLOR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ogni caso diventa parte di un progetto non immediatamente fruibile, che presuppone forte motivazione individuale volontà e che dovrebbe prescindere dai bisogni iniziali dell’alunno stranie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PIÙ FACILE A DIRSI CHE A FARSI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HE FARE ALLOR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perare per progetti in cui la struttura comunicativa della classe, i ruoli docente/allievo e tra i singoli docenti, le modalità di attivazione e di controllo dei processi di apprendimento siano continuamente sottoposti a revisioni criti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rganizzare attività interdisciplinari tra le varie materie (lingue) che evidenzino le somiglianze più che le differenz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icorrere, quando possibile, al mediatore culturale che potrà consigliarci su quali lingue straniere e quando proporle lor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ettere a punto un modello organizzativo individuando ruoli, funzioni, compiti , strategi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ME CONVINCERE IL NOSTRO INTERLOCUTORE (STUDENTE)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vviando un’interazione con gli allievi che viene gestita accettando, ma anche criticando e rifiutando i loro comportamenti comunicativi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struendo una vera e propria negoziazione operativa (Gérard De Vecchi), ovvero la differenza tra un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faux contrat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( quello che l’insegnante in modo più o meno discreto, impone agli allievi) e un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véritable  contrat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he, partendo da bisogni riconosciuti, attiva interazioni collaborative e definisce gli scopi e lo sviluppo di un progett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iutandolo attraverso l’attivazione e il controllo dei processi di apprendimento che diventa apprendimento cognitiv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ME ATTIVARE L’APPRENDIMENTO COGNITIV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roporre il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, ovvero risolvere un problema attraverso una fase  di conoscenza, lo sviluppo di strategie per affrontarlo, la pianificazione dei criteri da adottar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ndersi conto che, nello studio delle lingue straniere “altre” dall’italiano, entra in gioco la motivazione, la consapevolezza di potercela fare (autostima) e la fiducia nelle proprie capacità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nsiderare il ruolo dell’insegnante come un esempio che su molti può far leva (non è l’insegnante di lingue straniere che, partito da una situazione monolingue, è ora in grado di destreggiarsi tra due o più di esse?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NTE INTERLINGUE POSSIAMO GESTIR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Un ragazzo straniero tra gli 11 e i 14 anni che arriva in un paese si trova a dover gesti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pprendimento della nuova lingua del paese in cui è arrivato (nella fattispecie l’italiano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pprendimento di altre lingue straniere oggetto di studio (ad esempio il francese, l’inglese, etc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ropria lingua mad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INTERLINGUA PER GLI STRANIERI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lo se siamo riusciti ad affrontare con discreto successo le fasi precedenti possiamo far coesistere altre interlingue, quelle che più interessano un insegnante di lingue straniere, ovvero, a titolo esemplificativ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 ispanofono di recente immigrazione alle prese con l’italiano come L2 e francese come L3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 ispanofono di non recente  immigrazione alle prese con l’italiano come L2 e francese come L3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a cinese di recente immigrazione  alle prese con l’italiano come L2 e francese come L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ALCUNI CASI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samineremo alcuni casi degli alunni in questione e approfondiremo i temi in precedenza citati, con particolare riferimento allo studio di lingue straniere diverse dall’italia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BIBLIOGRAFI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ERLINGUA E ANALISI DEGLI ERRORI – G. PALLOTTI – GISC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. BAKER, 1993, - FOUNDATIONS OF BILINGUAL EDUCATION AND BILINGUALISM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. BERTOCCHI, A. CABIANCA, M. CAVALLI, M. CERAGIOLI, M. DODMAN, G. PORTE’ – PENSARE E PARLARE IN PIU’ LINGUE – ESPERIENZE DI INSEGNAMENTO E DI FORMAZIONE IN VALLE D’AOSTA – CAPITOLO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 VECCHI GERARD – 1992 – AIDER LES ELEVES A APPRENDRE – HACHETTE PAR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.DEMETRIO – 1994 – “L’APPRENDIMENTO IN ETA ADULTA , IN BONINO S. (A CURA DI ), DIZIONARIO DI PSICOLOGIA DELLO SVILUPPO, EINAUDI, TORIN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XPLORATIONS IN TEACHER TRAINING, 1988 – EDITED BY TONY DUFF – EDITORE LONGM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H. BOYER, M. BUTZBACH, M. PENDANX, 1990 – NOUVELLE INTRODUCTION AU FRANCAIS LANGUE ETRANGERE – CLE INTERNATIO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. MINARDI, 1989 – LINGUE STRANIERE E PROFESSIONALITA’ -  F. MILELLA EDIT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DIPENDE DALLA LINGUA D’ORIGINE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Dipende dalle somiglianze della propria lingua con la lingua che stiamo imparan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CCIAMO UN ESEMPIO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ragazzo di madrelingua spagnola tenderà inizialmente  a fare raffronti con la propria lingua, ma presto le conoscenze dell’italiano influenzeranno l’apprendimento della nuova lingua; in ogni caso le regole della nuova lingua tenderanno a trovare conferma in una regola simile già conosciut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Es. 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Il y a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 francese,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c’è” “ci sono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 italiano, passerà più facilmente attraverso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hay”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che attraverso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c’è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 “ci sono”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MA SE IL RAGAZZO È CINES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o sforzo maggiore compiuto dal ragazzo è quello di imparare l’italiano come  L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 partire da una conoscenza di base dell’italiano, non sarà difficile per un ragazzo cinese imparare, ad esempio, il frances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ma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VI È UNA GROSSA LIMITAZIONE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 studio dell’italiano L2 è indispensabile per imparare a vivere e comunicare nel nuovo paes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ent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 studio del francese o di altra lingua straniera è meno motivante in quanto non risponde a bisogni immedia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MALGRADO CIO’ VI SONO RISULTATI TALVOLTA SBALORDITIVI PROPRIO IN ALUNNI STRANIERI CHE IMPARANO ALTRE LINGUE OLTRE ALL’ITALIANO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ALTRI FATTORI INTERVENGONO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Forse, semplicemente, come hanno ipotizzato alcuni colleghi a cui abbiamo sottoposto il questionari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otivazioni personali che spingono il discente ad imparare altre lingue stranie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background culturale che stimola il disce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mportanza data allo studio nel paese di origin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prie capacità e forte impegno persona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Calibri"/>
              </a:rPr>
              <a:t>QUALE VARIETÀ LINGUISTICA DELL’ITALIANO IMPARA LO STRANIERO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teoria, per quanto riguarda l’italiano, un ottimo italiano (</a:t>
            </a:r>
            <a:r>
              <a:rPr b="0" i="1" lang="it-IT" sz="2600" spc="-1" strike="noStrike">
                <a:solidFill>
                  <a:srgbClr val="000000"/>
                </a:solidFill>
                <a:latin typeface="Calibri"/>
              </a:rPr>
              <a:t>italiano standard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)  in quanto veicolato da insegnanti diplomati e laurea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pratica quello che lo metterà in contatto con i coetanei e gli permetterà di comunicare con es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UTTO QUESTO AVVIENE IN UN TEMPO MOLTO RIDOTTO PER CUI IMPROVVISAMENTE, A CIRCA  11 ANNI O POCO MENO, UN RAGAZZO SI TROVA AD AFFRONTARE LO STUDIO DI MOLTEPLICI LINGU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LINGUE STUDIAR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ITALIANO COME L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INGLESE COME L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L FRANCESE COME L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A PROPRIA LINGUA D’ORIGINE COME L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È evidente che vi saranno delle priorità, delle scelte che sarà costretto a fare legate alla vita quotidia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SCELT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Manterrà la lingua madre poiché inserito nella propria famiglia d’orig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Coltiverà lo studio dell’italiano L1 in quanto necessario alla sopravvive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enterà lo studio di ulteriori lingue straniere che progrediranno a seconda dell’impegno personale e della maggior sicurezza acquisita in italiano. In ogni caso avranno un ruolo secondario sino al completo acclimatamento del disc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0:19:33Z</dcterms:created>
  <dc:creator>rosalina</dc:creator>
  <dc:description/>
  <dc:language>en-US</dc:language>
  <cp:lastModifiedBy>Rosanna Mercairo</cp:lastModifiedBy>
  <dcterms:modified xsi:type="dcterms:W3CDTF">2009-02-09T18:10:23Z</dcterms:modified>
  <cp:revision>74</cp:revision>
  <dc:subject/>
  <dc:title>INTERLINGUA E ANALISI DEGLI ERRORI</dc:title>
</cp:coreProperties>
</file>