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9077-146A-4660-ACEC-4008482900B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o straniero è avvantaggiato nello studio di altre lingue strani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56D0-2159-461C-A0EA-7206E54E653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’è il profilo biling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AA7C-906B-4FDD-89D6-9ED11E5F1FC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Bilinguismo funzion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177C-7F44-436E-9420-9FEF79DB1C9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F173-F8FF-4353-9A3F-12BB5B7B8BE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bbiamo casi di questo tipo in clas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7B46-9C53-4DAC-8412-6B4CBE6E0F0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a sfida per tu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C252-961F-442B-89F1-62EA374CA36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 cosa serve una lingua straniera diversa dall’italiano per uno strani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EE06-5DC3-4D55-9283-B2E50101396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ncora volontà e impeg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14F8-18E0-4FF0-8661-468876B19E5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lcosa di più concre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E05-281C-4A75-9089-5DD039D2F38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 patto formati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8AEA-14CC-4C6E-BB79-5F19BCFA238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 po’ di psicolinguis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9679-FACF-4802-AD96-E9F267F22D0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sistema di interlingue si crea attraverso la lingua acquisita o la lingua d’orig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CCD-077A-4AA5-A6D9-49BFCA55FBF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e altre interlin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C00-2737-488D-80F3-63A19FD95BE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 da produr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2E35-19D6-4485-BD86-BC90C8E2B0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ccessibilità della lingua d’orig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BA5-70CF-499C-9ACF-6591EFA2163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ndo la lingua non è comparabile con la nostra lingua mad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5571-669A-4152-9539-7B4004BE07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otivazio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99DC-7A71-44C7-B57F-CBB72AAEA78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attori che intervengono nello studio di altre lingue strani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2704-3719-487E-AF28-BAF9FBAD1CD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taliano standard o varietà linguist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1DF5-EAA0-4E26-9BA7-07D7E49B22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li lingue studia uno strani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5C87-988B-4873-9D4F-9E31469B769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ali motivi che lo spingono a studiare le ling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549-0955-45EF-B935-B68150D9CD6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026-93F6-4B80-8F61-61396E55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2E3-204C-4ACB-8569-252558B4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A39-1369-4523-8BB6-154165B1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BBF-1795-4FC9-A143-635B4AF7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46CF-F583-439F-80AB-D4DAC273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2E65-652A-45C0-A2D5-DFD1BF77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3AD3-435B-4AA4-817A-3E496A3A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9FBA-27F1-4078-9659-4948F8DF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BE59-B198-41AB-897C-1DC95908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EFC5-9C34-4409-88D7-D64C7875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0334-0894-45A4-AC9A-1CC27C1B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38B-645D-4037-B98D-626ACD25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F9A6-3A2F-4034-BE80-75AE5EB7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A52-697F-4C20-A54F-9423CB95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7B60-8124-4BE5-82E6-3E772A46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6F79-7632-45C9-8FF5-66C10FD8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5A1C-0F2A-4EB3-9242-2463CECA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87A5-451A-48A9-BD95-C640FEB2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5CC5-A1CA-4998-A59B-9C3C9EC6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8B94-4314-4A81-8307-26F148B6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47D3-DBB6-4052-878F-D980ACD7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19C5-6DEA-4058-B99A-D085B6D9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35E-28B2-4AD5-8F87-EF7E9401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1A57-E0AB-4FB5-901D-09F4CB6C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31FE-9240-42DB-B722-ABF0E683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BB8E-EC33-4CA6-AB11-B27568C5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118CA-4F9B-4B54-A3B5-EE8A49F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070A-3121-492B-8F9B-12ACDB93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28AF-D889-443E-8504-4238C7E0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F84B-C755-4DDA-9745-0F026A84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95FC-731E-4C63-B786-4A72259F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2A6C-3537-4BFB-9A8A-20709CB3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AC5F-E2F7-4819-85F8-1B583CF0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689-9CBD-4A4B-8CFC-BF6EFE98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0D4C4-AEB6-4C57-B56C-880C3EBE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6363-0A03-47D4-AD36-B268F04C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7E91-4EB3-45E5-AD06-F1F2F2BB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A61A-2D6D-42E9-958E-2B6ADAB9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DB70-02A8-4AED-9149-ACF27D30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EFB4-E24C-4C64-AE9C-FE22582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868F-5836-4C9E-B7A9-B88A83FE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8C98-5344-4DD7-94C6-F96E3D57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89C7-F3B1-4876-87F6-33F6C30D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097-187E-489A-B205-5F0332F7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78A-54B1-467B-AE93-20FA43D3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AEB-E15E-4367-968F-FA706DE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CD9-D10D-468F-A909-F1B2E04A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15D-45EB-4A98-8172-C6891064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A4E2-1658-4D97-9636-1A25DA6CA8B6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2B75-3EC8-41F8-90F4-BE6A1C67C43A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34C9-CC94-4D62-8494-D2701C4E8398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F151-259C-4865-AA3F-6558AAC104AF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o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La lingua straniera come L3 per uno stranie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APPUNTI DI ROSA TORRIN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Calibri"/>
              </a:rPr>
              <a:t>COME AIUTARE L’ALUNNO STRANIERO A FAR COESISTERE DIVERSE INTERLINGUE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’alunno straniero in questione, che conosce ed usa più di un sistema linguistico, ha un profilo bilingue o multilingue specif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Questo profilo è dato non solo dal livello di competenza nelle diverse abilità e attività linguistiche, ma anche dall’uso concreto che fa delle lingue che conos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questo significato si può parlare di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bilinguismo funziona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OSA SI INTENDE PER BILINGUISMO FUNZIONALE? (COLIN BAKER, 1993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Occorre analizzare nel nostro discente l’uso delle due o più lingue con riferimento ai seguenti fattor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i è che parl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i è che ascolt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 è la situazion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 è l’argomento della conversazion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al è lo scop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 vedere quali lingue vengono utilizzate nelle diverse situazio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USO DELLE DIVERSE LING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935000"/>
          <a:ext cx="8229600" cy="428004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arlante spagn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 che asco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lante italiano          Parlante indiano          Parlante spagn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tu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scuola     A scuola, al bar, per strada   Ogni tipo di  situazione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elta lingu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taliano                        Italiano                     Spagn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cxnSp>
        <p:nvCxnSpPr>
          <p:cNvPr id="226" name="Connettore 2 18"/>
          <p:cNvCxnSpPr/>
          <p:nvPr/>
        </p:nvCxnSpPr>
        <p:spPr>
          <a:xfrm flipH="1">
            <a:off x="3357360" y="2284920"/>
            <a:ext cx="135792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7" name="Connettore 2 22"/>
          <p:cNvCxnSpPr/>
          <p:nvPr/>
        </p:nvCxnSpPr>
        <p:spPr>
          <a:xfrm flipH="1">
            <a:off x="2928240" y="3357720"/>
            <a:ext cx="57204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8" name="Connettore 2 24"/>
          <p:cNvCxnSpPr/>
          <p:nvPr/>
        </p:nvCxnSpPr>
        <p:spPr>
          <a:xfrm flipH="1">
            <a:off x="2714040" y="4428720"/>
            <a:ext cx="21492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Connettore 2 26"/>
          <p:cNvCxnSpPr/>
          <p:nvPr/>
        </p:nvCxnSpPr>
        <p:spPr>
          <a:xfrm flipH="1">
            <a:off x="5428440" y="2214720"/>
            <a:ext cx="252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Connettore 2 28"/>
          <p:cNvCxnSpPr/>
          <p:nvPr/>
        </p:nvCxnSpPr>
        <p:spPr>
          <a:xfrm flipH="1">
            <a:off x="4785480" y="4430880"/>
            <a:ext cx="252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Connettore 2 30"/>
          <p:cNvCxnSpPr/>
          <p:nvPr/>
        </p:nvCxnSpPr>
        <p:spPr>
          <a:xfrm flipH="1">
            <a:off x="5285520" y="3429000"/>
            <a:ext cx="7236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Connettore 2 32"/>
          <p:cNvCxnSpPr/>
          <p:nvPr/>
        </p:nvCxnSpPr>
        <p:spPr>
          <a:xfrm>
            <a:off x="6214680" y="2214360"/>
            <a:ext cx="1072440" cy="857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3" name="Connettore 2 34"/>
          <p:cNvCxnSpPr/>
          <p:nvPr/>
        </p:nvCxnSpPr>
        <p:spPr>
          <a:xfrm>
            <a:off x="7786800" y="3357720"/>
            <a:ext cx="7200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4" name="Connettore 2 36"/>
          <p:cNvCxnSpPr/>
          <p:nvPr/>
        </p:nvCxnSpPr>
        <p:spPr>
          <a:xfrm flipH="1">
            <a:off x="6928560" y="4357440"/>
            <a:ext cx="429480" cy="8578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ESTO CASO CI RIGUARDA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esto potrebbe essere il caso di un alunno di madrelingua spagnola che, molto piccolo, viene a vivere in Italia e assume atteggiamenti del paese in cui vive e  ne impara  la lingu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questo caso l’interlingua dell’italiano tende a sovrapporsi alle conoscenze dello spagnolo che, all’opposto di quanto studiato finora diventa interlingua dello spagnolo, ossia l’italiano diventa la lingua forte e lo spagnolo, normalmente parlato in casa e nella propria comunità, tende, con il tempo, ad essere meno aggiornato, talvolta meno corretto rispetto  all’italiano stes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INTERLINGUA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Diverso invece il caso di un giovane straniero in Italia che conosca ovviamente la propria lingua madre e che sviluppi una propria interlingua per comunicare con gli altr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SE, IN QUESTO CASO, L’INSEGNANTE DI ITALIANO RACCOGLIE LA SFIDA E SI APPRESTA AD INSEGNARE L’ITALIANO AL NUOVO STUDENTE COME L2, COSA POSSONO FARE GLI INSEGNANTI DI L3 E L4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POSSIBILI FUNZIONI DELLA LINGUA STRANIERA PER UNO STRANI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rischio potrebbe essere quello di considerare una seconda lingua straniera (ad esempio il francese) come una lingua classica, ovvero una lingua che nella nostra società non è lingua di comunicazione, ma sviluppa “buone competenze ricettive e una consapevolezza metalinguistica che nasce dallo studio approfondito della sua grammatica” (Pallotti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 migliore dei casi è lingua di riferimento, ovvero possibilità per il discente di trovare o meno una conferma alle proprie ipotesi nello studio dell’italiano come L2; ciò presuppone comunque un interesse ed un’applicazione difficilmente rilevabili nella nostra realtà scolastica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E ALLORA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ogni caso diventa parte di un progetto non immediatamente fruibile, che presuppone forte motivazione individuale volontà e che dovrebbe prescindere dai bisogni iniziali dell’alunno stranie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PIÙ FACILE A DIRSI CHE A FARSI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HE FARE ALLORA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Operare per progetti in cui la struttura comunicativa della classe, i ruoli docente/allievo e tra i singoli docenti, le modalità di attivazione e di controllo dei processi di apprendimento siano continuamente sottoposti a revisioni criti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Organizzare attività interdisciplinari tra le varie materie (lingue) che evidenzino le somiglianze più che le differenz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icorrere, quando possibile, al mediatore culturale che potrà consigliarci su quali lingue straniere e quando proporle lor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Mettere a punto un modello organizzativo individuando ruoli, funzioni, compiti , strategi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OME CONVINCERE IL NOSTRO INTERLOCUTORE (STUDENTE)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vviando un’interazione con gli allievi che viene gestita accettando, ma anche criticando e rifiutando i loro comportamenti comunicativi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struendo una vera e propria negoziazione operativa (Gérard De Vecchi), ovvero la differenza tra un 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faux contrat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( quello che l’insegnante in modo più o meno discreto, impone agli allievi) e un 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véritable  contrat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he, partendo da bisogni riconosciuti, attiva interazioni collaborative e definisce gli scopi e lo sviluppo di un progett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iutandolo attraverso l’attivazione e il controllo dei processi di apprendimento che diventa apprendimento cognitiv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COME ATTIVARE L’APPRENDIMENTO COGNITIV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roporre il 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, ovvero risolvere un problema attraverso una fase  di conoscenza, lo sviluppo di strategie per affrontarlo, la pianificazione dei criteri da adottar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ndersi conto che, nello studio delle lingue straniere “altre” dall’italiano, entra in gioco la motivazione, la consapevolezza di potercela fare (autostima) e la fiducia nelle proprie capacità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nsiderare il ruolo dell’insegnante come un esempio che su molti può far leva (non è l’insegnante di lingue straniere che, partito da una situazione monolingue, è ora in grado di destreggiarsi tra due o più di esse?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NTE INTERLINGUE POSSIAMO GESTIR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Un ragazzo straniero tra gli 11 e i 14 anni che arriva in un paese si trova a dover gesti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pprendimento della nuova lingua del paese in cui è arrivato (nella fattispecie l’italiano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pprendimento di altre lingue straniere oggetto di studio (ad esempio il francese, l’inglese, etc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ropria lingua mad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INTERLINGUA PER GLI STRANIERI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lo se siamo riusciti ad affrontare con discreto successo le fasi precedenti possiamo far coesistere altre interlingue, quelle che più interessano un insegnante di lingue straniere, ovvero, a titolo esemplificativ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’interlingua di un ispanofono di recente immigrazione alle prese con l’italiano come L2 e francese come L3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’interlingua di un ispanofono di non recente  immigrazione alle prese con l’italiano come L2 e francese come L3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’interlingua di una cinese di recente immigrazione  alle prese con l’italiano come L2 e francese come L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ALCUNI CASI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samineremo alcuni casi degli alunni in questione e approfondiremo i temi in precedenza citati, con particolare riferimento allo studio di lingue straniere diverse dall’italia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BIBLIOGRAFI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TERLINGUA E ANALISI DEGLI ERRORI – G. PALLOTTI – GISC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. BAKER, 1993, - FOUNDATIONS OF BILINGUAL EDUCATION AND BILINGUALISM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. BERTOCCHI, A. CABIANCA, M. CAVALLI, M. CERAGIOLI, M. DODMAN, G. PORTE’ – PENSARE E PARLARE IN PIU’ LINGUE – ESPERIENZE DI INSEGNAMENTO E DI FORMAZIONE IN VALLE D’AOSTA – CAPITOLO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 VECCHI GERARD – 1992 – AIDER LES ELEVES A APPRENDRE – HACHETTE PAR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.DEMETRIO – 1994 – “L’APPRENDIMENTO IN ETA ADULTA , IN BONINO S. (A CURA DI ), DIZIONARIO DI PSICOLOGIA DELLO SVILUPPO, EINAUDI, TORIN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XPLORATIONS IN TEACHER TRAINING, 1988 – EDITED BY TONY DUFF – EDITORE LONGM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H. BOYER, M. BUTZBACH, M. PENDANX, 1990 – NOUVELLE INTRODUCTION AU FRANCAIS LANGUE ETRANGERE – CLE INTERNATIO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. MINARDI, 1989 – LINGUE STRANIERE E PROFESSIONALITA’ -  F. MILELLA EDIT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DIPENDE DALLA LINGUA D’ORIGINE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Dipende dalle somiglianze della propria lingua con la lingua che stiamo imparan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ACCIAMO UN ESEMPIO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ragazzo di madrelingua spagnola tenderà inizialmente  a fare raffronti con la propria lingua, ma presto le conoscenze dell’italiano influenzeranno l’apprendimento della nuova lingua; in ogni caso le regole della nuova lingua tenderanno a trovare conferma in una regola simile già conosciut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Es. 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Il y a”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n francese,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c’è” “ci sono”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n italiano, passerà più facilmente attraverso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hay”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che attraverso “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c’è”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it-IT" sz="2200" spc="-1" strike="noStrike">
                <a:solidFill>
                  <a:srgbClr val="000000"/>
                </a:solidFill>
                <a:latin typeface="Calibri"/>
              </a:rPr>
              <a:t> “ci sono”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MA SE IL RAGAZZO È CINES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o sforzo maggiore compiuto dal ragazzo è quello di imparare l’italiano come  L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 partire da una conoscenza di base dell’italiano, non sarà difficile per un ragazzo cinese imparare, ad esempio, il frances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ma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VI È UNA GROSSA LIMITAZIONE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 studio dell’italiano L2 è indispensabile per imparare a vivere e comunicare nel nuovo paes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ent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 studio del francese o di altra lingua straniera è meno motivante in quanto non risponde a bisogni immedia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alibri"/>
              </a:rPr>
              <a:t>MALGRADO CIO’ VI SONO RISULTATI TALVOLTA SBALORDITIVI PROPRIO IN ALUNNI STRANIERI CHE IMPARANO ALTRE LINGUE OLTRE ALL’ITALIANO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LI ALTRI FATTORI INTERVENGONO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Forse, semplicemente, come hanno ipotizzato alcuni colleghi a cui abbiamo sottoposto il questionari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otivazioni personali che spingono il discente ad imparare altre lingue stranie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background culturale che stimola il discent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mportanza data allo studio nel paese di origin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prie capacità e forte impegno persona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Calibri"/>
              </a:rPr>
              <a:t>QUALE VARIETÀ LINGUISTICA DELL’ITALIANO IMPARA LO STRANIERO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teoria, per quanto riguarda l’italiano, un ottimo italiano (</a:t>
            </a:r>
            <a:r>
              <a:rPr b="0" i="1" lang="it-IT" sz="2600" spc="-1" strike="noStrike">
                <a:solidFill>
                  <a:srgbClr val="000000"/>
                </a:solidFill>
                <a:latin typeface="Calibri"/>
              </a:rPr>
              <a:t>italiano standard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)  in quanto veicolato da insegnanti diplomati e laurea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 pratica quello che lo metterà in contatto con i coetanei e gli permetterà di comunicare con es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UTTO QUESTO AVVIENE IN UN TEMPO MOLTO RIDOTTO PER CUI IMPROVVISAMENTE, A CIRCA  11 ANNI O POCO MENO, UN RAGAZZO SI TROVA AD AFFRONTARE LO STUDIO DI MOLTEPLICI LINGU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LI LINGUE STUDIAR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’ITALIANO COME L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’INGLESE COME L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L FRANCESE COME L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A PROPRIA LINGUA D’ORIGINE COME L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È evidente che vi saranno delle priorità, delle scelte che sarà costretto a fare legate alla vita quotidia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alibri"/>
              </a:rPr>
              <a:t>QUALI SCELT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Manterrà la lingua madre poiché inserito nella propria famiglia d’orig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Coltiverà lo studio dell’italiano L1 in quanto necessario alla sopravvive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Tenterà lo studio di ulteriori lingue straniere che progrediranno a seconda dell’impegno personale e della maggior sicurezza acquisita in italiano. In ogni caso avranno un ruolo secondario sino al completo acclimatamento del disc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20:19:33Z</dcterms:created>
  <dc:creator>rosalina</dc:creator>
  <dc:description/>
  <dc:language>en-US</dc:language>
  <cp:lastModifiedBy>Rosanna Mercairo</cp:lastModifiedBy>
  <dcterms:modified xsi:type="dcterms:W3CDTF">2009-02-09T18:10:23Z</dcterms:modified>
  <cp:revision>74</cp:revision>
  <dc:subject/>
  <dc:title>INTERLINGUA E ANALISI DEGLI ERRORI</dc:title>
</cp:coreProperties>
</file>