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ED50-B4B2-48A0-9378-A09C3A8F14A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o straniero è avvantaggiato nello studio di altre lingue strani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1130-D997-4780-948C-27BDA06DC7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’è il profilo biling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0ED-AB06-4C6C-B445-519FBE96964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ilinguismo funzion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3CC9-674E-443E-9FB0-604A85A181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B3A9-091F-42CB-84C7-2285A69173E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bbiamo casi di questo tipo in clas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93E7-F96F-4F89-AB75-C349F0EB51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a sfida per tu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27AD-30E6-428B-B4C4-BE37E679D4C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 cosa serve una lingua straniera diversa dall’italiano per uno strani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632C-483F-4C6C-BC18-C1EF377783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ncora volontà e impeg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88A1-4C64-4338-8F02-9685D42D4F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cosa di più concre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E3C-FBDC-408B-B022-326F7768360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patto formati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241A-7CCB-4B7C-A0B0-8B43CB59FFA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po’ di psicolingui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84F-8AD5-4984-9320-A3EC70F3D2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sistema di interlingue si crea attraverso la lingua acquisita o la lingua d’orig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C99D-1AA8-421E-8921-E5033B70E8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e altre interli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DF5-7C04-4157-B677-EB8A6D82254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 da produr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4EA0-E25A-4791-ACF3-412AF27302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ccessibilità della lingua d’ori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8C0-DA40-42BF-8B1E-41BB58C2D65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ndo la lingua non è comparabile con la nostra lingua mad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F533-9C6C-4A65-9E68-8C7C522A4F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otivazio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E043-4821-4311-BE53-8F7F00C0EDF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attori che intervengono nello studio di altre lingue strani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E0C-86C0-438E-9B2D-4365D9B2225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taliano standard o varietà linguist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38A-46A6-49D5-A160-22FDB60BCE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i lingue studia uno strani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C05-1CCF-4980-86EC-C3122D9832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i motivi che lo spingono a studiare le ling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0B7C-C552-4E21-8002-B34E4554F4E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3D8-74BB-4AFB-BB40-B409EA52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02E-2165-4CDA-924D-1F7ACB81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67F-42E9-433F-BBF2-B342C0CA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FA2-5D05-4A4C-B7DD-08F6531C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96C8-7F8F-47ED-8421-62B7E99B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5FE5-D64B-4502-892B-6E062AA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1A6-A0D2-4C52-9C48-18359F1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C1F4-DA82-4348-8109-95057E53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9C01-A9D0-45CD-8E9A-0432F28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E05-52BB-408B-ADBB-66C9AB5E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216B-AAD7-4DD5-A953-17C5828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C75-B75D-4573-ADB7-A3AAE067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EEE-2401-4ABE-BDA3-6CFBC5C2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B9A3-EE56-4500-AEAF-D77085E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D717-7678-4D71-8C2C-BF09B9DE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16E0-F49C-49EA-B71A-B57784AC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6965-3726-4346-B1EB-C6DEA88E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9053-F5CB-4D8E-A930-EDC1AA23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A55A-E8C5-4B70-9958-55A024DB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D31F-7EC1-4F45-800A-5E11B6F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1361-33AC-480A-B374-6C71A15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ABE3-429C-461E-9300-6952CA3E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EBA-7B7E-4259-B4F0-97E27C43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8378-63A4-43D2-8DE0-FC3ED585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EAE4-8914-4922-8615-D5AFC52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1D92-C729-4DEE-BC6B-9D2D136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2202-C4B4-4496-9ACE-39A1DF1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6070-83AF-4A7C-B805-01E624C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C49A-BCC1-493D-8DDD-829A6747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5075-25B8-48F5-B9C0-652930CA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09DD-1E2E-4B0C-9BFC-1D620D9D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3D94-938A-4EF7-9FD9-7A050BE8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26CE-CDCE-42AA-8EE6-3738B76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9A0-F7D6-4E4F-AFB5-A7DD837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7495-C97E-427D-A33A-66660E8F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4596-BE5D-4AE0-96AC-8E877E8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AD0E-7908-480B-9B7B-20B423C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67FD-362E-4FAB-84DA-9C4EAC4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EA8C-A9F7-423D-B369-8D34CBD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D884-A84F-4E2E-8685-4D46D7F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F5EA-89FE-48C5-B569-4C5996D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ACA1-DBAF-495B-80EA-347BC5DD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7118-F3E6-4DE3-9324-1EAC2426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B8D-1EAF-44CD-8E48-5C0B6B82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2A1-D345-4D05-9473-47792421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0D2-4C2F-4839-99CF-71D5D6D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79F-00FF-4E1A-9179-74BFC88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911-4F59-483C-BB94-F770905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856-72DA-42E0-A9AB-2B71A2E701CB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046-CE01-4011-A5B3-BC5ACC43C032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023-65DB-45C3-8A8C-93AFAED780B4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BD8-3E6C-4BFA-9EC4-1E584E1CD6B6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La lingua straniera come L3 per uno strani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APPUNTI DI ROSA TORRIN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Calibri"/>
              </a:rPr>
              <a:t>COME AIUTARE L’ALUNNO STRANIERO A FAR COESISTERE DIVERSE INTERLINGUE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alunno straniero in questione, che conosce ed usa più di un sistema linguistico, ha un profilo bilingue o multilingue specif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Questo profilo è dato non solo dal livello di competenza nelle diverse abilità e attività linguistiche, ma anche dall’uso concreto che fa delle lingue che conos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questo significato si può parlare di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bilinguismo funziona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SA SI INTENDE PER BILINGUISMO FUNZIONALE? (COLIN BAKER, 1993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ccorre analizzare nel nostro discente l’uso delle due o più lingue con riferimento ai seguenti fattor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i è che parl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i è che ascolt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a situazion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’argomento della conversazion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o scop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 vedere quali lingue vengono utilizzate nelle diverse situazio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USO DELLE DIVERSE LING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935000"/>
          <a:ext cx="8229600" cy="428004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lante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 che asco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lante italiano          Parlante indiano          Parlante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tu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scuola     A scuola, al bar, per strada   Ogni tipo di  situazione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elta lingu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taliano                        Italiano                    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cxnSp>
        <p:nvCxnSpPr>
          <p:cNvPr id="226" name="Connettore 2 18"/>
          <p:cNvCxnSpPr/>
          <p:nvPr/>
        </p:nvCxnSpPr>
        <p:spPr>
          <a:xfrm flipH="1">
            <a:off x="3357360" y="2284920"/>
            <a:ext cx="13579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7" name="Connettore 2 22"/>
          <p:cNvCxnSpPr/>
          <p:nvPr/>
        </p:nvCxnSpPr>
        <p:spPr>
          <a:xfrm flipH="1">
            <a:off x="2928240" y="3357720"/>
            <a:ext cx="57204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8" name="Connettore 2 24"/>
          <p:cNvCxnSpPr/>
          <p:nvPr/>
        </p:nvCxnSpPr>
        <p:spPr>
          <a:xfrm flipH="1">
            <a:off x="2714040" y="4428720"/>
            <a:ext cx="2149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Connettore 2 26"/>
          <p:cNvCxnSpPr/>
          <p:nvPr/>
        </p:nvCxnSpPr>
        <p:spPr>
          <a:xfrm flipH="1">
            <a:off x="5428440" y="2214720"/>
            <a:ext cx="252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Connettore 2 28"/>
          <p:cNvCxnSpPr/>
          <p:nvPr/>
        </p:nvCxnSpPr>
        <p:spPr>
          <a:xfrm flipH="1">
            <a:off x="4785480" y="4430880"/>
            <a:ext cx="252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Connettore 2 30"/>
          <p:cNvCxnSpPr/>
          <p:nvPr/>
        </p:nvCxnSpPr>
        <p:spPr>
          <a:xfrm flipH="1">
            <a:off x="5285520" y="3429000"/>
            <a:ext cx="7236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Connettore 2 32"/>
          <p:cNvCxnSpPr/>
          <p:nvPr/>
        </p:nvCxnSpPr>
        <p:spPr>
          <a:xfrm>
            <a:off x="6214680" y="2214360"/>
            <a:ext cx="107244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Connettore 2 34"/>
          <p:cNvCxnSpPr/>
          <p:nvPr/>
        </p:nvCxnSpPr>
        <p:spPr>
          <a:xfrm>
            <a:off x="7786800" y="3357720"/>
            <a:ext cx="7200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Connettore 2 36"/>
          <p:cNvCxnSpPr/>
          <p:nvPr/>
        </p:nvCxnSpPr>
        <p:spPr>
          <a:xfrm flipH="1">
            <a:off x="6928560" y="4357440"/>
            <a:ext cx="42948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ESTO CASO CI RIGUARD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o potrebbe essere il caso di un alunno di madrelingua spagnola che, molto piccolo, viene a vivere in Italia e assume atteggiamenti del paese in cui vive e  ne impara  la lin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questo caso l’interlingua dell’italiano tende a sovrapporsi alle conoscenze dello spagnolo che, all’opposto di quanto studiato finora diventa interlingua dello spagnolo, ossia l’italiano diventa la lingua forte e lo spagnolo, normalmente parlato in casa e nella propria comunità, tende, con il tempo, ad essere meno aggiornato, talvolta meno corretto rispetto  all’italiano stes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INTERLINGUA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Diverso invece il caso di un giovane straniero in Italia che conosca ovviamente la propria lingua madre e che sviluppi una propria interlingua per comunicare con gli altr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SE, IN QUESTO CASO, L’INSEGNANTE DI ITALIANO RACCOGLIE LA SFIDA E SI APPRESTA AD INSEGNARE L’ITALIANO AL NUOVO STUDENTE COME L2, COSA POSSONO FARE GLI INSEGNANTI DI L3 E L4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POSSIBILI FUNZIONI DELLA LINGUA STRANIERA PER UNO STRANI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rischio potrebbe essere quello di considerare una seconda lingua straniera (ad esempio il francese) come una lingua classica, ovvero una lingua che nella nostra società non è lingua di comunicazione, ma sviluppa “buone competenze ricettive e una consapevolezza metalinguistica che nasce dallo studio approfondito della sua grammatica” (Pallotti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migliore dei casi è lingua di riferimento, ovvero possibilità per il discente di trovare o meno una conferma alle proprie ipotesi nello studio dell’italiano come L2; ciò presuppone comunque un interesse ed un’applicazione difficilmente rilevabili nella nostra realtà scolastica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E ALLOR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ogni caso diventa parte di un progetto non immediatamente fruibile, che presuppone forte motivazione individuale volontà e che dovrebbe prescindere dai bisogni iniziali dell’alunno strani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IÙ FACILE A DIRSI CHE A FARSI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HE FARE ALLOR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perare per progetti in cui la struttura comunicativa della classe, i ruoli docente/allievo e tra i singoli docenti, le modalità di attivazione e di controllo dei processi di apprendimento siano continuamente sottoposti a revisioni criti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rganizzare attività interdisciplinari tra le varie materie (lingue) che evidenzino le somiglianze più che le differenz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icorrere, quando possibile, al mediatore culturale che potrà consigliarci su quali lingue straniere e quando proporle lo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ettere a punto un modello organizzativo individuando ruoli, funzioni, compiti , strategi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ME CONVINCERE IL NOSTRO INTERLOCUTORE (STUDENTE)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vviando un’interazione con gli allievi che viene gestita accettando, ma anche criticando e rifiutando i loro comportamenti comunicativi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struendo una vera e propria negoziazione operativa (Gérard De Vecchi), ovvero la differenza tra un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faux contrat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( quello che l’insegnante in modo più o meno discreto, impone agli allievi) e un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véritable  contrat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he, partendo da bisogni riconosciuti, attiva interazioni collaborative e definisce gli scopi e lo sviluppo di un progett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iutandolo attraverso l’attivazione e il controllo dei processi di apprendimento che diventa apprendimento cognitiv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ME ATTIVARE L’APPRENDIMENTO COGNITIV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roporre il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, ovvero risolvere un problema attraverso una fase  di conoscenza, lo sviluppo di strategie per affrontarlo, la pianificazione dei criteri da adotta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ndersi conto che, nello studio delle lingue straniere “altre” dall’italiano, entra in gioco la motivazione, la consapevolezza di potercela fare (autostima) e la fiducia nelle proprie capacità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nsiderare il ruolo dell’insegnante come un esempio che su molti può far leva (non è l’insegnante di lingue straniere che, partito da una situazione monolingue, è ora in grado di destreggiarsi tra due o più di esse?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NTE INTERLINGUE POSSIAMO GESTI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Un ragazzo straniero tra gli 11 e i 14 anni che arriva in un paese si trova a dover gesti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pprendimento della nuova lingua del paese in cui è arrivato (nella fattispecie l’italiano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pprendimento di altre lingue straniere oggetto di studio (ad esempio il francese, l’inglese, etc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opria lingua mad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INTERLINGUA PER GLI STRANIER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lo se siamo riusciti ad affrontare con discreto successo le fasi precedenti possiamo far coesistere altre interlingue, quelle che più interessano un insegnante di lingue straniere, ovvero, a titolo esemplificativ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 ispanofono di recente immigrazione alle prese con l’italiano come L2 e francese come L3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 ispanofono di non recente  immigrazione alle prese con l’italiano come L2 e francese come L3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a cinese di recente immigrazione  alle prese con l’italiano come L2 e francese come L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ALCUNI CAS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samineremo alcuni casi degli alunni in questione e approfondiremo i temi in precedenza citati, con particolare riferimento allo studio di lingue straniere diverse dall’italia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BIBLIOGRAFI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ERLINGUA E ANALISI DEGLI ERRORI – G. PALLOTTI – GISC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. BAKER, 1993, - FOUNDATIONS OF BILINGUAL EDUCATION AND BILINGUALISM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. BERTOCCHI, A. CABIANCA, M. CAVALLI, M. CERAGIOLI, M. DODMAN, G. PORTE’ – PENSARE E PARLARE IN PIU’ LINGUE – ESPERIENZE DI INSEGNAMENTO E DI FORMAZIONE IN VALLE D’AOSTA – CAPITOLO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 VECCHI GERARD – 1992 – AIDER LES ELEVES A APPRENDRE – HACHETTE PAR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.DEMETRIO – 1994 – “L’APPRENDIMENTO IN ETA ADULTA , IN BONINO S. (A CURA DI ), DIZIONARIO DI PSICOLOGIA DELLO SVILUPPO, EINAUDI, TORIN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XPLORATIONS IN TEACHER TRAINING, 1988 – EDITED BY TONY DUFF – EDITORE LONG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H. BOYER, M. BUTZBACH, M. PENDANX, 1990 – NOUVELLE INTRODUCTION AU FRANCAIS LANGUE ETRANGERE – CLE INTERNATIO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. MINARDI, 1989 – LINGUE STRANIERE E PROFESSIONALITA’ -  F. MILELLA EDIT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DIPENDE DALLA LINGUA D’ORIGINE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ipende dalle somiglianze della propria lingua con la lingua che stiamo imparan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CCIAMO UN ESEMPIO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ragazzo di madrelingua spagnola tenderà inizialmente  a fare raffronti con la propria lingua, ma presto le conoscenze dell’italiano influenzeranno l’apprendimento della nuova lingua; in ogni caso le regole della nuova lingua tenderanno a trovare conferma in una regola simile già conosciut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s. 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Il y a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francese,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c’è” “ci sono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italiano, passerà più facilmente attraverso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hay”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che attraverso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c’è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 “ci sono”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MA SE IL RAGAZZO È CINES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 sforzo maggiore compiuto dal ragazzo è quello di imparare l’italiano come  L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 partire da una conoscenza di base dell’italiano, non sarà difficile per un ragazzo cinese imparare, ad esempio, il frances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ma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VI È UNA GROSSA LIMITAZIONE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studio dell’italiano L2 è indispensabile per imparare a vivere e comunicare nel nuovo paes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ent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studio del francese o di altra lingua straniera è meno motivante in quanto non risponde a bisogni immedia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MALGRADO CIO’ VI SONO RISULTATI TALVOLTA SBALORDITIVI PROPRIO IN ALUNNI STRANIERI CHE IMPARANO ALTRE LINGUE OLTRE ALL’ITALIANO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ALTRI FATTORI INTERVENGONO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Forse, semplicemente, come hanno ipotizzato alcuni colleghi a cui abbiamo sottoposto il questionari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otivazioni personali che spingono il discente ad imparare altre lingue stranie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ackground culturale che stimola il disc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mportanza data allo studio nel paese di origin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prie capacità e forte impegno persona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Calibri"/>
              </a:rPr>
              <a:t>QUALE VARIETÀ LINGUISTICA DELL’ITALIANO IMPARA LO STRANIERO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teoria, per quanto riguarda l’italiano, un ottimo italiano (</a:t>
            </a:r>
            <a:r>
              <a:rPr b="0" i="1" lang="it-IT" sz="2600" spc="-1" strike="noStrike">
                <a:solidFill>
                  <a:srgbClr val="000000"/>
                </a:solidFill>
                <a:latin typeface="Calibri"/>
              </a:rPr>
              <a:t>italiano standard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)  in quanto veicolato da insegnanti diplomati e laurea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pratica quello che lo metterà in contatto con i coetanei e gli permetterà di comunicare con es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UTTO QUESTO AVVIENE IN UN TEMPO MOLTO RIDOTTO PER CUI IMPROVVISAMENTE, A CIRCA  11 ANNI O POCO MENO, UN RAGAZZO SI TROVA AD AFFRONTARE LO STUDIO DI MOLTEPLICI LINGU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LINGUE STUDIA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ITALIANO COME L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INGLESE COME L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L FRANCESE COME L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A PROPRIA LINGUA D’ORIGINE COME L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È evidente che vi saranno delle priorità, delle scelte che sarà costretto a fare legate alla vita quotidi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SCELT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Manterrà la lingua madre poiché inserito nella propria famiglia d’orig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Coltiverà lo studio dell’italiano L1 in quanto necessario alla sopravvive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nterà lo studio di ulteriori lingue straniere che progrediranno a seconda dell’impegno personale e della maggior sicurezza acquisita in italiano. In ogni caso avranno un ruolo secondario sino al completo acclimatamento del disc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0:19:33Z</dcterms:created>
  <dc:creator>rosalina</dc:creator>
  <dc:description/>
  <dc:language>en-US</dc:language>
  <cp:lastModifiedBy>Rosanna Mercairo</cp:lastModifiedBy>
  <dcterms:modified xsi:type="dcterms:W3CDTF">2009-02-09T18:10:23Z</dcterms:modified>
  <cp:revision>74</cp:revision>
  <dc:subject/>
  <dc:title>INTERLINGUA E ANALISI DEGLI ERRORI</dc:title>
</cp:coreProperties>
</file>