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1FE1-00D2-4237-8045-71562AEE2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12B4-CE6B-4D85-B3D5-A716C6764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E2EB-8638-48EA-B457-4ED61E38E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7A8C-A4FC-4F4B-A5B2-C964F5255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2525-3B21-464F-89E7-E48753BEC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A6E6-4101-4393-870E-81E6CE957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517F-81BE-4EE0-9850-1D46C7D636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1E76-1E62-43C5-8BF4-6B058175D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838D-8065-442B-B746-3DD6E551F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4EDE-C298-4828-9D76-652D6D173E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5522-8F4F-400A-A717-C3FAC4DC6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BF2D-2FB4-49CF-ABA5-EB6D72D47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EC78-0B0F-446A-A3F0-3C6487C7EF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054D-08B0-44A2-A369-4E1598B0E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5F20-64F4-4A53-B312-92F249FB9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8A6A-82F2-4A46-825C-96057FB8B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7D2F-D11B-4D1D-805C-D3B976DE42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CE9-B6B2-493A-82EC-71230A677D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247-4B72-4728-8CB6-C339504826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2CE-46F8-4A10-893F-BC25C88C19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B53-6179-4EC3-BB66-74D76CEC4B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263-DF28-446D-9680-0439B8D51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6CE1-DC31-4556-A2EB-15C88E7230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944-21A8-4ECC-88B8-328C136959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43C-74FE-4E0F-977D-73369EE7F2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73F-EBDF-4F79-A28A-F699E74E94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2C8-B348-4057-BCEB-247758C16C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BC6-6BDE-4B1F-9313-6BFF722CE3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EF6-0572-4878-B56B-D11C6D55D2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632-A6DA-46D3-B64A-B3226663B8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9FA5-7B39-4C96-838B-37D0AEB55A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772A8-355E-40A9-A89B-A59101DBB3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EE49C-A3E6-46E3-8E2F-0FE9A5AA4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31B9-F440-4DCE-9C34-BC04243145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BC94E-5D31-4531-82F3-96BC63473E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41164-4C4E-4006-88EF-D4AC201B67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1B687-B958-48A1-B0FD-18ED91C526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84398-D9B1-488A-ABF9-048EAAAD55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6835B-AAD3-4428-A761-9F2C4AEC35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48D0-2215-4CD9-A2FC-2806691730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F144-E865-444C-ADD2-0DF9D986D4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707CF-9B1E-4499-BFDE-AA204EA48C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8E17A-2512-43DA-9583-C8BD1BCD6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BDB39-CFD4-4C94-A7B1-380CBCF72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BBF-05B2-4788-8BD8-E9C49250EB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CBB6-00D8-4CC3-BC65-AA15AF27FC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69A22-1D3B-4D0A-AB04-E7F56B593A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0C67-EAE1-4486-8876-A1261F51F2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B9A20-AE7D-4FF9-8636-4C8C1D38F0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67A1-0C4F-42E8-826B-05CAAB5EA3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2163-33CE-49F6-A7D9-AD93843D0A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B0CB7-0E15-4258-BFE9-11CCDF5C1A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16A3B-23DE-4F79-8261-69AC5E152E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19A7-40B0-46DD-B01C-D3D7C88593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C134-052C-40DB-806C-E05603F6F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583C-14D1-41BE-B553-413125A466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19DB-D760-4806-ADD3-F4587DDA14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159-CFBB-4AEA-8D22-1C8E5382F0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E0B-7E22-44EF-8592-2DAAB0AC5F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757-F4F2-42DD-8AB1-8A51443C57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C0D-06AE-466E-8366-42E55A9F32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5AD-2199-4DE7-A1F6-CF90EFEE70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BA6-4CE2-4A63-81D8-6D169EC080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EB47-54C1-4A13-8150-A7FCA266FE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15F2-8472-456A-AE24-F957ADB00B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6A4F-5D3E-4BCE-9886-201EAA293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6CD6-2EBE-425E-879D-9CCA280C19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B86-7229-4BC5-B56D-F0EDEFBF92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1436-7262-49C2-99B1-00C3172EF8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18D0-01F7-479B-9CBA-D689BEBED4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7748D-2882-4A7F-82E1-66E6AFDC29F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47048-9523-4420-BB2B-1C06FE228A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4FF0A-E40D-4C88-BED6-CFB7BFD588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925B4-4BFE-4D43-B6BE-8F6C215298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20D44-7EC3-4C16-B547-FC1984494D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CDDC5-8CB6-46D9-9C7E-417964F323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6BEAA-5005-44D9-8F58-C2B8D056F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4C43-8053-49A0-8D82-D1D690DC97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A1469-BE06-47ED-8584-660D32BAA0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3B8D1-83B9-4ADF-A9DB-5257F4AD29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160F6-EE98-4BE5-90A9-7927087E26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8F0D1-D820-4BDB-9BE2-25F07D0E9C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2947C-AFB9-40AC-968F-39AA85A22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BEF3-C8C7-4AD6-86F5-7C3F52C92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886-9E3F-48F8-A9CC-87B063A004DA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386-19D5-47B8-8A04-2DEF8A405100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82452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11C-6982-4A14-ADB4-0BAB75A8CBA5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Num" idx="3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13B-78C6-48C2-9F9D-5BCF26F24D03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Num" idx="4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D19-AD7F-4F7C-BFDA-540F5E0AC8A7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Num" idx="5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F28-A79E-4EC4-B603-A90C98FA2CDC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6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CD0D-F1B6-40C6-851C-D7CDFF97D580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7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558-B8DA-4997-AA1F-B5371E6263C8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9280" y="1714320"/>
            <a:ext cx="26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De Nieuwe Koetsier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Ronald Postma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20 7990941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6 27066656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9280" y="326196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Perry Smi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119280" y="473832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Schitterende nieuwe dienst die veel werkgelegenheid gaat opbleveren. 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ooie’re en betere vervanging voor taxi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19280" y="6254640"/>
            <a:ext cx="26434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7296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Vervoer van bejaarden met hun eigen auto. Geleverd door 65++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4144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1500 ritten poer dag in 2009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9600" y="1214280"/>
            <a:ext cx="198468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- Via opdracht van verzekering gestar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78800" y="1214280"/>
            <a:ext cx="19843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eerdere verzkeringen als opdrachtgever zien te kruijg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7296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Werken met techniek van filenetwerk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34144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4809600" y="5357520"/>
            <a:ext cx="198468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hebben een schitterend systeem op de achtergrond, gemaat door een ondernemer (eenmanszaak)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8"/>
          <p:cNvSpPr>
            <a:spLocks noGrp="1"/>
          </p:cNvSpPr>
          <p:nvPr>
            <p:ph/>
          </p:nvPr>
        </p:nvSpPr>
        <p:spPr>
          <a:xfrm>
            <a:off x="677880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willen een betere backupo voor hun software. Wat te doen als de maker van de software weg valt.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9"/>
          <p:cNvSpPr>
            <a:spLocks noGrp="1"/>
          </p:cNvSpPr>
          <p:nvPr>
            <p:ph/>
          </p:nvPr>
        </p:nvSpPr>
        <p:spPr>
          <a:xfrm>
            <a:off x="3071880" y="2801880"/>
            <a:ext cx="45720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Binnen nu en 2 jaar 1500 ritten per dag voor bejaarden regel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10"/>
          <p:cNvSpPr>
            <a:spLocks noGrp="1"/>
          </p:cNvSpPr>
          <p:nvPr>
            <p:ph/>
          </p:nvPr>
        </p:nvSpPr>
        <p:spPr>
          <a:xfrm>
            <a:off x="17143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11"/>
          <p:cNvSpPr>
            <a:spLocks noGrp="1"/>
          </p:cNvSpPr>
          <p:nvPr>
            <p:ph/>
          </p:nvPr>
        </p:nvSpPr>
        <p:spPr>
          <a:xfrm>
            <a:off x="24127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12"/>
          <p:cNvSpPr>
            <a:spLocks noGrp="1"/>
          </p:cNvSpPr>
          <p:nvPr>
            <p:ph/>
          </p:nvPr>
        </p:nvSpPr>
        <p:spPr>
          <a:xfrm>
            <a:off x="17143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13"/>
          <p:cNvSpPr>
            <a:spLocks noGrp="1"/>
          </p:cNvSpPr>
          <p:nvPr>
            <p:ph/>
          </p:nvPr>
        </p:nvSpPr>
        <p:spPr>
          <a:xfrm>
            <a:off x="24127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4"/>
          <p:cNvSpPr>
            <a:spLocks noGrp="1"/>
          </p:cNvSpPr>
          <p:nvPr>
            <p:ph/>
          </p:nvPr>
        </p:nvSpPr>
        <p:spPr>
          <a:xfrm>
            <a:off x="1706400" y="373824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15"/>
          <p:cNvSpPr>
            <a:spLocks noGrp="1"/>
          </p:cNvSpPr>
          <p:nvPr>
            <p:ph/>
          </p:nvPr>
        </p:nvSpPr>
        <p:spPr>
          <a:xfrm>
            <a:off x="2404800" y="37382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16"/>
          <p:cNvSpPr>
            <a:spLocks noGrp="1"/>
          </p:cNvSpPr>
          <p:nvPr>
            <p:ph/>
          </p:nvPr>
        </p:nvSpPr>
        <p:spPr>
          <a:xfrm>
            <a:off x="1643040" y="389700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7"/>
          <p:cNvSpPr>
            <a:spLocks noGrp="1"/>
          </p:cNvSpPr>
          <p:nvPr>
            <p:ph/>
          </p:nvPr>
        </p:nvSpPr>
        <p:spPr>
          <a:xfrm>
            <a:off x="2404800" y="389700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18"/>
          <p:cNvSpPr>
            <a:spLocks noGrp="1"/>
          </p:cNvSpPr>
          <p:nvPr>
            <p:ph/>
          </p:nvPr>
        </p:nvSpPr>
        <p:spPr>
          <a:xfrm>
            <a:off x="1658880" y="407952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19"/>
          <p:cNvSpPr>
            <a:spLocks noGrp="1"/>
          </p:cNvSpPr>
          <p:nvPr>
            <p:ph/>
          </p:nvPr>
        </p:nvSpPr>
        <p:spPr>
          <a:xfrm>
            <a:off x="2404800" y="407952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1039680"/>
            <a:ext cx="260676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54400" y="1039680"/>
            <a:ext cx="26128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111360" y="1023840"/>
            <a:ext cx="26370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72600" y="5199120"/>
            <a:ext cx="261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246480" y="5199120"/>
            <a:ext cx="26208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6103440" y="5183280"/>
            <a:ext cx="2644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130968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8"/>
          <p:cNvSpPr>
            <a:spLocks noGrp="1"/>
          </p:cNvSpPr>
          <p:nvPr>
            <p:ph/>
          </p:nvPr>
        </p:nvSpPr>
        <p:spPr>
          <a:xfrm>
            <a:off x="521496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103932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57640" y="1028880"/>
            <a:ext cx="240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4680" y="101880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6840" y="301572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2428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61192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376200" y="4978440"/>
            <a:ext cx="16956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8"/>
          <p:cNvSpPr>
            <a:spLocks noGrp="1"/>
          </p:cNvSpPr>
          <p:nvPr>
            <p:ph/>
          </p:nvPr>
        </p:nvSpPr>
        <p:spPr>
          <a:xfrm>
            <a:off x="2528640" y="4978440"/>
            <a:ext cx="16952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9"/>
          <p:cNvSpPr>
            <a:spLocks noGrp="1"/>
          </p:cNvSpPr>
          <p:nvPr>
            <p:ph/>
          </p:nvPr>
        </p:nvSpPr>
        <p:spPr>
          <a:xfrm>
            <a:off x="4692240" y="5000760"/>
            <a:ext cx="1693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0"/>
          <p:cNvSpPr>
            <a:spLocks noGrp="1"/>
          </p:cNvSpPr>
          <p:nvPr>
            <p:ph/>
          </p:nvPr>
        </p:nvSpPr>
        <p:spPr>
          <a:xfrm>
            <a:off x="6845040" y="4990680"/>
            <a:ext cx="169524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Tekstvak 2"/>
          <p:cNvSpPr/>
          <p:nvPr/>
        </p:nvSpPr>
        <p:spPr>
          <a:xfrm>
            <a:off x="365040" y="240984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vak 3"/>
          <p:cNvSpPr/>
          <p:nvPr/>
        </p:nvSpPr>
        <p:spPr>
          <a:xfrm>
            <a:off x="3236760" y="24084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4"/>
          <p:cNvSpPr/>
          <p:nvPr/>
        </p:nvSpPr>
        <p:spPr>
          <a:xfrm>
            <a:off x="6102360" y="240336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vak 6"/>
          <p:cNvSpPr/>
          <p:nvPr/>
        </p:nvSpPr>
        <p:spPr>
          <a:xfrm>
            <a:off x="360360" y="43848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vak 7"/>
          <p:cNvSpPr/>
          <p:nvPr/>
        </p:nvSpPr>
        <p:spPr>
          <a:xfrm>
            <a:off x="3232080" y="43830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kstvak 8"/>
          <p:cNvSpPr/>
          <p:nvPr/>
        </p:nvSpPr>
        <p:spPr>
          <a:xfrm>
            <a:off x="6099120" y="437832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vak 9"/>
          <p:cNvSpPr/>
          <p:nvPr/>
        </p:nvSpPr>
        <p:spPr>
          <a:xfrm>
            <a:off x="357120" y="635796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0"/>
          <p:cNvSpPr/>
          <p:nvPr/>
        </p:nvSpPr>
        <p:spPr>
          <a:xfrm>
            <a:off x="2514600" y="635472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11"/>
          <p:cNvSpPr/>
          <p:nvPr/>
        </p:nvSpPr>
        <p:spPr>
          <a:xfrm>
            <a:off x="4668840" y="6362640"/>
            <a:ext cx="14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vak 12"/>
          <p:cNvSpPr/>
          <p:nvPr/>
        </p:nvSpPr>
        <p:spPr>
          <a:xfrm>
            <a:off x="6818400" y="6353280"/>
            <a:ext cx="14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58920" y="800280"/>
          <a:ext cx="8497800" cy="295272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7756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ealiseren van innova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K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58920" y="3860640"/>
          <a:ext cx="8497800" cy="266724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3364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Versterken van innovatieverm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Voorwaar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80880" y="1039680"/>
            <a:ext cx="54770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20:10:14Z</dcterms:created>
  <dc:creator>ICT Afdeling</dc:creator>
  <dc:description/>
  <dc:language>en-US</dc:language>
  <cp:lastModifiedBy>ICT Afdeling</cp:lastModifiedBy>
  <dcterms:modified xsi:type="dcterms:W3CDTF">2009-02-28T20:15:33Z</dcterms:modified>
  <cp:revision>2</cp:revision>
  <dc:subject/>
  <dc:title>Dia 1</dc:title>
</cp:coreProperties>
</file>