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FB0E-0576-4FE3-9076-10F722638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4FC1-A504-49E2-91B6-0A912647F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C918-BD81-4D3E-83B8-67D4D40C9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33ED-7D04-4823-BC3A-97FFC38CC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6812-7159-454F-AD0C-87450C1249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D64AF-8CC4-4D1D-8505-090AAE97B5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96E8-5B37-4610-9806-0CBC14398A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71E70-A88B-4D6D-BFC5-C867EA5FC0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8F71F-2E16-422D-880E-AEC72080D8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F71E-AB57-4121-AE94-CC5E3A9A66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3C8AA-92E7-4BB3-93AD-D6061FFC52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1686-1C7D-4068-91FE-01148CDFF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92F7-871E-4331-A3EF-5A072A7BE3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9723-0F37-4811-8776-DD7BC1CABD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63F2-5613-4707-88B0-2C3A00A67C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A32E9-B7D3-4807-AF86-705C6D579D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CA20-5145-4CA5-B36E-44063F51ED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A6C-9CBC-4D06-8BFB-106CBACA6E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515-CFD1-4C1F-8713-9AF6CACD3E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EB1B-BB65-438C-B2D1-172BB9547D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ED1-8C2F-4ABC-A400-35787F9EE0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CDA-8A5E-45E4-B820-53253D00FD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D807-9FAB-47C8-8C18-61A40CD318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6EB-523A-48D5-8B92-44186E58EA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EF9-73DC-4293-B5A1-E216C94F65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EAA-EB6B-4CCF-9BBA-23EB95290A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443-E191-442D-A90E-29D002F47B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6E7-4029-49D9-8945-542A155ED0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7D6-5E2E-4219-840A-C05F555DC8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4E2-C6F8-4801-A956-F9E2E0842A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333D1-7673-459B-919D-D177899252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D962E-EE4C-44C7-8B42-E233F8FD21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19B22-30A3-4770-9410-D69F6B612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FCAC-9594-4559-B376-4B9C49D33A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167BA-E72B-40D4-9A7B-9A90B37D20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FB5D8-A3D9-419C-98F5-DEF955029E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678DF-B066-408C-BA96-D31C3C39ED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AD10E-33B2-486D-8242-01C661293C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BE35E-6EA2-49BC-BAA2-02175F5190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9A510-871E-48C5-B16F-CE21C0989A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F8A04-7F09-4CF8-B82D-8CF65E0A16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8F96E-888D-4067-B4EB-E9F304194E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9E2A6-1190-4FEB-9486-F9FC5933C65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E633B-AED5-46DA-846A-7B787203E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FF3C-05FF-4DB4-AB0C-711513115A3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FF7FA-77A9-44F0-838A-6EC0CFCD736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91642-AED3-4506-A4DD-9E24B6EF329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5FAC0-6DF6-4EAB-8671-1629A185121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05C09-E4C1-4918-BC62-D8A7D49505F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CC3BA-E2E4-40A5-8EEF-AEE852425D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5178C-FF91-480A-97E8-4BCA4AEAF13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DCFFD-A4B5-49A1-ACA1-E9296AA602B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79B27-1F9F-4C19-8AEF-0734195E935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F9702-9972-414D-B864-0ED684FC1B7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0579F-07EF-4593-A3B9-B68F2C19B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3E2C-889B-4D50-A250-29D22825ADE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826BC-B501-4929-8B4C-8192BDA135D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C22A-8190-4EEB-A0D2-33B0617BDB7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9F08-3B8B-45B5-B326-AD6FDC3576F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C519-D3E6-41E3-B454-018197ED3E2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3045-8B8B-4F04-BA20-CDE1A271A1A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CDFF-2181-4D8E-8CFF-CA9407576C6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30AF-3378-4DBB-A45C-5EC95E9DABB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2332-AEDE-49ED-B2FE-B0EB1126977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D4D3-0787-4DFA-94FD-870844ED4B4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DF83-72CC-4D91-97C0-6DCC322AB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8D9B-F171-463E-83FE-4A19C7A3B2B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E09C-9FB4-43FA-B759-34792F73826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88B3-60AC-4240-83B6-EE6C5B8B958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560C-818B-482E-80CF-8CD7A0EA94F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C56B27-20C6-48E5-A7B3-4DED33CA714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DEFBF0-4E87-4D43-B684-232E6DA4E08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10B4C2-38FD-4AFD-ABEF-78D280BF4A9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818874-3F56-4950-9B87-C92E32F5C42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E39E6E-B833-4A87-A80C-683CA69BCAE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A2FF92-1EF2-4E1B-BAF6-7A9FDC14E1E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7A152-6705-4C6C-A0BA-12BD2FD3F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9988-37C2-4CB5-85E8-01070906FFA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47EC9A-5F9E-47D5-B145-ECFE47060A3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DE813-6062-450C-9BA9-2BFAE1BC08F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B4070C-D1CC-4EB5-B33F-F9923EF9EC5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9874DF-5733-4E12-BE90-71DFFF1CC14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6E729D-AFE4-4F20-8CDA-8982BC5DE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5F21-E659-4E33-90FF-C1B85F7D8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6383-B7B9-4EE8-A414-01BBFA15FC10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ldNum" idx="2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4E25-3D0A-46B7-B5CC-B387EB1FBF5D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682452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4418-C898-43D8-9B4E-3DB95367D84B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Num" idx="3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B6B4-9AE9-4532-8964-5D88138DFB6E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Num" idx="4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4213-6972-45F3-BC8D-53FFAC4723FF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Num" idx="5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907D-B854-464A-B109-E7E83F5BC5F7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Num" idx="6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5F5C-9224-4FCC-8673-8CD98DD8B654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Num" idx="7"/>
          </p:nvPr>
        </p:nvSpPr>
        <p:spPr>
          <a:xfrm>
            <a:off x="681480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cfd0d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C83D-720E-411B-8482-866C553BF598}" type="slidenum"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&lt;number&gt;</a:t>
            </a:fld>
            <a:r>
              <a:rPr b="0" lang="nl-NL" sz="1000" spc="-1" strike="noStrike">
                <a:solidFill>
                  <a:srgbClr val="cfd0d2"/>
                </a:solidFill>
                <a:latin typeface="Lucida Sans Unicod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9280" y="1714320"/>
            <a:ext cx="264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De Nieuwe Koetsiers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Ronald Postma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020 7990941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06 27066656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19280" y="3261960"/>
            <a:ext cx="26434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Perry Smit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119280" y="4738320"/>
            <a:ext cx="26434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Lucida Sans Unicode"/>
              </a:rPr>
              <a:t>Schitterende nieuwe dienst die veel werkgelegenheid gaat opbleveren. 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Lucida Sans Unicode"/>
              </a:rPr>
              <a:t>Mooie’re en betere vervanging voor taxis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19280" y="6254640"/>
            <a:ext cx="26434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72960" y="1190160"/>
            <a:ext cx="19843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Vervoer van bejaarden met hun eigen auto. Geleverd door 65++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341440" y="1190160"/>
            <a:ext cx="19843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1500 ritten poer dag in 2009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9600" y="1214280"/>
            <a:ext cx="1984680" cy="11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- Via opdracht van verzekering gestart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778800" y="1214280"/>
            <a:ext cx="1984320" cy="11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Lucida Sans Unicode"/>
              </a:rPr>
              <a:t>Meerdere verzkeringen als opdrachtgever zien te kruijgen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72960" y="5357520"/>
            <a:ext cx="19843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Werken met techniek van filenetwerken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2341440" y="5357520"/>
            <a:ext cx="19843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4809600" y="5357520"/>
            <a:ext cx="198468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Lucida Sans Unicode"/>
              </a:rPr>
              <a:t>Ze hebben een schitterend systeem op de achtergrond, gemaat door een ondernemer (eenmanszaak)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8"/>
          <p:cNvSpPr>
            <a:spLocks noGrp="1"/>
          </p:cNvSpPr>
          <p:nvPr>
            <p:ph/>
          </p:nvPr>
        </p:nvSpPr>
        <p:spPr>
          <a:xfrm>
            <a:off x="6778800" y="5357520"/>
            <a:ext cx="19843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Lucida Sans Unicode"/>
              </a:rPr>
              <a:t>Ze willen een betere backupo voor hun software. Wat te doen als de maker van de software weg valt.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9"/>
          <p:cNvSpPr>
            <a:spLocks noGrp="1"/>
          </p:cNvSpPr>
          <p:nvPr>
            <p:ph/>
          </p:nvPr>
        </p:nvSpPr>
        <p:spPr>
          <a:xfrm>
            <a:off x="3071880" y="2801880"/>
            <a:ext cx="457200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Binnen nu en 2 jaar 1500 ritten per dag voor bejaarden regelen</a:t>
            </a:r>
            <a:endParaRPr b="0" lang="en-US" sz="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10"/>
          <p:cNvSpPr>
            <a:spLocks noGrp="1"/>
          </p:cNvSpPr>
          <p:nvPr>
            <p:ph/>
          </p:nvPr>
        </p:nvSpPr>
        <p:spPr>
          <a:xfrm>
            <a:off x="1714320" y="338904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11"/>
          <p:cNvSpPr>
            <a:spLocks noGrp="1"/>
          </p:cNvSpPr>
          <p:nvPr>
            <p:ph/>
          </p:nvPr>
        </p:nvSpPr>
        <p:spPr>
          <a:xfrm>
            <a:off x="2412720" y="338904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12"/>
          <p:cNvSpPr>
            <a:spLocks noGrp="1"/>
          </p:cNvSpPr>
          <p:nvPr>
            <p:ph/>
          </p:nvPr>
        </p:nvSpPr>
        <p:spPr>
          <a:xfrm>
            <a:off x="1714320" y="356364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13"/>
          <p:cNvSpPr>
            <a:spLocks noGrp="1"/>
          </p:cNvSpPr>
          <p:nvPr>
            <p:ph/>
          </p:nvPr>
        </p:nvSpPr>
        <p:spPr>
          <a:xfrm>
            <a:off x="2412720" y="356364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14"/>
          <p:cNvSpPr>
            <a:spLocks noGrp="1"/>
          </p:cNvSpPr>
          <p:nvPr>
            <p:ph/>
          </p:nvPr>
        </p:nvSpPr>
        <p:spPr>
          <a:xfrm>
            <a:off x="1706400" y="3738240"/>
            <a:ext cx="60336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15"/>
          <p:cNvSpPr>
            <a:spLocks noGrp="1"/>
          </p:cNvSpPr>
          <p:nvPr>
            <p:ph/>
          </p:nvPr>
        </p:nvSpPr>
        <p:spPr>
          <a:xfrm>
            <a:off x="2404800" y="373824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16"/>
          <p:cNvSpPr>
            <a:spLocks noGrp="1"/>
          </p:cNvSpPr>
          <p:nvPr>
            <p:ph/>
          </p:nvPr>
        </p:nvSpPr>
        <p:spPr>
          <a:xfrm>
            <a:off x="1643040" y="3897000"/>
            <a:ext cx="60336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17"/>
          <p:cNvSpPr>
            <a:spLocks noGrp="1"/>
          </p:cNvSpPr>
          <p:nvPr>
            <p:ph/>
          </p:nvPr>
        </p:nvSpPr>
        <p:spPr>
          <a:xfrm>
            <a:off x="2404800" y="389700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18"/>
          <p:cNvSpPr>
            <a:spLocks noGrp="1"/>
          </p:cNvSpPr>
          <p:nvPr>
            <p:ph/>
          </p:nvPr>
        </p:nvSpPr>
        <p:spPr>
          <a:xfrm>
            <a:off x="1658880" y="4079520"/>
            <a:ext cx="60336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19"/>
          <p:cNvSpPr>
            <a:spLocks noGrp="1"/>
          </p:cNvSpPr>
          <p:nvPr>
            <p:ph/>
          </p:nvPr>
        </p:nvSpPr>
        <p:spPr>
          <a:xfrm>
            <a:off x="2404800" y="4079520"/>
            <a:ext cx="60300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80520" y="1039680"/>
            <a:ext cx="260676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254400" y="1039680"/>
            <a:ext cx="261288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111360" y="1023840"/>
            <a:ext cx="263700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72600" y="5199120"/>
            <a:ext cx="261468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246480" y="5199120"/>
            <a:ext cx="262080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6103440" y="5183280"/>
            <a:ext cx="264492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1309680" y="3174480"/>
            <a:ext cx="261936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8"/>
          <p:cNvSpPr>
            <a:spLocks noGrp="1"/>
          </p:cNvSpPr>
          <p:nvPr>
            <p:ph/>
          </p:nvPr>
        </p:nvSpPr>
        <p:spPr>
          <a:xfrm>
            <a:off x="5214960" y="3174480"/>
            <a:ext cx="261936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80520" y="1039320"/>
            <a:ext cx="240516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257640" y="1028880"/>
            <a:ext cx="240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4680" y="1018800"/>
            <a:ext cx="240480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6840" y="3015720"/>
            <a:ext cx="240480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3242880" y="3006360"/>
            <a:ext cx="240516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6119280" y="3006360"/>
            <a:ext cx="240516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376200" y="4978440"/>
            <a:ext cx="16956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8"/>
          <p:cNvSpPr>
            <a:spLocks noGrp="1"/>
          </p:cNvSpPr>
          <p:nvPr>
            <p:ph/>
          </p:nvPr>
        </p:nvSpPr>
        <p:spPr>
          <a:xfrm>
            <a:off x="2528640" y="4978440"/>
            <a:ext cx="169524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9"/>
          <p:cNvSpPr>
            <a:spLocks noGrp="1"/>
          </p:cNvSpPr>
          <p:nvPr>
            <p:ph/>
          </p:nvPr>
        </p:nvSpPr>
        <p:spPr>
          <a:xfrm>
            <a:off x="4692240" y="5000760"/>
            <a:ext cx="1693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10"/>
          <p:cNvSpPr>
            <a:spLocks noGrp="1"/>
          </p:cNvSpPr>
          <p:nvPr>
            <p:ph/>
          </p:nvPr>
        </p:nvSpPr>
        <p:spPr>
          <a:xfrm>
            <a:off x="6845040" y="4990680"/>
            <a:ext cx="169524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Tekstvak 2"/>
          <p:cNvSpPr/>
          <p:nvPr/>
        </p:nvSpPr>
        <p:spPr>
          <a:xfrm>
            <a:off x="365040" y="240984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kstvak 3"/>
          <p:cNvSpPr/>
          <p:nvPr/>
        </p:nvSpPr>
        <p:spPr>
          <a:xfrm>
            <a:off x="3236760" y="240840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4"/>
          <p:cNvSpPr/>
          <p:nvPr/>
        </p:nvSpPr>
        <p:spPr>
          <a:xfrm>
            <a:off x="6102360" y="240336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kstvak 6"/>
          <p:cNvSpPr/>
          <p:nvPr/>
        </p:nvSpPr>
        <p:spPr>
          <a:xfrm>
            <a:off x="360360" y="438480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kstvak 7"/>
          <p:cNvSpPr/>
          <p:nvPr/>
        </p:nvSpPr>
        <p:spPr>
          <a:xfrm>
            <a:off x="3232080" y="438300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kstvak 8"/>
          <p:cNvSpPr/>
          <p:nvPr/>
        </p:nvSpPr>
        <p:spPr>
          <a:xfrm>
            <a:off x="6099120" y="437832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kstvak 9"/>
          <p:cNvSpPr/>
          <p:nvPr/>
        </p:nvSpPr>
        <p:spPr>
          <a:xfrm>
            <a:off x="357120" y="6357960"/>
            <a:ext cx="142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10"/>
          <p:cNvSpPr/>
          <p:nvPr/>
        </p:nvSpPr>
        <p:spPr>
          <a:xfrm>
            <a:off x="2514600" y="6354720"/>
            <a:ext cx="142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11"/>
          <p:cNvSpPr/>
          <p:nvPr/>
        </p:nvSpPr>
        <p:spPr>
          <a:xfrm>
            <a:off x="4668840" y="6362640"/>
            <a:ext cx="141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kstvak 12"/>
          <p:cNvSpPr/>
          <p:nvPr/>
        </p:nvSpPr>
        <p:spPr>
          <a:xfrm>
            <a:off x="6818400" y="6353280"/>
            <a:ext cx="142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32219"/>
                </a:solidFill>
                <a:latin typeface="Lucida Sans Unicode"/>
              </a:rPr>
              <a:t>Goed / Moet b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358920" y="800280"/>
          <a:ext cx="8497800" cy="2952720"/>
        </p:xfrm>
        <a:graphic>
          <a:graphicData uri="http://schemas.openxmlformats.org/drawingml/2006/table">
            <a:tbl>
              <a:tblPr/>
              <a:tblGrid>
                <a:gridCol w="1417320"/>
                <a:gridCol w="1633680"/>
                <a:gridCol w="2941560"/>
                <a:gridCol w="1414440"/>
                <a:gridCol w="1090800"/>
              </a:tblGrid>
              <a:tr h="277560">
                <a:tc gridSpan="5"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ffffff"/>
                          </a:solidFill>
                          <a:latin typeface="Lucida Sans Unicode"/>
                          <a:ea typeface="Lucida Sans Unicode"/>
                        </a:rPr>
                        <a:t>Realiseren van innova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e3221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48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Ka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Doelstell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Ac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Wie doet w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44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428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58920" y="3860640"/>
          <a:ext cx="8497800" cy="2667240"/>
        </p:xfrm>
        <a:graphic>
          <a:graphicData uri="http://schemas.openxmlformats.org/drawingml/2006/table">
            <a:tbl>
              <a:tblPr/>
              <a:tblGrid>
                <a:gridCol w="1417320"/>
                <a:gridCol w="1633680"/>
                <a:gridCol w="2941560"/>
                <a:gridCol w="1414440"/>
                <a:gridCol w="1090800"/>
              </a:tblGrid>
              <a:tr h="233640">
                <a:tc gridSpan="5"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ffffff"/>
                          </a:solidFill>
                          <a:latin typeface="Lucida Sans Unicode"/>
                          <a:ea typeface="Lucida Sans Unicode"/>
                        </a:rPr>
                        <a:t>Versterken van innovatievermo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e3221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Voorwaar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Doelstell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Ac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Wie doet w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Lucida Sans Unicode"/>
                          <a:ea typeface="Lucida Sans Unicode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08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8000" tIns="54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8000">
                    <a:lnL w="9360">
                      <a:solidFill>
                        <a:srgbClr val="e32219"/>
                      </a:solidFill>
                    </a:lnL>
                    <a:lnR w="9360">
                      <a:solidFill>
                        <a:srgbClr val="e32219"/>
                      </a:solidFill>
                    </a:lnR>
                    <a:lnT w="9360">
                      <a:solidFill>
                        <a:srgbClr val="e32219"/>
                      </a:solidFill>
                    </a:lnT>
                    <a:lnB w="9360">
                      <a:solidFill>
                        <a:srgbClr val="e3221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80880" y="1039680"/>
            <a:ext cx="547704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20:10:14Z</dcterms:created>
  <dc:creator>ICT Afdeling</dc:creator>
  <dc:description/>
  <dc:language>en-US</dc:language>
  <cp:lastModifiedBy>ICT Afdeling</cp:lastModifiedBy>
  <dcterms:modified xsi:type="dcterms:W3CDTF">2009-02-28T20:15:33Z</dcterms:modified>
  <cp:revision>2</cp:revision>
  <dc:subject/>
  <dc:title>Dia 1</dc:title>
</cp:coreProperties>
</file>