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7E6620-448F-4676-9FC3-6F89755EFA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76C791-20DE-4132-8989-DB6AF11009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583BDD-725C-457A-A24A-CD41E37B37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BD6F45-A58E-4CBB-A2C0-17DA2A8D28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8957AE-F4B7-404A-9352-047E2D415CB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2D9A5D-4302-4F8B-B218-03E3D9E857A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295570-EE28-4755-8B08-B812E8FE868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C3126D-9EF6-4C4F-9580-A7E3EDEAAC6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9E047A-725E-4777-A1DF-CF9114EAFF7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17F9DF-4379-49F6-9257-B3277E74A62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FC4428-FE01-45B8-880E-E918C01A3C2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EB4415-5E0F-46FC-995E-AE55D902A8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E12192-AAC9-4D9D-880D-C16781B8660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DAEECC-A59E-4B0B-845C-337179413F1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C0F3F0-0E90-40A0-B63F-45B731D93FD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055A4A-2E80-4FDB-AE1E-9722839FF1B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9B16FF-9D3C-4504-BEF3-33575FD0C966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9DCDC-62AA-4934-9097-948EE0ADFE7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E2D62-A086-46E5-A684-EA998DB0077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86E85-36EF-4CF8-B77D-E15916AEA6C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73A84-EF9C-485E-AE81-014025865D9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8DB9E-9B6A-4904-A103-69136BDC861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7DDC47-584D-4C75-8944-4C0AEA1D905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031FD-F06C-4D0D-AAB3-07A89B2EC70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E72FC-8BA7-4CF1-BAE4-9788C2A619A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9D873-9C43-4157-B6DE-6660D60E018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1E34D-BE7E-4BB4-8395-C5ADE38C4A3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279D2-167B-4E21-9B6C-059927001C0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E9905-82B7-4885-87FE-DDEB7B54836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1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90F77-90CA-462F-85AB-D1EEA13BAC4A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61FB82-BEEB-4F84-8740-FFCE66724098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725250-9784-4013-AE64-493C77B611B5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92548E-0BAC-4D2F-95F2-A01F062EFA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8AAB6F-57F0-4B86-B75B-07411CD44C01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58C8BF-825B-4B4D-9659-2FA88F2B8B3D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CE479E-2910-4017-A6FD-806C2957F9AB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BCD6C3-A9B7-4D05-821C-57BBF43623AD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E332D7-C9C0-4F66-A453-E8E000EBB82E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5232DD-0A5E-4DF5-A3B6-D8A21EB83439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67CB07-D892-44B5-9BE2-23950FA3B89D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D4283A-AA03-406E-803D-83516BA5A8DB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C9F501-3E37-4A67-9DEF-516CF33A52CF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C03618-8F99-4221-8626-FD7FFD21F0D8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208AE0-7718-4C63-A167-202589DA95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75C719-E6B2-4F7A-813F-9447DE806E43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CECD3C-0488-4AEC-B41C-9997FFBAF7B6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09DB32-8DB0-414A-891A-5413CDF1BB60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4DCD8D-1409-4D7C-BEBE-479DB1FEB2FF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9EB574-886A-4205-BBA7-765569EA203B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B84727-74FF-42C3-B323-4A378D00BD8A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ABCD33-9058-4EB4-A6DA-A0418726BF5D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238A77-FF6C-4210-A364-4F3A0C775FC8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002EF3-935E-43BA-9680-D619F67CFCE7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EB9D7A-A220-463F-A66E-B07911279651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C29222-0FCC-4978-A7A9-FBF8251028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FD53AD-C1F6-404E-815E-BFA39872848E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EAA05C-EC94-41E2-9470-769C55B52B54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E4F4A-A984-4F33-A27C-4F558B54F446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E0485-DE89-43AD-850B-9EBC4647C675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2B0E8-D232-4966-AAA4-D69A956AB13E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6423F-40A8-4AD2-8928-BABCBC0FC0A2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99251-BB68-4513-9C5D-1B47CC451F51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F933C-1E6B-43A5-9D7C-A50AEA187315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397D0-C37A-4333-9868-73DA0DA41BE9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96E3E-7852-4354-8FD2-760A59E5E345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7E6D9-D16C-49AC-9F92-94D7274E42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E41208-8A2D-4E37-ADDB-6E747242AD5A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E5A20-F171-4094-93E8-FB4509D11756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BBD55-1728-41D5-9837-0E36F38644EF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A2B4E-3391-4468-B700-F57C5B232615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A91E248-43A5-49A7-A100-D5B0DDC5C4F6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065D0E9-E600-4AE3-A6D9-23574D5F655C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EEE8E2B-C19C-4A58-BDCA-795D614F1228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D57E877-2C1D-4183-AB67-B08AEF7DAE31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3F84972-5173-460A-B1E0-A0693B19E7E6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DA03821-34B4-499F-8083-D10877444627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AFDB4ED-98A8-44DE-B592-C91174EC8B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F934AA-616F-493E-AC36-06E217EE5923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CC6E640-C7E1-4F8B-BE48-BC9602749260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9E52C82-46F3-4B77-A0D4-ED0F31C01FEC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99C002E-1198-4F41-B304-670F70AC32B9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993128B-E63E-402F-8645-FA29D8C249A3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2973622-B455-4339-A639-9B79A2656A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1672FF-DFB6-4B0B-A93E-8141519346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6814800" y="6539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cfd0d2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B5143-6DC4-4799-A4C1-84CA0D2723C1}" type="slidenum">
              <a:rPr b="0" lang="nl-NL" sz="1000" spc="-1" strike="noStrike">
                <a:solidFill>
                  <a:srgbClr val="cfd0d2"/>
                </a:solidFill>
                <a:latin typeface="Lucida Sans Unicode"/>
              </a:rPr>
              <a:t>&lt;number&gt;</a:t>
            </a:fld>
            <a:r>
              <a:rPr b="0" lang="nl-NL" sz="1000" spc="-1" strike="noStrike">
                <a:solidFill>
                  <a:srgbClr val="cfd0d2"/>
                </a:solidFill>
                <a:latin typeface="Lucida Sans Unicode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ldNum" idx="2"/>
          </p:nvPr>
        </p:nvSpPr>
        <p:spPr>
          <a:xfrm>
            <a:off x="6814800" y="6539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cfd0d2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B4E28-EC80-447C-AC1C-2C73A1481273}" type="slidenum">
              <a:rPr b="0" lang="nl-NL" sz="1000" spc="-1" strike="noStrike">
                <a:solidFill>
                  <a:srgbClr val="cfd0d2"/>
                </a:solidFill>
                <a:latin typeface="Lucida Sans Unicode"/>
              </a:rPr>
              <a:t>&lt;number&gt;</a:t>
            </a:fld>
            <a:r>
              <a:rPr b="0" lang="nl-NL" sz="1000" spc="-1" strike="noStrike">
                <a:solidFill>
                  <a:srgbClr val="cfd0d2"/>
                </a:solidFill>
                <a:latin typeface="Lucida Sans Unicode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ijdelijke aanduiding voor dianummer 5"/>
          <p:cNvSpPr/>
          <p:nvPr/>
        </p:nvSpPr>
        <p:spPr>
          <a:xfrm>
            <a:off x="6824520" y="6539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243E9-709C-4739-82B3-13D682740CD5}" type="slidenum">
              <a:rPr b="0" lang="nl-NL" sz="1000" spc="-1" strike="noStrike">
                <a:solidFill>
                  <a:srgbClr val="cfd0d2"/>
                </a:solidFill>
                <a:latin typeface="Lucida Sans Unicode"/>
              </a:rPr>
              <a:t>&lt;number&gt;</a:t>
            </a:fld>
            <a:r>
              <a:rPr b="0" lang="nl-NL" sz="1000" spc="-1" strike="noStrike">
                <a:solidFill>
                  <a:srgbClr val="cfd0d2"/>
                </a:solidFill>
                <a:latin typeface="Lucida Sans Unicode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Num" idx="3"/>
          </p:nvPr>
        </p:nvSpPr>
        <p:spPr>
          <a:xfrm>
            <a:off x="6814800" y="6539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cfd0d2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C5E7A-3252-4904-91F6-A0FFE360B8EE}" type="slidenum">
              <a:rPr b="0" lang="nl-NL" sz="1000" spc="-1" strike="noStrike">
                <a:solidFill>
                  <a:srgbClr val="cfd0d2"/>
                </a:solidFill>
                <a:latin typeface="Lucida Sans Unicode"/>
              </a:rPr>
              <a:t>&lt;number&gt;</a:t>
            </a:fld>
            <a:r>
              <a:rPr b="0" lang="nl-NL" sz="1000" spc="-1" strike="noStrike">
                <a:solidFill>
                  <a:srgbClr val="cfd0d2"/>
                </a:solidFill>
                <a:latin typeface="Lucida Sans Unicode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Num" idx="4"/>
          </p:nvPr>
        </p:nvSpPr>
        <p:spPr>
          <a:xfrm>
            <a:off x="6814800" y="6539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cfd0d2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F3E01-C0B5-45C9-8B07-1979842DAAD9}" type="slidenum">
              <a:rPr b="0" lang="nl-NL" sz="1000" spc="-1" strike="noStrike">
                <a:solidFill>
                  <a:srgbClr val="cfd0d2"/>
                </a:solidFill>
                <a:latin typeface="Lucida Sans Unicode"/>
              </a:rPr>
              <a:t>&lt;number&gt;</a:t>
            </a:fld>
            <a:r>
              <a:rPr b="0" lang="nl-NL" sz="1000" spc="-1" strike="noStrike">
                <a:solidFill>
                  <a:srgbClr val="cfd0d2"/>
                </a:solidFill>
                <a:latin typeface="Lucida Sans Unicode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Num" idx="5"/>
          </p:nvPr>
        </p:nvSpPr>
        <p:spPr>
          <a:xfrm>
            <a:off x="6814800" y="6539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cfd0d2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2FEB3-1E6C-4720-AF48-2CA71A4AF83B}" type="slidenum">
              <a:rPr b="0" lang="nl-NL" sz="1000" spc="-1" strike="noStrike">
                <a:solidFill>
                  <a:srgbClr val="cfd0d2"/>
                </a:solidFill>
                <a:latin typeface="Lucida Sans Unicode"/>
              </a:rPr>
              <a:t>&lt;number&gt;</a:t>
            </a:fld>
            <a:r>
              <a:rPr b="0" lang="nl-NL" sz="1000" spc="-1" strike="noStrike">
                <a:solidFill>
                  <a:srgbClr val="cfd0d2"/>
                </a:solidFill>
                <a:latin typeface="Lucida Sans Unicode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Num" idx="6"/>
          </p:nvPr>
        </p:nvSpPr>
        <p:spPr>
          <a:xfrm>
            <a:off x="6814800" y="6539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cfd0d2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EF87B-1129-43A2-9ED0-4C081E1A73F7}" type="slidenum">
              <a:rPr b="0" lang="nl-NL" sz="1000" spc="-1" strike="noStrike">
                <a:solidFill>
                  <a:srgbClr val="cfd0d2"/>
                </a:solidFill>
                <a:latin typeface="Lucida Sans Unicode"/>
              </a:rPr>
              <a:t>&lt;number&gt;</a:t>
            </a:fld>
            <a:r>
              <a:rPr b="0" lang="nl-NL" sz="1000" spc="-1" strike="noStrike">
                <a:solidFill>
                  <a:srgbClr val="cfd0d2"/>
                </a:solidFill>
                <a:latin typeface="Lucida Sans Unicode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Num" idx="7"/>
          </p:nvPr>
        </p:nvSpPr>
        <p:spPr>
          <a:xfrm>
            <a:off x="6814800" y="6539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cfd0d2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287D7-DCE0-40EA-A325-2340889D1324}" type="slidenum">
              <a:rPr b="0" lang="nl-NL" sz="1000" spc="-1" strike="noStrike">
                <a:solidFill>
                  <a:srgbClr val="cfd0d2"/>
                </a:solidFill>
                <a:latin typeface="Lucida Sans Unicode"/>
              </a:rPr>
              <a:t>&lt;number&gt;</a:t>
            </a:fld>
            <a:r>
              <a:rPr b="0" lang="nl-NL" sz="1000" spc="-1" strike="noStrike">
                <a:solidFill>
                  <a:srgbClr val="cfd0d2"/>
                </a:solidFill>
                <a:latin typeface="Lucida Sans Unicode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/>
          </p:nvPr>
        </p:nvSpPr>
        <p:spPr>
          <a:xfrm>
            <a:off x="6119280" y="1714320"/>
            <a:ext cx="2643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784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Sans Unicode"/>
              </a:rPr>
              <a:t>De Nieuwe Koetsiers</a:t>
            </a:r>
            <a:endParaRPr b="0" lang="en-US" sz="800" spc="-1" strike="noStrike">
              <a:solidFill>
                <a:srgbClr val="ffffff"/>
              </a:solidFill>
              <a:latin typeface="Lucida Sans Unicode"/>
            </a:endParaRPr>
          </a:p>
          <a:p>
            <a:pPr marL="17784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Sans Unicode"/>
              </a:rPr>
              <a:t>Ronald Postma</a:t>
            </a:r>
            <a:endParaRPr b="0" lang="en-US" sz="800" spc="-1" strike="noStrike">
              <a:solidFill>
                <a:srgbClr val="ffffff"/>
              </a:solidFill>
              <a:latin typeface="Lucida Sans Unicode"/>
            </a:endParaRPr>
          </a:p>
          <a:p>
            <a:pPr marL="17784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Sans Unicode"/>
              </a:rPr>
              <a:t>020 7990941</a:t>
            </a:r>
            <a:endParaRPr b="0" lang="en-US" sz="800" spc="-1" strike="noStrike">
              <a:solidFill>
                <a:srgbClr val="ffffff"/>
              </a:solidFill>
              <a:latin typeface="Lucida Sans Unicode"/>
            </a:endParaRPr>
          </a:p>
          <a:p>
            <a:pPr marL="17784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Sans Unicode"/>
              </a:rPr>
              <a:t>06 27066656</a:t>
            </a:r>
            <a:endParaRPr b="0" lang="en-US" sz="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119280" y="3261960"/>
            <a:ext cx="2643480" cy="10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784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Sans Unicode"/>
              </a:rPr>
              <a:t>Perry Smit</a:t>
            </a:r>
            <a:endParaRPr b="0" lang="en-US" sz="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6119280" y="4738320"/>
            <a:ext cx="2643480" cy="10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7840" indent="-177840">
              <a:spcBef>
                <a:spcPts val="201"/>
              </a:spcBef>
              <a:buClr>
                <a:srgbClr val="000000"/>
              </a:buClr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Lucida Sans Unicode"/>
              </a:rPr>
              <a:t>Schitterende nieuwe dienst die veel werkgelegenheid gaat opbleveren. </a:t>
            </a:r>
            <a:endParaRPr b="0" lang="en-US" sz="800" spc="-1" strike="noStrike">
              <a:solidFill>
                <a:srgbClr val="ffffff"/>
              </a:solidFill>
              <a:latin typeface="Lucida Sans Unicode"/>
            </a:endParaRPr>
          </a:p>
          <a:p>
            <a:pPr marL="177840" indent="-177840">
              <a:spcBef>
                <a:spcPts val="201"/>
              </a:spcBef>
              <a:buClr>
                <a:srgbClr val="000000"/>
              </a:buClr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Lucida Sans Unicode"/>
              </a:rPr>
              <a:t>Mooie’re en betere vervanging voor taxis</a:t>
            </a:r>
            <a:endParaRPr b="0" lang="en-US" sz="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119280" y="6254640"/>
            <a:ext cx="2643480" cy="28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/>
          </p:nvPr>
        </p:nvSpPr>
        <p:spPr>
          <a:xfrm>
            <a:off x="372960" y="1190160"/>
            <a:ext cx="1984320" cy="116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784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Sans Unicode"/>
              </a:rPr>
              <a:t>Vervoer van bejaarden met hun eigen auto. Geleverd door 65++</a:t>
            </a:r>
            <a:endParaRPr b="0" lang="en-US" sz="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2341440" y="1190160"/>
            <a:ext cx="1984320" cy="116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784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Sans Unicode"/>
              </a:rPr>
              <a:t>1500 ritten poer dag in 2009</a:t>
            </a:r>
            <a:endParaRPr b="0" lang="en-US" sz="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809600" y="1214280"/>
            <a:ext cx="1984680" cy="116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784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Sans Unicode"/>
              </a:rPr>
              <a:t>- Via opdracht van verzekering gestart</a:t>
            </a:r>
            <a:endParaRPr b="0" lang="en-US" sz="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778800" y="1214280"/>
            <a:ext cx="1984320" cy="116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784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Lucida Sans Unicode"/>
              </a:rPr>
              <a:t>Meerdere verzkeringen als opdrachtgever zien te kruijgen</a:t>
            </a:r>
            <a:endParaRPr b="0" lang="en-US" sz="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372960" y="5357520"/>
            <a:ext cx="1984320" cy="116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784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Sans Unicode"/>
              </a:rPr>
              <a:t>Werken met techniek van filenetwerken</a:t>
            </a:r>
            <a:endParaRPr b="0" lang="en-US" sz="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2341440" y="5357520"/>
            <a:ext cx="1984320" cy="11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4809600" y="5357520"/>
            <a:ext cx="1984680" cy="116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784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Lucida Sans Unicode"/>
              </a:rPr>
              <a:t>Ze hebben een schitterend systeem op de achtergrond, gemaat door een ondernemer (eenmanszaak)</a:t>
            </a:r>
            <a:endParaRPr b="0" lang="en-US" sz="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1" name="PlaceHolder 8"/>
          <p:cNvSpPr>
            <a:spLocks noGrp="1"/>
          </p:cNvSpPr>
          <p:nvPr>
            <p:ph/>
          </p:nvPr>
        </p:nvSpPr>
        <p:spPr>
          <a:xfrm>
            <a:off x="6778800" y="5357520"/>
            <a:ext cx="1984320" cy="116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784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Lucida Sans Unicode"/>
              </a:rPr>
              <a:t>Ze willen een betere backupo voor hun software. Wat te doen als de maker van de software weg valt.</a:t>
            </a:r>
            <a:endParaRPr b="0" lang="en-US" sz="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2" name="PlaceHolder 9"/>
          <p:cNvSpPr>
            <a:spLocks noGrp="1"/>
          </p:cNvSpPr>
          <p:nvPr>
            <p:ph/>
          </p:nvPr>
        </p:nvSpPr>
        <p:spPr>
          <a:xfrm>
            <a:off x="3071880" y="2801880"/>
            <a:ext cx="4572000" cy="19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784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Sans Unicode"/>
              </a:rPr>
              <a:t>Binnen nu en 2 jaar 1500 ritten per dag voor bejaarden regelen</a:t>
            </a:r>
            <a:endParaRPr b="0" lang="en-US" sz="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3" name="PlaceHolder 10"/>
          <p:cNvSpPr>
            <a:spLocks noGrp="1"/>
          </p:cNvSpPr>
          <p:nvPr>
            <p:ph/>
          </p:nvPr>
        </p:nvSpPr>
        <p:spPr>
          <a:xfrm>
            <a:off x="1714320" y="3389040"/>
            <a:ext cx="603000" cy="12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4" name="PlaceHolder 11"/>
          <p:cNvSpPr>
            <a:spLocks noGrp="1"/>
          </p:cNvSpPr>
          <p:nvPr>
            <p:ph/>
          </p:nvPr>
        </p:nvSpPr>
        <p:spPr>
          <a:xfrm>
            <a:off x="2412720" y="3389040"/>
            <a:ext cx="603000" cy="12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12"/>
          <p:cNvSpPr>
            <a:spLocks noGrp="1"/>
          </p:cNvSpPr>
          <p:nvPr>
            <p:ph/>
          </p:nvPr>
        </p:nvSpPr>
        <p:spPr>
          <a:xfrm>
            <a:off x="1714320" y="3563640"/>
            <a:ext cx="603000" cy="12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13"/>
          <p:cNvSpPr>
            <a:spLocks noGrp="1"/>
          </p:cNvSpPr>
          <p:nvPr>
            <p:ph/>
          </p:nvPr>
        </p:nvSpPr>
        <p:spPr>
          <a:xfrm>
            <a:off x="2412720" y="3563640"/>
            <a:ext cx="603000" cy="12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14"/>
          <p:cNvSpPr>
            <a:spLocks noGrp="1"/>
          </p:cNvSpPr>
          <p:nvPr>
            <p:ph/>
          </p:nvPr>
        </p:nvSpPr>
        <p:spPr>
          <a:xfrm>
            <a:off x="1706400" y="3738240"/>
            <a:ext cx="603360" cy="12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15"/>
          <p:cNvSpPr>
            <a:spLocks noGrp="1"/>
          </p:cNvSpPr>
          <p:nvPr>
            <p:ph/>
          </p:nvPr>
        </p:nvSpPr>
        <p:spPr>
          <a:xfrm>
            <a:off x="2404800" y="3738240"/>
            <a:ext cx="603000" cy="12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16"/>
          <p:cNvSpPr>
            <a:spLocks noGrp="1"/>
          </p:cNvSpPr>
          <p:nvPr>
            <p:ph/>
          </p:nvPr>
        </p:nvSpPr>
        <p:spPr>
          <a:xfrm>
            <a:off x="1643040" y="3897000"/>
            <a:ext cx="603360" cy="12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0" name="PlaceHolder 17"/>
          <p:cNvSpPr>
            <a:spLocks noGrp="1"/>
          </p:cNvSpPr>
          <p:nvPr>
            <p:ph/>
          </p:nvPr>
        </p:nvSpPr>
        <p:spPr>
          <a:xfrm>
            <a:off x="2404800" y="3897000"/>
            <a:ext cx="603000" cy="12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1" name="PlaceHolder 18"/>
          <p:cNvSpPr>
            <a:spLocks noGrp="1"/>
          </p:cNvSpPr>
          <p:nvPr>
            <p:ph/>
          </p:nvPr>
        </p:nvSpPr>
        <p:spPr>
          <a:xfrm>
            <a:off x="1658880" y="4079520"/>
            <a:ext cx="603360" cy="12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19"/>
          <p:cNvSpPr>
            <a:spLocks noGrp="1"/>
          </p:cNvSpPr>
          <p:nvPr>
            <p:ph/>
          </p:nvPr>
        </p:nvSpPr>
        <p:spPr>
          <a:xfrm>
            <a:off x="2404800" y="4079520"/>
            <a:ext cx="603000" cy="12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/>
          </p:nvPr>
        </p:nvSpPr>
        <p:spPr>
          <a:xfrm>
            <a:off x="380520" y="1039680"/>
            <a:ext cx="2606760" cy="13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254400" y="1039680"/>
            <a:ext cx="2612880" cy="13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6111360" y="1023840"/>
            <a:ext cx="2637000" cy="13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372600" y="5199120"/>
            <a:ext cx="2614680" cy="13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3246480" y="5199120"/>
            <a:ext cx="2620800" cy="13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6103440" y="5183280"/>
            <a:ext cx="2644920" cy="13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1309680" y="3174480"/>
            <a:ext cx="2619360" cy="131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0" name="PlaceHolder 8"/>
          <p:cNvSpPr>
            <a:spLocks noGrp="1"/>
          </p:cNvSpPr>
          <p:nvPr>
            <p:ph/>
          </p:nvPr>
        </p:nvSpPr>
        <p:spPr>
          <a:xfrm>
            <a:off x="5214960" y="3174480"/>
            <a:ext cx="2619360" cy="131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/>
          </p:nvPr>
        </p:nvSpPr>
        <p:spPr>
          <a:xfrm>
            <a:off x="380520" y="1039320"/>
            <a:ext cx="2405160" cy="13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3257640" y="1028880"/>
            <a:ext cx="2404800" cy="138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4680" y="1018800"/>
            <a:ext cx="2404800" cy="13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366840" y="3015720"/>
            <a:ext cx="2404800" cy="13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3242880" y="3006360"/>
            <a:ext cx="2405160" cy="13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/>
          </p:nvPr>
        </p:nvSpPr>
        <p:spPr>
          <a:xfrm>
            <a:off x="6119280" y="3006360"/>
            <a:ext cx="2405160" cy="13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7"/>
          <p:cNvSpPr>
            <a:spLocks noGrp="1"/>
          </p:cNvSpPr>
          <p:nvPr>
            <p:ph/>
          </p:nvPr>
        </p:nvSpPr>
        <p:spPr>
          <a:xfrm>
            <a:off x="376200" y="4978440"/>
            <a:ext cx="1695600" cy="138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8" name="PlaceHolder 8"/>
          <p:cNvSpPr>
            <a:spLocks noGrp="1"/>
          </p:cNvSpPr>
          <p:nvPr>
            <p:ph/>
          </p:nvPr>
        </p:nvSpPr>
        <p:spPr>
          <a:xfrm>
            <a:off x="2528640" y="4978440"/>
            <a:ext cx="1695240" cy="138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9" name="PlaceHolder 9"/>
          <p:cNvSpPr>
            <a:spLocks noGrp="1"/>
          </p:cNvSpPr>
          <p:nvPr>
            <p:ph/>
          </p:nvPr>
        </p:nvSpPr>
        <p:spPr>
          <a:xfrm>
            <a:off x="4692240" y="5000760"/>
            <a:ext cx="1693800" cy="138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10"/>
          <p:cNvSpPr>
            <a:spLocks noGrp="1"/>
          </p:cNvSpPr>
          <p:nvPr>
            <p:ph/>
          </p:nvPr>
        </p:nvSpPr>
        <p:spPr>
          <a:xfrm>
            <a:off x="6845040" y="4990680"/>
            <a:ext cx="1695240" cy="13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Tekstvak 2"/>
          <p:cNvSpPr/>
          <p:nvPr/>
        </p:nvSpPr>
        <p:spPr>
          <a:xfrm>
            <a:off x="365040" y="2409840"/>
            <a:ext cx="1785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32219"/>
                </a:solidFill>
                <a:latin typeface="Lucida Sans Unicode"/>
              </a:rPr>
              <a:t>Goed / Moet be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kstvak 3"/>
          <p:cNvSpPr/>
          <p:nvPr/>
        </p:nvSpPr>
        <p:spPr>
          <a:xfrm>
            <a:off x="3236760" y="2408400"/>
            <a:ext cx="1785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32219"/>
                </a:solidFill>
                <a:latin typeface="Lucida Sans Unicode"/>
              </a:rPr>
              <a:t>Goed / Moet be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kstvak 4"/>
          <p:cNvSpPr/>
          <p:nvPr/>
        </p:nvSpPr>
        <p:spPr>
          <a:xfrm>
            <a:off x="6102360" y="2403360"/>
            <a:ext cx="1785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32219"/>
                </a:solidFill>
                <a:latin typeface="Lucida Sans Unicode"/>
              </a:rPr>
              <a:t>Goed / Moet be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kstvak 6"/>
          <p:cNvSpPr/>
          <p:nvPr/>
        </p:nvSpPr>
        <p:spPr>
          <a:xfrm>
            <a:off x="360360" y="4384800"/>
            <a:ext cx="1785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32219"/>
                </a:solidFill>
                <a:latin typeface="Lucida Sans Unicode"/>
              </a:rPr>
              <a:t>Goed / Moet be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kstvak 7"/>
          <p:cNvSpPr/>
          <p:nvPr/>
        </p:nvSpPr>
        <p:spPr>
          <a:xfrm>
            <a:off x="3232080" y="4383000"/>
            <a:ext cx="1785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32219"/>
                </a:solidFill>
                <a:latin typeface="Lucida Sans Unicode"/>
              </a:rPr>
              <a:t>Goed / Moet be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kstvak 8"/>
          <p:cNvSpPr/>
          <p:nvPr/>
        </p:nvSpPr>
        <p:spPr>
          <a:xfrm>
            <a:off x="6099120" y="4378320"/>
            <a:ext cx="1785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32219"/>
                </a:solidFill>
                <a:latin typeface="Lucida Sans Unicode"/>
              </a:rPr>
              <a:t>Goed / Moet be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kstvak 9"/>
          <p:cNvSpPr/>
          <p:nvPr/>
        </p:nvSpPr>
        <p:spPr>
          <a:xfrm>
            <a:off x="357120" y="6357960"/>
            <a:ext cx="1420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32219"/>
                </a:solidFill>
                <a:latin typeface="Lucida Sans Unicode"/>
              </a:rPr>
              <a:t>Goed / Moet be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kstvak 10"/>
          <p:cNvSpPr/>
          <p:nvPr/>
        </p:nvSpPr>
        <p:spPr>
          <a:xfrm>
            <a:off x="2514600" y="6354720"/>
            <a:ext cx="1420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32219"/>
                </a:solidFill>
                <a:latin typeface="Lucida Sans Unicode"/>
              </a:rPr>
              <a:t>Goed / Moet be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kstvak 11"/>
          <p:cNvSpPr/>
          <p:nvPr/>
        </p:nvSpPr>
        <p:spPr>
          <a:xfrm>
            <a:off x="4668840" y="6362640"/>
            <a:ext cx="1419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32219"/>
                </a:solidFill>
                <a:latin typeface="Lucida Sans Unicode"/>
              </a:rPr>
              <a:t>Goed / Moet be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kstvak 12"/>
          <p:cNvSpPr/>
          <p:nvPr/>
        </p:nvSpPr>
        <p:spPr>
          <a:xfrm>
            <a:off x="6818400" y="6353280"/>
            <a:ext cx="1420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32219"/>
                </a:solidFill>
                <a:latin typeface="Lucida Sans Unicode"/>
              </a:rPr>
              <a:t>Goed / Moet be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1" name=""/>
          <p:cNvGraphicFramePr/>
          <p:nvPr/>
        </p:nvGraphicFramePr>
        <p:xfrm>
          <a:off x="358920" y="800280"/>
          <a:ext cx="8497800" cy="2952720"/>
        </p:xfrm>
        <a:graphic>
          <a:graphicData uri="http://schemas.openxmlformats.org/drawingml/2006/table">
            <a:tbl>
              <a:tblPr/>
              <a:tblGrid>
                <a:gridCol w="1417320"/>
                <a:gridCol w="1633680"/>
                <a:gridCol w="2941560"/>
                <a:gridCol w="1414440"/>
                <a:gridCol w="1090800"/>
              </a:tblGrid>
              <a:tr h="277560">
                <a:tc gridSpan="5">
                  <a:txBody>
                    <a:bodyPr lIns="54000" rIns="18000" tIns="54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000" spc="-1" strike="noStrike">
                          <a:solidFill>
                            <a:srgbClr val="ffffff"/>
                          </a:solidFill>
                          <a:latin typeface="Lucida Sans Unicode"/>
                          <a:ea typeface="Lucida Sans Unicode"/>
                        </a:rPr>
                        <a:t>Realiseren van innovati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18000">
                    <a:lnL w="9360">
                      <a:solidFill>
                        <a:srgbClr val="e32219"/>
                      </a:solidFill>
                    </a:lnL>
                    <a:lnR w="9360">
                      <a:solidFill>
                        <a:srgbClr val="e32219"/>
                      </a:solidFill>
                    </a:lnR>
                    <a:lnT w="9360">
                      <a:solidFill>
                        <a:srgbClr val="e32219"/>
                      </a:solidFill>
                    </a:lnT>
                    <a:lnB w="9360">
                      <a:solidFill>
                        <a:srgbClr val="e32219"/>
                      </a:solidFill>
                    </a:lnB>
                    <a:solidFill>
                      <a:srgbClr val="e3221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2480">
                <a:tc>
                  <a:txBody>
                    <a:bodyPr lIns="54000" rIns="18000" tIns="54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800" spc="-1" strike="noStrike">
                          <a:solidFill>
                            <a:srgbClr val="000000"/>
                          </a:solidFill>
                          <a:latin typeface="Lucida Sans Unicode"/>
                          <a:ea typeface="Lucida Sans Unicode"/>
                        </a:rPr>
                        <a:t>Kan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18000">
                    <a:lnL w="9360">
                      <a:solidFill>
                        <a:srgbClr val="e32219"/>
                      </a:solidFill>
                    </a:lnL>
                    <a:lnR w="9360">
                      <a:solidFill>
                        <a:srgbClr val="e32219"/>
                      </a:solidFill>
                    </a:lnR>
                    <a:lnT w="9360">
                      <a:solidFill>
                        <a:srgbClr val="e32219"/>
                      </a:solidFill>
                    </a:lnT>
                    <a:lnB w="9360">
                      <a:solidFill>
                        <a:srgbClr val="e3221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18000" tIns="54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800" spc="-1" strike="noStrike">
                          <a:solidFill>
                            <a:srgbClr val="000000"/>
                          </a:solidFill>
                          <a:latin typeface="Lucida Sans Unicode"/>
                          <a:ea typeface="Lucida Sans Unicode"/>
                        </a:rPr>
                        <a:t>Doelstellin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18000">
                    <a:lnL w="9360">
                      <a:solidFill>
                        <a:srgbClr val="e32219"/>
                      </a:solidFill>
                    </a:lnL>
                    <a:lnR w="9360">
                      <a:solidFill>
                        <a:srgbClr val="e32219"/>
                      </a:solidFill>
                    </a:lnR>
                    <a:lnT w="9360">
                      <a:solidFill>
                        <a:srgbClr val="e32219"/>
                      </a:solidFill>
                    </a:lnT>
                    <a:lnB w="9360">
                      <a:solidFill>
                        <a:srgbClr val="e3221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18000" tIns="54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800" spc="-1" strike="noStrike">
                          <a:solidFill>
                            <a:srgbClr val="000000"/>
                          </a:solidFill>
                          <a:latin typeface="Lucida Sans Unicode"/>
                          <a:ea typeface="Lucida Sans Unicode"/>
                        </a:rPr>
                        <a:t>Actie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18000">
                    <a:lnL w="9360">
                      <a:solidFill>
                        <a:srgbClr val="e32219"/>
                      </a:solidFill>
                    </a:lnL>
                    <a:lnR w="9360">
                      <a:solidFill>
                        <a:srgbClr val="e32219"/>
                      </a:solidFill>
                    </a:lnR>
                    <a:lnT w="9360">
                      <a:solidFill>
                        <a:srgbClr val="e32219"/>
                      </a:solidFill>
                    </a:lnT>
                    <a:lnB w="9360">
                      <a:solidFill>
                        <a:srgbClr val="e3221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18000" tIns="54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800" spc="-1" strike="noStrike">
                          <a:solidFill>
                            <a:srgbClr val="000000"/>
                          </a:solidFill>
                          <a:latin typeface="Lucida Sans Unicode"/>
                          <a:ea typeface="Lucida Sans Unicode"/>
                        </a:rPr>
                        <a:t>Wie doet wa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18000">
                    <a:lnL w="9360">
                      <a:solidFill>
                        <a:srgbClr val="e32219"/>
                      </a:solidFill>
                    </a:lnL>
                    <a:lnR w="9360">
                      <a:solidFill>
                        <a:srgbClr val="e32219"/>
                      </a:solidFill>
                    </a:lnR>
                    <a:lnT w="9360">
                      <a:solidFill>
                        <a:srgbClr val="e32219"/>
                      </a:solidFill>
                    </a:lnT>
                    <a:lnB w="9360">
                      <a:solidFill>
                        <a:srgbClr val="e3221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18000" tIns="54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800" spc="-1" strike="noStrike">
                          <a:solidFill>
                            <a:srgbClr val="000000"/>
                          </a:solidFill>
                          <a:latin typeface="Lucida Sans Unicode"/>
                          <a:ea typeface="Lucida Sans Unicode"/>
                        </a:rPr>
                        <a:t>Plannin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18000">
                    <a:lnL w="9360">
                      <a:solidFill>
                        <a:srgbClr val="e32219"/>
                      </a:solidFill>
                    </a:lnL>
                    <a:lnR w="9360">
                      <a:solidFill>
                        <a:srgbClr val="e32219"/>
                      </a:solidFill>
                    </a:lnR>
                    <a:lnT w="9360">
                      <a:solidFill>
                        <a:srgbClr val="e32219"/>
                      </a:solidFill>
                    </a:lnT>
                    <a:lnB w="9360">
                      <a:solidFill>
                        <a:srgbClr val="e3221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22080">
                <a:tc>
                  <a:txBody>
                    <a:bodyPr lIns="54000" rIns="18000" tIns="54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18000">
                    <a:lnL w="9360">
                      <a:solidFill>
                        <a:srgbClr val="e32219"/>
                      </a:solidFill>
                    </a:lnL>
                    <a:lnR w="9360">
                      <a:solidFill>
                        <a:srgbClr val="e32219"/>
                      </a:solidFill>
                    </a:lnR>
                    <a:lnT w="9360">
                      <a:solidFill>
                        <a:srgbClr val="e32219"/>
                      </a:solidFill>
                    </a:lnT>
                    <a:lnB w="9360">
                      <a:solidFill>
                        <a:srgbClr val="e3221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18000" tIns="54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18000">
                    <a:lnL w="9360">
                      <a:solidFill>
                        <a:srgbClr val="e32219"/>
                      </a:solidFill>
                    </a:lnL>
                    <a:lnR w="9360">
                      <a:solidFill>
                        <a:srgbClr val="e32219"/>
                      </a:solidFill>
                    </a:lnR>
                    <a:lnT w="9360">
                      <a:solidFill>
                        <a:srgbClr val="e32219"/>
                      </a:solidFill>
                    </a:lnT>
                    <a:lnB w="9360">
                      <a:solidFill>
                        <a:srgbClr val="e3221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18000" tIns="54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18000">
                    <a:lnL w="9360">
                      <a:solidFill>
                        <a:srgbClr val="e32219"/>
                      </a:solidFill>
                    </a:lnL>
                    <a:lnR w="9360">
                      <a:solidFill>
                        <a:srgbClr val="e32219"/>
                      </a:solidFill>
                    </a:lnR>
                    <a:lnT w="9360">
                      <a:solidFill>
                        <a:srgbClr val="e32219"/>
                      </a:solidFill>
                    </a:lnT>
                    <a:lnB w="9360">
                      <a:solidFill>
                        <a:srgbClr val="e3221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18000" tIns="54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18000">
                    <a:lnL w="9360">
                      <a:solidFill>
                        <a:srgbClr val="e32219"/>
                      </a:solidFill>
                    </a:lnL>
                    <a:lnR w="9360">
                      <a:solidFill>
                        <a:srgbClr val="e32219"/>
                      </a:solidFill>
                    </a:lnR>
                    <a:lnT w="9360">
                      <a:solidFill>
                        <a:srgbClr val="e32219"/>
                      </a:solidFill>
                    </a:lnT>
                    <a:lnB w="9360">
                      <a:solidFill>
                        <a:srgbClr val="e3221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18000" tIns="54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18000">
                    <a:lnL w="9360">
                      <a:solidFill>
                        <a:srgbClr val="e32219"/>
                      </a:solidFill>
                    </a:lnL>
                    <a:lnR w="9360">
                      <a:solidFill>
                        <a:srgbClr val="e32219"/>
                      </a:solidFill>
                    </a:lnR>
                    <a:lnT w="9360">
                      <a:solidFill>
                        <a:srgbClr val="e32219"/>
                      </a:solidFill>
                    </a:lnT>
                    <a:lnB w="9360">
                      <a:solidFill>
                        <a:srgbClr val="e3221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23880">
                <a:tc>
                  <a:txBody>
                    <a:bodyPr lIns="54000" rIns="18000" tIns="54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18000">
                    <a:lnL w="9360">
                      <a:solidFill>
                        <a:srgbClr val="e32219"/>
                      </a:solidFill>
                    </a:lnL>
                    <a:lnR w="9360">
                      <a:solidFill>
                        <a:srgbClr val="e32219"/>
                      </a:solidFill>
                    </a:lnR>
                    <a:lnT w="9360">
                      <a:solidFill>
                        <a:srgbClr val="e32219"/>
                      </a:solidFill>
                    </a:lnT>
                    <a:lnB w="9360">
                      <a:solidFill>
                        <a:srgbClr val="e3221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18000" tIns="54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18000">
                    <a:lnL w="9360">
                      <a:solidFill>
                        <a:srgbClr val="e32219"/>
                      </a:solidFill>
                    </a:lnL>
                    <a:lnR w="9360">
                      <a:solidFill>
                        <a:srgbClr val="e32219"/>
                      </a:solidFill>
                    </a:lnR>
                    <a:lnT w="9360">
                      <a:solidFill>
                        <a:srgbClr val="e32219"/>
                      </a:solidFill>
                    </a:lnT>
                    <a:lnB w="9360">
                      <a:solidFill>
                        <a:srgbClr val="e3221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18000" tIns="54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18000">
                    <a:lnL w="9360">
                      <a:solidFill>
                        <a:srgbClr val="e32219"/>
                      </a:solidFill>
                    </a:lnL>
                    <a:lnR w="9360">
                      <a:solidFill>
                        <a:srgbClr val="e32219"/>
                      </a:solidFill>
                    </a:lnR>
                    <a:lnT w="9360">
                      <a:solidFill>
                        <a:srgbClr val="e32219"/>
                      </a:solidFill>
                    </a:lnT>
                    <a:lnB w="9360">
                      <a:solidFill>
                        <a:srgbClr val="e3221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18000" tIns="54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18000">
                    <a:lnL w="9360">
                      <a:solidFill>
                        <a:srgbClr val="e32219"/>
                      </a:solidFill>
                    </a:lnL>
                    <a:lnR w="9360">
                      <a:solidFill>
                        <a:srgbClr val="e32219"/>
                      </a:solidFill>
                    </a:lnR>
                    <a:lnT w="9360">
                      <a:solidFill>
                        <a:srgbClr val="e32219"/>
                      </a:solidFill>
                    </a:lnT>
                    <a:lnB w="9360">
                      <a:solidFill>
                        <a:srgbClr val="e3221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18000" tIns="54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18000">
                    <a:lnL w="9360">
                      <a:solidFill>
                        <a:srgbClr val="e32219"/>
                      </a:solidFill>
                    </a:lnL>
                    <a:lnR w="9360">
                      <a:solidFill>
                        <a:srgbClr val="e32219"/>
                      </a:solidFill>
                    </a:lnR>
                    <a:lnT w="9360">
                      <a:solidFill>
                        <a:srgbClr val="e32219"/>
                      </a:solidFill>
                    </a:lnT>
                    <a:lnB w="9360">
                      <a:solidFill>
                        <a:srgbClr val="e3221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22440">
                <a:tc>
                  <a:txBody>
                    <a:bodyPr lIns="54000" rIns="18000" tIns="54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18000">
                    <a:lnL w="9360">
                      <a:solidFill>
                        <a:srgbClr val="e32219"/>
                      </a:solidFill>
                    </a:lnL>
                    <a:lnR w="9360">
                      <a:solidFill>
                        <a:srgbClr val="e32219"/>
                      </a:solidFill>
                    </a:lnR>
                    <a:lnT w="9360">
                      <a:solidFill>
                        <a:srgbClr val="e32219"/>
                      </a:solidFill>
                    </a:lnT>
                    <a:lnB w="9360">
                      <a:solidFill>
                        <a:srgbClr val="e3221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18000" tIns="54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18000">
                    <a:lnL w="9360">
                      <a:solidFill>
                        <a:srgbClr val="e32219"/>
                      </a:solidFill>
                    </a:lnL>
                    <a:lnR w="9360">
                      <a:solidFill>
                        <a:srgbClr val="e32219"/>
                      </a:solidFill>
                    </a:lnR>
                    <a:lnT w="9360">
                      <a:solidFill>
                        <a:srgbClr val="e32219"/>
                      </a:solidFill>
                    </a:lnT>
                    <a:lnB w="9360">
                      <a:solidFill>
                        <a:srgbClr val="e3221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18000" tIns="54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18000">
                    <a:lnL w="9360">
                      <a:solidFill>
                        <a:srgbClr val="e32219"/>
                      </a:solidFill>
                    </a:lnL>
                    <a:lnR w="9360">
                      <a:solidFill>
                        <a:srgbClr val="e32219"/>
                      </a:solidFill>
                    </a:lnR>
                    <a:lnT w="9360">
                      <a:solidFill>
                        <a:srgbClr val="e32219"/>
                      </a:solidFill>
                    </a:lnT>
                    <a:lnB w="9360">
                      <a:solidFill>
                        <a:srgbClr val="e3221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18000" tIns="54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18000">
                    <a:lnL w="9360">
                      <a:solidFill>
                        <a:srgbClr val="e32219"/>
                      </a:solidFill>
                    </a:lnL>
                    <a:lnR w="9360">
                      <a:solidFill>
                        <a:srgbClr val="e32219"/>
                      </a:solidFill>
                    </a:lnR>
                    <a:lnT w="9360">
                      <a:solidFill>
                        <a:srgbClr val="e32219"/>
                      </a:solidFill>
                    </a:lnT>
                    <a:lnB w="9360">
                      <a:solidFill>
                        <a:srgbClr val="e3221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18000" tIns="54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18000">
                    <a:lnL w="9360">
                      <a:solidFill>
                        <a:srgbClr val="e32219"/>
                      </a:solidFill>
                    </a:lnL>
                    <a:lnR w="9360">
                      <a:solidFill>
                        <a:srgbClr val="e32219"/>
                      </a:solidFill>
                    </a:lnR>
                    <a:lnT w="9360">
                      <a:solidFill>
                        <a:srgbClr val="e32219"/>
                      </a:solidFill>
                    </a:lnT>
                    <a:lnB w="9360">
                      <a:solidFill>
                        <a:srgbClr val="e3221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84280">
                <a:tc>
                  <a:txBody>
                    <a:bodyPr lIns="54000" rIns="18000" tIns="54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18000">
                    <a:lnL w="9360">
                      <a:solidFill>
                        <a:srgbClr val="e32219"/>
                      </a:solidFill>
                    </a:lnL>
                    <a:lnR w="9360">
                      <a:solidFill>
                        <a:srgbClr val="e32219"/>
                      </a:solidFill>
                    </a:lnR>
                    <a:lnT w="9360">
                      <a:solidFill>
                        <a:srgbClr val="e32219"/>
                      </a:solidFill>
                    </a:lnT>
                    <a:lnB w="9360">
                      <a:solidFill>
                        <a:srgbClr val="e3221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18000" tIns="54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18000">
                    <a:lnL w="9360">
                      <a:solidFill>
                        <a:srgbClr val="e32219"/>
                      </a:solidFill>
                    </a:lnL>
                    <a:lnR w="9360">
                      <a:solidFill>
                        <a:srgbClr val="e32219"/>
                      </a:solidFill>
                    </a:lnR>
                    <a:lnT w="9360">
                      <a:solidFill>
                        <a:srgbClr val="e32219"/>
                      </a:solidFill>
                    </a:lnT>
                    <a:lnB w="9360">
                      <a:solidFill>
                        <a:srgbClr val="e3221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18000" tIns="54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18000">
                    <a:lnL w="9360">
                      <a:solidFill>
                        <a:srgbClr val="e32219"/>
                      </a:solidFill>
                    </a:lnL>
                    <a:lnR w="9360">
                      <a:solidFill>
                        <a:srgbClr val="e32219"/>
                      </a:solidFill>
                    </a:lnR>
                    <a:lnT w="9360">
                      <a:solidFill>
                        <a:srgbClr val="e32219"/>
                      </a:solidFill>
                    </a:lnT>
                    <a:lnB w="9360">
                      <a:solidFill>
                        <a:srgbClr val="e3221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18000" tIns="54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18000">
                    <a:lnL w="9360">
                      <a:solidFill>
                        <a:srgbClr val="e32219"/>
                      </a:solidFill>
                    </a:lnL>
                    <a:lnR w="9360">
                      <a:solidFill>
                        <a:srgbClr val="e32219"/>
                      </a:solidFill>
                    </a:lnR>
                    <a:lnT w="9360">
                      <a:solidFill>
                        <a:srgbClr val="e32219"/>
                      </a:solidFill>
                    </a:lnT>
                    <a:lnB w="9360">
                      <a:solidFill>
                        <a:srgbClr val="e3221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18000" tIns="54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18000">
                    <a:lnL w="9360">
                      <a:solidFill>
                        <a:srgbClr val="e32219"/>
                      </a:solidFill>
                    </a:lnL>
                    <a:lnR w="9360">
                      <a:solidFill>
                        <a:srgbClr val="e32219"/>
                      </a:solidFill>
                    </a:lnR>
                    <a:lnT w="9360">
                      <a:solidFill>
                        <a:srgbClr val="e32219"/>
                      </a:solidFill>
                    </a:lnT>
                    <a:lnB w="9360">
                      <a:solidFill>
                        <a:srgbClr val="e32219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12" name=""/>
          <p:cNvGraphicFramePr/>
          <p:nvPr/>
        </p:nvGraphicFramePr>
        <p:xfrm>
          <a:off x="358920" y="3860640"/>
          <a:ext cx="8497800" cy="2667240"/>
        </p:xfrm>
        <a:graphic>
          <a:graphicData uri="http://schemas.openxmlformats.org/drawingml/2006/table">
            <a:tbl>
              <a:tblPr/>
              <a:tblGrid>
                <a:gridCol w="1417320"/>
                <a:gridCol w="1633680"/>
                <a:gridCol w="2941560"/>
                <a:gridCol w="1414440"/>
                <a:gridCol w="1090800"/>
              </a:tblGrid>
              <a:tr h="233640">
                <a:tc gridSpan="5">
                  <a:txBody>
                    <a:bodyPr lIns="54000" rIns="18000" tIns="54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000" spc="-1" strike="noStrike">
                          <a:solidFill>
                            <a:srgbClr val="ffffff"/>
                          </a:solidFill>
                          <a:latin typeface="Lucida Sans Unicode"/>
                          <a:ea typeface="Lucida Sans Unicode"/>
                        </a:rPr>
                        <a:t>Versterken van innovatievermog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18000">
                    <a:lnL w="9360">
                      <a:solidFill>
                        <a:srgbClr val="e32219"/>
                      </a:solidFill>
                    </a:lnL>
                    <a:lnR w="9360">
                      <a:solidFill>
                        <a:srgbClr val="e32219"/>
                      </a:solidFill>
                    </a:lnR>
                    <a:lnT w="9360">
                      <a:solidFill>
                        <a:srgbClr val="e32219"/>
                      </a:solidFill>
                    </a:lnT>
                    <a:lnB w="9360">
                      <a:solidFill>
                        <a:srgbClr val="e32219"/>
                      </a:solidFill>
                    </a:lnB>
                    <a:solidFill>
                      <a:srgbClr val="e3221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01600">
                <a:tc>
                  <a:txBody>
                    <a:bodyPr lIns="54000" rIns="18000" tIns="54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800" spc="-1" strike="noStrike">
                          <a:solidFill>
                            <a:srgbClr val="000000"/>
                          </a:solidFill>
                          <a:latin typeface="Lucida Sans Unicode"/>
                          <a:ea typeface="Lucida Sans Unicode"/>
                        </a:rPr>
                        <a:t>Voorwaard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18000">
                    <a:lnL w="9360">
                      <a:solidFill>
                        <a:srgbClr val="e32219"/>
                      </a:solidFill>
                    </a:lnL>
                    <a:lnR w="9360">
                      <a:solidFill>
                        <a:srgbClr val="e32219"/>
                      </a:solidFill>
                    </a:lnR>
                    <a:lnT w="9360">
                      <a:solidFill>
                        <a:srgbClr val="e32219"/>
                      </a:solidFill>
                    </a:lnT>
                    <a:lnB w="9360">
                      <a:solidFill>
                        <a:srgbClr val="e3221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18000" tIns="54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800" spc="-1" strike="noStrike">
                          <a:solidFill>
                            <a:srgbClr val="000000"/>
                          </a:solidFill>
                          <a:latin typeface="Lucida Sans Unicode"/>
                          <a:ea typeface="Lucida Sans Unicode"/>
                        </a:rPr>
                        <a:t>Doelstellin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18000">
                    <a:lnL w="9360">
                      <a:solidFill>
                        <a:srgbClr val="e32219"/>
                      </a:solidFill>
                    </a:lnL>
                    <a:lnR w="9360">
                      <a:solidFill>
                        <a:srgbClr val="e32219"/>
                      </a:solidFill>
                    </a:lnR>
                    <a:lnT w="9360">
                      <a:solidFill>
                        <a:srgbClr val="e32219"/>
                      </a:solidFill>
                    </a:lnT>
                    <a:lnB w="9360">
                      <a:solidFill>
                        <a:srgbClr val="e3221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18000" tIns="54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800" spc="-1" strike="noStrike">
                          <a:solidFill>
                            <a:srgbClr val="000000"/>
                          </a:solidFill>
                          <a:latin typeface="Lucida Sans Unicode"/>
                          <a:ea typeface="Lucida Sans Unicode"/>
                        </a:rPr>
                        <a:t>Actie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18000">
                    <a:lnL w="9360">
                      <a:solidFill>
                        <a:srgbClr val="e32219"/>
                      </a:solidFill>
                    </a:lnL>
                    <a:lnR w="9360">
                      <a:solidFill>
                        <a:srgbClr val="e32219"/>
                      </a:solidFill>
                    </a:lnR>
                    <a:lnT w="9360">
                      <a:solidFill>
                        <a:srgbClr val="e32219"/>
                      </a:solidFill>
                    </a:lnT>
                    <a:lnB w="9360">
                      <a:solidFill>
                        <a:srgbClr val="e3221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18000" tIns="54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800" spc="-1" strike="noStrike">
                          <a:solidFill>
                            <a:srgbClr val="000000"/>
                          </a:solidFill>
                          <a:latin typeface="Lucida Sans Unicode"/>
                          <a:ea typeface="Lucida Sans Unicode"/>
                        </a:rPr>
                        <a:t>Wie doet wa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18000">
                    <a:lnL w="9360">
                      <a:solidFill>
                        <a:srgbClr val="e32219"/>
                      </a:solidFill>
                    </a:lnL>
                    <a:lnR w="9360">
                      <a:solidFill>
                        <a:srgbClr val="e32219"/>
                      </a:solidFill>
                    </a:lnR>
                    <a:lnT w="9360">
                      <a:solidFill>
                        <a:srgbClr val="e32219"/>
                      </a:solidFill>
                    </a:lnT>
                    <a:lnB w="9360">
                      <a:solidFill>
                        <a:srgbClr val="e3221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18000" tIns="54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800" spc="-1" strike="noStrike">
                          <a:solidFill>
                            <a:srgbClr val="000000"/>
                          </a:solidFill>
                          <a:latin typeface="Lucida Sans Unicode"/>
                          <a:ea typeface="Lucida Sans Unicode"/>
                        </a:rPr>
                        <a:t>Plannin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18000">
                    <a:lnL w="9360">
                      <a:solidFill>
                        <a:srgbClr val="e32219"/>
                      </a:solidFill>
                    </a:lnL>
                    <a:lnR w="9360">
                      <a:solidFill>
                        <a:srgbClr val="e32219"/>
                      </a:solidFill>
                    </a:lnR>
                    <a:lnT w="9360">
                      <a:solidFill>
                        <a:srgbClr val="e32219"/>
                      </a:solidFill>
                    </a:lnT>
                    <a:lnB w="9360">
                      <a:solidFill>
                        <a:srgbClr val="e3221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68080">
                <a:tc>
                  <a:txBody>
                    <a:bodyPr lIns="54000" rIns="18000" tIns="54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18000">
                    <a:lnL w="9360">
                      <a:solidFill>
                        <a:srgbClr val="e32219"/>
                      </a:solidFill>
                    </a:lnL>
                    <a:lnR w="9360">
                      <a:solidFill>
                        <a:srgbClr val="e32219"/>
                      </a:solidFill>
                    </a:lnR>
                    <a:lnT w="9360">
                      <a:solidFill>
                        <a:srgbClr val="e32219"/>
                      </a:solidFill>
                    </a:lnT>
                    <a:lnB w="9360">
                      <a:solidFill>
                        <a:srgbClr val="e3221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18000" tIns="54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18000">
                    <a:lnL w="9360">
                      <a:solidFill>
                        <a:srgbClr val="e32219"/>
                      </a:solidFill>
                    </a:lnL>
                    <a:lnR w="9360">
                      <a:solidFill>
                        <a:srgbClr val="e32219"/>
                      </a:solidFill>
                    </a:lnR>
                    <a:lnT w="9360">
                      <a:solidFill>
                        <a:srgbClr val="e32219"/>
                      </a:solidFill>
                    </a:lnT>
                    <a:lnB w="9360">
                      <a:solidFill>
                        <a:srgbClr val="e3221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18000" tIns="54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18000">
                    <a:lnL w="9360">
                      <a:solidFill>
                        <a:srgbClr val="e32219"/>
                      </a:solidFill>
                    </a:lnL>
                    <a:lnR w="9360">
                      <a:solidFill>
                        <a:srgbClr val="e32219"/>
                      </a:solidFill>
                    </a:lnR>
                    <a:lnT w="9360">
                      <a:solidFill>
                        <a:srgbClr val="e32219"/>
                      </a:solidFill>
                    </a:lnT>
                    <a:lnB w="9360">
                      <a:solidFill>
                        <a:srgbClr val="e3221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18000" tIns="54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18000">
                    <a:lnL w="9360">
                      <a:solidFill>
                        <a:srgbClr val="e32219"/>
                      </a:solidFill>
                    </a:lnL>
                    <a:lnR w="9360">
                      <a:solidFill>
                        <a:srgbClr val="e32219"/>
                      </a:solidFill>
                    </a:lnR>
                    <a:lnT w="9360">
                      <a:solidFill>
                        <a:srgbClr val="e32219"/>
                      </a:solidFill>
                    </a:lnT>
                    <a:lnB w="9360">
                      <a:solidFill>
                        <a:srgbClr val="e3221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18000" tIns="54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18000">
                    <a:lnL w="9360">
                      <a:solidFill>
                        <a:srgbClr val="e32219"/>
                      </a:solidFill>
                    </a:lnL>
                    <a:lnR w="9360">
                      <a:solidFill>
                        <a:srgbClr val="e32219"/>
                      </a:solidFill>
                    </a:lnR>
                    <a:lnT w="9360">
                      <a:solidFill>
                        <a:srgbClr val="e32219"/>
                      </a:solidFill>
                    </a:lnT>
                    <a:lnB w="9360">
                      <a:solidFill>
                        <a:srgbClr val="e3221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67000">
                <a:tc>
                  <a:txBody>
                    <a:bodyPr lIns="54000" rIns="18000" tIns="54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18000">
                    <a:lnL w="9360">
                      <a:solidFill>
                        <a:srgbClr val="e32219"/>
                      </a:solidFill>
                    </a:lnL>
                    <a:lnR w="9360">
                      <a:solidFill>
                        <a:srgbClr val="e32219"/>
                      </a:solidFill>
                    </a:lnR>
                    <a:lnT w="9360">
                      <a:solidFill>
                        <a:srgbClr val="e32219"/>
                      </a:solidFill>
                    </a:lnT>
                    <a:lnB w="9360">
                      <a:solidFill>
                        <a:srgbClr val="e3221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18000" tIns="54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18000">
                    <a:lnL w="9360">
                      <a:solidFill>
                        <a:srgbClr val="e32219"/>
                      </a:solidFill>
                    </a:lnL>
                    <a:lnR w="9360">
                      <a:solidFill>
                        <a:srgbClr val="e32219"/>
                      </a:solidFill>
                    </a:lnR>
                    <a:lnT w="9360">
                      <a:solidFill>
                        <a:srgbClr val="e32219"/>
                      </a:solidFill>
                    </a:lnT>
                    <a:lnB w="9360">
                      <a:solidFill>
                        <a:srgbClr val="e3221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18000" tIns="54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18000">
                    <a:lnL w="9360">
                      <a:solidFill>
                        <a:srgbClr val="e32219"/>
                      </a:solidFill>
                    </a:lnL>
                    <a:lnR w="9360">
                      <a:solidFill>
                        <a:srgbClr val="e32219"/>
                      </a:solidFill>
                    </a:lnR>
                    <a:lnT w="9360">
                      <a:solidFill>
                        <a:srgbClr val="e32219"/>
                      </a:solidFill>
                    </a:lnT>
                    <a:lnB w="9360">
                      <a:solidFill>
                        <a:srgbClr val="e3221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18000" tIns="54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18000">
                    <a:lnL w="9360">
                      <a:solidFill>
                        <a:srgbClr val="e32219"/>
                      </a:solidFill>
                    </a:lnL>
                    <a:lnR w="9360">
                      <a:solidFill>
                        <a:srgbClr val="e32219"/>
                      </a:solidFill>
                    </a:lnR>
                    <a:lnT w="9360">
                      <a:solidFill>
                        <a:srgbClr val="e32219"/>
                      </a:solidFill>
                    </a:lnT>
                    <a:lnB w="9360">
                      <a:solidFill>
                        <a:srgbClr val="e3221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18000" tIns="54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18000">
                    <a:lnL w="9360">
                      <a:solidFill>
                        <a:srgbClr val="e32219"/>
                      </a:solidFill>
                    </a:lnL>
                    <a:lnR w="9360">
                      <a:solidFill>
                        <a:srgbClr val="e32219"/>
                      </a:solidFill>
                    </a:lnR>
                    <a:lnT w="9360">
                      <a:solidFill>
                        <a:srgbClr val="e32219"/>
                      </a:solidFill>
                    </a:lnT>
                    <a:lnB w="9360">
                      <a:solidFill>
                        <a:srgbClr val="e3221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65200">
                <a:tc>
                  <a:txBody>
                    <a:bodyPr lIns="54000" rIns="18000" tIns="54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18000">
                    <a:lnL w="9360">
                      <a:solidFill>
                        <a:srgbClr val="e32219"/>
                      </a:solidFill>
                    </a:lnL>
                    <a:lnR w="9360">
                      <a:solidFill>
                        <a:srgbClr val="e32219"/>
                      </a:solidFill>
                    </a:lnR>
                    <a:lnT w="9360">
                      <a:solidFill>
                        <a:srgbClr val="e32219"/>
                      </a:solidFill>
                    </a:lnT>
                    <a:lnB w="9360">
                      <a:solidFill>
                        <a:srgbClr val="e3221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18000" tIns="54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18000">
                    <a:lnL w="9360">
                      <a:solidFill>
                        <a:srgbClr val="e32219"/>
                      </a:solidFill>
                    </a:lnL>
                    <a:lnR w="9360">
                      <a:solidFill>
                        <a:srgbClr val="e32219"/>
                      </a:solidFill>
                    </a:lnR>
                    <a:lnT w="9360">
                      <a:solidFill>
                        <a:srgbClr val="e32219"/>
                      </a:solidFill>
                    </a:lnT>
                    <a:lnB w="9360">
                      <a:solidFill>
                        <a:srgbClr val="e3221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18000" tIns="54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18000">
                    <a:lnL w="9360">
                      <a:solidFill>
                        <a:srgbClr val="e32219"/>
                      </a:solidFill>
                    </a:lnL>
                    <a:lnR w="9360">
                      <a:solidFill>
                        <a:srgbClr val="e32219"/>
                      </a:solidFill>
                    </a:lnR>
                    <a:lnT w="9360">
                      <a:solidFill>
                        <a:srgbClr val="e32219"/>
                      </a:solidFill>
                    </a:lnT>
                    <a:lnB w="9360">
                      <a:solidFill>
                        <a:srgbClr val="e3221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18000" tIns="54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18000">
                    <a:lnL w="9360">
                      <a:solidFill>
                        <a:srgbClr val="e32219"/>
                      </a:solidFill>
                    </a:lnL>
                    <a:lnR w="9360">
                      <a:solidFill>
                        <a:srgbClr val="e32219"/>
                      </a:solidFill>
                    </a:lnR>
                    <a:lnT w="9360">
                      <a:solidFill>
                        <a:srgbClr val="e32219"/>
                      </a:solidFill>
                    </a:lnT>
                    <a:lnB w="9360">
                      <a:solidFill>
                        <a:srgbClr val="e3221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18000" tIns="54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18000">
                    <a:lnL w="9360">
                      <a:solidFill>
                        <a:srgbClr val="e32219"/>
                      </a:solidFill>
                    </a:lnL>
                    <a:lnR w="9360">
                      <a:solidFill>
                        <a:srgbClr val="e32219"/>
                      </a:solidFill>
                    </a:lnR>
                    <a:lnT w="9360">
                      <a:solidFill>
                        <a:srgbClr val="e32219"/>
                      </a:solidFill>
                    </a:lnT>
                    <a:lnB w="9360">
                      <a:solidFill>
                        <a:srgbClr val="e3221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1720">
                <a:tc>
                  <a:txBody>
                    <a:bodyPr lIns="54000" rIns="18000" tIns="54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18000">
                    <a:lnL w="9360">
                      <a:solidFill>
                        <a:srgbClr val="e32219"/>
                      </a:solidFill>
                    </a:lnL>
                    <a:lnR w="9360">
                      <a:solidFill>
                        <a:srgbClr val="e32219"/>
                      </a:solidFill>
                    </a:lnR>
                    <a:lnT w="9360">
                      <a:solidFill>
                        <a:srgbClr val="e32219"/>
                      </a:solidFill>
                    </a:lnT>
                    <a:lnB w="9360">
                      <a:solidFill>
                        <a:srgbClr val="e3221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18000" tIns="54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18000">
                    <a:lnL w="9360">
                      <a:solidFill>
                        <a:srgbClr val="e32219"/>
                      </a:solidFill>
                    </a:lnL>
                    <a:lnR w="9360">
                      <a:solidFill>
                        <a:srgbClr val="e32219"/>
                      </a:solidFill>
                    </a:lnR>
                    <a:lnT w="9360">
                      <a:solidFill>
                        <a:srgbClr val="e32219"/>
                      </a:solidFill>
                    </a:lnT>
                    <a:lnB w="9360">
                      <a:solidFill>
                        <a:srgbClr val="e3221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18000" tIns="54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18000">
                    <a:lnL w="9360">
                      <a:solidFill>
                        <a:srgbClr val="e32219"/>
                      </a:solidFill>
                    </a:lnL>
                    <a:lnR w="9360">
                      <a:solidFill>
                        <a:srgbClr val="e32219"/>
                      </a:solidFill>
                    </a:lnR>
                    <a:lnT w="9360">
                      <a:solidFill>
                        <a:srgbClr val="e32219"/>
                      </a:solidFill>
                    </a:lnT>
                    <a:lnB w="9360">
                      <a:solidFill>
                        <a:srgbClr val="e3221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18000" tIns="54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18000">
                    <a:lnL w="9360">
                      <a:solidFill>
                        <a:srgbClr val="e32219"/>
                      </a:solidFill>
                    </a:lnL>
                    <a:lnR w="9360">
                      <a:solidFill>
                        <a:srgbClr val="e32219"/>
                      </a:solidFill>
                    </a:lnR>
                    <a:lnT w="9360">
                      <a:solidFill>
                        <a:srgbClr val="e32219"/>
                      </a:solidFill>
                    </a:lnT>
                    <a:lnB w="9360">
                      <a:solidFill>
                        <a:srgbClr val="e3221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18000" tIns="54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18000">
                    <a:lnL w="9360">
                      <a:solidFill>
                        <a:srgbClr val="e32219"/>
                      </a:solidFill>
                    </a:lnL>
                    <a:lnR w="9360">
                      <a:solidFill>
                        <a:srgbClr val="e32219"/>
                      </a:solidFill>
                    </a:lnR>
                    <a:lnT w="9360">
                      <a:solidFill>
                        <a:srgbClr val="e32219"/>
                      </a:solidFill>
                    </a:lnT>
                    <a:lnB w="9360">
                      <a:solidFill>
                        <a:srgbClr val="e32219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/>
          </p:nvPr>
        </p:nvSpPr>
        <p:spPr>
          <a:xfrm>
            <a:off x="380880" y="1039680"/>
            <a:ext cx="5477040" cy="546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8T20:10:14Z</dcterms:created>
  <dc:creator>ICT Afdeling</dc:creator>
  <dc:description/>
  <dc:language>en-US</dc:language>
  <cp:lastModifiedBy>ICT Afdeling</cp:lastModifiedBy>
  <dcterms:modified xsi:type="dcterms:W3CDTF">2009-02-28T20:15:33Z</dcterms:modified>
  <cp:revision>2</cp:revision>
  <dc:subject/>
  <dc:title>Dia 1</dc:title>
</cp:coreProperties>
</file>