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lang="en-US" sz="1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4B9F-2085-45DA-951D-BC1D385A5D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ps = epsilon (&lt;&lt;), introducida por si da la casualidad posible de que el número aleatorio generado sea exactamente 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ota: Los scripts de MATLAB de los ejemplos 6 y 7 usando están claramente poco optimizados dado que se usan bucles, cuyo recorrido puede ser muy largo si N es al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1: ¿Cómo mejorar los scripts de los ejemplos 6 y 7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2: ¿Cómo generaría aleatoriamente números enteros con distribución uniforme en [a,b]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3C0C-D34A-47E4-881B-B083C47E119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l método data del Proyecto Manhattan en los 1940’s y se llama así por la ciudad de Monte Carlo (por los casin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omo suelen decir muchos, suena más romántico el “Método de Monte Carlo” que el “Método de Las Vegas”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¿Cómo resolver integrales tirando piedra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isten muchas variaciones del método de integración numérica para evaluar funciones con varianza alta (von Neumann y muchos otros métodos), pero su estudio va más allá del propósito de la asignatu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ysics.orst.edu/~rubin/" TargetMode="External"/><Relationship Id="rId2" Type="http://schemas.openxmlformats.org/officeDocument/2006/relationships/hyperlink" Target="http://www-teaching.physics.ox.ac.uk/computing/NumericalMethods/NMfP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2952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4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NÚMEROS ALEATORIOS Y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MÉTODOS DE MONTE CARLO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652640"/>
            <a:ext cx="9906120" cy="863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635040" y="3500280"/>
            <a:ext cx="8640720" cy="292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0160" y="1642680"/>
            <a:ext cx="446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0 y desviación estándar 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Norm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34080" y="362736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711760" y="4132440"/>
            <a:ext cx="249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4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737240" y="1628640"/>
            <a:ext cx="4968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sviación estándar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mu+sigma*randn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1736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76880" y="5084640"/>
            <a:ext cx="172872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u = 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sigma = 0.2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102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5760" indent="-275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de acuerdo a distribuciones especificad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om(NAME,A,B,C,M,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atriz MxN con distribu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NAME y parámetros 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44520" y="2997360"/>
            <a:ext cx="509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help random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NAME can be: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beta'  or 'Bet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bino'  or '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chi2'  or 'Chi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exp'   or 'Exponent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ev'    or '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f'     or '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am'   or 'Gamm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v'   or 'Generalized 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p'    or 'Generalized Pareto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o'   or '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hyge'  or 'Hyper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logn'  or 'Log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830840" y="4062240"/>
            <a:ext cx="50958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f'   or 'Noncentral 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t'   or 'Noncentral 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x2'  or 'Noncentral Chi-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norm'  or '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poiss' or 'Poisson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rayl'  or 'Rayleigh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t'     or '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unif'  or '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unid'  or 'Discrete 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wbl'   or 'Weibull'.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7360" y="1643040"/>
            <a:ext cx="9102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za una permutación aleatoria de números enter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perm(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mutación aleatoria de los enteros 1 a 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en la aleatorización de list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"/>
          <a:stretch/>
        </p:blipFill>
        <p:spPr>
          <a:xfrm>
            <a:off x="9190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87440" y="4005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5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2"/>
          <a:stretch/>
        </p:blipFill>
        <p:spPr>
          <a:xfrm>
            <a:off x="919080" y="4608360"/>
            <a:ext cx="42498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"/>
          <p:cNvPicPr/>
          <p:nvPr/>
        </p:nvPicPr>
        <p:blipFill>
          <a:blip r:embed="rId3"/>
          <a:stretch/>
        </p:blipFill>
        <p:spPr>
          <a:xfrm>
            <a:off x="5745240" y="386064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8"/>
          <p:cNvSpPr/>
          <p:nvPr/>
        </p:nvSpPr>
        <p:spPr>
          <a:xfrm>
            <a:off x="4303800" y="4797360"/>
            <a:ext cx="1800000" cy="432000"/>
          </a:xfrm>
          <a:prstGeom prst="rightArrow">
            <a:avLst>
              <a:gd name="adj1" fmla="val 50000"/>
              <a:gd name="adj2" fmla="val 1041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7360" y="1643040"/>
            <a:ext cx="924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N números naturales aleatorios con distribución uniforme en el intervalo [1,n]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ceil(n*rand(N)+eps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tros Ejemplos de Us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749160" y="3691080"/>
            <a:ext cx="3916440" cy="27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5383080" y="3681360"/>
            <a:ext cx="3892680" cy="275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3"/>
          <a:stretch/>
        </p:blipFill>
        <p:spPr>
          <a:xfrm>
            <a:off x="738360" y="3110040"/>
            <a:ext cx="576000" cy="51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54000" y="314784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6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4"/>
          <a:stretch/>
        </p:blipFill>
        <p:spPr>
          <a:xfrm>
            <a:off x="5326200" y="310500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541840" y="314316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7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Para qué nos sirve est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event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egos de az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lución estadística de ecuacion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Aleatoriedad Determinista?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strictamente hablando, no son capaces de generar secuencias aleatorias (sin correlación entre los números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conocemos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…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siempre es posible determinar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+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almente se generan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secuencias pseudo-aleatori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uy bie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ja correl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iodo de repetitividad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empre que el generador sea buen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seudo-Aleatorie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531720" y="1785960"/>
            <a:ext cx="902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método más común para generar secuencias de números pseudo-aleatorios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stribución uniform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úmeros enteros en el intervalo [0,M-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partir del resto del cociente (rem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aind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de números grand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r1 = semilla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, proporcionada por el usuario (o la máquin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 = número muy grande (periodicidad máxima de la secuenci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 = número grande; c = magia negra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60520" y="2851200"/>
            <a:ext cx="4897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eneradores Congruentes Line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5240" y="2924280"/>
                <a:ext cx="4703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1720" y="1700280"/>
            <a:ext cx="902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= (a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+ c)modM, co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 = 57, c = 1, M = 256, r</a:t>
            </a:r>
            <a:r>
              <a:rPr b="1" lang="es-ES" sz="2400" spc="-1" strike="noStrike" baseline="-25000">
                <a:solidFill>
                  <a:srgbClr val="c00000"/>
                </a:solidFill>
                <a:latin typeface="Calibri"/>
              </a:rPr>
              <a:t>1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= 10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M-1]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0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+ 1)mod256 = rem(571/256) = 59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9 + 1)mod256 = rem(3364/256) = 36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57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ngitud de la secuencia (periodicidad M = 256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1]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r/M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0.0391    0.2305    0.1406    0.0195    0.1172    0.6836    0.9688    0.2227 …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o lógicamente con la misma periodicidad en la secuencia (M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992160" y="238608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CG con a = 57, c = 1, M = 256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256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65600" y="238608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LAB rand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goritmo Mersenne Twister, periodo (2^19937-1)/2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2880" y="922320"/>
            <a:ext cx="928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prueba simple para chequear una secuencia pseudo-aleatoria es utilizar el córtex visual para reconocer los patrones de correl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2625840" y="183204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841480" y="1870200"/>
            <a:ext cx="33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 (N = 2000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2"/>
          <a:stretch/>
        </p:blipFill>
        <p:spPr>
          <a:xfrm>
            <a:off x="1260360" y="3024360"/>
            <a:ext cx="738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2880" y="1557360"/>
            <a:ext cx="928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rar el listado de números gener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i) frente i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el momento k-ésimo de la secuenc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a distribución es uniforme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la correlación con vecinos próxim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os números no están correlacionados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2757600" y="3166920"/>
                <a:ext cx="4395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759040" y="5127480"/>
                <a:ext cx="439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7577280" y="5275440"/>
                <a:ext cx="90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088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de MATLAB relacionadas con la aleatoriedad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dores de números pseudo-aleatorios: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cepto, tests de caracterización y repeti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Monte Carlo y aplicaci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2i+1) frente r(2i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… y con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resultados no deben diferir más allá de la estadístic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una secuencia de números verdaderamente aleatorios tabulados y comparar con el generador de números pseudo-aleatori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3 para k = 1, 3, 7 y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4 a la serie levemente correlacionada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 para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petitividad en Secuencias Pseudo-Aleat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2880" y="1700280"/>
            <a:ext cx="928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veces resulta útil poder correr un cálculo o simulación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xactam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la misma secuencia pseudo-aleato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el debugging de script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chequear si el método computacional es correc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que una secuencia pseudo-aleatoria sea reproducible debemos utilizar siempr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sma semill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cambiar la secuencia, basta usar una semilla distint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 automático del estado tras una ejecución de la función en MATLAB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o del reloj del sistema como semill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527280" y="572292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743280" y="576108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9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nte Car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72880" y="1844640"/>
            <a:ext cx="928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milia de métodos que involucran el uso de un número alto de muestras aleatorias para solucionar problemas matemáticos o físicos mediante técnicas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28880" y="3286080"/>
            <a:ext cx="590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procesos físic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matemátic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72880" y="1773360"/>
            <a:ext cx="64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s físicos en los que una partícula parece moverse aleatoriamente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brownian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e de electrones en metal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9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¿Cuántas colisiones (de media) debe sufrir una partícula para recorrer una distancia radial R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aminar N pasos de longitud r en direcciones aleatori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7257960" y="2133720"/>
            <a:ext cx="186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Teorí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72880" y="1773360"/>
            <a:ext cx="936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 qué distancia del origen llegamos después de N pasos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36600" y="2708280"/>
            <a:ext cx="202392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36880" y="2492280"/>
                <a:ext cx="5254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3222720" y="2962440"/>
                <a:ext cx="627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3"/>
          <p:cNvSpPr/>
          <p:nvPr/>
        </p:nvSpPr>
        <p:spPr>
          <a:xfrm>
            <a:off x="2433600" y="357192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las direcciones son aleatorias, para N alto, los términos cruzados se anula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3"/>
              <p:cNvSpPr txBox="1"/>
              <p:nvPr/>
            </p:nvSpPr>
            <p:spPr>
              <a:xfrm>
                <a:off x="3224160" y="4292640"/>
                <a:ext cx="434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4"/>
              <p:cNvSpPr txBox="1"/>
              <p:nvPr/>
            </p:nvSpPr>
            <p:spPr>
              <a:xfrm>
                <a:off x="3224160" y="4924440"/>
                <a:ext cx="1041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3657600" y="4937040"/>
            <a:ext cx="6248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damos un paseo de N pasos en direcciones aleatorias cubriendo una distancia total de N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acabamos el paseo (de media) a una distancia radial sqrt(N)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del punto de comienz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114720" y="4869000"/>
            <a:ext cx="122400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5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585720" y="1546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801720" y="1584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0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344520" y="2147760"/>
            <a:ext cx="9306000" cy="4305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496880" y="4292640"/>
            <a:ext cx="122400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paseo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032520" y="2637000"/>
            <a:ext cx="187308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dia de 31 paseos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2880" y="1773360"/>
            <a:ext cx="943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natural en el que una partícula (átomo, núcleo), sin ningún estímulo externo, se desintegra en otras partícul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nstante en el que una partícula se desintegra es aleatorio. Es independiente de cuánto lleva existiendo la partícula o de qué le ocurre a otras a su alreded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probabilidad P(t) de desintegración por unidad de tiempo y por partícula es constante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t) = probab desinteg / t / partícula = 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r diminuyendo el número de partículas N, lógicamente también lo hará el número de desintegraciones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/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 ↓ con t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7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sintegración Radioactiva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88880" y="1762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704880" y="1800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1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2"/>
          <a:stretch/>
        </p:blipFill>
        <p:spPr>
          <a:xfrm>
            <a:off x="3368520" y="1700280"/>
            <a:ext cx="6323040" cy="468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2421000"/>
            <a:ext cx="3152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mulación del proceso demuestr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y de desintegración exponencial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i N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estocástico si N baj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72880" y="1701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557360"/>
            <a:ext cx="711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ar pied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un estanque con forma irregular como método para determinar su áre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8880" y="236232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ñalice una caja que encierre completamente el estanque y quite todas las piedras que conteng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da el área de esa caja (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ja un buen montón de piedras y láncelas al aire en direcciones aleatoria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ente el número de piedras que caen en el estanque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y el número de piedras que caen al suelo dentro de la caja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iendo que tiró las piedras uniforme y aleatoriamente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be ser proporcional a 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16880" y="1700280"/>
            <a:ext cx="2193840" cy="2391480"/>
            <a:chOff x="7616880" y="1700280"/>
            <a:chExt cx="2193840" cy="239148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tretch/>
          </p:blipFill>
          <p:spPr>
            <a:xfrm>
              <a:off x="7616880" y="1700280"/>
              <a:ext cx="20160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9"/>
            <p:cNvSpPr/>
            <p:nvPr/>
          </p:nvSpPr>
          <p:spPr>
            <a:xfrm>
              <a:off x="9018720" y="3632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000160" y="5589720"/>
                <a:ext cx="2000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4489560" y="5845320"/>
                <a:ext cx="31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5162400" y="5589720"/>
                <a:ext cx="2382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4520" y="15955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5520" y="1882800"/>
            <a:ext cx="948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terminar el númer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utilizando la técnica de muestreo anteri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31800" y="2314440"/>
            <a:ext cx="65754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e un estanque circular encerrado en un cuadrado de lado 2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mos que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mos una secuencia de números aleatorios {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} en [-1,1]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gnamos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para i = 1, …,N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&lt; 1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 En otro caso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e N hasta obtener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n 3 cifras decima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1855800" y="4950000"/>
                <a:ext cx="2786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68400" y="148428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84040" y="152244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647800" y="2986200"/>
                <a:ext cx="1467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5" name="Group 27"/>
          <p:cNvGrpSpPr/>
          <p:nvPr/>
        </p:nvGrpSpPr>
        <p:grpSpPr>
          <a:xfrm>
            <a:off x="7761240" y="2459160"/>
            <a:ext cx="1800000" cy="2259720"/>
            <a:chOff x="7761240" y="2459160"/>
            <a:chExt cx="1800000" cy="2259720"/>
          </a:xfrm>
        </p:grpSpPr>
        <p:sp>
          <p:nvSpPr>
            <p:cNvPr id="266" name="Text Box 10"/>
            <p:cNvSpPr/>
            <p:nvPr/>
          </p:nvSpPr>
          <p:spPr>
            <a:xfrm>
              <a:off x="8769240" y="4259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7761240" y="2459160"/>
              <a:ext cx="1800000" cy="180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7761240" y="2459160"/>
              <a:ext cx="1800000" cy="18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8192880" y="260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on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8696160" y="3393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1" name="Text Box 22"/>
            <p:cNvSpPr/>
            <p:nvPr/>
          </p:nvSpPr>
          <p:spPr>
            <a:xfrm>
              <a:off x="8624880" y="30654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 = 1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8653320" y="336060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 flipV="1">
              <a:off x="8653320" y="336024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8235720" y="339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(0,0)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75" name="Rectangle 28"/>
          <p:cNvSpPr/>
          <p:nvPr/>
        </p:nvSpPr>
        <p:spPr>
          <a:xfrm>
            <a:off x="6797520" y="5024520"/>
            <a:ext cx="2901960" cy="1357200"/>
          </a:xfrm>
          <a:prstGeom prst="rect">
            <a:avLst/>
          </a:prstGeom>
          <a:solidFill>
            <a:srgbClr val="c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53240" y="5189400"/>
            <a:ext cx="3003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N=1e5, 1e6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Tiempo de cómputo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uebe </a:t>
            </a:r>
            <a:r>
              <a:rPr b="1" lang="es-ES" sz="1600" spc="-1" strike="noStrike">
                <a:solidFill>
                  <a:srgbClr val="333399"/>
                </a:solidFill>
                <a:latin typeface="Calibri"/>
              </a:rPr>
              <a:t>EJEMPLO_12b.m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77" name="Picture 30" descr="MC900078711[1]"/>
          <p:cNvPicPr/>
          <p:nvPr/>
        </p:nvPicPr>
        <p:blipFill>
          <a:blip r:embed="rId2"/>
          <a:stretch/>
        </p:blipFill>
        <p:spPr>
          <a:xfrm>
            <a:off x="6918480" y="504684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31440" y="1771560"/>
            <a:ext cx="8929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utilizar las funciones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la generación de secuencias 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naturaleza pseudo-aleatoria de cualquier secuencia generada de manera determinista por un ordenad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aplicar tests simples para determinar la uniformidad y aleatoriedad de secuencias pseudo-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utilidad de los métodos de Monte Carlo en la simulación de procesos físicos estocás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evaluar integrales multi-dimensionales mediante el muestreo del valor me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2880" y="1700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técnica estándar de Monte Carlo para integración está basada en el Teorema de Valor Medi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1681200" y="2924280"/>
                <a:ext cx="2766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83" name="Picture 27" descr=""/>
          <p:cNvPicPr/>
          <p:nvPr/>
        </p:nvPicPr>
        <p:blipFill>
          <a:blip r:embed="rId1"/>
          <a:stretch/>
        </p:blipFill>
        <p:spPr>
          <a:xfrm>
            <a:off x="5626080" y="2131920"/>
            <a:ext cx="4079880" cy="2917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272880" y="3716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usa una secuencia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N números aleatorios uniformes en [a,b] para muestrear &lt;f&gt;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9"/>
              <p:cNvSpPr txBox="1"/>
              <p:nvPr/>
            </p:nvSpPr>
            <p:spPr>
              <a:xfrm>
                <a:off x="2151000" y="4754520"/>
                <a:ext cx="18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Rectangle 3"/>
          <p:cNvSpPr/>
          <p:nvPr/>
        </p:nvSpPr>
        <p:spPr>
          <a:xfrm>
            <a:off x="272880" y="5711760"/>
            <a:ext cx="806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rror en el valor de la integral disminuye como 1/sqrt(N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9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les Multi-Dimension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2880" y="1700280"/>
            <a:ext cx="943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gración por valor medio puede generalizarse fácilmente a espacios multi-dimensional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otros métodos de integración mejores para integrales simples y dobles,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uando la dimensionalidad es alta las técnicas de Monte Carlo son las mejo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5960" y="2492280"/>
                <a:ext cx="5794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41580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31800" y="4762440"/>
            <a:ext cx="266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3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3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3"/>
              <p:cNvSpPr txBox="1"/>
              <p:nvPr/>
            </p:nvSpPr>
            <p:spPr>
              <a:xfrm>
                <a:off x="1025640" y="5483160"/>
                <a:ext cx="3638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14" descr=""/>
          <p:cNvPicPr/>
          <p:nvPr/>
        </p:nvPicPr>
        <p:blipFill>
          <a:blip r:embed="rId2"/>
          <a:stretch/>
        </p:blipFill>
        <p:spPr>
          <a:xfrm>
            <a:off x="507204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88040" y="4762440"/>
            <a:ext cx="290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4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10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5699160" y="5483160"/>
                <a:ext cx="3357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.H. Landau, M.J. Páez, C.C. Bordeianu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utational Physics: Problem Solving with Computer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, 2007.</a:t>
            </a:r>
            <a:br>
              <a:rPr sz="2000"/>
            </a:b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://physics.orst.edu/~rubin/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videos, applets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R. Otto, J.P. Denier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 Introduction to Programming and Numerical Methods in MATLA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Springer, 2005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. O’Hare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for Physicis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005.</a:t>
            </a:r>
            <a:br>
              <a:rPr sz="2000"/>
            </a:br>
            <a:r>
              <a:rPr b="0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http://www-teaching.physics.ox.ac.uk/computing/NumericalMethods/NMf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uniforme en el intervalo [0,1]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1580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5840" y="4005360"/>
            <a:ext cx="249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432160" y="3309840"/>
            <a:ext cx="7345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"/>
          <p:cNvPicPr/>
          <p:nvPr/>
        </p:nvPicPr>
        <p:blipFill>
          <a:blip r:embed="rId1"/>
          <a:stretch/>
        </p:blipFill>
        <p:spPr>
          <a:xfrm>
            <a:off x="3224160" y="3720960"/>
            <a:ext cx="6527880" cy="2694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2"/>
          <a:stretch/>
        </p:blipFill>
        <p:spPr>
          <a:xfrm>
            <a:off x="3224160" y="836640"/>
            <a:ext cx="6537240" cy="2703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849240" y="48934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49240" y="19216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4349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0,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Uniform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13400" y="3500280"/>
            <a:ext cx="649080" cy="57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691080" y="4005360"/>
            <a:ext cx="249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024520" y="1628640"/>
            <a:ext cx="4608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a,b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a+(b-a)*rand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44520" y="3573360"/>
            <a:ext cx="3562200" cy="279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6037200" y="3554280"/>
            <a:ext cx="3524400" cy="2810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40892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32160" y="5084640"/>
            <a:ext cx="129708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 = -0.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 = 3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normal (gaussiana) de media 0 y desviación estándar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n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3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888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240" y="4005360"/>
            <a:ext cx="263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717640" y="3068640"/>
            <a:ext cx="7059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3081240" y="836640"/>
            <a:ext cx="669600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 rot="5400000">
            <a:off x="1388880" y="152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04880" y="185760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-0.0177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1.0150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87520" y="104508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3081240" y="3703680"/>
            <a:ext cx="669600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 rot="5400000">
            <a:off x="1388880" y="5349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04880" y="568656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0.0021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0.9979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87520" y="487440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dc:language>en-US</dc:language>
  <cp:lastModifiedBy>Rocio del Rio</cp:lastModifiedBy>
  <dcterms:modified xsi:type="dcterms:W3CDTF">2010-11-02T11:54:08Z</dcterms:modified>
  <cp:revision>2905</cp:revision>
  <dc:subject/>
  <dc:title/>
</cp:coreProperties>
</file>